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58BF-409C-4004-A43B-6B77038AA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FE56-BAC3-464D-817F-D0770A4F9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F3EB6F-C6F2-4AD2-8200-2262797CD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C2E55F-3276-445C-94F8-598DE6D38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92EFEA-157F-4BAA-893D-496A401ED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78799B-3322-44E9-8152-2C38693C2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E72893-E42E-488B-B03F-46C00EE65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10A41A-CA88-44E1-AF29-016DCBC15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5E2D68-3902-4479-8124-20C4B4BD2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2855B4-6D69-47A8-844A-5EF1A8F9A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2DD6FE-D2BD-499E-A9AC-74E10A932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E6A5A7-8040-4A45-B53F-B0C960D43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FEA4-0F2B-4667-BBE4-DBCB5AAAA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6993B4-8DED-484E-9360-BEEE1EE8C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5BCCFF-7826-4B4C-89C5-3FE5B2D1A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E8B451-533A-4199-B3C2-8EE02DCA0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1C902C-1EC5-4A1A-B935-D99E73E0F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A1D9A6-DC05-48B8-A715-B2C757B51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D27D3C-07C9-45EC-A795-6D28F23EA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ED3EA8-FE38-40E0-83BB-462FB4ED3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ABE42A-41B9-4BA5-B14D-4B6E18D13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D631CF-10B5-4C2B-8DCA-1200683B7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18942E-609C-4E9C-8E12-6F59FA8B0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5F5C-5711-4167-94C5-1EE3C3FDA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CF0964-197A-498F-9ECD-C9B0D03C5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45D7E8-C222-49E3-9FD2-5D62B364F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D2724C-603D-45A1-9E50-708C3DEEB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CA3F38-B789-4C00-8EEE-107B77435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2FE945-2ACE-47AB-A5DF-CA5E42DEF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C6177B-238F-4F31-BB2F-0AD28FF42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055DA2-16BF-4E26-A7A0-0DAB78DE8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06FA42-ABF5-4B49-ABC9-038123E99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0FD604-B278-405B-AB6E-CC9EAFA64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ED1A7A-5213-43A4-80B0-8631281B3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A1BFA-3002-4764-B00A-E2F0F04E5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0D073F-0DA4-461D-AB8E-4103ECC05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8401F8-3C17-4F02-BF69-05CA30E00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73BD91-AD58-4AA4-BF65-720EDC7CB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2F4E9D-421C-4033-90C7-A1ADA22B6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12C464-E45A-464A-96EE-A11742912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FB26C2-4F17-4527-9E58-E3E061DB4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17F84B-ACE6-4903-BA31-E5FCDDA9F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F1F16A-7F08-45DA-8700-021CF42B8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664472-E7E1-4FBE-B3AF-A54F4FBF4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75D4C5-47B0-4FC0-A942-FB46CFD3C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A8572-961A-4E34-AF33-731EBAD19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89EB88-B95F-4EB6-87D8-606212FEB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6BB015-5080-4B04-99A4-8BB376471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A8A69D-348D-479F-9752-DE6030765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24715B-1EC8-4712-86EB-547AF7DC7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C96087-647A-4789-8DF2-403C73714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E084CCA-A79E-4CC5-8D09-C2C01BC2D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8AD1C35-5A1D-45A2-B609-1EA911C82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C543862-1B24-47FC-95CD-4D6A8EAAB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37211A5-66E8-4D84-A67A-695B56E04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FFC2FE0-DBAA-47AD-82ED-E171B7279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FAE6D-1CD5-4866-A492-D77E007B5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B0EE5AD-084D-4197-869C-6F5DB59C2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B1C23F5-21E3-4E4C-9DCF-0F23B17EC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567613D-7A78-4ECE-9292-F46A45CD9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D4337F3-5933-4948-9E26-A07A2F82C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5522D48-14B2-44C1-98BD-9CBE76C06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E2155D2-D169-47FD-8D6E-BC31A4138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5592D77-42F1-4A71-A1C8-CB3B4ADBF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75D3E6-E034-4903-AE90-7722D10E8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883FE7-0780-4BAE-B6EB-7767E6074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10AB90-F42D-451E-A7A9-8E5735C5F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39748-F39B-40E4-8CA2-5F4E6177D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21391C-F8CA-4977-B492-B4B13A3B7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4C85D1-0869-4C8A-9A11-9DCDEEFB5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B49A74-7FA6-4EB4-9FC7-B47A7142E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90A010-1DD1-4000-B6C7-5B806B962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689644-7668-4F1E-B46B-579E71530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E189FB-0FBD-433D-AA1B-CD782804B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D88631-90A4-4FB8-805E-7A3F60278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C55FAB-E523-45A6-B084-3A938E58C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F80975-9F8F-4D5D-A6DB-7BADF3F35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C8ABB-7596-42A2-85D1-CB05E994E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CC411-98E7-43CF-837F-0E890DA32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D2D4B-930E-414F-B392-92D9E913A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036B-D93D-4FC7-939B-FA045AC78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AE261-C910-46EC-8651-D952FA606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2AC60-1484-4842-B408-B843A6397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89463-1A80-4EBB-97E8-66A3ABA54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178AD-6FA2-429F-B6A6-695CC6974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BF1ED-43F1-4B67-9CCF-11FBD8E7C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A42D9-3CE4-4757-8FDD-80EB09B69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05640-AEB2-4931-A5A9-FF6C142D3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B3D51-B49F-4BDA-8A71-766494842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2A9D7-03F2-4227-BFF9-FDF52F59F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4CFDD-6551-428B-A69D-E8B5D9830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AA0D-2528-41E2-AE3A-8428C2593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F42BB-8DDB-4D59-841C-630EB165C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09001-5EE9-4584-9E0A-D6B33678E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E93F6-209E-4C1B-B1B5-5B61355D1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1E728-52B0-48A5-AA3D-17A4145AC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95DD8-A1A5-492B-9D33-48B2C83CA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62F60-B091-472E-822F-29679C3A6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B71E3-C765-445D-92C8-3C67B1694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AA7B1-37AD-45EF-86CA-C7C1FCC85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9A9ED-103B-4B64-886E-EE079A342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92F59-DC42-450F-9F3A-37A292AEE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90BA-C1C4-4BC3-9364-1615C10CA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FC2D4-1DCD-469B-90B1-9795C78EA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7214F-7F46-4D22-AF24-9516FF3FF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FA199-BCCE-4E5F-B964-6E5D287AB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0E669-02F1-42B7-83E5-54D635E00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6F629-7248-4892-8BDC-B73E00923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706F0-64FB-4127-8EF3-E10C1D2EE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B51A7-8C9B-4F0B-9804-0954007F5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5721D-04C7-430D-8730-E9A3EB189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2081F-DC15-409B-8607-6568DBE6C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5D9725-26A1-4E1E-BD4C-A65C76CE7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5427-BCB5-4C0B-ABFA-BAD32D10F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118C40-3BD5-446D-ADA6-621AAFEE0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032A0E-EC69-4C0A-A093-8EEF97728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D480A6-16CF-44E2-AA50-FB9C9AC09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090852-0D29-4BD7-96CD-D15F389D1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2F90F0-EE34-4011-A7D8-58C3BBBCC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1BD7E6-D893-4CC8-B07A-4FBE48008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FCB000-FC95-4547-865D-BD9A3DBFD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1DDA4D-5CB2-40FB-A9F2-7AC822C8F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B09F9E-2412-40E9-9A89-EFA0BB7D2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09EE09-03F7-4EF8-A70E-2035DC886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EE3C-2BE1-4EF5-8023-BCD3C76F7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1A6ECA-E5FA-40B1-979F-B39B204F0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1306A2-9661-4C6C-A1F1-FD1900C51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AE7E38-5127-421F-82DD-35CFCAB35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4145FC-E67E-4E4F-9E36-F7D926B54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8B2BDA-0ADB-4143-AF72-8665B433E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FD10D1-EC6B-4F66-B93B-D0D852732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AE258B-9EAC-4811-8B11-D32B64F9A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BAD711-9BC7-4281-87CA-DD2D0F29B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E24526-E425-40EA-85C0-5B4F26CB0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2E0133-766D-4314-9680-D36D42E7D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9F6B-BA8B-400E-B314-4264A4BC9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279716-EBEC-4560-83D5-FC37E757D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A36517-5EEA-4B19-B0E5-5FED6F547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7F9307-BAC7-4EB1-98F5-A39E21A9A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205B41-88A9-4A66-B40B-87DA3A1C5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39A258-ECDD-4835-A62D-EEC1296CD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B0B1A5-771A-4A08-B47B-A26127D2F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AAAB4C-7ADF-4C18-8DEB-8D4EB372E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63D684-A5BC-40ED-BD79-954B03328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C720E4-998A-4538-B70F-61C0C34C7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80CB73-DCC3-41E6-B570-E6C657FFA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2FA1-86F5-436B-B36D-D24B3E070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CFC49C-8CC3-4528-896B-0F65923BF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FCBA53-3268-45B1-99A0-6342CB8E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6C561B-AF75-4971-95E2-6F8118FF1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2FEEBA-6577-4D93-8B47-08B820CFF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AA06B6-D7FA-4EFA-83CD-948FE8EE8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B44C19-6FDE-4089-8E6D-72973C4A2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CDEEE1-6D78-4C86-B8A0-3A01CC8DA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66336D-6FA4-4BBC-93ED-C2A8DC9E0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38E85D-7636-49FE-83C6-D0BC98CAB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B4E6DC-346E-4BFD-83B6-34F8E9036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E549-6F98-420B-88CF-A2B0488FB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742AA2-4B40-4871-B43D-65D81DBB9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D24660-3055-4F34-97C8-11340C997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125D41-84B1-4E14-8121-94B2C2875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CBEC9F-1971-47B8-B44B-77979B0E1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44F09D-CCA9-4C9D-A17A-9FA7EEE0A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8F2FCE-77DE-4A2F-B4AD-4B16F42C4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4E0ECA-90EF-458E-B5BF-9AF5F553D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40F349-26E1-4431-934F-202396F94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11D73F-EB8B-4333-B0B1-0D8CD5A26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E60A28-3179-4492-9FB9-EEA0EEBC6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CBE74-AC09-457E-A3E9-54128AAF10D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0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791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FA071-84D8-4FE4-98F9-57603E8EDB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6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047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055" name="PlaceHolder 1"/>
          <p:cNvSpPr>
            <a:spLocks noGrp="1"/>
          </p:cNvSpPr>
          <p:nvPr>
            <p:ph type="dt" idx="3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 type="ftr" idx="3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 type="sldNum" idx="3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E4A01-185D-4564-AB86-B06A1EE572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6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097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 type="dt" idx="3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 type="ftr" idx="3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 type="sldNum" idx="3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759F4-C56E-4F42-A5BC-E11023F2E7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dt" idx="3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 type="sldNum" idx="3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42BC8-86CB-4A77-9ADC-408824491AE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45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146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147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1152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154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 type="ftr" idx="3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6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3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194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195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1200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 type="dt" idx="40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 type="ftr" idx="41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 type="sldNum" idx="42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0FC4C-A74C-4DBF-AF98-F6C05D39140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E9629-EFB2-4368-B0C9-332C5082E33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14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59F76-D996-4F2C-9D44-B16EFFC0D1F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90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dt" idx="1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ftr" idx="1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sldNum" idx="1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C182F-5170-41E3-B861-CF0FF89B556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266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69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270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295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300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B6D67-BA73-4BB7-8B62-44FE91E96D0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344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348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361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372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373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75C6E-1167-4AFE-96A7-5A62B11CBC6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AD0B5-710E-410B-A4E2-FF2692147C8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42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440" name="PlaceHolder 5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7B497-14AB-4574-B8E4-AD76A5B2334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48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3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534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49" name="PlaceHolder 1"/>
          <p:cNvSpPr>
            <a:spLocks noGrp="1"/>
          </p:cNvSpPr>
          <p:nvPr>
            <p:ph type="sldNum" idx="2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25098-313A-43D5-BED8-ADE479FC1B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dt" idx="2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 type="ftr" idx="27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2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66"/>
                </a:solidFill>
                <a:latin typeface="Arial"/>
              </a:rPr>
              <a:t>Решение транспортной задачи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ыполнил студент группы ПО-08: Гудов Александр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роверил преподаватель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анасенко Наталья Алексеев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Транспортная задач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S Exc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щая таблиц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7" name="" descr=""/>
          <p:cNvPicPr/>
          <p:nvPr/>
        </p:nvPicPr>
        <p:blipFill>
          <a:blip r:embed="rId1"/>
          <a:stretch/>
        </p:blipFill>
        <p:spPr>
          <a:xfrm>
            <a:off x="990720" y="1905120"/>
            <a:ext cx="5952960" cy="1333440"/>
          </a:xfrm>
          <a:prstGeom prst="rect">
            <a:avLst/>
          </a:prstGeom>
          <a:ln w="0">
            <a:noFill/>
          </a:ln>
        </p:spPr>
      </p:pic>
      <p:pic>
        <p:nvPicPr>
          <p:cNvPr id="1278" name="" descr=""/>
          <p:cNvPicPr/>
          <p:nvPr/>
        </p:nvPicPr>
        <p:blipFill>
          <a:blip r:embed="rId2"/>
          <a:stretch/>
        </p:blipFill>
        <p:spPr>
          <a:xfrm>
            <a:off x="2286000" y="4038480"/>
            <a:ext cx="3962520" cy="2243160"/>
          </a:xfrm>
          <a:prstGeom prst="rect">
            <a:avLst/>
          </a:prstGeom>
          <a:ln w="0">
            <a:noFill/>
          </a:ln>
        </p:spPr>
      </p:pic>
      <p:sp>
        <p:nvSpPr>
          <p:cNvPr id="1279" name=""/>
          <p:cNvSpPr/>
          <p:nvPr/>
        </p:nvSpPr>
        <p:spPr>
          <a:xfrm>
            <a:off x="380880" y="335268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Поиск решен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4000"/>
                            </p:stCondLst>
                            <p:childTnLst>
                              <p:par>
                                <p:cTn id="2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20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2000"/>
                                        <p:tgtEl>
                                          <p:spTgt spid="1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Транспортная задач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ывод целевой функци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2" name="" descr=""/>
          <p:cNvPicPr/>
          <p:nvPr/>
        </p:nvPicPr>
        <p:blipFill>
          <a:blip r:embed="rId1"/>
          <a:stretch/>
        </p:blipFill>
        <p:spPr>
          <a:xfrm>
            <a:off x="990720" y="2971800"/>
            <a:ext cx="7924680" cy="17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1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600"/>
                            </p:stCondLst>
                            <p:childTnLst>
                              <p:par>
                                <p:cTn id="3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20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Транспортная задач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Заключение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В курсовой работе изложены основные подходы и методы решения транспортной задачи, являющейся одной из наиболее распространенных задач линейного программирования. Решение данной задачи позволяет разработать наиболее рациональные пути и способы транспортирования товаров, устранить чрезмерно дальние, встречные, повторные перевозки. Все это сокращает время продвижения товаров, уменьшает затраты предприятий и фирм, связанные с осуществлением процессов снабжения сырьем, материалами, топливом, оборудованием и т.д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В данной курсовой работе поставлена задача: минимизировать затраты на транспортировку продукции потребителям. При выполнении курсовой работы были использованы знания по предметам: «Математические методы», «Пакеты прикладных программ». Решение было проведено с помощью пакетов прикладных программ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Microsoft Excel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 и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Microsoft Word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. Результаты ручного просчёта сравнивались с результатами, полученными в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Microsoft Excel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7" dur="2000"/>
                                        <p:tgtEl>
                                          <p:spTgt spid="1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1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1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1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1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1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1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1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1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Транспортная задач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Цель работы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ff00"/>
                </a:solidFill>
                <a:latin typeface="Verdana"/>
              </a:rPr>
              <a:t>Основной целью задачи является минимизировать затраты на транспортировку продукции потребителям.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1000"/>
                                        <p:tgtEl>
                                          <p:spTgt spid="1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1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01028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Транспортная задача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6879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словие задач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Три предприятия данного экономического района могут производить однородную продукцию, в количествах соответственно равных А1, А2 и А3 единиц. Эта продукция должна быть поставлена 5-и потребителям в количествах, соответственно равных В1, В2, В3, В4 и В5 единиц. Затраты связанные с производством и доставкой продукции, задаются матрицей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А1=180; А2=350; А3=2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1=110; В2=90; В3=120; В4=80; В5=15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=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8" name=""/>
          <p:cNvGraphicFramePr/>
          <p:nvPr/>
        </p:nvGraphicFramePr>
        <p:xfrm>
          <a:off x="2133720" y="4114800"/>
          <a:ext cx="2077920" cy="912960"/>
        </p:xfrm>
        <a:graphic>
          <a:graphicData uri="http://schemas.openxmlformats.org/drawingml/2006/table">
            <a:tbl>
              <a:tblPr/>
              <a:tblGrid>
                <a:gridCol w="415080"/>
                <a:gridCol w="493920"/>
                <a:gridCol w="338040"/>
                <a:gridCol w="415440"/>
                <a:gridCol w="4154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9" name=""/>
          <p:cNvSpPr/>
          <p:nvPr/>
        </p:nvSpPr>
        <p:spPr>
          <a:xfrm>
            <a:off x="2133720" y="4038480"/>
            <a:ext cx="75960" cy="990720"/>
          </a:xfrm>
          <a:custGeom>
            <a:avLst/>
            <a:gdLst>
              <a:gd name="textAreaLeft" fmla="*/ 22320 w 75960"/>
              <a:gd name="textAreaRight" fmla="*/ 76320 w 75960"/>
              <a:gd name="textAreaTop" fmla="*/ 41040 h 990720"/>
              <a:gd name="textAreaBottom" fmla="*/ 94968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3962520" y="4038480"/>
            <a:ext cx="75960" cy="990720"/>
          </a:xfrm>
          <a:custGeom>
            <a:avLst/>
            <a:gdLst>
              <a:gd name="textAreaLeft" fmla="*/ 0 w 75960"/>
              <a:gd name="textAreaRight" fmla="*/ 53280 w 75960"/>
              <a:gd name="textAreaTop" fmla="*/ 41040 h 990720"/>
              <a:gd name="textAreaBottom" fmla="*/ 9496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0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0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80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Транспортная задача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атематическая модел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усть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ij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-  количество груза перевозимого из пункта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пункт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1=40; А2=50; В1=20; В2=30; В3=40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 5 7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 =   4 6 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Целевая функция имеет вид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граничение по запасам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Х11 + Х12 + Х13 &lt;= 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Х21 + Х22 + Х23 &lt;= 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ij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&gt;=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граничение по спросу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Х11 + Х21 &lt;= 2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Х12 + Х22 &lt;= 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Х13 + Х23 &lt;= 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1143000" y="1905120"/>
            <a:ext cx="76320" cy="609480"/>
          </a:xfrm>
          <a:custGeom>
            <a:avLst/>
            <a:gdLst>
              <a:gd name="textAreaLeft" fmla="*/ 22320 w 76320"/>
              <a:gd name="textAreaRight" fmla="*/ 76320 w 7632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1981080" y="1905120"/>
            <a:ext cx="76320" cy="609480"/>
          </a:xfrm>
          <a:custGeom>
            <a:avLst/>
            <a:gdLst>
              <a:gd name="textAreaLeft" fmla="*/ 0 w 76320"/>
              <a:gd name="textAreaRight" fmla="*/ 53640 w 7632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380880" y="3200400"/>
            <a:ext cx="152640" cy="533520"/>
          </a:xfrm>
          <a:custGeom>
            <a:avLst/>
            <a:gdLst>
              <a:gd name="textAreaLeft" fmla="*/ 97560 w 152640"/>
              <a:gd name="textAreaRight" fmla="*/ 153000 w 15264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380880" y="434340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3" dur="500"/>
                                        <p:tgtEl>
                                          <p:spTgt spid="1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7" dur="500"/>
                                        <p:tgtEl>
                                          <p:spTgt spid="1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1" dur="500"/>
                                        <p:tgtEl>
                                          <p:spTgt spid="1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5" dur="500"/>
                                        <p:tgtEl>
                                          <p:spTgt spid="1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4" dur="500"/>
                                        <p:tgtEl>
                                          <p:spTgt spid="1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8" dur="500"/>
                                        <p:tgtEl>
                                          <p:spTgt spid="1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2" dur="500"/>
                                        <p:tgtEl>
                                          <p:spTgt spid="1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6" dur="500"/>
                                        <p:tgtEl>
                                          <p:spTgt spid="1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9" dur="500"/>
                                        <p:tgtEl>
                                          <p:spTgt spid="1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500"/>
                            </p:stCondLst>
                            <p:childTnLst>
                              <p:par>
                                <p:cTn id="12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6" dur="500"/>
                                        <p:tgtEl>
                                          <p:spTgt spid="12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4000"/>
                            </p:stCondLst>
                            <p:childTnLst>
                              <p:par>
                                <p:cTn id="12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0" dur="500"/>
                                        <p:tgtEl>
                                          <p:spTgt spid="12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500"/>
                            </p:stCondLst>
                            <p:childTnLst>
                              <p:par>
                                <p:cTn id="13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4" dur="500"/>
                                        <p:tgtEl>
                                          <p:spTgt spid="12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7" dur="500"/>
                                        <p:tgtEl>
                                          <p:spTgt spid="12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3" dur="1000"/>
                                        <p:tgtEl>
                                          <p:spTgt spid="12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Транспортная задача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258" name=""/>
          <p:cNvSpPr txBox="1"/>
          <p:nvPr/>
        </p:nvSpPr>
        <p:spPr>
          <a:xfrm>
            <a:off x="457200" y="914040"/>
            <a:ext cx="82296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Этапы решения транспортной задач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)Получение начального реш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б)Проверка решений на оптимально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)Усовершенствование несовершенных решен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нтуитивный подхо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оверка на оптимальность и пересмотр несовершенных решений предусматривает анализ каждой пустой ячейки. Это выполняется так: одна единица перемещается в пустую ячейку и рассматривается влияние этого перемещения на стоимость. Если стоимость увеличилась, то это значит, что использование ячейки увеличило бы общие затраты. Если стоимость осталась не изменой, это значит альтернативный план с той же общей стоимостью. Если анализ показывает уменьшение – это значит возможно лучшее реше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Транспортная задача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038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Математическое решени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57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Составление первоначальной таблицы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57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261" name=""/>
          <p:cNvGraphicFramePr/>
          <p:nvPr/>
        </p:nvGraphicFramePr>
        <p:xfrm>
          <a:off x="380880" y="2057400"/>
          <a:ext cx="8382240" cy="3622680"/>
        </p:xfrm>
        <a:graphic>
          <a:graphicData uri="http://schemas.openxmlformats.org/drawingml/2006/table">
            <a:tbl>
              <a:tblPr/>
              <a:tblGrid>
                <a:gridCol w="760680"/>
                <a:gridCol w="761760"/>
                <a:gridCol w="763560"/>
                <a:gridCol w="760680"/>
                <a:gridCol w="761760"/>
                <a:gridCol w="765360"/>
                <a:gridCol w="761760"/>
                <a:gridCol w="760680"/>
                <a:gridCol w="763560"/>
                <a:gridCol w="761760"/>
                <a:gridCol w="7606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8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1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5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2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3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1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9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2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5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2" name=""/>
          <p:cNvSpPr/>
          <p:nvPr/>
        </p:nvSpPr>
        <p:spPr>
          <a:xfrm>
            <a:off x="380880" y="5715000"/>
            <a:ext cx="7848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Найдем целевую функцию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Z=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110*7+70*12+20*8+120*6+80*5+130*3+20*4=3360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6000"/>
                            </p:stCondLst>
                            <p:childTnLst>
                              <p:par>
                                <p:cTn id="16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4400"/>
                            </p:stCondLst>
                            <p:childTnLst>
                              <p:par>
                                <p:cTn id="175" nodeType="after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177" dur="20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6400"/>
                            </p:stCondLst>
                            <p:childTnLst>
                              <p:par>
                                <p:cTn id="17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1" dur="30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Транспортная задач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4038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Оценивание пустых ячеек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265" name=""/>
          <p:cNvGraphicFramePr/>
          <p:nvPr/>
        </p:nvGraphicFramePr>
        <p:xfrm>
          <a:off x="457200" y="1371600"/>
          <a:ext cx="7620120" cy="2070000"/>
        </p:xfrm>
        <a:graphic>
          <a:graphicData uri="http://schemas.openxmlformats.org/drawingml/2006/table">
            <a:tbl>
              <a:tblPr/>
              <a:tblGrid>
                <a:gridCol w="692280"/>
                <a:gridCol w="693720"/>
                <a:gridCol w="691920"/>
                <a:gridCol w="692280"/>
                <a:gridCol w="693720"/>
                <a:gridCol w="692280"/>
                <a:gridCol w="693720"/>
                <a:gridCol w="691920"/>
                <a:gridCol w="692280"/>
                <a:gridCol w="693720"/>
                <a:gridCol w="692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 -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 -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 -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 -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1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6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1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5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1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7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8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6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8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5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8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2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8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6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66" name=""/>
          <p:cNvGraphicFramePr/>
          <p:nvPr/>
        </p:nvGraphicFramePr>
        <p:xfrm>
          <a:off x="457200" y="3581280"/>
          <a:ext cx="7620120" cy="3105000"/>
        </p:xfrm>
        <a:graphic>
          <a:graphicData uri="http://schemas.openxmlformats.org/drawingml/2006/table">
            <a:tbl>
              <a:tblPr/>
              <a:tblGrid>
                <a:gridCol w="692280"/>
                <a:gridCol w="693720"/>
                <a:gridCol w="691920"/>
                <a:gridCol w="692280"/>
                <a:gridCol w="693720"/>
                <a:gridCol w="692280"/>
                <a:gridCol w="693720"/>
                <a:gridCol w="691920"/>
                <a:gridCol w="692280"/>
                <a:gridCol w="693720"/>
                <a:gridCol w="692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 -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 -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 -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 -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6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7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13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8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6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7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5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12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8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8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6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5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99" dur="20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3" dur="20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Транспортная задач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5562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Четвертый шаг заполнения таблицы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269" name=""/>
          <p:cNvGraphicFramePr/>
          <p:nvPr/>
        </p:nvGraphicFramePr>
        <p:xfrm>
          <a:off x="457200" y="1447920"/>
          <a:ext cx="8305560" cy="3622680"/>
        </p:xfrm>
        <a:graphic>
          <a:graphicData uri="http://schemas.openxmlformats.org/drawingml/2006/table">
            <a:tbl>
              <a:tblPr/>
              <a:tblGrid>
                <a:gridCol w="755640"/>
                <a:gridCol w="755640"/>
                <a:gridCol w="752400"/>
                <a:gridCol w="755640"/>
                <a:gridCol w="754200"/>
                <a:gridCol w="758520"/>
                <a:gridCol w="754200"/>
                <a:gridCol w="755640"/>
                <a:gridCol w="752400"/>
                <a:gridCol w="755640"/>
                <a:gridCol w="755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2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8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1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9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3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5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1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9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2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5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0" name=""/>
          <p:cNvSpPr/>
          <p:nvPr/>
        </p:nvSpPr>
        <p:spPr>
          <a:xfrm>
            <a:off x="457200" y="5334120"/>
            <a:ext cx="7848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Найдем целевую функцию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Z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=120*4+60*6+110+90*8+20*5+130*3+20*4=2240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2" dur="1000"/>
                                        <p:tgtEl>
                                          <p:spTgt spid="1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6" dur="20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3000"/>
                            </p:stCondLst>
                            <p:childTnLst>
                              <p:par>
                                <p:cTn id="2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Транспортная задач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4038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Оценивание ячеек на 4 шаге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273" name=""/>
          <p:cNvGraphicFramePr/>
          <p:nvPr/>
        </p:nvGraphicFramePr>
        <p:xfrm>
          <a:off x="533520" y="1295280"/>
          <a:ext cx="7696080" cy="2186280"/>
        </p:xfrm>
        <a:graphic>
          <a:graphicData uri="http://schemas.openxmlformats.org/drawingml/2006/table">
            <a:tbl>
              <a:tblPr/>
              <a:tblGrid>
                <a:gridCol w="698400"/>
                <a:gridCol w="703080"/>
                <a:gridCol w="698760"/>
                <a:gridCol w="698400"/>
                <a:gridCol w="698400"/>
                <a:gridCol w="701640"/>
                <a:gridCol w="698760"/>
                <a:gridCol w="698400"/>
                <a:gridCol w="698400"/>
                <a:gridCol w="703440"/>
                <a:gridCol w="698400"/>
              </a:tblGrid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 -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 -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 -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 -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12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5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5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74" name=""/>
          <p:cNvGraphicFramePr/>
          <p:nvPr/>
        </p:nvGraphicFramePr>
        <p:xfrm>
          <a:off x="533520" y="3581280"/>
          <a:ext cx="7696080" cy="2587680"/>
        </p:xfrm>
        <a:graphic>
          <a:graphicData uri="http://schemas.openxmlformats.org/drawingml/2006/table">
            <a:tbl>
              <a:tblPr/>
              <a:tblGrid>
                <a:gridCol w="698400"/>
                <a:gridCol w="701640"/>
                <a:gridCol w="700200"/>
                <a:gridCol w="698400"/>
                <a:gridCol w="698400"/>
                <a:gridCol w="701640"/>
                <a:gridCol w="698760"/>
                <a:gridCol w="698400"/>
                <a:gridCol w="700200"/>
                <a:gridCol w="701640"/>
                <a:gridCol w="698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 -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 -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 -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 -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7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5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5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ia</cp:lastModifiedBy>
  <dcterms:modified xsi:type="dcterms:W3CDTF">2010-12-13T15:27:28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