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2CE-15B1-4F8B-B0A9-88114B2E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E4F-9C90-4763-8914-8BEFE87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837-A117-4E0F-A59D-4780194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CA9-559D-49A1-87AB-FE72CDD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683-3F87-4629-A9F9-ED2F8918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625-D90E-4567-8902-DAE93748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819-53C7-44F2-A8EF-4869250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83D-C603-4CC3-9EAB-9EEA6B9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B61-D9AB-4746-9658-B663E64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FB7-7A97-498D-B737-0417E61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7A3-A819-4507-8341-ADC5CA8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111-C1AD-4EC7-907F-791106D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2FD-E39A-474D-92A9-7B8A2E09448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C37A-3B3C-4DD9-91A3-C75AFBD5F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08080" y="2230560"/>
            <a:ext cx="8746920" cy="175572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B4F7-8F6D-4B4E-968D-9F93A0F2E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нгл. Structured Query Language — «язык структурированных запросов») — универсальный компьютерный информационно-логический язык, появившийся в результате разработки реляционной модели данных, применяемый для создания, модификации и управления данными в реляционных базах дан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ципиально отличается от традиционных алгоритмических языков программирования прежде всего тем, что он относится к непроцедурным язык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лучил очень широкое распространение и фактически превратился в стандартный язык реляционных баз данных. Стандарт на язык SQL был выпущен Американским национальным институтом стандартов (ANSI) в 1986 г., а в 1987 г. Международная организация стандартов (ISO) приняла его в качестве международ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138-EA77-48BB-80C6-C6F8EAAB0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хема взаимодействия клиентского приложения с сервером Б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97C6-35A0-49AD-A17A-FDFB58B5E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017720" y="1773360"/>
            <a:ext cx="715320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5F7-1101-4D55-9E2F-F8025AAB2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84360" y="692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зык SQL позволяет только манипулировать данными, но в нем отсутствуют средства создания экранного интерфейса, что необходимо для пользовательских приложений. Для создания этого интерфейса служат универсальные языки третьего поколения (C, C++, Pascal) или проблемно-ориентированные языки четвертого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xBase, Informix 4Gl, Progress, Jam,..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 языки содержат необходимые 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ода / вывода на экран, а также операторы структурного программир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местим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557000"/>
            <a:ext cx="843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 конкретные реализации языка несколько отличаются друг от друга. В интересах самих же производителей гарантировать, чтобы их реализация соответствовала современным стандартам ANSI в части переносимости и удобства работы пользователей. Тем не менее каждая реализация SQL содержит усовершенствования, отвечающие требованиям того или иного сервера баз данных. Эти усовершенствования или расширения языка SQL представляют собой дополнительные команды и опции, являющиеся добавлениями к стандартному пакету и доступные в данной конкретной реал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 1996 года вопросами соответствия коммерческих реализаций SQL стандарту занимался в основном Национальный институт стандартов и технологий (NIST), который и устанавливал уровень соответствия станда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3370-6CD7-4DD8-8458-1C6B0CE17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активный (или автономный) SQL дает возможность пользователям непосредственно извлекать информацию из базы или записывать в нее данные. Информация, получаемая по запросу SQL, может быть выдана на экран, в файл или на прин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тический SQL позволяет записать фиксированный исполняемый код SQL, он обычно используется в приложениях на процедурных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строенный SQL определен как код SQL, который включен в исходный текст программы, написанной на другом языке программирован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одульный SQL. Операторы SQL записаны в отдельных модулях, которые компонуются с модулями основного язык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намический SQL дает возможность генерировать код SQL во время исполнения приложения и используется вместо статического SQL в тех случаях, когда при разработке приложения необходимый код SQL еще не может быть определен или зависит от того, какой выбор сделает пользователь. (диалоговые среды для построения запрос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C90-4043-4033-A379-242A57E9E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tretch/>
        </p:blipFill>
        <p:spPr>
          <a:xfrm>
            <a:off x="401760" y="1262160"/>
            <a:ext cx="8285040" cy="497340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59B-54D6-4635-A325-8D30B3665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имущества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19A-1460-4A1A-AFED-703DE33B8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ндарт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 от конкретных СУБД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переноса с одной вычислительной системы на другу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яционная основа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создания интерактивных запро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спечение различного представления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динамического изменения и расширения структуры Б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держка архитектуры клиент-серв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к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F535-4C61-4953-8CCE-8CA4DBB33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1773000"/>
            <a:ext cx="712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оответствие реляционной модели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ления от стандар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 работы с иерархическими структур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2-23T03:37:55Z</dcterms:modified>
  <cp:revision>17</cp:revision>
  <dc:subject/>
  <dc:title>Доклад</dc:title>
</cp:coreProperties>
</file>