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2.xml.rels" ContentType="application/vnd.openxmlformats-package.relationships+xml"/>
  <Override PartName="/ppt/notesSlides/notesSlide8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png" ContentType="image/png"/>
  <Override PartName="/ppt/media/image33.png" ContentType="image/png"/>
  <Override PartName="/ppt/media/image3.png" ContentType="image/png"/>
  <Override PartName="/ppt/media/image29.png" ContentType="image/png"/>
  <Override PartName="/ppt/media/image47.png" ContentType="image/png"/>
  <Override PartName="/ppt/media/image1.jpeg" ContentType="image/jpeg"/>
  <Override PartName="/ppt/media/image14.png" ContentType="image/png"/>
  <Override PartName="/ppt/media/image10.jpeg" ContentType="image/jpeg"/>
  <Override PartName="/ppt/media/image15.jpeg" ContentType="image/jpeg"/>
  <Override PartName="/ppt/media/image18.wmf" ContentType="image/x-wmf"/>
  <Override PartName="/ppt/media/image2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65.png" ContentType="image/png"/>
  <Override PartName="/ppt/media/image48.png" ContentType="image/png"/>
  <Override PartName="/ppt/media/image58.png" ContentType="image/png"/>
  <Override PartName="/ppt/media/image19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62.png" ContentType="image/png"/>
  <Override PartName="/ppt/media/image23.wmf" ContentType="image/x-wmf"/>
  <Override PartName="/ppt/media/image25.png" ContentType="image/png"/>
  <Override PartName="/ppt/media/image11.jpeg" ContentType="image/jpeg"/>
  <Override PartName="/ppt/media/image24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1.png" ContentType="image/png"/>
  <Override PartName="/ppt/media/image27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4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D1A9-5DB2-4C82-A974-E5104DF2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orgar una calificación que indique el desempeño financiero y posibles riesgos que enfrenta en un mediano plaz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mostrar la solidez de IMFs a los bancos e inversionistas para la consecución de recursos en el mercado financiero y de capi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ablecer indicadores y </a:t>
            </a: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benchmarks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para un mejor conocimiento y administración más efectiva de las instit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1D9-03DC-48F8-ABB6-84345711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EC0-F5EF-4087-B53A-E7F47EC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5012-DD30-4ECD-9399-2C4F1524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E87C0-C8AC-4A36-ACD4-84A07376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29A56-CE00-4525-B454-787E523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9C5C8-E07C-4EEF-A095-95224F0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CDF69-6673-4567-871D-D13F91F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C97C-312F-4C7A-9D45-74E46E7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46F2C-70B1-4490-B06B-9E7BA74C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30ED4-5706-4673-9F94-3FC296D7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7074B-581A-4B94-87A0-BB634465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D1655-E514-490A-8B3F-3B3EF22F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808D-6D90-4165-8E68-029B5519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BC292-A34C-4E85-A3BF-9DF9DACF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34B8-3294-49E2-892C-23A48DF0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BCEE-380B-425C-8401-1B4B3C3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3B923-46BE-41AC-BE54-AE4D978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E9AEE-C464-49AD-9DD9-6F46ADA6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C6772-0D14-409C-945A-C840B93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5CA8E-8050-4398-A64B-D189944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A15BE-25AB-4981-B24C-9E451A64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DEA20-3E5B-4935-9E2F-E6C476F1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1BC5E-5114-4DAB-90E1-995690D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B7B-9088-4ECA-8CDA-5173D8EB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5F999-653B-4CDF-B120-EA4AE862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A5C-FFC6-4FC0-A2F0-0B2D6750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14A6-31FA-4BE2-814B-0A3FCCD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6CAD8-DB30-4C3E-BC8A-E1D3840B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3F48-C26D-42B3-BFB7-7C443532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365DD-1557-4A87-AA57-EDBFDD0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18BB3-6119-41BD-BAA5-427C61B5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2D5C3-6459-488F-9596-E237AE1F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B5B-BDE2-40FF-8ACB-7D75FC82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6A835-088B-49E2-95E0-EEC4E93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771F4-C950-4BB5-AF9F-05B0022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9454A-EE9B-4108-819F-5B83F883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7059A-4035-40AA-AAC7-572FA7A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257B6-697A-4F13-B670-E2B1C76C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F0ED-6E45-49E2-9805-2100BF73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D14C-2AC9-4A1E-9741-36E0B757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82CE65-B89F-4C93-8B90-E2FE2B09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AE72F3-3C87-48A3-8FFB-BE43B8D6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2D10C6-4C94-4ECA-8786-624D84C6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84D4-FCBA-4B89-84DD-4F22D41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4C2BFD-FEB9-4E33-865C-60C788E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E0320E-C9D3-459D-913F-95915FDE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6C9104-B442-4E58-97C5-0187935F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9ABFC0-0854-4378-A555-99261D7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2448A1-E934-4BE0-8431-33EECB7F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9E2E94-C390-4547-9BF7-F86E858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BA022C-7AD0-4E5F-8D4F-28FB5205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CEA1FA-3D4A-4EF2-B494-7C00928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4557EC-8B9A-431E-B8D7-502E536D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4E2EF7-FD91-48EB-9C27-04851F1B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E4C6-7A58-431A-AD60-03B2EABC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DB226B-595A-4A1E-A1A3-9F09FD3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B60F5F-2486-4301-B7B7-E18E4E97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C006B9-E7AF-4BA7-B705-A1DD2C18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AC97CB-DA54-4F0F-B0FD-26D168E8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908E32-2AC8-47DF-B59C-8751F82A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D06639-AE3B-4B19-A886-48C60ECE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9EC288-D696-42B9-8156-DBFA391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76919-4AF8-4293-A45B-922C3BE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C1F53E-3FF4-474B-B983-240D9FE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D7E32D-14D4-4D25-A065-0F3F97D5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F590-EE9E-4E4D-BADA-494DE783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049D4D-864C-49F2-80A8-6945961D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4EB589-5C41-4B9D-BFF2-C5D2946C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F86D9-D90F-4433-8409-B188C05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BE4FF-ED08-49B0-A5A4-4D079BC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81C9A-B141-40B9-9CB1-A3612492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62330-D4EE-4AAD-B671-C40C2DE9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3934B-CF8C-4124-9AC9-83FFEE5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6CEE1-CE0D-49EE-8A03-B1836F3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B718B-D076-41A9-B3BE-25E331B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61CEB-BC89-45FB-92A7-E26DFEAE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F60-CA1A-411E-A2D7-DD7673D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45EB9-9DC9-49BF-8056-28F57434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94AF1-DC83-445F-8883-5D159F79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0FB20-8E2F-4E1E-8A59-07C76B3B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3D2-CDDF-4C0E-91A7-9FAA7B0B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1EF6-950E-4EA3-8BE7-AF07CF60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E20-CC49-43F7-84E9-545D4B49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90E-87BA-4B83-A8B9-625AC1FF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512B-43B2-4540-BFDD-96A35314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52BF-8155-4701-8F8A-2130A019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1E456-19C7-478D-9BE6-A14C1323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53377-5358-46B7-A12F-AE20E125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C0F70-27A5-4B5F-9BA9-9531E53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FAEE2-3812-4C1C-BAC8-66ED5D0A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4B51-DDC2-45FF-BC98-164333C7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3DD-F290-430D-A71B-C7A8F2C2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87FC-3B68-4CE8-BDBB-511CBD01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C7E4B-2EE5-4A92-B172-2AC4662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DF5C-A56F-4EDB-9CF5-81A04AC0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1D10-B582-4407-80C9-514DF91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8C7A-0222-4AA0-B187-7197EA00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B2CC-AF30-4B59-963C-81CE2DA8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B58A3-A406-4A72-9687-D80497BE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A69F-B848-4351-9D30-4252970B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B4D2C-C00A-4A15-8D18-A3AE64EE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474CB-8FD4-477F-A03B-CF1D9C52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49C-341E-45B0-9914-B4B4715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AA64-3545-423E-8B2C-0DF8B7E9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B7780-8A29-464C-A1C5-0D426E80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B026-77AE-4C22-B5EC-A747F816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26411-7AA7-4763-8407-F2329388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A768-7CAB-46DB-8338-250F331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5FA7B-E77B-4FD3-9E17-09B7C8D6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F021C-A845-418B-9811-3EF1F70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A962B-D152-4ED2-94A0-A653D323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F755-4771-4D26-8D5A-1589C4E2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91F03-6E22-4156-AAB0-4811B908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661-7344-49C9-89FF-8E7260E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7DF2-27EF-4BC3-B69A-52E7086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39C7A-5622-4C5F-9C94-462DEB3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C2B52-24D4-4125-8023-D850BC20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24C2C-BE08-4548-BE0A-72B24D4F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3ADA-FAEA-4974-BC53-36BF9AF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06742-E844-4084-8CDF-B0702F4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4170-3DFA-4838-9763-A8DCAC0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BC0F-AED1-48D5-B64D-70A27E0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529B9-30B2-4A37-A685-7B8BB04F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CE8DA-DD46-48BA-A7D9-CD093B4E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FCC-B84D-4995-BC69-DBC128A5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ADCB-FE0A-4C39-950F-2592234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B181C-C909-49F0-8F5C-58D82776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A830-B888-492F-9556-329586E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3CAD-AAB3-4CFB-8047-F044AFA6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322E-E063-4BC9-8443-E1FB3095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845F3-5131-41FF-A197-FF7145C7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F3D3-B4B3-4D7B-858C-7F580FC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D2E65-74FA-4E0D-8A4A-0C13BA7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818A1-8565-4F16-895F-0B7EFC9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2078-8D14-43C4-A7D6-7E984232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5228-57D8-45AF-8E3C-3D269E7A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33710-AD66-4F43-B161-5B63CE51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67F98-A0EE-40C8-A9BA-C0CE5AE1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EB6E-D411-4A57-A231-BB8BBC30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6AF14-C12A-422C-8AED-B21447EC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5A676-B550-4F12-A4F9-D2607174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3E8BE-8DF6-4E0C-8F6C-6A0E583E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3F841-7218-469B-B0A3-C18340AE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BC1E-8723-4C94-B247-8175ACDE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2D2B8-3FB6-459C-8A40-008C669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D2AAC-0E88-4716-96BD-F405236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44C-5925-4EF8-9427-97696CB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491AD-E580-4437-9194-2917989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91454-9DFD-47F7-BBCB-4D2F6434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A4F7-3A2C-48FA-B695-FA5671BB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7B41A-3F0F-44A1-9FFF-AC7F08AF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C7ED1-6E06-4B3B-8FA3-16CFEA96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D922-89C5-400E-B9B3-62F7FFEF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9ED3-D4E4-46A0-9750-E21917B6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EE175-1554-4C27-BD6F-8EF5E863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126E-77B0-4092-99C9-7635E93E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92448-6E17-4C92-AC74-FA6D6C1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C76-6D7F-40CF-9129-A7E2F78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D7BBA-4280-4C87-B8C9-A3BA5E4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96427-D9EE-495B-B7B5-5896ACBC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42E7-E8A9-450A-A91C-2D2560F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B5233-CAA3-433F-B8E9-4440343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DB0D-EAAB-47AB-BD26-FCD93A22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556DC-D5C2-4A6B-ADB1-1F65E0F8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18B8D-2D36-43CC-A0D2-B54E839B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BD25-02C1-4873-AF62-EC4A086D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DDDEB-827D-4517-91A7-7B9BF4C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F5D08-7800-47B1-99E9-9E0A14EB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09.xml"/><Relationship Id="rId32" Type="http://schemas.openxmlformats.org/officeDocument/2006/relationships/slideLayout" Target="../slideLayouts/slideLayout110.xml"/><Relationship Id="rId33" Type="http://schemas.openxmlformats.org/officeDocument/2006/relationships/slideLayout" Target="../slideLayouts/slideLayout111.xml"/><Relationship Id="rId34" Type="http://schemas.openxmlformats.org/officeDocument/2006/relationships/slideLayout" Target="../slideLayouts/slideLayout112.xml"/><Relationship Id="rId35" Type="http://schemas.openxmlformats.org/officeDocument/2006/relationships/slideLayout" Target="../slideLayouts/slideLayout113.xml"/><Relationship Id="rId36" Type="http://schemas.openxmlformats.org/officeDocument/2006/relationships/slideLayout" Target="../slideLayouts/slideLayout114.xml"/><Relationship Id="rId37" Type="http://schemas.openxmlformats.org/officeDocument/2006/relationships/slideLayout" Target="../slideLayouts/slideLayout115.xml"/><Relationship Id="rId38" Type="http://schemas.openxmlformats.org/officeDocument/2006/relationships/slideLayout" Target="../slideLayouts/slideLayout116.xml"/><Relationship Id="rId39" Type="http://schemas.openxmlformats.org/officeDocument/2006/relationships/slideLayout" Target="../slideLayouts/slideLayout117.xml"/><Relationship Id="rId40" Type="http://schemas.openxmlformats.org/officeDocument/2006/relationships/slideLayout" Target="../slideLayouts/slideLayout118.xml"/><Relationship Id="rId41" Type="http://schemas.openxmlformats.org/officeDocument/2006/relationships/slideLayout" Target="../slideLayouts/slideLayout119.xml"/><Relationship Id="rId4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3736-FB5E-4620-86F2-A90B776D5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0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0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1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6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2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2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4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8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ftr" idx="29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sldNum" idx="30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9651-6250-4BEC-8BF2-F5D92A332D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1"/>
    <p:sldLayoutId id="2147483767" r:id="rId32"/>
    <p:sldLayoutId id="2147483768" r:id="rId33"/>
    <p:sldLayoutId id="2147483769" r:id="rId34"/>
    <p:sldLayoutId id="2147483770" r:id="rId35"/>
    <p:sldLayoutId id="2147483771" r:id="rId36"/>
    <p:sldLayoutId id="2147483772" r:id="rId37"/>
    <p:sldLayoutId id="2147483773" r:id="rId38"/>
    <p:sldLayoutId id="2147483774" r:id="rId39"/>
    <p:sldLayoutId id="2147483775" r:id="rId40"/>
    <p:sldLayoutId id="2147483776" r:id="rId41"/>
    <p:sldLayoutId id="2147483777" r:id="rId4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499520" y="768240"/>
            <a:ext cx="1644480" cy="45108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02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342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11760" cy="2617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0" y="2438280"/>
            <a:ext cx="9144000" cy="304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274320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0" y="6340320"/>
            <a:ext cx="9144000" cy="517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0" y="6338880"/>
            <a:ext cx="9144000" cy="0"/>
          </a:xfrm>
          <a:prstGeom prst="line">
            <a:avLst/>
          </a:prstGeom>
          <a:ln w="9360">
            <a:solidFill>
              <a:srgbClr val="ffff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EEBD-C408-4D77-9DD0-E5ED46B9D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2685-294A-4DBC-A800-FE45195DC5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6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3A6-74BF-467C-9E9C-5ED9439C34C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3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4B6B-783C-4CFE-B62B-244C084FFA8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7309-A9D5-4E75-A9A6-E6B5D6532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6D9A-0453-45BC-B08F-F29DE348B1C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5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85B-C729-4EBB-97E1-497F7C366D9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3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A148-2C96-4203-A397-7C98676F3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9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8E2F-6841-4B52-BB3C-26E43553A1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5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5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8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6A5A-FD8E-4487-A37A-97402FE23F37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3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3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F066-064E-4525-A587-D08CA289124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0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52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3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53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DB42-CE1C-4E1B-86D8-AAEC70A4F5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2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2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2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2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2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2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2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2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2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2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2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2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2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2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2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2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2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4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2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2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2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2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2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2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2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2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2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ейтинговая оценка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деятельности коммерческих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                  бан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окладчи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колаенков Евгений Павлович, ф 41 групп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77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f52ae"/>
                </a:solidFill>
                <a:latin typeface="Times New Roman"/>
              </a:rPr>
              <a:t>И ещё один вид рейтинг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38280" y="1295280"/>
            <a:ext cx="64515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Индивидуальные рейтинги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(присваиваются международным рейтинговым агентством «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Fitch IBCA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»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Индивидуальный рейтинг является индикатором воз­можности самого финансового посредника «погло­тить» ряд возникших в процессе его деятельности финансовых и банковских рисков. Основными инди­каторами, на базе которых эксперты рейтингового агентства принимают решение о присвоении соответ­ствующего рейтинга, являются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рибыльность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лнота, достоверность и оперативность баланса финансовой организации, включая уровень капитализа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наличие/отсутствие каких-либо льгот со стороны государственных или регулирующих органов или уч­реждений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качество менеджмента, включая степень прора­ботки стратегии, политики и тактики деятельности в статике, динамике и с элементами прогноза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оперативная внутренняя и внешняя среда осуще­ствления деятельност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i="1" lang="ru-RU" sz="1500" spc="-1" strike="noStrike">
                <a:solidFill>
                  <a:srgbClr val="ffffff"/>
                </a:solidFill>
                <a:latin typeface="Arial"/>
              </a:rPr>
              <a:t>последовательность, логичность управления капи­талом финансовой организации, в том числе его ди­версификация по географическим и функциональным направлениям деятельности финансового учреждения.</a:t>
            </a: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Из каких коэффициентов состоит математическая модель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достаточности капитала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ликвидности КБ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рентабельности Коэффициента качества активов</a:t>
            </a:r>
            <a:br>
              <a:rPr sz="2800"/>
            </a:br>
            <a:r>
              <a:rPr b="1" i="1" lang="ru-RU" sz="2800" spc="-1" strike="noStrike">
                <a:solidFill>
                  <a:srgbClr val="996600"/>
                </a:solidFill>
                <a:latin typeface="Arial"/>
              </a:rPr>
              <a:t>Коэффициента качества пассив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2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00"/>
                </a:solidFill>
                <a:latin typeface="Arial"/>
              </a:rPr>
              <a:t>Процедура присвоения рейтинга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286000" y="1371600"/>
            <a:ext cx="6680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784440"/>
            <a:ext cx="6858000" cy="6665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Этапы типовой процедуры присвоения рейтинг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. Запрос на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2.  Формирование аналитической группы рейтинговым агентств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3.  Запрос у эмитента базового комплекта документов и информа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4.  Предоставление эмитентом базового комплекта документов (рейтинговой книги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5.  Проведение предварительного исследования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6.  Подготовка встречи с руководством эмитента. Дополнитель­ный перечень тем для обсужд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7.   Встреча аналитической группы с руководством эмитен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8.   Подготовка отчета аналитической группы для рейтингового комитет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9.  Рассмотрение результатов анализа на рейтинговом комитете и присвоение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0.  Уведомление эмитента о рейтинге; согласование и определе­ние статуса рейтинг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1.   Публикация рейтинга или инициализация процедуры апелляции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12.  Наблюдение за рейтингом. Организация и проведение еже­годной встречи с эмитентом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9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0" y="738000"/>
            <a:ext cx="6858000" cy="4940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9900"/>
                </a:solidFill>
                <a:latin typeface="Tahoma"/>
              </a:rPr>
              <a:t>При получении от эмитента запроса на присвоение рейтинг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овое агентство формирует аналитическую группу, состоящую из аналитиков, обладающих знаниями в соответствующих областях биз­неса. В этой группе назначается ведущий аналитик, который руководит процессом и служит главным контактным лицом для эмит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 очной официальной встречей группа анализирует финансовую отчетность за предшествующие периоды, прогнозы финансовых показателей и денежных потоков, документацию по сделкам, юридические заключения и прочие данные, которые имеют отношение к предме­ту. При этом рейтинговое агентство не осуществляет дополнительной аудиторской проверки предоставляемой эмитентом информац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Динамика суверенных рейтингов Росс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pic>
        <p:nvPicPr>
          <p:cNvPr id="1104" name="" descr=""/>
          <p:cNvPicPr/>
          <p:nvPr/>
        </p:nvPicPr>
        <p:blipFill>
          <a:blip r:embed="rId2"/>
          <a:stretch/>
        </p:blipFill>
        <p:spPr>
          <a:xfrm>
            <a:off x="914400" y="923760"/>
            <a:ext cx="8229600" cy="593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Times New Roman"/>
              </a:rPr>
              <a:t>Характеристики деятельности международных рейтинговых агентств в России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362320" y="3225960"/>
            <a:ext cx="6781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Классификация рейтингов агентства </a:t>
            </a: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Moody'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5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372600" cy="669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3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33"/>
                </a:solidFill>
                <a:latin typeface="Tahoma"/>
              </a:rPr>
              <a:t>Шкала рейтингов агентства «Рус-Рейтинг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5" name=""/>
          <p:cNvGraphicFramePr/>
          <p:nvPr/>
        </p:nvGraphicFramePr>
        <p:xfrm>
          <a:off x="0" y="1219320"/>
          <a:ext cx="9372240" cy="6171840"/>
        </p:xfrm>
        <a:graphic>
          <a:graphicData uri="http://schemas.openxmlformats.org/drawingml/2006/table">
            <a:tbl>
              <a:tblPr/>
              <a:tblGrid>
                <a:gridCol w="1874160"/>
                <a:gridCol w="7498080"/>
              </a:tblGrid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авнительно высокая степень кредитоспособ­ности. Финансовое со­стояние оценивается как устойчивое и стабильное в среднесрочной перс­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редняя степень креди­тоспособности. Финансо­вое состояние оценивает­ся как удовлетворитель­ное и стабильное в крат­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езначительно ниже средней. Основные пока­затели финансового со­стояния оцениваются как удовлетворительные и ста­бильные в краткосрочной перспектив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тепень кредитоспособ­ности ниже средней. Ос­новные показатели финан­сового состояния оценива­ются как удовлетворитель­ные, но их стабиль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кая степень креди­тоспособности. Основные показатели финансового состояния оцениваются как близкие к удовлетво­рительным, но их стабиль­ность со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допустимо низкая сте­пень кредитоспособности. Финансовое состояние оценивается как неудов­летворительное или близ­кое к удовлетворительно­му, но его стабильность со­мнитель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изшая степень оценки кредитоспособности. Фи­нансовое состояние оце­нивается как стабильно неудовлетворительное (близкое к дефолту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ейтинг аннулирован по требованию банк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1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Кредитный спрэд для каждого уровня рейтинга </a:t>
            </a:r>
            <a:r>
              <a:rPr b="1" i="1" lang="en-US" sz="2400" spc="-1" strike="noStrike">
                <a:solidFill>
                  <a:srgbClr val="660033"/>
                </a:solidFill>
                <a:latin typeface="Times New Roman"/>
              </a:rPr>
              <a:t>RusRating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</a:rPr>
              <a:t> в 2004 - 2007 г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tretch/>
        </p:blipFill>
        <p:spPr>
          <a:xfrm>
            <a:off x="2286000" y="1233360"/>
            <a:ext cx="6858000" cy="562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9907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Формирование в России рейтинговой систем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0" y="614880"/>
            <a:ext cx="9144000" cy="5796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 сегодняшний ден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иболе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звитым сектором рейтинговых продукт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является сектор банковских рейтингов. Это объясняется не только большей регламентированностью деятельности, но и относительной доступностью и прозрачностью отчетности кредитных учреждений, острым общественным интересом, порожденным возрастающим разнообразием предлагаемых банковских продуктов и услуг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временная банковская система Росс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одна из самых молодых. По сути дела, она насчитывает всего 15 лет. Поэтому практика рейтингования банков также относительно невелика. Естественно, первые рэнкинги были ориентированы на представление хотя бы какой-то инфор­мации для возникающего бизнеса и клиентов, которые привыкли до это­го иметь дело лишь с четырьмя государственными банками, когда проблемы выбора не существовало как таковой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Вопрос создания банковских рейтинго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иобрел актуальность к середине 1990-х гг., когда конкуренция между банками приобрела реальные очертания, а бизнесу потребовались четкие ориентиры при выборе обслуживающих банков. В 1995-1998 гг. рейтинговые услуги были представлены на рынке уже тремя-четырьмя агентствами. По­степенно на российском рынке стали появляться крупнейшие запад­ные компании, одна из них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or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успела открыть пред­ставительство в России, другая -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mpson Bank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Wa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пыталась активно у нас работать, но после кризиса была поглощена крупной международной компанией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tch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CA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При этом неадекватность оценок во время кризиса в России и развивающихся странах стала одной из причин такого поглощения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solidFill>
            <a:srgbClr val="ee941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Что такое кредитный рейтинг?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430360" y="1523880"/>
            <a:ext cx="6535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320" y="1193400"/>
            <a:ext cx="7010280" cy="57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— самые распространенные и широко используемые. Они присваиваются всеми ведущими международными рейтинговыми агентств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— это мнение экспертов агентств относительно общей кредитоспособности заемщика или кредитоспособности заемщика в отношении конкретных долговых обязательств, основанное на анализе достаточно стандартизованных факто­ров рис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е рейтинги бывают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лгосрочным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рат­косрочным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по международной или по национальной шкал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едитный рейтинг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дставляет собой информацию, которую инвесторы могут использовать при совершении операций с финансо­выми инструментами и ценными бумагами. Долго- и краткосрочные кредитные рейтинги присваиваются на суверенном, субсуверенном уровнях, а также финансовым и нефинансовым экономическим субъектам в национальной и иностранной валюта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Банковские рейтинговые продукты в России до кризиса 1998г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91540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рейтинговые продукты для бан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839080" cy="62485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2"/>
          <a:stretch/>
        </p:blipFill>
        <p:spPr>
          <a:xfrm>
            <a:off x="-26676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екоторые достижения..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2638440"/>
            <a:ext cx="7924680" cy="1739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том 2004г. британский журнал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Banke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опубликовал оче­редной рейтинг 1000 крупнейших банков мира. Банки в этом списке ранжированы по величине капитала. Американские и российские банки демонстрируют рост. Большинство новых участников списка - из России и США. И все это - несмотря на снижение темпов мирово­го экономического рос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33"/>
                </a:solidFill>
                <a:latin typeface="Times New Roman"/>
              </a:rPr>
              <a:t>Заключение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Рейтинги стран, региональных и муниципальных образований, субъектов финансового сектора экономики, нефинансовых организаций и предприятий стали важным информационным средством установления и поддержания деловых отношений в рамках хозяйственной деятельности и регулирования делового общения. Многообразие субъектов  и отношений между ними потребовало создания комплекса понятных, достаточно прозрачных и общепризнанных шкал, который позволил бы оценить финансовую устойчивость институциональных единиц в статике, динамике и с элементами прогноза. Подходы к этой проблемы породили разнообразие методик рейтинговых оценок, которые представляют на рынок рейтинговые агентства</a:t>
            </a:r>
            <a:r>
              <a:rPr b="0" lang="ru-RU" sz="2000" spc="-1" strike="noStrike">
                <a:solidFill>
                  <a:srgbClr val="9966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4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ополнительная информация!!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1"/>
          <a:stretch/>
        </p:blipFill>
        <p:spPr>
          <a:xfrm>
            <a:off x="2666880" y="3124080"/>
            <a:ext cx="36306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спределение банковских рейтинго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история и прогноз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88920" y="1608120"/>
          <a:ext cx="89661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608120"/>
                    <a:ext cx="89661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 flipV="1">
            <a:off x="4800600" y="3200040"/>
            <a:ext cx="1676520" cy="126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181480" y="3632040"/>
            <a:ext cx="167652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5511960" y="4127400"/>
            <a:ext cx="1676160" cy="1296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648320" y="2654280"/>
            <a:ext cx="20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Прогно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1849320"/>
            <a:ext cx="18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исло рейтинг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436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Рейтинги российских банков сдерживаются структурными недостатками банковского сектора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179" name=""/>
          <p:cNvGraphicFramePr/>
          <p:nvPr/>
        </p:nvGraphicFramePr>
        <p:xfrm>
          <a:off x="436680" y="1498680"/>
          <a:ext cx="8423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98680"/>
                    <a:ext cx="8423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1" name=""/>
          <p:cNvSpPr/>
          <p:nvPr/>
        </p:nvSpPr>
        <p:spPr>
          <a:xfrm flipV="1">
            <a:off x="7823160" y="2361960"/>
            <a:ext cx="622440" cy="1104840"/>
          </a:xfrm>
          <a:prstGeom prst="line">
            <a:avLst/>
          </a:prstGeom>
          <a:ln cap="rnd" w="223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924680" y="3886200"/>
            <a:ext cx="838440" cy="0"/>
          </a:xfrm>
          <a:prstGeom prst="line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8674200" y="1892160"/>
            <a:ext cx="304560" cy="232416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369280" y="2514600"/>
            <a:ext cx="177840" cy="1282680"/>
          </a:xfrm>
          <a:prstGeom prst="ellipse">
            <a:avLst/>
          </a:prstGeom>
          <a:noFill/>
          <a:ln w="22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d47d"/>
                </a:solidFill>
                <a:latin typeface="Arial"/>
              </a:rPr>
              <a:t>Позитивные факторы, влияющие на рейтинги банков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2050920"/>
            <a:ext cx="82296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Экономический рост</a:t>
            </a:r>
            <a:r>
              <a:rPr b="1" lang="fr-FR" sz="2400" spc="-1" strike="noStrike">
                <a:solidFill>
                  <a:srgbClr val="2f131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Рост ВВП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7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3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3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прогноз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6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8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на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2004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ысокий потенциал роста банковской отрасли в силу низкого уровня финансового посредничеств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Кредиты к ВВП в 2003 г.: 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21%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 в Росс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 29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Польше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44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 Венгри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и</a:t>
            </a:r>
            <a:r>
              <a:rPr b="1" i="1" lang="fr-FR" sz="2400" spc="-1" strike="noStrike">
                <a:solidFill>
                  <a:srgbClr val="2f1311"/>
                </a:solidFill>
                <a:latin typeface="Arial"/>
              </a:rPr>
              <a:t> 75% </a:t>
            </a:r>
            <a:r>
              <a:rPr b="1" i="1" lang="ru-RU" sz="2400" spc="-1" strike="noStrike">
                <a:solidFill>
                  <a:srgbClr val="2f1311"/>
                </a:solidFill>
                <a:latin typeface="Arial"/>
              </a:rPr>
              <a:t>во Франци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cc0000"/>
              </a:buClr>
              <a:buSzPct val="150000"/>
              <a:buFont typeface="Arial"/>
              <a:buChar char="!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ысокий уровень экономических и отраслевых рисков делает российский банковский сектор одним из самых высокорисковых в мире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гативные факторы, влияющие на рейтинги банков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Концентрация экономики</a:t>
            </a:r>
            <a:r>
              <a:rPr b="1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Доминирующее положение Сбербанка</a:t>
            </a:r>
            <a:r>
              <a:rPr b="1" lang="fr-FR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6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частных депозитов и более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 30% </a:t>
            </a:r>
            <a:r>
              <a:rPr b="1" i="1" lang="ru-RU" sz="2000" spc="-1" strike="noStrike">
                <a:solidFill>
                  <a:srgbClr val="000000"/>
                </a:solidFill>
                <a:latin typeface="Bodoni MT"/>
              </a:rPr>
              <a:t>рынка корпоративного кредитования</a:t>
            </a:r>
            <a:r>
              <a:rPr b="1" i="1" lang="fr-FR" sz="2000" spc="-1" strike="noStrike">
                <a:solidFill>
                  <a:srgbClr val="000000"/>
                </a:solidFill>
                <a:latin typeface="Bodoni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концентрация кредитных ри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Преобладание операций со связанными сторо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прозрачная структура соб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Большое число мелких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Высокая доля доходов от торгов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Bodoni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doni MT"/>
              </a:rPr>
              <a:t>Неопределенная и непредсказуемая прав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8439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йтинг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ndard &amp; Poor’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оссийских финансовых институтов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318960" y="1368360"/>
          <a:ext cx="8632800" cy="4837320"/>
        </p:xfrm>
        <a:graphic>
          <a:graphicData uri="http://schemas.openxmlformats.org/drawingml/2006/table">
            <a:tbl>
              <a:tblPr/>
              <a:tblGrid>
                <a:gridCol w="2576520"/>
                <a:gridCol w="1371600"/>
                <a:gridCol w="3111480"/>
                <a:gridCol w="15732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торг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зпром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нты-Мансий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Москов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ргутнефтегаз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Русский Стандар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CW 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мсвязь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фа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мпэкс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+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ДМ-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вропейский Трастов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Петрокоммерц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ьский Банк Реконструкции и Развит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Промышленны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ый Банк Санкт-Петербург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ессанс Капитал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Positiv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Союз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 ДельтаКреди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эб-инвест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о-Сибирский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ба Альянс Бан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/Stabl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Кредит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/St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1" name=""/>
          <p:cNvSpPr/>
          <p:nvPr/>
        </p:nvSpPr>
        <p:spPr>
          <a:xfrm>
            <a:off x="6006960" y="609480"/>
            <a:ext cx="31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cc"/>
                </a:solidFill>
                <a:latin typeface="Arial"/>
              </a:rPr>
              <a:t>На 1 сентября 2004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Кредитный рейтинг - это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430360" y="1447920"/>
            <a:ext cx="67136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362320" y="1547280"/>
            <a:ext cx="6781680" cy="5336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рейтинг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комплексная оценка состояния анализируемого субъекта, которая дает возможность отнести его к некоторому классу или категории. Результаты исследова­ния деятельности экономических субъектов выражают­ся комбинацией символов, на базе которой осуществ­ляется определенная кластеризация, дающая возмож­ность проведения текущей и сравнительной оцен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йтинги являютс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достаточно значимой составляющей в области деловой информации - они необходимы как д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держания уровня делового до­вер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ак и в качестве индикатора перспективных на­правлений размещения финансовых ресурсов, вложения инвестиционных потенциал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йтинг по своей сути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полняет функци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еобразования достаточно больших объемов информации в мнения и рекомендации по принятию решения наиболее компактным образ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2" name=""/>
          <p:cNvGrpSpPr/>
          <p:nvPr/>
        </p:nvGrpSpPr>
        <p:grpSpPr>
          <a:xfrm>
            <a:off x="0" y="2286000"/>
            <a:ext cx="9144000" cy="360360"/>
            <a:chOff x="0" y="2286000"/>
            <a:chExt cx="9144000" cy="360360"/>
          </a:xfrm>
        </p:grpSpPr>
        <p:sp>
          <p:nvSpPr>
            <p:cNvPr id="1193" name=""/>
            <p:cNvSpPr/>
            <p:nvPr/>
          </p:nvSpPr>
          <p:spPr>
            <a:xfrm>
              <a:off x="0" y="2357280"/>
              <a:ext cx="9144000" cy="289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0" y="2286000"/>
              <a:ext cx="9144000" cy="7308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304920" y="28195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Georgia"/>
              </a:rPr>
              <a:t>Использование кредитных рейтингов в деятельности коммерческого бан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Georgia"/>
              </a:rPr>
              <a:t>Опыт АКБ «Союз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Банковские рейтинги и анализ финансового состояния банк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 Black"/>
              </a:rPr>
              <a:t>Круглый стол «Банковские рейтинги и анализ финансового состояния банка»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Моск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Торгово-промышленная палата РФ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23 мая 2006 год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195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8" name="Souz_logo_gor" descr=""/>
          <p:cNvPicPr/>
          <p:nvPr/>
        </p:nvPicPr>
        <p:blipFill>
          <a:blip r:embed="rId1"/>
          <a:stretch/>
        </p:blipFill>
        <p:spPr>
          <a:xfrm>
            <a:off x="324000" y="76320"/>
            <a:ext cx="8534160" cy="220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200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524720" y="5734080"/>
            <a:ext cx="1357200" cy="61596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609480" y="10666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Кредитные рейтинги корпоративных заемщ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500720" y="22050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09480" y="5013360"/>
            <a:ext cx="821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о данным на 22.05.2006 кредитные рейтинги имели более 65 компаний, более 80 банков и финансовых организа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1447920" y="1801800"/>
          <a:ext cx="6095880" cy="2998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801800"/>
                    <a:ext cx="60958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9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10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1"/>
          <a:stretch/>
        </p:blipFill>
        <p:spPr>
          <a:xfrm>
            <a:off x="7380360" y="5734080"/>
            <a:ext cx="1547640" cy="701640"/>
          </a:xfrm>
          <a:prstGeom prst="rect">
            <a:avLst/>
          </a:prstGeom>
          <a:ln w="0">
            <a:noFill/>
          </a:ln>
        </p:spPr>
      </p:pic>
      <p:sp>
        <p:nvSpPr>
          <p:cNvPr id="1214" name=""/>
          <p:cNvSpPr/>
          <p:nvPr/>
        </p:nvSpPr>
        <p:spPr>
          <a:xfrm>
            <a:off x="1332000" y="2637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граниченное число заемщиков, получивших кредитные рейтинг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уальность кредитных рейтинг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и сопоставления оценок различных рейтинговых агент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Сложность сопоставления оценок по различным шкалам (национальным/международ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067280" y="184464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52280" y="9810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пользование рейтингов при принятии решений об инвестиров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России кредитные рейтинги пока не стали инструментом для принятия инвестиционных ре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40360" y="4365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9" name=""/>
          <p:cNvGrpSpPr/>
          <p:nvPr/>
        </p:nvGrpSpPr>
        <p:grpSpPr>
          <a:xfrm>
            <a:off x="0" y="260280"/>
            <a:ext cx="9144000" cy="360360"/>
            <a:chOff x="0" y="260280"/>
            <a:chExt cx="9144000" cy="360360"/>
          </a:xfrm>
        </p:grpSpPr>
        <p:sp>
          <p:nvSpPr>
            <p:cNvPr id="1220" name=""/>
            <p:cNvSpPr/>
            <p:nvPr/>
          </p:nvSpPr>
          <p:spPr>
            <a:xfrm>
              <a:off x="0" y="331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0" y="260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258920" y="2421000"/>
            <a:ext cx="7010280" cy="1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озрачность методик оценки заемщик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убликация полных рейтинговых отче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одготовка качественной отраслевой информац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Предоставление информации о всех присвоенных рейтинговых оценка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67280" y="155736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9079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еобходимая рейтинговая информац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50920" y="515772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Раскрытие подобной информации будет способствовать большему доверию к рейтинговым оценк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140360" y="414972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0" y="380880"/>
            <a:ext cx="9144000" cy="360360"/>
            <a:chOff x="0" y="380880"/>
            <a:chExt cx="9144000" cy="360360"/>
          </a:xfrm>
        </p:grpSpPr>
        <p:sp>
          <p:nvSpPr>
            <p:cNvPr id="1229" name=""/>
            <p:cNvSpPr/>
            <p:nvPr/>
          </p:nvSpPr>
          <p:spPr>
            <a:xfrm>
              <a:off x="0" y="4521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0" y="3808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0" y="65372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403280" y="1197000"/>
            <a:ext cx="691380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Standard &amp; Poor`s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1 сентября 2005 года             ССС+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                                                    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24 сентября 2003 года           ССС/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52280" y="692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Кредитный рейтинг АКБ «Союз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0920" y="566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Низкий уровень кредитного рейтинга ограничивает возможности для публичных заимствова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708360" y="1916280"/>
            <a:ext cx="86508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239840" y="3255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457200" y="2819520"/>
          <a:ext cx="7345080" cy="2608200"/>
        </p:xfrm>
        <a:graphic>
          <a:graphicData uri="http://schemas.openxmlformats.org/drawingml/2006/table">
            <a:tbl>
              <a:tblPr/>
              <a:tblGrid>
                <a:gridCol w="3672360"/>
                <a:gridCol w="3672720"/>
              </a:tblGrid>
              <a:tr h="26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зи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рочные связи с компаниями группы «Базовый Элемент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крепление рыночных позиц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орошая структура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гативные фактор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сокая концентрация размещаемых и привлекаемых средс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изкий уровень капитал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большая клиентская б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6633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Умеренная прибы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8" name=""/>
          <p:cNvGrpSpPr/>
          <p:nvPr/>
        </p:nvGrpSpPr>
        <p:grpSpPr>
          <a:xfrm>
            <a:off x="0" y="476280"/>
            <a:ext cx="9144000" cy="360360"/>
            <a:chOff x="0" y="476280"/>
            <a:chExt cx="9144000" cy="360360"/>
          </a:xfrm>
        </p:grpSpPr>
        <p:sp>
          <p:nvSpPr>
            <p:cNvPr id="1239" name=""/>
            <p:cNvSpPr/>
            <p:nvPr/>
          </p:nvSpPr>
          <p:spPr>
            <a:xfrm>
              <a:off x="0" y="54756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0" y="47628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c16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0" y="663264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7197840" y="5705640"/>
            <a:ext cx="1755720" cy="7952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4000" y="1052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3399"/>
                </a:solidFill>
                <a:uFillTx/>
                <a:latin typeface="Arial"/>
              </a:rPr>
              <a:t>Типичная схема сделки: опыт Банка СОЮЗ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5303880" y="2363760"/>
            <a:ext cx="1374840" cy="581400"/>
            <a:chOff x="5303880" y="2363760"/>
            <a:chExt cx="1374840" cy="581400"/>
          </a:xfrm>
        </p:grpSpPr>
        <p:sp>
          <p:nvSpPr>
            <p:cNvPr id="1245" name=""/>
            <p:cNvSpPr/>
            <p:nvPr/>
          </p:nvSpPr>
          <p:spPr>
            <a:xfrm>
              <a:off x="5303880" y="2440080"/>
              <a:ext cx="1374840" cy="4762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27280" y="2363760"/>
              <a:ext cx="125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Менеджер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6880" y="3247920"/>
            <a:ext cx="2362320" cy="582840"/>
            <a:chOff x="326880" y="3247920"/>
            <a:chExt cx="2362320" cy="582840"/>
          </a:xfrm>
        </p:grpSpPr>
        <p:sp>
          <p:nvSpPr>
            <p:cNvPr id="1248" name=""/>
            <p:cNvSpPr/>
            <p:nvPr/>
          </p:nvSpPr>
          <p:spPr>
            <a:xfrm>
              <a:off x="326880" y="3316320"/>
              <a:ext cx="2362320" cy="51444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1400" y="3247920"/>
              <a:ext cx="2235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ck-up Servicer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Запасной сервисный аг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207360" y="2033640"/>
            <a:ext cx="595800" cy="1104480"/>
            <a:chOff x="207360" y="2033640"/>
            <a:chExt cx="595800" cy="1104480"/>
          </a:xfrm>
        </p:grpSpPr>
        <p:sp>
          <p:nvSpPr>
            <p:cNvPr id="1251" name=""/>
            <p:cNvSpPr/>
            <p:nvPr/>
          </p:nvSpPr>
          <p:spPr>
            <a:xfrm rot="5400000">
              <a:off x="-25560" y="2271960"/>
              <a:ext cx="1067040" cy="5904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rot="16200000">
              <a:off x="-41400" y="2308320"/>
              <a:ext cx="10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ligor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лжник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708280" y="2095560"/>
            <a:ext cx="2743200" cy="1068840"/>
            <a:chOff x="2708280" y="2095560"/>
            <a:chExt cx="2743200" cy="1068840"/>
          </a:xfrm>
        </p:grpSpPr>
        <p:sp>
          <p:nvSpPr>
            <p:cNvPr id="1254" name=""/>
            <p:cNvSpPr/>
            <p:nvPr/>
          </p:nvSpPr>
          <p:spPr>
            <a:xfrm>
              <a:off x="3146400" y="2135160"/>
              <a:ext cx="1828800" cy="9900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08280" y="20955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V Purchaser/</a:t>
              </a:r>
              <a:br>
                <a:rPr sz="19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su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окупатель/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Эмитент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6480360" y="3727440"/>
            <a:ext cx="2210760" cy="676080"/>
            <a:chOff x="6480360" y="3727440"/>
            <a:chExt cx="2210760" cy="676080"/>
          </a:xfrm>
        </p:grpSpPr>
        <p:sp>
          <p:nvSpPr>
            <p:cNvPr id="1257" name=""/>
            <p:cNvSpPr/>
            <p:nvPr/>
          </p:nvSpPr>
          <p:spPr>
            <a:xfrm>
              <a:off x="6556320" y="3782880"/>
              <a:ext cx="2057400" cy="60948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480360" y="3727440"/>
              <a:ext cx="221076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sh Manager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Управляющий денежными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редствами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851520" y="2373480"/>
            <a:ext cx="1851120" cy="659880"/>
            <a:chOff x="6851520" y="2373480"/>
            <a:chExt cx="1851120" cy="659880"/>
          </a:xfrm>
        </p:grpSpPr>
        <p:sp>
          <p:nvSpPr>
            <p:cNvPr id="1260" name=""/>
            <p:cNvSpPr/>
            <p:nvPr/>
          </p:nvSpPr>
          <p:spPr>
            <a:xfrm>
              <a:off x="6927840" y="2373480"/>
              <a:ext cx="1676520" cy="62856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51520" y="2391120"/>
              <a:ext cx="18511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holders</a:t>
              </a:r>
              <a:br>
                <a:rPr sz="15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ержатели долго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ценных бумаг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7059600" y="1343160"/>
            <a:ext cx="1460160" cy="779400"/>
            <a:chOff x="7059600" y="1343160"/>
            <a:chExt cx="1460160" cy="779400"/>
          </a:xfrm>
        </p:grpSpPr>
        <p:sp>
          <p:nvSpPr>
            <p:cNvPr id="1263" name=""/>
            <p:cNvSpPr/>
            <p:nvPr/>
          </p:nvSpPr>
          <p:spPr>
            <a:xfrm>
              <a:off x="7059600" y="1411200"/>
              <a:ext cx="1430280" cy="70452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80120" y="1343160"/>
              <a:ext cx="1439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ustee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Доверительный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собственник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6859440" y="3095640"/>
            <a:ext cx="1764000" cy="581400"/>
            <a:chOff x="6859440" y="3095640"/>
            <a:chExt cx="1764000" cy="581400"/>
          </a:xfrm>
        </p:grpSpPr>
        <p:sp>
          <p:nvSpPr>
            <p:cNvPr id="1266" name=""/>
            <p:cNvSpPr/>
            <p:nvPr/>
          </p:nvSpPr>
          <p:spPr>
            <a:xfrm>
              <a:off x="6859440" y="3164040"/>
              <a:ext cx="1754280" cy="457200"/>
            </a:xfrm>
            <a:prstGeom prst="rect">
              <a:avLst/>
            </a:prstGeom>
            <a:noFill/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89680" y="3095640"/>
              <a:ext cx="1733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ying Agents</a:t>
              </a:r>
              <a:br>
                <a:rPr sz="1900"/>
              </a:br>
              <a:r>
                <a:rPr b="0" lang="ru-RU" sz="1300" spc="-1" strike="noStrike">
                  <a:solidFill>
                    <a:srgbClr val="ffffff"/>
                  </a:solidFill>
                  <a:latin typeface="Arial"/>
                </a:rPr>
                <a:t>Платежные агенты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983120" y="2706840"/>
            <a:ext cx="30492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88080" y="2706840"/>
            <a:ext cx="22068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1041480" y="2085840"/>
            <a:ext cx="1600200" cy="1047960"/>
            <a:chOff x="1041480" y="2085840"/>
            <a:chExt cx="1600200" cy="1047960"/>
          </a:xfrm>
        </p:grpSpPr>
        <p:grpSp>
          <p:nvGrpSpPr>
            <p:cNvPr id="1271" name=""/>
            <p:cNvGrpSpPr/>
            <p:nvPr/>
          </p:nvGrpSpPr>
          <p:grpSpPr>
            <a:xfrm>
              <a:off x="1041480" y="2552400"/>
              <a:ext cx="1600200" cy="581400"/>
              <a:chOff x="1041480" y="2552400"/>
              <a:chExt cx="1600200" cy="581400"/>
            </a:xfrm>
          </p:grpSpPr>
          <p:sp>
            <p:nvSpPr>
              <p:cNvPr id="1272" name=""/>
              <p:cNvSpPr/>
              <p:nvPr/>
            </p:nvSpPr>
            <p:spPr>
              <a:xfrm>
                <a:off x="1041480" y="26301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1096560" y="2552400"/>
                <a:ext cx="1499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ice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Сервисный агент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1041480" y="2085840"/>
              <a:ext cx="1600200" cy="581400"/>
              <a:chOff x="1041480" y="2085840"/>
              <a:chExt cx="1600200" cy="581400"/>
            </a:xfrm>
          </p:grpSpPr>
          <p:sp>
            <p:nvSpPr>
              <p:cNvPr id="1275" name=""/>
              <p:cNvSpPr/>
              <p:nvPr/>
            </p:nvSpPr>
            <p:spPr>
              <a:xfrm>
                <a:off x="1041480" y="2172960"/>
                <a:ext cx="1600200" cy="457200"/>
              </a:xfrm>
              <a:prstGeom prst="rect">
                <a:avLst/>
              </a:prstGeom>
              <a:noFill/>
              <a:ln cap="sq" w="1260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193760" y="2085840"/>
                <a:ext cx="131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iginator</a:t>
                </a:r>
                <a:br>
                  <a:rPr sz="1900"/>
                </a:br>
                <a:r>
                  <a:rPr b="0" lang="ru-RU" sz="1300" spc="-1" strike="noStrike">
                    <a:solidFill>
                      <a:srgbClr val="ffffff"/>
                    </a:solidFill>
                    <a:latin typeface="Arial"/>
                  </a:rPr>
                  <a:t>Оригинатор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7" name=""/>
          <p:cNvSpPr/>
          <p:nvPr/>
        </p:nvSpPr>
        <p:spPr>
          <a:xfrm>
            <a:off x="4366440" y="36590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6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55240" y="337356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5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764800" y="25351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761560" y="27162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4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774160" y="232560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19120" y="24368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662160" y="245592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8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419240" y="2141640"/>
            <a:ext cx="29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7360" y="3621240"/>
            <a:ext cx="2606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08080" y="3938760"/>
            <a:ext cx="33526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uto Loan Agreement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втокредиты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sset Sale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продажи активо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служива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forcement Services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казании услуг по взысканию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Back-up Servicing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запасном сервис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17560" y="2414520"/>
            <a:ext cx="2286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746240" y="1792440"/>
            <a:ext cx="2305080" cy="342720"/>
            <a:chOff x="4746240" y="1792440"/>
            <a:chExt cx="2305080" cy="342720"/>
          </a:xfrm>
        </p:grpSpPr>
        <p:sp>
          <p:nvSpPr>
            <p:cNvPr id="1289" name=""/>
            <p:cNvSpPr/>
            <p:nvPr/>
          </p:nvSpPr>
          <p:spPr>
            <a:xfrm flipH="1">
              <a:off x="4746240" y="1792440"/>
              <a:ext cx="2305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46600" y="1792440"/>
              <a:ext cx="0" cy="34272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5752800" y="1535040"/>
            <a:ext cx="577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7. + 9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623920" y="3160800"/>
            <a:ext cx="37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0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817560" y="2163600"/>
            <a:ext cx="299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49600" y="255420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82920" y="3938760"/>
            <a:ext cx="3454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sh Management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управлении денежными средствам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ust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доверительной собственност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lass A, B, C Notes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лговые ценные бумаги классов А, В, С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ecurity Deed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б обеспечении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aying Agency Agreement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оговор о платежном агенте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18400" y="2125800"/>
            <a:ext cx="0" cy="22860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651040" y="27446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649600" y="2935440"/>
            <a:ext cx="496800" cy="0"/>
          </a:xfrm>
          <a:prstGeom prst="line">
            <a:avLst/>
          </a:prstGeom>
          <a:ln cap="sq" w="1260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689200" y="3116160"/>
            <a:ext cx="838080" cy="466560"/>
            <a:chOff x="2689200" y="3116160"/>
            <a:chExt cx="838080" cy="466560"/>
          </a:xfrm>
        </p:grpSpPr>
        <p:sp>
          <p:nvSpPr>
            <p:cNvPr id="1300" name=""/>
            <p:cNvSpPr/>
            <p:nvPr/>
          </p:nvSpPr>
          <p:spPr>
            <a:xfrm>
              <a:off x="3527280" y="3116160"/>
              <a:ext cx="0" cy="45720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89200" y="3582720"/>
              <a:ext cx="83808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108320" y="3135240"/>
            <a:ext cx="2438640" cy="771480"/>
            <a:chOff x="4108320" y="3135240"/>
            <a:chExt cx="2438640" cy="771480"/>
          </a:xfrm>
        </p:grpSpPr>
        <p:sp>
          <p:nvSpPr>
            <p:cNvPr id="1303" name=""/>
            <p:cNvSpPr/>
            <p:nvPr/>
          </p:nvSpPr>
          <p:spPr>
            <a:xfrm flipV="1">
              <a:off x="4108320" y="3135240"/>
              <a:ext cx="0" cy="76176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08320" y="3906720"/>
              <a:ext cx="243864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5" name=""/>
          <p:cNvGrpSpPr/>
          <p:nvPr/>
        </p:nvGrpSpPr>
        <p:grpSpPr>
          <a:xfrm>
            <a:off x="4687560" y="3125880"/>
            <a:ext cx="2173320" cy="237960"/>
            <a:chOff x="4687560" y="3125880"/>
            <a:chExt cx="2173320" cy="237960"/>
          </a:xfrm>
        </p:grpSpPr>
        <p:sp>
          <p:nvSpPr>
            <p:cNvPr id="1306" name=""/>
            <p:cNvSpPr/>
            <p:nvPr/>
          </p:nvSpPr>
          <p:spPr>
            <a:xfrm flipH="1">
              <a:off x="4687560" y="3363840"/>
              <a:ext cx="2173320" cy="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689360" y="3125880"/>
              <a:ext cx="0" cy="228240"/>
            </a:xfrm>
            <a:prstGeom prst="line">
              <a:avLst/>
            </a:prstGeom>
            <a:ln cap="sq" w="12600">
              <a:solidFill>
                <a:srgbClr val="2f131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8" name=""/>
          <p:cNvGrpSpPr/>
          <p:nvPr/>
        </p:nvGrpSpPr>
        <p:grpSpPr>
          <a:xfrm>
            <a:off x="0" y="404640"/>
            <a:ext cx="9144000" cy="360360"/>
            <a:chOff x="0" y="404640"/>
            <a:chExt cx="9144000" cy="360360"/>
          </a:xfrm>
        </p:grpSpPr>
        <p:sp>
          <p:nvSpPr>
            <p:cNvPr id="1309" name=""/>
            <p:cNvSpPr/>
            <p:nvPr/>
          </p:nvSpPr>
          <p:spPr>
            <a:xfrm>
              <a:off x="0" y="475920"/>
              <a:ext cx="9144000" cy="289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0" y="404640"/>
              <a:ext cx="9144000" cy="730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0" y="6561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83664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3399"/>
                </a:solidFill>
                <a:uFillTx/>
                <a:latin typeface="Times New Roman"/>
              </a:rPr>
              <a:t>Параметры секьюритизации Банка СОЮЗ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3" name=""/>
          <p:cNvGraphicFramePr/>
          <p:nvPr/>
        </p:nvGraphicFramePr>
        <p:xfrm>
          <a:off x="228600" y="1295280"/>
          <a:ext cx="7620120" cy="5332680"/>
        </p:xfrm>
        <a:graphic>
          <a:graphicData uri="http://schemas.openxmlformats.org/drawingml/2006/table">
            <a:tbl>
              <a:tblPr/>
              <a:tblGrid>
                <a:gridCol w="2362320"/>
                <a:gridCol w="5257800"/>
              </a:tblGrid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митен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Auto Loans Finance B.V. (Нидерланды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СОЮЗ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. Обслужи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нк Русский Стандарт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бумаг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-1, A-2, B, 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выпуск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0 000 долларов США, из них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нот класса А-1 и А-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нот класса 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 нот класса 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автокредитов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оло 37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размещ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ля 2005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огашен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юль 2010 г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йтинг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ody’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А-1: Ваа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2, С: без рейтинг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В: В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а купон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ы А-1 и А-2: 1ml+175 б.п., верхняя граница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B: 8.7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 C: банк выкупает самостоятельн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онный период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месяц, выплата 10 числа каждого месяц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торы и андерайтер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kovsky Narodny Ban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16" name="" descr=""/>
          <p:cNvPicPr/>
          <p:nvPr/>
        </p:nvPicPr>
        <p:blipFill>
          <a:blip r:embed="rId2"/>
          <a:stretch/>
        </p:blipFill>
        <p:spPr>
          <a:xfrm>
            <a:off x="299880" y="642960"/>
            <a:ext cx="8544240" cy="5572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сять повышений за семь лет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eec94"/>
                </a:solidFill>
                <a:latin typeface="Times New Roman"/>
              </a:rPr>
              <a:t>Суверенный рейтинг России -результат взвешенности всех фактор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0" name="" descr=""/>
          <p:cNvPicPr/>
          <p:nvPr/>
        </p:nvPicPr>
        <p:blipFill>
          <a:blip r:embed="rId1"/>
          <a:stretch/>
        </p:blipFill>
        <p:spPr>
          <a:xfrm>
            <a:off x="0" y="1308240"/>
            <a:ext cx="9144000" cy="554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286000" y="0"/>
            <a:ext cx="6400800" cy="4572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 flipV="1">
            <a:off x="2286000" y="1218960"/>
            <a:ext cx="6629400" cy="6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057040" y="-914400"/>
            <a:ext cx="754380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Bodoni MT"/>
              </a:rPr>
              <a:t>Что даёт наличие рейтинга?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430360" y="609480"/>
            <a:ext cx="671364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6" name=""/>
          <p:cNvGraphicFramePr/>
          <p:nvPr/>
        </p:nvGraphicFramePr>
        <p:xfrm>
          <a:off x="2133720" y="0"/>
          <a:ext cx="7467480" cy="6978600"/>
        </p:xfrm>
        <a:graphic>
          <a:graphicData uri="http://schemas.openxmlformats.org/drawingml/2006/table">
            <a:tbl>
              <a:tblPr/>
              <a:tblGrid>
                <a:gridCol w="3524040"/>
                <a:gridCol w="394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Финансовому посред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663300"/>
                          </a:solidFill>
                          <a:latin typeface="Rockwell Extra Bold"/>
                          <a:ea typeface="Times New Roman"/>
                        </a:rPr>
                        <a:t>инвестор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60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ий доступ на рынок капитал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тинга у субъекта финансового сектор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ьно часто на практике улучшает условия доступа на финансовые рынки за счет по­вышения доверия инвесторов и кредиторов к его долговым обя­зательствам. Это может приве­сти к снижению издержек фи­нансирования. Многие институ­циональные инвесторы не при­обретают долговых обяза­тельств у субъектов, не имею­щих рейтинга. В условиях рас­тущей глобализации рынков рей­тинги стали ориентирами, помо­гающими эмитентам размещать свои ценные бумаги во всем мире, расширяя рынок привле­чения капитала;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 </a:t>
                      </a: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стоимостью кре­дитных ресурсов.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посредник, имеющий кредитный рейтинг, получает более широ­кий выбор на рынках капитала. У него больше альтернатив в ис­точниках финансирования, чему банка, не имеющего рейтинга. Это дает возможность финансо­вым организациям выбирать наи­более эффективные формы за­имствования и оптимизировать его стоимость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принятия осознанного инвестиционно­го решения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рей­тинга у финансовой органи­зации позволяет инвестору оценить, приемлемо ли для него соотношение риск/до­ходность для данного вложе­ния, и сравнить с альтерна­тивным вариантом. Очевид­но, что при прочих равных соотношениях риска и доход­ности инвестор выберет фи­нансового посредника, име­ющего рейтинг ведущего международного рейтингово­го агентства;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106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ая открытость эми­тента.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равило, наличие кредитного рейтинга у бан­ка означает большую инфор­мационную прозрачность его деятельности. Это связано с тем, что банк при подготов­ке рейтингового заключения и в процессе процедуры под­держания рейтинга представ­ляет рейтинговому агентству больший объем информации, чем другие компании, и в большинстве случаев эта ин­формация становится откры­той для всех потенциальных инвесторов.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2e2e2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676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Что и говорить, Российский рост впечатляет!!!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Times New Roman"/>
              </a:rPr>
              <a:t>Но удастся ли сохранить в среднесрочной перспективе?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94489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"/>
              </a:rPr>
              <a:t>Не исключено, что опасная «голландская болезнь» ещё даст знать о себе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долгосрочной перспективе на состояние экономики повлияет неблагоприятная демографическая ситуация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1"/>
          <a:stretch/>
        </p:blipFill>
        <p:spPr>
          <a:xfrm>
            <a:off x="-152280" y="1523880"/>
            <a:ext cx="944856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Нефть и газ обеспечивают России профицит по внешнему платежному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лансу ...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1"/>
          <a:stretch/>
        </p:blipFill>
        <p:spPr>
          <a:xfrm>
            <a:off x="-1143000" y="1490760"/>
            <a:ext cx="10591920" cy="64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-457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озицию нетто-кредитора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7e7ff"/>
                </a:solidFill>
                <a:latin typeface="Arial"/>
              </a:rPr>
              <a:t>... хотя существует риск увеличения внебюджетных обязательств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4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хиллесова пята России: институциональная слабость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Чего ждать после выборов 2008 г.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ложение: Некоторые показатели суверенного риск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31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f52ae"/>
                </a:solidFill>
                <a:latin typeface="Arial"/>
              </a:rPr>
              <a:t>Как влияют кредитные рейтинги на выпуск долговых обязательств 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623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362320" y="1249920"/>
            <a:ext cx="6781680" cy="509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 выпуске долговых обязательств кредитный и прочие рейтинг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нижают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имость заимствований, так как, с точки зрения инвесторов, риск по облигациям снижается с неопределенно высокого до зафиксированного на понятном для них уровне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ширя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круг потенциальных инвесторов за счет консервативных участников рынка капитала, имеющих ограничения на уровень риска по финансовым вло­жениям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ств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росту известности компании и её долговых обязательств за счет распространения информации по каналам рейтингового агентств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демонстрирую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мерения эмитента строить свои отношения с инвесторами на принципах информаци­онной открытости в соответствии с международными стандарт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Какие факторы способствуют росту рейтингов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российских банков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овень рейтингов российских банков по-прежнему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стает от уровня суверенного рейтинга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Распределение рейтингов банков России,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азахстана и Украин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редние рейтинги банков России и</a:t>
            </a:r>
            <a:br>
              <a:rPr sz="1600"/>
            </a:b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ругих стран, относящихся к категории «ВВВ»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– основные рейтинговые факторы</a:t>
            </a:r>
            <a:br>
              <a:rPr sz="3200"/>
            </a:b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Экономический прогресс в России,</a:t>
            </a:r>
            <a:br>
              <a:rPr sz="2400"/>
            </a:br>
            <a:r>
              <a:rPr b="1" i="1" lang="ru-RU" sz="2400" spc="-1" strike="noStrike">
                <a:solidFill>
                  <a:srgbClr val="dbbd71"/>
                </a:solidFill>
                <a:latin typeface="Arial Rounded MT Bold"/>
              </a:rPr>
              <a:t>Казахстане и Украине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55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Тенденция роста совокупных внутренних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кредитов, в процентах к ВВП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Bodoni MT"/>
              </a:rPr>
              <a:t>Рост финансового посредничества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Доходность активов банковской систем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оссии в сравнении со странами «группы</a:t>
            </a:r>
            <a:br>
              <a:rPr sz="2800"/>
            </a:br>
            <a:r>
              <a:rPr b="0" i="1" lang="ru-RU" sz="2800" spc="-1" strike="noStrike">
                <a:solidFill>
                  <a:srgbClr val="feec94"/>
                </a:solidFill>
                <a:latin typeface="Blackadder ITC"/>
              </a:rPr>
              <a:t>равных»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Виды рейтингов, присваиваемые ведущими рейтинговыми агентствам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30360" y="1295280"/>
            <a:ext cx="671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286000" y="2708280"/>
            <a:ext cx="6629400" cy="3375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ffff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09680" y="1721880"/>
            <a:ext cx="6934320" cy="4574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504" dir="3183908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Рейтинги финансовой устойчивости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сваиваются агентствам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). -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м. след. слай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е рейтинги отражают позицию агентства в от­ношении устойчивости и надежности финансовых посредников, исключая определенные внешние кре­дитные риски и факторы внешней поддержки. Поми­мо кредитных организаций, эти рейтинги могут при­меняться и к другим типам финансовых учреждений, а именно: международные банки развития, правитель­ственные финансовые учреждения и национальные финансовые институты развития. Данные рейтинги не рассматривают своевременность выполнения обязательств финансового учреждения, а отражают вероятность того, что банку потребуется помощь третьей сторо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Классифицированные ссуды, в % от совокупно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Bodoni MT"/>
              </a:rPr>
              <a:t>ссудной задолженности в банковской системе России</a:t>
            </a: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3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Банковская система России: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основные рейтинговые факторы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Российские банки подвергаются рискам из-за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слабости системы банковского регулирования</a:t>
            </a:r>
            <a:br>
              <a:rPr sz="2400"/>
            </a:br>
            <a:r>
              <a:rPr b="0" i="1" lang="ru-RU" sz="2400" spc="-1" strike="noStrike">
                <a:solidFill>
                  <a:srgbClr val="dbbd71"/>
                </a:solidFill>
                <a:latin typeface="Arial Rounded MT Bold"/>
              </a:rPr>
              <a:t>и надзора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6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6019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Доминирование банков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 Rounded MT Bold"/>
              </a:rPr>
              <a:t>контролируемых государством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ление на капита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571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3200" spc="-1" strike="noStrike">
                <a:solidFill>
                  <a:srgbClr val="660033"/>
                </a:solidFill>
                <a:latin typeface="Arial Black"/>
              </a:rPr>
              <a:t>Среднесрочные перспективы российских банков</a:t>
            </a:r>
            <a:br>
              <a:rPr sz="28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bd71"/>
                </a:solidFill>
                <a:latin typeface="Arial"/>
              </a:rPr>
              <a:t>Структурные сделки, отрейтингованные в 2006 г.</a:t>
            </a:r>
            <a:br>
              <a:rPr sz="24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7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Arial"/>
              </a:rPr>
              <a:t>Пример трансграничной структуры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09480" y="-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2007 г. ожидается рост рынка секьюритизации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524880" cy="682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60" y="-1143000"/>
            <a:ext cx="10363320" cy="914400"/>
          </a:xfrm>
          <a:prstGeom prst="rect">
            <a:avLst/>
          </a:prstGeom>
          <a:solidFill>
            <a:srgbClr val="cca5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Рейтинги финансовой устойчивости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8a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0" y="-228600"/>
          <a:ext cx="10363320" cy="8088480"/>
        </p:xfrm>
        <a:graphic>
          <a:graphicData uri="http://schemas.openxmlformats.org/drawingml/2006/table">
            <a:tbl>
              <a:tblPr/>
              <a:tblGrid>
                <a:gridCol w="3800520"/>
                <a:gridCol w="1379520"/>
                <a:gridCol w="518328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Класс рейтин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Рейтинг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Толкование рейтинга (степень устойчив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не вызывает сомнений, вне зависимости от внешних условий 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роков выполнения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стабильность не вызывает сомнений, может измениться только при резком ухудшении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А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вызывает сомне­ний, сроки обеспечения плате­жеспособности по обязательствам зависят от макроэкономической ситуаци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нижний инвестиционный уровен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сроки обеспечения платежеспособнос­ти зависят от внешних услов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, но сроки обеспечения платежеспо­собности могут отличаться для краткосрочных и долгосрочных обязатель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обеспечена при благоприятных внешних условиях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спекулятивный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озможно ухудшени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зависит от внешних условий, в ближайшей перспек­тиве существует вероятность по­вышения финансовой уязвимости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уровень достаточно высокой уязвимости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+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Финансовая стабильность пробле­матична, необходима внешняя поддерж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вызывает большие сомнен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Стабильность не обеспечен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высокая уязвимость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Высокая финансовая уязвим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bbd71"/>
                </a:solidFill>
                <a:latin typeface="Arial"/>
              </a:rPr>
              <a:t>Основные вилы рисков при анализе структурной сделки</a:t>
            </a:r>
            <a:br>
              <a:rPr sz="2800"/>
            </a:b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384" name="" descr=""/>
          <p:cNvPicPr/>
          <p:nvPr/>
        </p:nvPicPr>
        <p:blipFill>
          <a:blip r:embed="rId1"/>
          <a:stretch/>
        </p:blipFill>
        <p:spPr>
          <a:xfrm>
            <a:off x="914400" y="1989000"/>
            <a:ext cx="6553080" cy="4869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doni MT"/>
              </a:rPr>
              <a:t>Кредитный риск: Уровень дефолтных активов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лияние риска обесценения рубл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редитный риск: Возврат по дефолтным активам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руктурные риски: Риск смешения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урктурные риски: Валютный и процентный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ран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авовые риски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/>
          </p:nvPr>
        </p:nvSpPr>
        <p:spPr>
          <a:xfrm>
            <a:off x="228240" y="1636560"/>
            <a:ext cx="891540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64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Более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30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 лет</a:t>
            </a:r>
            <a:r>
              <a:rPr b="0" lang="es-CO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Tahoma"/>
              </a:rPr>
              <a:t>опыта в области микрофинансо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39"/>
              </a:spcBef>
              <a:buClr>
                <a:srgbClr val="cc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ahoma"/>
              </a:rPr>
              <a:t>Отдел финансового управления</a:t>
            </a:r>
            <a:r>
              <a:rPr b="1" i="1" lang="es-CO" sz="31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lnSpc>
                <a:spcPct val="90000"/>
              </a:lnSpc>
              <a:spcBef>
                <a:spcPts val="1874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Автономный отдел, основной целью которого является финансовая оценка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(ACCION CAMEL)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мониторинг показателей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финансовые прогнозы</a:t>
            </a:r>
            <a:r>
              <a:rPr b="0" i="1" lang="es-CO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и другие аналитические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Goudy Old Style"/>
              </a:rPr>
              <a:t>ACCION </a:t>
            </a:r>
            <a:r>
              <a:rPr b="1" i="1" lang="es-CO" sz="4000" spc="-1" strike="noStrike">
                <a:solidFill>
                  <a:srgbClr val="ffffff"/>
                </a:solidFill>
                <a:latin typeface="Goudy Old Style"/>
              </a:rPr>
              <a:t>Internationa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55760" y="1270080"/>
            <a:ext cx="77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ервые буквы английских слов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666880" y="1542960"/>
            <a:ext cx="64771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статочность капитал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(качество актив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руководство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доходы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управление ликвидностью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22360" y="77472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0" y="1676520"/>
            <a:ext cx="2590560" cy="3770280"/>
            <a:chOff x="0" y="1676520"/>
            <a:chExt cx="2590560" cy="3770280"/>
          </a:xfrm>
        </p:grpSpPr>
        <p:pic>
          <p:nvPicPr>
            <p:cNvPr id="1406" name="" descr=""/>
            <p:cNvPicPr/>
            <p:nvPr/>
          </p:nvPicPr>
          <p:blipFill>
            <a:blip r:embed="rId1"/>
            <a:stretch/>
          </p:blipFill>
          <p:spPr>
            <a:xfrm>
              <a:off x="14400" y="1694160"/>
              <a:ext cx="25761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0" y="1676520"/>
              <a:ext cx="2581200" cy="3757680"/>
            </a:xfrm>
            <a:prstGeom prst="rect">
              <a:avLst/>
            </a:pr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286000" y="0"/>
            <a:ext cx="6858000" cy="609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286000" y="-639720"/>
            <a:ext cx="6858000" cy="1279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2286000" y="68580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-91440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f52ae"/>
                </a:solidFill>
                <a:latin typeface="Tahoma"/>
              </a:rPr>
              <a:t>Виды рейтингов. продол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2362320" y="685800"/>
            <a:ext cx="6781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33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286000" y="1299240"/>
            <a:ext cx="6858000" cy="56109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поддержки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сваиваются веду­щими международными рейтинговыми компаниями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ейтинг поддержки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сваиваемый агентством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tch IBC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представляет собой оценку финансовой возможности субъекта (государства или организации), который готов оказать финансовую поддержку конкретному субъекту финансового сектора. Для этой цели аналитики агентства рассматривают уровень и динамику долгосрочного кредитного «поддерживающего» рейтинга в иностранной, а при необходимости и в национальной валюте. В соответствии с методикой анализа при присвоении рейтинга поддержки необходимо, чтобы поддерживающая сторона была достаточно устойчива и могла оказывать поддержку фи­нансовому учреждению до тех пор, пока оно не смо­жет самостоятельно отвечать по своим обязательствам. Но при этом не учитывается качество внутреннего кре­дита (это происходит при присвоении индивидуаль­ного рейтинга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0" y="63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Что это такое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0" y="182880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струмент внутреннего контроля и финансовой оценки для микрофинансовых организац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лубленный анализ всех сфер деятельност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еспечивает рекомендациями для усовершенствования системы у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0" y="1752480"/>
            <a:ext cx="9796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9480" y="1752480"/>
            <a:ext cx="180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27160" y="13716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04920" y="2590920"/>
            <a:ext cx="187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2438280"/>
            <a:ext cx="220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традиционного инструмен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едеральным Резервным Банком СШ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05120" y="1752480"/>
            <a:ext cx="6120" cy="375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44792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80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143000" y="4495680"/>
            <a:ext cx="220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нд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Латинская Амери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897280" y="1752480"/>
            <a:ext cx="468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5146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05740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инструментов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МФ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581280" y="1371600"/>
            <a:ext cx="18781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3 –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05320" y="449568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водит оценку только членов сет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71500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едача методологи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гентствам, осуществляющим надзор, и кредитным учреждения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48720" y="1766880"/>
            <a:ext cx="1440" cy="85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086600" y="2376360"/>
            <a:ext cx="220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ширение использование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CCION CAMEL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не рамок сети и Латинской Амер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248520" y="1371600"/>
            <a:ext cx="130644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9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67480" y="1371600"/>
            <a:ext cx="1224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0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19720" y="1752480"/>
            <a:ext cx="1440" cy="3326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705720" y="1752480"/>
            <a:ext cx="1440" cy="482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4920" y="380880"/>
            <a:ext cx="9470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00"/>
                </a:solidFill>
                <a:latin typeface="Garamond"/>
              </a:rPr>
              <a:t>История</a:t>
            </a:r>
            <a:r>
              <a:rPr b="1" lang="en-US" sz="4400" spc="-1" strike="noStrike">
                <a:solidFill>
                  <a:srgbClr val="996600"/>
                </a:solidFill>
                <a:latin typeface="Garamond"/>
              </a:rPr>
              <a:t>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57800" y="13716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76920" y="320040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бликация технического руководств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ION CAM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638680" y="1752480"/>
            <a:ext cx="5040" cy="214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1143000"/>
            <a:ext cx="9144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изучения рейтинга финансовых показателей и возможных рисков, с которыми сталкиваются МФО в среднесрочной перспектив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продемонстрировать финансовую надежность МФО банкам и потенциальным инвесторам языком общепринятых показателей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обеспечить высококачественной информацие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ой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5000"/>
              </a:lnSpc>
              <a:spcBef>
                <a:spcPts val="649"/>
              </a:spcBef>
              <a:spcAft>
                <a:spcPts val="13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Чтобы разработать индикаторы и эталонные показатели для повышения уровня руководства МФ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492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Garamond"/>
              </a:rPr>
              <a:t>Для чего был создан</a:t>
            </a: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 ACCION CAME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44520" y="1676520"/>
            <a:ext cx="88916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ключев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ключая определение того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ак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х измер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стандар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ступность необходимой информ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ликатное отношение МФО к рейтинговой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01480" y="146160"/>
            <a:ext cx="72234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Проблемы в процессе создания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: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Вер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0" y="1295280"/>
          <a:ext cx="9144000" cy="5904000"/>
        </p:xfrm>
        <a:graphic>
          <a:graphicData uri="http://schemas.openxmlformats.org/drawingml/2006/table">
            <a:tbl>
              <a:tblPr/>
              <a:tblGrid>
                <a:gridCol w="2057400"/>
                <a:gridCol w="2500200"/>
                <a:gridCol w="2605320"/>
                <a:gridCol w="19810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АДИЦИОНН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ЙТИНГОВЫЙ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EL (“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CAMEL”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ОВЕРШЕНСТ-ВОВА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направленност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глубленный анализ всех сфер работы МФ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нансы -слабые и сильные сторон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нее выявленные ри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новная цель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финансового состоя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прогре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отношение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0%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чественны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кой же как предыдущ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AM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нагрузка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ичество рабочих дней консультантов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 - кажд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сульта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5400" spc="-1" strike="noStrike">
                <a:solidFill>
                  <a:srgbClr val="ccecff"/>
                </a:solidFill>
                <a:latin typeface="Garamond"/>
              </a:rPr>
              <a:t>ACCION CAMEL: </a:t>
            </a:r>
            <a:br>
              <a:rPr sz="5400"/>
            </a:br>
            <a:r>
              <a:rPr b="0" lang="ru-RU" sz="5400" spc="-1" strike="noStrike">
                <a:solidFill>
                  <a:srgbClr val="ccecff"/>
                </a:solidFill>
                <a:latin typeface="Garamond"/>
              </a:rPr>
              <a:t>Целевой рыно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89000" y="1530360"/>
            <a:ext cx="89550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тья сторона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ммерческие ба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инвесторы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едитные организации второго уровня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гентства надзора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нтральный Банк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уперинтендантств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3320" indent="-37332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ФО, поддающиеся оценке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ПО в процессе перехода в регулируемые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520" indent="-321480">
              <a:lnSpc>
                <a:spcPct val="95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ируемые МФО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нки и финансовые компании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457200" y="1600200"/>
            <a:ext cx="8381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ьно разработан для микрофинанс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казывает, что МФО могут соответствовать тем же стандартам, что и традиционные финансовые орга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аудит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 является индикатором оценки воздействия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фиденциальность результа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11200" y="90360"/>
            <a:ext cx="805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Характеристики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19040" y="1596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19040" y="15256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/>
          <p:nvPr/>
        </p:nvSpPr>
        <p:spPr>
          <a:xfrm>
            <a:off x="152280" y="1219320"/>
            <a:ext cx="899172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ценки от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0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до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3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сшая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= 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оотно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7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личественн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 4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13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ачественных индикаторов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</a:rPr>
              <a:t>  5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20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ючевых индикаторов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оддержка количественных и качественных индик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5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Анализ тенденций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период два или три года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572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Goudy Old Style"/>
              </a:rPr>
              <a:t>Характерис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10960" y="1219320"/>
            <a:ext cx="8175960" cy="57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Tahoma"/>
              </a:rPr>
              <a:t>Количественные индикаторы</a:t>
            </a:r>
            <a:r>
              <a:rPr b="0" i="1" lang="es-ES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чество портфеля и финансовый анали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правки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измерения жизнеспособности МФО как коммерческой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2520" indent="-168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стандартизации анализа различных МФ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тимальные параметры утверждаются на основе углубленного анализа МФО по всему мир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14200" y="1447920"/>
            <a:ext cx="892980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чественные индикаторы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дикаторы, которые невозможно выразить в цифрах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осредственное воздействие на финансовое положение и общее состояние МФ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308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Анализ основан на</a:t>
            </a: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вью с персоналом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ленами правления,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иен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484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зор политики и процеду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7632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ccec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ccec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86000" y="0"/>
            <a:ext cx="6858000" cy="1279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068" name=""/>
          <p:cNvSpPr/>
          <p:nvPr/>
        </p:nvSpPr>
        <p:spPr>
          <a:xfrm>
            <a:off x="2286000" y="1279440"/>
            <a:ext cx="6858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0"/>
            <a:ext cx="0" cy="685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f52ae"/>
                </a:solidFill>
                <a:latin typeface="Times New Roman"/>
              </a:rPr>
              <a:t>След. вид рейтингов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430360" y="1731960"/>
            <a:ext cx="6535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362320" y="2099520"/>
            <a:ext cx="6781680" cy="36907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bb5f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. Рейтинги корпоративного упра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присваиваются международными рейтинговыми агентствам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dy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 и 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ar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90-х гг. прошлого столетия возрос интерес к корпоративному управлению у акционеров, менеджеров, директоров и иных заинтересованных финансовых посредников и нефинансовых экономических субъектов. Появилась потребность в независимых, сопоставимых в международном масштабе оценках для срав­нения практики корпоративного управления в различ­ных странах и институциональных единицах. Концепция рейтингов корпоративного управления нацелена на удовлетворение этой потребн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0" y="9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Когда проводить рейтинговую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 </a:t>
            </a:r>
            <a:r>
              <a:rPr b="0" lang="ru-RU" sz="5400" spc="-1" strike="noStrike">
                <a:solidFill>
                  <a:srgbClr val="dbbd71"/>
                </a:solidFill>
                <a:latin typeface="Garamond"/>
              </a:rPr>
              <a:t>оценку </a:t>
            </a:r>
            <a:r>
              <a:rPr b="0" lang="en-US" sz="5400" spc="-1" strike="noStrike">
                <a:solidFill>
                  <a:srgbClr val="dbbd71"/>
                </a:solidFill>
                <a:latin typeface="Garamond"/>
              </a:rPr>
              <a:t>ACCION CAMEL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0" y="1295280"/>
            <a:ext cx="91440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иболее типичные примеры</a:t>
            </a: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енциальные инвестиции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еди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заказу доноров или третьей сторо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формация из НПО в регулируемую организац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2960" indent="-34236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ическая помощ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5" name=""/>
          <p:cNvGraphicFramePr/>
          <p:nvPr/>
        </p:nvGraphicFramePr>
        <p:xfrm>
          <a:off x="0" y="1295280"/>
          <a:ext cx="9144000" cy="7232760"/>
        </p:xfrm>
        <a:graphic>
          <a:graphicData uri="http://schemas.openxmlformats.org/drawingml/2006/table">
            <a:tbl>
              <a:tblPr/>
              <a:tblGrid>
                <a:gridCol w="4179960"/>
                <a:gridCol w="49640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капитал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достаточности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статочность резер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ность увеличения уставного капитала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чество активов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(21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иск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эффициент убытков по займам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стема классификации портфеля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быльность долгосрочных активов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6" name=""/>
          <p:cNvSpPr/>
          <p:nvPr/>
        </p:nvSpPr>
        <p:spPr>
          <a:xfrm>
            <a:off x="0" y="763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4300"/>
            </a:br>
            <a:r>
              <a:rPr b="0" lang="ru-RU" sz="43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0" lang="es-ES" sz="43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7" name=""/>
          <p:cNvGraphicFramePr/>
          <p:nvPr/>
        </p:nvGraphicFramePr>
        <p:xfrm>
          <a:off x="0" y="1143000"/>
          <a:ext cx="9448920" cy="5811840"/>
        </p:xfrm>
        <a:graphic>
          <a:graphicData uri="http://schemas.openxmlformats.org/drawingml/2006/table">
            <a:tbl>
              <a:tblPr/>
              <a:tblGrid>
                <a:gridCol w="5241960"/>
                <a:gridCol w="4206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3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правление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ководство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дры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цесс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удит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ые системы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атегическое планирование и бюджет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ходы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24%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капитала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ерационная эффективность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активов         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итика процентных ставок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8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9" name=""/>
          <p:cNvGraphicFramePr/>
          <p:nvPr/>
        </p:nvGraphicFramePr>
        <p:xfrm>
          <a:off x="0" y="1295280"/>
          <a:ext cx="9144000" cy="6323040"/>
        </p:xfrm>
        <a:graphic>
          <a:graphicData uri="http://schemas.openxmlformats.org/drawingml/2006/table">
            <a:tbl>
              <a:tblPr/>
              <a:tblGrid>
                <a:gridCol w="4578480"/>
                <a:gridCol w="456552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оли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Качественные индикат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квидност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6%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уктура обязательст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гноз денежных потоков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нтабельность ликвидных активов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го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46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%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0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Количественные и качественные индикаторы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Goudy Old Style"/>
              </a:rPr>
              <a:t> </a:t>
            </a:r>
            <a:r>
              <a:rPr b="1" lang="es-ES" sz="3400" spc="-1" strike="noStrike">
                <a:solidFill>
                  <a:srgbClr val="ffffff"/>
                </a:solidFill>
                <a:latin typeface="Goudy Old Style"/>
              </a:rPr>
              <a:t>ACCION CAM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0" y="1479600"/>
            <a:ext cx="91440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85560" indent="-38556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доступа МФО к местным и международным рынкам капита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5240" indent="-331920">
              <a:lnSpc>
                <a:spcPct val="95000"/>
              </a:lnSpc>
              <a:spcAft>
                <a:spcPts val="1500"/>
              </a:spcAft>
              <a:buClr>
                <a:srgbClr val="cc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нижение рисков благодаря объективной оценке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дартизация переменных и индикаторов, используемых для оценки МФ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за данных для анализа эволюции микрофинансовой индустр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560" indent="-385560">
              <a:lnSpc>
                <a:spcPct val="95000"/>
              </a:lnSpc>
              <a:spcBef>
                <a:spcPts val="799"/>
              </a:spcBef>
              <a:spcAft>
                <a:spcPts val="1599"/>
              </a:spcAft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4920" y="9036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Достижения инструмента</a:t>
            </a: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4400"/>
            </a:b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ACCION CAM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77920" y="2219400"/>
            <a:ext cx="78343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400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ahoma"/>
              </a:rPr>
              <a:t>Окончательное заключение..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 rot="5029800">
            <a:off x="3879720" y="-5492160"/>
            <a:ext cx="1511280" cy="9906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>
            <a:off x="380880" y="1045440"/>
            <a:ext cx="8763120" cy="5214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60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бода выбора в рыночной экономике должна подкрепляться уверенностью в на­дежности партнера. Для принятия решения недостаточно внутренних оценок и зачастую необходима оценка независимых экспертов. Такую роль в современном обществе игра­ет, в частности, система рейтингов. Показа­тели рейтинга в компактной и ёмкой форме характеризуют состояние и перспективные тенденции изменения финансовой стабиль­ности банка, играя роль индикаторов для принятия решений, установления и поддер­жания деловых отношений. Текущий уровень рейтинга и динамика его изменения служат сигналами для сохранения, расширения или свертывания взаимосвяз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2:58:16Z</dcterms:created>
  <dc:creator>Lynne Curran</dc:creator>
  <dc:description/>
  <dc:language>en-US</dc:language>
  <cp:lastModifiedBy>Недолукий</cp:lastModifiedBy>
  <dcterms:modified xsi:type="dcterms:W3CDTF">2008-05-11T18:32:48Z</dcterms:modified>
  <cp:revision>59</cp:revision>
  <dc:subject/>
  <dc:title>PowerPoint Presentation</dc:title>
</cp:coreProperties>
</file>