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BDA3-51F8-4F60-822F-5574FB0B4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51F0-6DBD-4FE7-8960-1BD02A21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ED11-E9B7-4658-8829-70163155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72AB-0987-461B-93C2-04BED6A04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1334-62D0-4B3A-A80B-BCE15A3B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143A-BBF4-40CB-A47E-2105E1ED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06E8-EB5D-40F1-8125-049B01D8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94B3-1F17-4EC7-8115-62227B35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FE5D-A289-4933-B76B-2988C9F9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0C67-FFC9-4D6C-8ABD-53466477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9094-2D21-4420-8A61-8B16A6F8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EE16-D73B-42EA-AA57-4F189868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83F8-6F89-47DB-A570-C51E78CF88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26920" y="1412640"/>
            <a:ext cx="38163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кла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одзаголовок 2" descr=""/>
          <p:cNvPicPr/>
          <p:nvPr/>
        </p:nvPicPr>
        <p:blipFill>
          <a:blip r:embed="rId1"/>
          <a:stretch/>
        </p:blipFill>
        <p:spPr>
          <a:xfrm>
            <a:off x="324000" y="2298600"/>
            <a:ext cx="8423280" cy="1724040"/>
          </a:xfrm>
          <a:prstGeom prst="rect">
            <a:avLst/>
          </a:prstGeom>
          <a:ln w="0">
            <a:noFill/>
          </a:ln>
        </p:spPr>
      </p:pic>
      <p:pic>
        <p:nvPicPr>
          <p:cNvPr id="43" name="Подзаголовок 2" descr=""/>
          <p:cNvPicPr/>
          <p:nvPr/>
        </p:nvPicPr>
        <p:blipFill>
          <a:blip r:embed="rId2"/>
          <a:stretch/>
        </p:blipFill>
        <p:spPr>
          <a:xfrm>
            <a:off x="5126040" y="4432320"/>
            <a:ext cx="384192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дресации в соответствии с нерасширенным Frame Rel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894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араметры качества обслуживания Frame Rel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552600" y="1557360"/>
            <a:ext cx="8113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CIR=B(c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/T(c) — макс гарантированная полоса пропуск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EIR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(B(c) + B(e))/T(c) — макс негарантированная полоса пропуска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B(c) - количество бит, гарантированно передаваемых за время T(c) даже при перегрузке сети, B(e) — максимальное количество бит, которые могут быть переданы за время T(c) при недогрузке се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1692360" y="3187800"/>
            <a:ext cx="61801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ети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X.2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Объект 2" descr=""/>
          <p:cNvPicPr/>
          <p:nvPr/>
        </p:nvPicPr>
        <p:blipFill>
          <a:blip r:embed="rId1"/>
          <a:stretch/>
        </p:blipFill>
        <p:spPr>
          <a:xfrm>
            <a:off x="328680" y="1590840"/>
            <a:ext cx="848664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заимоотношения между объектами сети Х.2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303200" y="1916280"/>
            <a:ext cx="6516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пецификация Х.25 в эталонной модели OS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476360" y="1641600"/>
            <a:ext cx="63136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еть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rame Rel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Объект 2" descr=""/>
          <p:cNvPicPr/>
          <p:nvPr/>
        </p:nvPicPr>
        <p:blipFill>
          <a:blip r:embed="rId1"/>
          <a:stretch/>
        </p:blipFill>
        <p:spPr>
          <a:xfrm>
            <a:off x="328680" y="1590840"/>
            <a:ext cx="835812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еть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rame Rel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2" descr=""/>
          <p:cNvPicPr/>
          <p:nvPr/>
        </p:nvPicPr>
        <p:blipFill>
          <a:blip r:embed="rId1"/>
          <a:stretch/>
        </p:blipFill>
        <p:spPr>
          <a:xfrm>
            <a:off x="371520" y="1773360"/>
            <a:ext cx="858996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еимущества FR перед технологиями X.25 и ISD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5867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труктурная схема сети Frame Rel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425520" y="1628640"/>
            <a:ext cx="8350200" cy="316872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5"/>
          <p:cNvSpPr/>
          <p:nvPr/>
        </p:nvSpPr>
        <p:spPr>
          <a:xfrm>
            <a:off x="423720" y="4797360"/>
            <a:ext cx="835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DTE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Data Terminal Equipment) – аппаратура передачи данных (маршрутизаторы, мосты, ПК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DCE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Data Circuit-Terminating Equipment) – оконечное оборудование канала передачи данных (телекоммуникационное оборудование, обеспечивающее доступ к сети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Формат кад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46240" y="5477040"/>
            <a:ext cx="8715240" cy="5238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126640" cy="50328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4"/>
          <p:cNvSpPr/>
          <p:nvPr/>
        </p:nvSpPr>
        <p:spPr>
          <a:xfrm>
            <a:off x="552600" y="2060640"/>
            <a:ext cx="8113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оле Фла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ждый кадр начинается и замыкается «флагом» — последовательностью «01111110». Данное поле выполняет функцию обрамления кадр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оле Адрес (Заголово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е Адрес кадра Frame Relay, кроме собственно адресной информации, содержит также и дополнительные поля управления потоком данных и уведомлений о перегрузке канала и имеет следующую структур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02:39:35Z</dcterms:created>
  <dc:creator>Антоха</dc:creator>
  <dc:description/>
  <dc:language>en-US</dc:language>
  <cp:lastModifiedBy>Антоха</cp:lastModifiedBy>
  <dcterms:modified xsi:type="dcterms:W3CDTF">2010-11-03T03:34:28Z</dcterms:modified>
  <cp:revision>8</cp:revision>
  <dc:subject/>
  <dc:title>Доклад</dc:title>
</cp:coreProperties>
</file>