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6315-32C9-42A8-98FB-735ECE29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23CE-A0CE-4D78-BC9F-0FA9008A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EB7F-C948-4679-A4A2-CEA7D9C6A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A591-FA3D-4DAD-A0E9-2DD4ECA84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471155-5683-4822-9EDE-E45A03788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CA240-2549-4E74-B75E-CD19574B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B7B90-073D-4F21-91FC-65FC50AC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C0D04-FEA0-4441-A8FA-58E8B056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89C96-EFA5-49DC-AC2B-DD16CC21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4E7184-D103-4893-9314-BD884BFC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A64DB-8DBE-45CE-AE6B-FEDD1F4F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CF51-AA43-46C0-9402-80C61A3A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48D0B-75D5-4818-86FE-759A989B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7B054-FB86-4993-9F41-9348C403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1EB6F-3DCF-4217-9315-00CF54D0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700289-8FCD-448D-8CE9-C6E9F9939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C05D6-69D2-4EF7-9B92-83F249BE3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6A02-8E15-43C4-8851-7CC0DA4B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255D-86A9-44E3-A89C-8D3043E9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4AEE-6E89-4DD7-BDE3-679C1E17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19F4-0106-4860-9E0D-7862C85A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668B-AC67-449A-8778-76D6924B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1402-92C8-498B-ABFB-A33EEB04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1CD6-A7F3-4D17-B73B-3B3D4CB9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CA84-DA8F-4441-B9EF-FEFAC21EA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ldNum" idx="4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76BF-6736-466A-A0BA-23D4C17D2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algn="ctr"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algn="ctr">
              <a:spcBef>
                <a:spcPts val="400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algn="ctr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08000" y="1988640"/>
            <a:ext cx="69120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"Компьютер — наш друг и помощник"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123640" y="115560"/>
            <a:ext cx="5761080" cy="65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Заключительная песн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 дискетам разложит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ерез принтер размножит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лектронные файлы услуг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нструмент "на все руки"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 лекарство от скуки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 учитель, и преданный дру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ПЕВ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о чего же энергичный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лектронный человек 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ой попутчик симпатичный |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двадцать первый век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2 раз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7636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13372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124000" y="739800"/>
            <a:ext cx="68407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69483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72738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632720" cy="56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09320" y="1927080"/>
            <a:ext cx="33116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О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10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АРИ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10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ВОРИ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10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КРО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10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ШАР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10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КО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73240" y="1927080"/>
            <a:ext cx="33116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ОЛ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10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АРНИ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10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ВОРНИ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10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КОРО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10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ШАРФ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10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КОР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84360" y="-720"/>
            <a:ext cx="61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БРАЗЕЦ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               </a:t>
            </a:r>
            <a:r>
              <a:rPr b="1" lang="fr-FR" sz="40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fr-FR" sz="4000" spc="-1" strike="noStrike">
                <a:solidFill>
                  <a:srgbClr val="ff3300"/>
                </a:solidFill>
                <a:latin typeface="Times New Roman"/>
              </a:rPr>
              <a:t>стол” – “ствол”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32000" y="981000"/>
            <a:ext cx="73436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6985080" cy="53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6327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3:13:53Z</dcterms:created>
  <dc:creator>Computer</dc:creator>
  <dc:description/>
  <dc:language>en-US</dc:language>
  <cp:lastModifiedBy>Computer</cp:lastModifiedBy>
  <dcterms:modified xsi:type="dcterms:W3CDTF">2010-12-19T14:03:24Z</dcterms:modified>
  <cp:revision>10</cp:revision>
  <dc:subject/>
  <dc:title>Слайд 1</dc:title>
</cp:coreProperties>
</file>