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839-C91A-4103-AE79-951FD2DF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624-9505-4B18-9365-05A7D507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CDB-2E7E-4764-9D3F-F2EE5ABE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8DA-76E9-4B80-8C71-85C49573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26F5-54BD-4855-8E66-D95EB763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7490-BB60-4ABF-81C0-6546C760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DFE2-BEF1-475C-9C19-56DA6E36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317C-78D4-4085-A27F-5A81BD59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F28E-35C4-471F-80B3-7D192445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49A1-607F-4863-A05D-354CC044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F572-6A27-406F-BE19-30E1F47E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4CE-F9FC-4BC8-B4DD-40EFB6D7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72E0-ADF6-4676-974F-2EDE4813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0256-092A-4E19-A7CB-15018EC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1D94-115E-4462-A2A1-33B7F18E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DE95-1F30-4658-AA87-820F76BB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80D4-4D90-4EC7-9E3D-5D5761A8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0276-793B-42F1-9A50-3767681C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E4C9-BECA-4131-9628-4908612E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031B-DF07-4EC9-B027-62E31019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BC2C-F943-4101-813E-9342AFFC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24C1-2DB0-408C-83C1-CAADB011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4AF-A0D4-4DE7-872F-B4F860D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6016-4BDB-45FD-AAD1-F70CE141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6ED7-0FD9-49FD-96DB-8D471B1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882E-CCAE-4262-9234-C3167B4C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296B-099E-4CA8-9939-7A3DC77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9225-E33A-4CBF-B025-35D8668E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C849-D8B7-4835-80C2-40B603BA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062D-0582-4309-A976-BBB52468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D6BB4-0F8A-46A3-A6A6-5F883F82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00B7-5E75-4FE7-873D-A1112D14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56CF3-D395-4492-9DF9-7689F12C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197-B4E7-491E-8985-9460210C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A681-2B61-4F19-8C35-E87B8458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60A6-3CCD-4A85-B22F-4AEED5A5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E6B6-F5EB-45AC-BAEC-9C0F614D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57F78-7602-438E-82D3-4329BA76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E5654-DBF1-4AC8-BF75-E8C77CD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C7D2-F253-446B-A4CD-D604DF5D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CE892-A5DC-4F63-BC85-4555DA4D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5CCDF-34A1-408D-B21B-246A9BA5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0E5F-8BCA-47AB-BFDC-74CFF9D9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BA42-37C0-49B4-8ED8-F40930AC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E86-188C-4A7F-B596-98F921D8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526EE-7FF3-40FF-AF02-7D9A4062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950BF-EC73-4743-8037-FBA6557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EE036-475E-4216-B8BB-B0F6BD69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50A40-B36B-4930-A01E-E867A04D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8E8F4-A05A-417F-9BFC-4AE48B7D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E8827-8E02-4029-95BE-B54FE632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F4F33-F081-438A-8F3E-EFBD3C6E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29CCA-B35C-4421-847A-D11524CD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9BE3A-4538-4C7E-8BC6-77FFC083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BBA58-D586-46FE-AFF8-BAEF7D0F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BF8-5B28-48F1-BEB1-0DC7FFE2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FD037-812B-4279-B845-BE4D96AE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7B67-40D2-42D6-BDD3-1459C4B6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0E416-8D31-4684-AFC5-E7D1E21A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E9E7D-FC48-4339-8B48-2D88E2BB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26C41-FC94-4DD0-AB98-35089C1E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1AEE8-5E7A-4E9B-B294-CBC0E334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17CBD-25A5-42A4-89B7-51BF18D0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BF748-2381-4C84-B472-6223F19E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8A6A9-BC45-4C1C-B8E5-C9B39999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A4C67-B609-40D6-B176-E0CB8C10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EA1-770A-4DF3-BE64-F64E0BDB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80F8A-7C47-4C8A-BBBB-E1FD732E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4EC44-5651-4424-B67A-7B41455C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B3DF-7816-44BA-8196-9864BBF4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6C1C3-DD4B-4F51-AF9C-892E4583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6FC6-030F-4A0E-9EC6-5470E0B3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C4384-C232-48BE-8360-8392706A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9714F-0DFA-4AAF-B8CF-F4811121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6BC74-B34A-4802-91CF-E33C325E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49921-1D71-4442-A080-05D252B9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EACB5-62D1-4E99-A173-27AC069C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927-4D0C-4993-BCB6-57BD2A1B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F0988-5B7C-42B8-A8CF-304495E5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CE940-4499-4EF6-B9A3-B75455D1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AECB1-8578-45F3-9ABE-11AE4849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29793-F37A-46A8-8CDF-5EBDF1C2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570A4-7010-46E7-891E-A77D3FD6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7F8-9A7A-42DF-86DB-4E65DB8B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A64-5892-42B3-82E6-76BCF15A940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6797-F0EF-4E9E-86C6-EB8E1FF8ED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6A5E-E943-47E6-9F80-34F531001D1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AF5D-AC2A-4750-B64F-B62D133AB35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898F-4421-49DA-AB1B-C129694B48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8779-3E02-4F20-9B7D-04E5F9E902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52E1-77D9-4A0B-8F27-6B5174F8632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12484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572314"/>
                </a:solidFill>
                <a:latin typeface="Corbel"/>
              </a:rPr>
              <a:t>Ценностные ориентации современной молодёжи</a:t>
            </a:r>
            <a:endParaRPr b="0" lang="en-US" sz="5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429080" y="3857760"/>
            <a:ext cx="4500720" cy="2643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Выполнила: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студентка группы 2м курса специальность 050201 математи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Антропова Екатерина Олег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Калинина Нина Викторовна, преподаватель педагогик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Что для Вас обозначает слово мечта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3" descr=""/>
          <p:cNvPicPr/>
          <p:nvPr/>
        </p:nvPicPr>
        <p:blipFill>
          <a:blip r:embed="rId1"/>
          <a:stretch/>
        </p:blipFill>
        <p:spPr>
          <a:xfrm>
            <a:off x="1434960" y="144792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56800" y="214200"/>
            <a:ext cx="807732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дя полное исследование анкетирования можно прийти к выводу, что базовые ценности – это семья, личностное счастье. Также формируется  положительное отношение к ЗОЖ, а отрицательное к таким явлениям как табакокурение и алкогол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C:\Users\КАТЕРИНА\Desktop\фвлюопи\ква.jpeg"/>
          <p:cNvPicPr/>
          <p:nvPr/>
        </p:nvPicPr>
        <p:blipFill>
          <a:blip r:embed="rId1"/>
          <a:stretch/>
        </p:blipFill>
        <p:spPr>
          <a:xfrm rot="1423800">
            <a:off x="5457600" y="4287960"/>
            <a:ext cx="2786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356760"/>
            <a:ext cx="786276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Прямоугольник 3" descr=""/>
          <p:cNvPicPr/>
          <p:nvPr/>
        </p:nvPicPr>
        <p:blipFill>
          <a:blip r:embed="rId1"/>
          <a:stretch/>
        </p:blipFill>
        <p:spPr>
          <a:xfrm>
            <a:off x="1481040" y="1816200"/>
            <a:ext cx="70405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071360" y="356760"/>
            <a:ext cx="80722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Молодёжь – это новое поколение, которое должно стать заменой своих родителей и опорой для общества и государств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3" descr="C:\Users\КАТЕРИНА\Desktop\фвлюопи\image2.jpeg"/>
          <p:cNvPicPr/>
          <p:nvPr/>
        </p:nvPicPr>
        <p:blipFill>
          <a:blip r:embed="rId1"/>
          <a:stretch/>
        </p:blipFill>
        <p:spPr>
          <a:xfrm rot="577800">
            <a:off x="4976280" y="3769920"/>
            <a:ext cx="3435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000080" y="0"/>
            <a:ext cx="7934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данной работы состоит в том, чтобы проанализировать ценностные ориентации современной молодеж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дачам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нашей работы состоят в следующе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характеризовать современную молодёжь как социальную прослойку обществ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анализировать ценности современной молодеж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71360" y="214200"/>
            <a:ext cx="78627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 настоящее время современное общество находится в очень сложном положении. После смены политического режима страна ещё не опомнилась. Пошатнулись все устои, потерялись ценностные ориентации, исчезли духовно-нравственные идеалы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714240" y="0"/>
            <a:ext cx="822024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ного молодых людей занимаются спортом, особенно новыми видами (скейтборд, сноуборд, велоспорт). Человек, занимающийся спортом, заслуживает уважение. Но в основном всё же осадок того «смутного» времени остался. Сейчас всё же, не смотря на эти просветы, если пойти по улице можно увидеть много пьющих компаний, слоняющихся по улицам без де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3" descr="C:\Users\КАТЕРИНА\Desktop\фвлюопи\i.jpeg"/>
          <p:cNvPicPr/>
          <p:nvPr/>
        </p:nvPicPr>
        <p:blipFill>
          <a:blip r:embed="rId1"/>
          <a:stretch/>
        </p:blipFill>
        <p:spPr>
          <a:xfrm rot="567600">
            <a:off x="6453000" y="5170320"/>
            <a:ext cx="21906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14280" y="-3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ности не существуют объективно, подобно материальным вещам. Они являются результатом творчества каждого человека людей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Поэтому чтобы получить представление о ценностях всего общества нужно рассмотреть ценности каждого или большинства человек, составляющих это обществ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C:\Users\КАТЕРИНА\Desktop\фвлюопи\p1824_3b[1].jpg"/>
          <p:cNvPicPr/>
          <p:nvPr/>
        </p:nvPicPr>
        <p:blipFill>
          <a:blip r:embed="rId1"/>
          <a:stretch/>
        </p:blipFill>
        <p:spPr>
          <a:xfrm rot="924600">
            <a:off x="5622480" y="4803840"/>
            <a:ext cx="2367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для Вас такое счастье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1000080" y="1143000"/>
            <a:ext cx="814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для Вас любовь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1"/>
          <a:stretch/>
        </p:blipFill>
        <p:spPr>
          <a:xfrm>
            <a:off x="928800" y="1447920"/>
            <a:ext cx="80056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для Вас деньг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5" descr=""/>
          <p:cNvPicPr/>
          <p:nvPr/>
        </p:nvPicPr>
        <p:blipFill>
          <a:blip r:embed="rId1"/>
          <a:stretch/>
        </p:blipFill>
        <p:spPr>
          <a:xfrm>
            <a:off x="1434960" y="144792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1:25:27Z</dcterms:created>
  <dc:creator>КАТЕРИНА</dc:creator>
  <dc:description/>
  <dc:language>en-US</dc:language>
  <cp:lastModifiedBy>Максим</cp:lastModifiedBy>
  <dcterms:modified xsi:type="dcterms:W3CDTF">2010-12-17T12:48:21Z</dcterms:modified>
  <cp:revision>10</cp:revision>
  <dc:subject/>
  <dc:title>Ценностные ориентации современной молодёжи</dc:title>
</cp:coreProperties>
</file>