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FBB25-8B68-4270-9FC8-1E6456A4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70AD6-48DA-49A5-AF40-119F4BBC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C8350-5FA9-413A-8C87-0A573450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62920-1216-45ED-A8C6-09B96DA7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B164-7A09-4BC0-A521-B6315F5B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1BCE-603A-45A0-A924-366C66AA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397C-97EA-46DD-A021-57E0D8CE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721C-1CA2-4ECD-9B8F-76A7B91B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A007-20E7-4254-9C4E-810C4051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D8FD-3E02-4C9F-803D-DD30F0F8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4E1A-680B-4AA9-B897-2857510B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40FC9-618D-4EFC-83DF-3119BF96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5184-8F56-44F0-A5DB-C8801FB8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E739-4AF8-4A31-B8F6-E252EA9D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3BC1-ACF8-449A-AF74-B4496306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E378-2236-4E63-86E6-7F97E0E4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FCBB-12B1-4BFF-8193-C3CAFC9B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3B7B-B961-467D-923C-060B3529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53FC4-A394-48AD-BA66-18D01350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1A9DE-90E0-43A5-AD0E-7189BDD1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5AC11-8084-47E5-A821-54B75683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D0C35-27E5-401F-98CD-E9FBF4C0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09D25-DC82-412A-91F3-C266429E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E5858-8925-4CCF-88CB-78B0E54A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1B76-A052-47A1-94DA-6FA3986CC5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398F-B81F-4AC3-96A8-03FCE1E1BE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1640" y="836640"/>
            <a:ext cx="7488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66"/>
                </a:solidFill>
                <a:uFillTx/>
                <a:latin typeface="Times New Roman"/>
              </a:rPr>
              <a:t>Межпредметные связ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66"/>
                </a:solidFill>
                <a:uFillTx/>
                <a:latin typeface="Times New Roman"/>
              </a:rPr>
              <a:t>в развит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66"/>
                </a:solidFill>
                <a:uFillTx/>
                <a:latin typeface="Times New Roman"/>
              </a:rPr>
              <a:t>школьного химического образо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9280" y="620640"/>
            <a:ext cx="40388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Приемы реализации межпредметных свя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Постановка межпредметных вопро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Выполнение комплексных зада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Решение межпредметных задач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Выполнение межпредметных домашних зада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ение межпредметных контрольных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Использование комплексных  наглядных пособ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шение межпредметных учебных проб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620640"/>
            <a:ext cx="40384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Формы организации интегративного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егрированный учебный д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Межпредметный факультати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Межпредметная внеклассная раб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Комплексная экскурс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лексный семина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нный смотр зн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Межпредметный ур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66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360" y="1052640"/>
            <a:ext cx="748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«…Это изумительная наука, знаете!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Её зоркий смелый взгл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проникает в огненную массу солнца, и во тьму земной ко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в невидимые частицы вашего сердца, в тайны строения кам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и в безмолвную жизнь дерева. Она смотрит, всюду и везде открывая гармонию, упорно ищет начало жизн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И она найдёт его она найдёт!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М. Гор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763200"/>
            <a:ext cx="8177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Berlin Sans FB Demi"/>
              </a:rPr>
              <a:t>Формирование </a:t>
            </a:r>
            <a:br>
              <a:rPr sz="3200"/>
            </a:br>
            <a:r>
              <a:rPr b="0" i="1" lang="en-US" sz="3200" spc="-1" strike="noStrike">
                <a:solidFill>
                  <a:srgbClr val="009999"/>
                </a:solidFill>
                <a:latin typeface="Berlin Sans FB Demi"/>
              </a:rPr>
              <a:t>всесторонней научной картины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33480" y="2185560"/>
            <a:ext cx="3611520" cy="3433320"/>
            <a:chOff x="2733480" y="2185560"/>
            <a:chExt cx="3611520" cy="3433320"/>
          </a:xfrm>
        </p:grpSpPr>
        <p:sp>
          <p:nvSpPr>
            <p:cNvPr id="110" name="_s4116"/>
            <p:cNvSpPr/>
            <p:nvPr/>
          </p:nvSpPr>
          <p:spPr>
            <a:xfrm flipH="1" flipV="1">
              <a:off x="3665520" y="3471120"/>
              <a:ext cx="438840" cy="2181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4115"/>
            <p:cNvSpPr/>
            <p:nvPr/>
          </p:nvSpPr>
          <p:spPr>
            <a:xfrm>
              <a:off x="2733480" y="2831040"/>
              <a:ext cx="1002600" cy="8571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cc"/>
                  </a:solidFill>
                  <a:latin typeface="Arial"/>
                </a:rPr>
                <a:t>ГЕОГРАФ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4114"/>
            <p:cNvSpPr/>
            <p:nvPr/>
          </p:nvSpPr>
          <p:spPr>
            <a:xfrm flipH="1">
              <a:off x="3665520" y="4116240"/>
              <a:ext cx="440280" cy="216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4113"/>
            <p:cNvSpPr/>
            <p:nvPr/>
          </p:nvSpPr>
          <p:spPr>
            <a:xfrm>
              <a:off x="2733480" y="4117680"/>
              <a:ext cx="1002600" cy="8571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cc"/>
                  </a:solidFill>
                  <a:latin typeface="Arial"/>
                </a:rPr>
                <a:t>МАТЕМАТИК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4112"/>
            <p:cNvSpPr/>
            <p:nvPr/>
          </p:nvSpPr>
          <p:spPr>
            <a:xfrm>
              <a:off x="4538160" y="4328280"/>
              <a:ext cx="1080" cy="4341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111"/>
            <p:cNvSpPr/>
            <p:nvPr/>
          </p:nvSpPr>
          <p:spPr>
            <a:xfrm>
              <a:off x="4037040" y="4761720"/>
              <a:ext cx="1002600" cy="857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cc"/>
                  </a:solidFill>
                  <a:latin typeface="Arial"/>
                </a:rPr>
                <a:t>ИСТОР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4110"/>
            <p:cNvSpPr/>
            <p:nvPr/>
          </p:nvSpPr>
          <p:spPr>
            <a:xfrm>
              <a:off x="4971240" y="4115160"/>
              <a:ext cx="438840" cy="217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109"/>
            <p:cNvSpPr/>
            <p:nvPr/>
          </p:nvSpPr>
          <p:spPr>
            <a:xfrm>
              <a:off x="5342400" y="4117680"/>
              <a:ext cx="1002600" cy="8571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cc"/>
                  </a:solidFill>
                  <a:latin typeface="Arial"/>
                </a:rPr>
                <a:t>ЭКОЛОГ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4108"/>
            <p:cNvSpPr/>
            <p:nvPr/>
          </p:nvSpPr>
          <p:spPr>
            <a:xfrm flipV="1">
              <a:off x="4971240" y="3472200"/>
              <a:ext cx="438840" cy="216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4107"/>
            <p:cNvSpPr/>
            <p:nvPr/>
          </p:nvSpPr>
          <p:spPr>
            <a:xfrm>
              <a:off x="5342400" y="2829600"/>
              <a:ext cx="1002600" cy="8575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cc"/>
                  </a:solidFill>
                  <a:latin typeface="Arial"/>
                </a:rPr>
                <a:t>БИОЛОГ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4106"/>
            <p:cNvSpPr/>
            <p:nvPr/>
          </p:nvSpPr>
          <p:spPr>
            <a:xfrm flipV="1">
              <a:off x="4538160" y="3041280"/>
              <a:ext cx="0" cy="433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4105"/>
            <p:cNvSpPr/>
            <p:nvPr/>
          </p:nvSpPr>
          <p:spPr>
            <a:xfrm>
              <a:off x="4037040" y="2185560"/>
              <a:ext cx="1002600" cy="85716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cc"/>
                  </a:solidFill>
                  <a:latin typeface="Arial"/>
                </a:rPr>
                <a:t>ФИЗИК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4104"/>
            <p:cNvSpPr/>
            <p:nvPr/>
          </p:nvSpPr>
          <p:spPr>
            <a:xfrm>
              <a:off x="4037040" y="3474720"/>
              <a:ext cx="1002600" cy="8571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cc"/>
                  </a:solidFill>
                  <a:latin typeface="Arial"/>
                </a:rPr>
                <a:t>ХИМ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H="1">
            <a:off x="3708360" y="4076640"/>
            <a:ext cx="432000" cy="24912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551480" y="4282920"/>
            <a:ext cx="1440" cy="55260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32360" y="4076640"/>
            <a:ext cx="507960" cy="28440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003640" y="3428640"/>
            <a:ext cx="466920" cy="22212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21240" y="2997360"/>
            <a:ext cx="19080" cy="54900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3429000"/>
            <a:ext cx="447840" cy="24300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763200"/>
            <a:ext cx="821844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Berlin Sans FB"/>
              </a:rPr>
              <a:t>Межпредметные связи </a:t>
            </a:r>
            <a:br>
              <a:rPr sz="2800"/>
            </a:br>
            <a:br>
              <a:rPr sz="2400"/>
            </a:br>
            <a:r>
              <a:rPr b="1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Главная дидактическая функция: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6600cc"/>
                </a:solidFill>
                <a:latin typeface="Arial"/>
              </a:rPr>
              <a:t>Последовательное отражение в содержании естественнонаучных дисциплин объективных взаимосвязей, действующих в природ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2481120"/>
            <a:ext cx="41004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Дидактические принци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нау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системати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связь теории с практик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познавательная актив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доступ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про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нагляд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мировоззренческая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направлен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положительный эмоциональный фо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сочетание коллективного и индивидуального характера учебн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3280" y="2491920"/>
            <a:ext cx="404352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Главные дидактические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повышение научности и последовательности учебной информ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стимулирование познавательных интересов и активного отношения обучающихся к усвоению зн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воспитание научных убеж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Повышение научности и последовательности учебн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8080"/>
            <a:ext cx="4038480" cy="53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Реализация связей меж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химией  и информатик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Способствует приобретению новых знаний, развитию познавательного интереса (дополнительные знания по предмет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Создаёт: более доступные для учащихся схемы объяснения химических явлений; условия для развития пространственного мышления (пространственное видение молекулы и описание её свойств по увиденной модел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Формирует культуру оформления собственных исследований (презентации исследований, рефератов); навыки систематизации и архивирования матери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Позволяет осуществлять более эффективный контроль за усвоением знаний (компьютерное тестирование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150560"/>
            <a:ext cx="403848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Реализация связей меж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химией  и  истори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Способствует выстраиванию иерархии исторического развития хим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Создаёт поле для новых знаниевых открытий учащих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Воспитывает трудолюбие, усердие (любое открытие является результатом многолетней работы учёных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Развивает кругозор, воображение (освещение исторических заслуг учёных, этапов открытий, выдвижение собственных гипотез и идей)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Формирует навык обобщения. (создание таблицы Менделеев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cc"/>
                </a:solidFill>
                <a:uFillTx/>
                <a:latin typeface="Arial"/>
              </a:rPr>
              <a:t>Повышение научности и последовательности учебн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66"/>
                </a:solidFill>
                <a:uFillTx/>
                <a:latin typeface="Arial"/>
              </a:rPr>
              <a:t>Реализация связей между  химией  и физик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Формирует представление о базисной основе химии (тема «Строение атома» впервые вводится  в курсе физики и является основой изучения хим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Способствует усвоению химических понятий путём переноса имеющихся знаний из курса физики в курс химии («Газообразное состояние вещества», «Электролитическая диссоциация», «Электролиз»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Использует теории и законы, общие для физики и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Использует физические понятия, величины и единицы изме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66"/>
                </a:solidFill>
                <a:uFillTx/>
                <a:latin typeface="Arial"/>
              </a:rPr>
              <a:t>Реализация связей между  химией  и математик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Способствует конкретизации математических знаний (с помощью графиков изображаются закономерности химических процес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Показывает прикладной характер математики (использование математического аппарата для описания процессов, протекающих в жизни; применение математических методов, способов при решении химических задач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Укрепляет измерительно-вычислительные и графические ум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Воспитывает культуру работы с математическими инстру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Повышает эффективность обучения химии посредством алгоритмизации процесса об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cc0066"/>
                </a:solidFill>
                <a:uFillTx/>
                <a:latin typeface="Arial"/>
              </a:rPr>
              <a:t>Алгоритм</a:t>
            </a: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 - математическое понятие, широко применяемое в обучении хим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cc0066"/>
                </a:solidFill>
                <a:uFillTx/>
                <a:latin typeface="Arial"/>
              </a:rPr>
              <a:t>Алгоритмизация</a:t>
            </a: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 - способ обучения химии, способствующий формированию общеучебных навыков, монологической речи, развитию коммуникативных способностей, экономии времени, выбору наиболее рационального способа решения, отсутствию эмоционального дискомфо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cc"/>
                </a:solidFill>
                <a:uFillTx/>
                <a:latin typeface="Arial"/>
              </a:rPr>
              <a:t>Алгоритм - </a:t>
            </a:r>
            <a:r>
              <a:rPr b="1" i="1" lang="en-US" sz="1800" spc="-1" strike="noStrike">
                <a:solidFill>
                  <a:srgbClr val="6600cc"/>
                </a:solidFill>
                <a:latin typeface="Arial"/>
              </a:rPr>
              <a:t>строгое предписание выполнения действий или  </a:t>
            </a:r>
            <a:br>
              <a:rPr sz="1800"/>
            </a:br>
            <a:r>
              <a:rPr b="1" i="1" lang="en-US" sz="1800" spc="-1" strike="noStrike">
                <a:solidFill>
                  <a:srgbClr val="6600cc"/>
                </a:solidFill>
                <a:latin typeface="Arial"/>
              </a:rPr>
              <a:t>                           деятельности, обязательно приводящее к      </a:t>
            </a:r>
            <a:br>
              <a:rPr sz="1800"/>
            </a:br>
            <a:r>
              <a:rPr b="1" i="1" lang="en-US" sz="1800" spc="-1" strike="noStrike">
                <a:solidFill>
                  <a:srgbClr val="6600cc"/>
                </a:solidFill>
                <a:latin typeface="Arial"/>
              </a:rPr>
              <a:t>                           достижению заранее поставленной задачи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Предназна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Преимущества алгорит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752480"/>
            <a:ext cx="1828800" cy="520200"/>
          </a:xfrm>
          <a:prstGeom prst="borderCallout1">
            <a:avLst>
              <a:gd name="adj1" fmla="val 18750"/>
              <a:gd name="adj2" fmla="val -8333"/>
              <a:gd name="adj3" fmla="val -15421"/>
              <a:gd name="adj4" fmla="val 11084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</a:rPr>
              <a:t>Побуждает ученика к действ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43434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Виды алгоритм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общеучеб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тематическ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редмет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Применение способа алгоритмизации в изучении хим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ри решении задач и уравн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ри описании химических объек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ри проведение лабораторных, практических, контрольных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ри изучении, закреплении нового материала, при повторении изученного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ри организации учеб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1762200"/>
            <a:ext cx="1709640" cy="520200"/>
          </a:xfrm>
          <a:prstGeom prst="borderCallout1">
            <a:avLst>
              <a:gd name="adj1" fmla="val 18750"/>
              <a:gd name="adj2" fmla="val -8333"/>
              <a:gd name="adj3" fmla="val -14037"/>
              <a:gd name="adj4" fmla="val -1132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</a:rPr>
              <a:t>Даёт чёткий ответ на вопрос «Как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2970360"/>
            <a:ext cx="2328840" cy="520200"/>
          </a:xfrm>
          <a:prstGeom prst="borderCallout3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</a:rPr>
              <a:t>Чёткость, конкретность изложения дейст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3657600"/>
            <a:ext cx="2417760" cy="307080"/>
          </a:xfrm>
          <a:prstGeom prst="borderCallout1">
            <a:avLst>
              <a:gd name="adj1" fmla="val -678"/>
              <a:gd name="adj2" fmla="val -53013"/>
              <a:gd name="adj3" fmla="val -681"/>
              <a:gd name="adj4" fmla="val 1374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</a:rPr>
              <a:t>Лог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82680" y="4191120"/>
            <a:ext cx="2513160" cy="307080"/>
          </a:xfrm>
          <a:prstGeom prst="borderCallout1">
            <a:avLst>
              <a:gd name="adj1" fmla="val -652"/>
              <a:gd name="adj2" fmla="val -90649"/>
              <a:gd name="adj3" fmla="val -655"/>
              <a:gd name="adj4" fmla="val 1374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</a:rPr>
              <a:t>Простота вос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11400" y="4724280"/>
            <a:ext cx="2585880" cy="520200"/>
          </a:xfrm>
          <a:prstGeom prst="borderCallout1">
            <a:avLst>
              <a:gd name="adj1" fmla="val -634"/>
              <a:gd name="adj2" fmla="val -75450"/>
              <a:gd name="adj3" fmla="val -636"/>
              <a:gd name="adj4" fmla="val 169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</a:rPr>
              <a:t>Лёгкость и быстрота запоми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тимулирование познавательных интересов и активного отношения обучающихся к усвоению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47160" cy="26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Реализация связей меж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химией, экологией и биологи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Формирует правильное воззрение на науку о природе как результат обобщения человеческого опы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Показывает практическую связь науки с жизн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Объясняет: происходящие вокруг процессы; суть строения и функций организмов;  как и почему существуют организмы на Земле; как сохранить имеющееся многообраз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789360"/>
            <a:ext cx="85690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«Познание начинается с удивле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Аристо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Воспитание научных уб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1484280"/>
            <a:ext cx="1511280" cy="719280"/>
          </a:xfrm>
          <a:prstGeom prst="flowChartProcess">
            <a:avLst/>
          </a:prstGeom>
          <a:solidFill>
            <a:srgbClr val="cccce6"/>
          </a:solidFill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у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19640" y="1484280"/>
            <a:ext cx="1942920" cy="720720"/>
          </a:xfrm>
          <a:prstGeom prst="flowChartProcess">
            <a:avLst/>
          </a:prstGeom>
          <a:solidFill>
            <a:srgbClr val="cccce6"/>
          </a:solidFill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исследователь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учащих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16720" y="1484280"/>
            <a:ext cx="2158920" cy="727200"/>
          </a:xfrm>
          <a:prstGeom prst="flowChartProcess">
            <a:avLst/>
          </a:prstGeom>
          <a:solidFill>
            <a:srgbClr val="cccce6"/>
          </a:solidFill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исследователь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835280" y="981000"/>
            <a:ext cx="1440" cy="511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981000"/>
            <a:ext cx="0" cy="507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08720" y="981000"/>
            <a:ext cx="6480" cy="4827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1120" y="2841480"/>
            <a:ext cx="1857240" cy="180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Урок – исследова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Урок – лабораторная рабо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Урок – экспериме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2852640"/>
            <a:ext cx="2305080" cy="1797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Написание и защита рефера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Написание и презентация исследовательских рабо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45240" y="2824200"/>
            <a:ext cx="2047680" cy="1554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Орган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самообраз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учите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Участие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конференция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семина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09:26:39Z</dcterms:created>
  <dc:creator>Иевлева Елена Александровна</dc:creator>
  <dc:description/>
  <dc:language>en-US</dc:language>
  <cp:lastModifiedBy>Владелец</cp:lastModifiedBy>
  <dcterms:modified xsi:type="dcterms:W3CDTF">2010-04-23T14:48:35Z</dcterms:modified>
  <cp:revision>46</cp:revision>
  <dc:subject/>
  <dc:title>Слайд 1</dc:title>
</cp:coreProperties>
</file>