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hammer.wav" ContentType="audio/x-wav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B8F-93E8-4EEE-88FE-4B951F45B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F59-7075-47AB-90BE-DD6DD433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E3919-0085-409B-8865-264EB1A7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AAB13-946E-4384-8E2D-AB80411D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93327-8242-4A8A-AD4E-D74C5626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2CE19-A7D1-486B-81E7-B843C648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96A1DC-3E2B-4F68-821C-3F61BC99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99C65-3464-4D8C-990F-98FC591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0DADA-474B-43D9-B2CB-A95D7F46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7C674-FEB0-4248-AD97-233F4A34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69E36-D379-4CB8-9B0F-38892B0F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EBD7A8-02B5-4BDC-9EBF-DD019E95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5FF0-8952-4FDC-A165-CB3C1DE1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F09181-82D8-4A52-B9D0-4EBE146D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168489-4E15-4EF4-A727-60DCF05B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3BE98B-4B99-4DCB-92B8-65CE5C96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CD8E29-AC8D-4E97-B726-E96B071E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8C0E7F-872E-4ED7-B42C-C2524F43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37E8F6-CCEC-4A4B-9517-2779751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C600A5-82F6-4EF4-99F8-E6717BA4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141DA0-6FAD-4166-855A-C5A19C22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68F9E8-C279-44D5-BF6E-6ACEF86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0DBF67-13D2-4519-BA4E-35F849C2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413F-91DA-4E29-85E7-77609FA54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779BB9-52FF-4E55-8736-79484679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37AEB7-B61C-4EF8-AF38-26B8A2B3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6AA4E-3362-4943-9468-7558D266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CD9252E-9F6E-46C0-BF31-8E16069A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0F550C-6BA9-40A1-A6A3-350FC20D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79AB9B-3F65-48DC-8462-00B0D9EA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ECE8B4-B69F-4936-9EAD-BD50233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AEDB69-3422-4299-BC18-FBAD849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F63F71-2D3B-4164-8DF5-B2B3895B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54D264-B141-496F-8577-50C1B56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4C20-C9C9-40E6-AC79-38D5263C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2B6EF3-8BA4-447C-8B83-EDFB907C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53E00D-B288-4DCF-848F-85E8154D1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3E0C2A-7A46-42AD-9841-CBA5A2F4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7A4BF-325F-4A30-9276-4E910227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E3EDDF-45F0-4A5B-B3A7-5865F72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FB441-CF1D-4A33-829B-097DCB5A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117DD-CD0F-4F78-B314-1EEA2BE3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D8B73-E61F-47E3-B747-ECE2C9CD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2675F6-EE43-44A7-BF54-4B6C3709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9B18CA-249E-4DA9-9122-7FAB6F36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098A-5322-4EAA-A023-65727673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262BC1-42ED-46B0-9B75-CB94E492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5F88E-3CB0-4887-87E7-82D1CE5D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6B995-6EFA-47B3-B68B-3A82FB69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DE982-AFB1-4702-8FEA-DA2EE53B3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75F07-C509-49FC-8E37-29DDC435B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987517-99C9-4D83-8231-8B6446B4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179491-F0A3-48D3-BAE7-C704F832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76AFF-3173-46AB-8049-27727BC2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BCC2F2-89FA-4428-8C84-5F21FA96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BC797-B720-48B1-A960-DA47A71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4007-F834-4CB3-9F10-7D52F175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14099D-0915-4BD9-B8D9-35B2CE08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569717-0A8A-4DBA-9059-9F3F85F3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363ED-5A85-4062-A5BA-0F177380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E6E899-6513-407C-B43E-A5FB074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E721D-EF8F-4685-9E36-8E16D76F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F5761-781C-4EAF-91D0-E3F11FFAC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9DD5E3-7018-489D-B046-FF3DAAB5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96E6C-24F6-4701-AC39-23A284BD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7EC8D-6A65-44CF-BC4F-09904AD3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A3FE5-B3EF-4849-8BBB-97DBD9234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49DD-5B23-4475-8134-7FC6256B2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70E3D-521E-46F2-8F47-06290EDE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3479F1-D894-4047-BB7C-94F45A74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8B62C0-2612-4FB2-8FF3-4735DEDE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AF5C82-973A-4554-A699-9BFF80E2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2438E-0A25-4FD2-859E-BD07EDF4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2D60AC-9D33-4D9B-83DE-BC0BEE02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9FDD4-371F-473C-8E77-1076DBA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C5581-F920-4FBE-B5A7-8F25227E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59E71-5A1C-409E-8898-9F798E62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4DAAB-2F96-4C66-9F5E-4F4175BD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9734-2E47-42DE-B8F0-7F1FA8E0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E8475-BD07-488E-B79A-EF55E556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47C17-6D82-4251-B756-FB6FAAB3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91FA8-0E2A-4FCB-832C-869BA311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12F3A-2F80-4BA7-8BC1-05AA3BA2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B570A1-C764-4489-99EE-3BF3DC8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893A68-85EB-4C01-A513-6BFC1878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ADA1A-F51E-4EDE-95E2-014BEDB2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8AC887-6D21-4459-9F66-4D6C6F0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B52E71-F2AD-4387-B19B-5C989471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C3AD01-085A-492B-B07B-2F8CBCAB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DDDF-D662-4003-855E-AA295ADA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F6A14-8EA2-4BE7-9DDB-92028D32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4B9AEC-FDF8-4C37-BD9F-80099C58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56BCA-9EAA-4961-A739-50FC8193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25E80-899E-4106-BD8E-6F195D19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3409A-3627-4D30-9F2F-6A7853B3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ADD538-685C-409A-AC8C-B8C53EB8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A87CE-4F8F-4BB9-80B0-0534F30C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463C2-1FEF-4B19-B9AF-D9A06C9A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96E8EB-AA62-44BC-B2E8-1AAE98F6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90A6A-D6C2-4537-BD7E-413F770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7B81-7104-47DB-9D65-824A352B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65251D-4A0D-4792-8DF1-C941D57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F32C8-3AC4-4888-B443-8019D59AF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8E0483-E818-43A1-AE02-8A6CF9EB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240C-17A3-4F39-9E74-8D21A551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CFCA-05DB-49B5-BA48-09C036FA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365B-C3BD-4F53-8E60-931C5C29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3C34-DA07-416A-8FDC-908DFA21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5B8F-CD6C-4BF9-8B36-4FB1F11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91C-159B-4D05-8BB5-CFEC627E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4C901-F1E7-42B2-B3AD-E7406AED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F783E-13DD-4879-B341-C0EA6271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D9BD-17F7-46C8-B468-CA41C0FE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C7E0-7EFC-4F6C-A4B5-BEA8206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2C0F-82B1-4D0F-8FF9-D77EF9BF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477-E754-41CE-AA66-9E65D7BE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9F13-1D4D-4C5F-BE1A-1DD362FA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2F616-804E-40DB-B7A0-D8AAF39A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1A70-6B31-43A9-B10D-AAAE1E9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D3D80-FD09-4D46-8B28-134E7282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715CA-291D-4692-800F-7B870F4E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94967-5856-48FC-B8FE-89AED4CE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12393-2EBA-403C-B65A-CD7552764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8834-BEFB-43D7-BAB1-05E500B0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1444C-76E0-4796-9455-31B06A7F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37B88-300D-4469-9131-3C87079E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4D9-26F2-4065-A06C-ABB7A51F5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DA87-C712-41EC-BD40-BEECCDB3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C8AA-3243-49D2-8774-613BF407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13DA3-8168-4779-BB95-5399F021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F0B3-8796-4512-A5E9-ECBBD261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00A85-B1F3-43B2-9850-A9C1A49D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717A1-E9F7-473F-B442-C15F473A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2780-D7DD-4C22-934F-BE919826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8356-AEA7-456B-8422-67A72311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8DF16-2441-4661-ABA7-CDD4E605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09FA4-9A48-4304-B461-68BFA44F3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7D0-E5AB-4872-BADE-44FA314B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FCDA8-6184-4991-9DE7-72E09E67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C0630-6ADE-4E12-BFC8-58DFDEC1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F635A-0D42-40FA-9880-1594029C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0751D-5E68-4491-92E2-38CAB63C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CEA4-E76A-4797-8D07-2589123C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79748-098A-4E23-80F3-008FB108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900DB-0A5E-42AF-B44A-73E17488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DDECE-6B89-4CF8-99D5-3EDD1D19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66F1B-DE3B-44E7-A824-C04E30A0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E7735-8CD8-4574-A04C-829E7E5E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635E-2628-4621-916B-F4B91AA7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C4244-EA62-4A1C-8A5B-488382AA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2E133D-98CB-4F5A-9961-1B767092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A03037-0FCC-4756-81EC-85E80353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5A0FEE-DBA4-4507-BC49-DCBCEB09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D77455-7DD1-459C-B675-9CF2297C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178537-AD7A-475A-BB2C-EC563111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ADE7AE-75EB-4B71-B41E-73BAC98D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67E562-2FF3-4F89-A7D5-8F4BA0D0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8EA79-5462-4E99-8F15-D9A4E08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6B540-4303-4198-93D6-93A99DA4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FD8-AD36-445F-9165-99500190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3B795B-254E-4495-A369-E146A9D4E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24CEA-C13B-455D-B09D-49DC78FA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9B6BE-E718-4762-B6C0-9CED5E6B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54376-CB60-46F9-B375-A8915BBC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1CE83-A86B-498B-97A2-B90439D8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E2A02-B147-4A2C-9E62-B1C086B6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7BB6B-3C6B-4363-BFBE-338C5EA8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82402A-3471-4A18-ABF5-D88C7955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A1A84-D317-4D57-8393-6E7A04C0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B27CB-1DCE-432A-B6DF-FC486EFE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A1C-A9F2-4A6B-BABE-CA53AEDB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F9D38-25D0-4F21-832A-062C85C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F4B7-F5B2-450E-A996-4F577EA7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C7F87-DB9A-4780-B021-A8B6EC50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C7E02-5967-4115-8E92-EAA85081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AEF89-B5A0-4E20-9DFE-1C68F078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6BD1F4-1F5F-48DA-BE91-BEA780A5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C0F37-FF07-4D29-9C2B-BA0D5FAE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D5C40-71C1-415A-880F-A673CE9C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1FB21-A477-4569-867F-EA091A6C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702D6-38CC-41E0-BE36-DBE31419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7BE-79AA-4B01-9632-21FF079C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2826A-8437-4272-AB3A-89CDCA1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9323-CF27-4F33-885B-C3DD639D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AB452E-C55A-44D4-8EE4-367E1B0B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F1FBA-8F0E-4922-87B0-48A2E06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9AB90-0183-46D6-8893-F78367E3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DA41A-0B8D-44AB-9B63-FD8E7F8A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B4F5-B4E9-4E98-B1CF-6366E74F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68E25-9A24-466A-BF7A-461ADABD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8A0B7-0C7D-4ACA-B72B-AFF3BE51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E9678-1002-4777-8E16-8B7EDD1B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24D1-10EB-4124-A05A-2873A8CFA2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C979-D9E4-4ECF-84E8-C7AD08C183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9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720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724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5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26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1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2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33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1CCF-CBEB-4E01-A319-8C7C97A799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781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782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78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78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8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79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79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79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79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80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80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80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0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80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81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81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81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2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2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83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83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83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83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84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84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4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84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85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5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85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85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86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86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6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87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87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87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88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88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8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88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8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88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89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899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>
                  <a:gd name="textAreaLeft" fmla="*/ 360 w 598320"/>
                  <a:gd name="textAreaRight" fmla="*/ 59904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>
                  <a:gd name="textAreaLeft" fmla="*/ 0 w 2617200"/>
                  <a:gd name="textAreaRight" fmla="*/ 2617200 w 2617200"/>
                  <a:gd name="textAreaTop" fmla="*/ 0 h 2841480"/>
                  <a:gd name="textAreaBottom" fmla="*/ 2841840 h 28414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>
                  <a:gd name="textAreaLeft" fmla="*/ 360 w 1534320"/>
                  <a:gd name="textAreaRight" fmla="*/ 1535040 w 15343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custGeom>
                <a:avLst/>
                <a:gdLst>
                  <a:gd name="textAreaLeft" fmla="*/ -360 w 2930760"/>
                  <a:gd name="textAreaRight" fmla="*/ 2930760 w 293076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824120"/>
                  <a:gd name="textAreaBottom" fmla="*/ 1824480 h 1824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custGeom>
                <a:avLst/>
                <a:gdLst>
                  <a:gd name="textAreaLeft" fmla="*/ 360 w 1338480"/>
                  <a:gd name="textAreaRight" fmla="*/ 1339200 w 133848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custGeom>
                <a:avLst/>
                <a:gdLst>
                  <a:gd name="textAreaLeft" fmla="*/ 0 w 1242000"/>
                  <a:gd name="textAreaRight" fmla="*/ 1242360 w 1242000"/>
                  <a:gd name="textAreaTop" fmla="*/ 0 h 1974600"/>
                  <a:gd name="textAreaBottom" fmla="*/ 1974960 h 1974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>
                  <a:gd name="textAreaLeft" fmla="*/ 0 w 1872360"/>
                  <a:gd name="textAreaRight" fmla="*/ 1872720 w 187236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custGeom>
                <a:avLst/>
                <a:gdLst>
                  <a:gd name="textAreaLeft" fmla="*/ 0 w 817560"/>
                  <a:gd name="textAreaRight" fmla="*/ 817920 w 817560"/>
                  <a:gd name="textAreaTop" fmla="*/ 0 h 1768680"/>
                  <a:gd name="textAreaBottom" fmla="*/ 1769040 h 1768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1C16-82B6-4989-B056-DB551BA7B869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 type="ftr" idx="3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B1B9-CC06-4EE5-8F25-1A6D28B4A44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1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4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4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54516-6A70-46F0-963E-484E96B7131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60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61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6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63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6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67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6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69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07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71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7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08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109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0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1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2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3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4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5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6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7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8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9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20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2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5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5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6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0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117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77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1178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custGeom>
                  <a:avLst/>
                  <a:gdLst>
                    <a:gd name="textAreaLeft" fmla="*/ 0 w 255960"/>
                    <a:gd name="textAreaRight" fmla="*/ 256320 w 255960"/>
                    <a:gd name="textAreaTop" fmla="*/ 0 h 247680"/>
                    <a:gd name="textAreaBottom" fmla="*/ 248040 h 24768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custGeom>
                  <a:avLst/>
                  <a:gdLst>
                    <a:gd name="textAreaLeft" fmla="*/ 0 w 183960"/>
                    <a:gd name="textAreaRight" fmla="*/ 184320 w 183960"/>
                    <a:gd name="textAreaTop" fmla="*/ 0 h 172800"/>
                    <a:gd name="textAreaBottom" fmla="*/ 172800 h 17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custGeom>
                  <a:avLst/>
                  <a:gdLst>
                    <a:gd name="textAreaLeft" fmla="*/ 0 w 228960"/>
                    <a:gd name="textAreaRight" fmla="*/ 229320 w 228960"/>
                    <a:gd name="textAreaTop" fmla="*/ 0 h 220680"/>
                    <a:gd name="textAreaBottom" fmla="*/ 221040 h 22068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custGeom>
                  <a:avLst/>
                  <a:gdLst>
                    <a:gd name="textAreaLeft" fmla="*/ 0 w 89280"/>
                    <a:gd name="textAreaRight" fmla="*/ 89640 w 89280"/>
                    <a:gd name="textAreaTop" fmla="*/ 0 h 82440"/>
                    <a:gd name="textAreaBottom" fmla="*/ 82800 h 8244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8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3854-78B3-447D-B48E-FF6F4C24E65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22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22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22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3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4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4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4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6B1F-26EC-4A71-B067-C1F72DEF73B0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ADB4-7E34-41A4-A4ED-BAEF50F704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3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7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9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AE54-842D-4228-BB89-0020231EFF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4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45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8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54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55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8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59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2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65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68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1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4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77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0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3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86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89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92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95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98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1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4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07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0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13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16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19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4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27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0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33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36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39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2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45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48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1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4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6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8D18-2483-4C3C-B32A-6131ECD21B34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320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323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EDDD-2E9E-4961-A54A-06FB5FA2B5D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629B-0B52-4369-B28C-1070B0ABCA4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3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4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25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26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>
                    <a:gd name="textAreaLeft" fmla="*/ 0 w 5208480"/>
                    <a:gd name="textAreaRight" fmla="*/ 5208480 w 5208480"/>
                    <a:gd name="textAreaTop" fmla="*/ 0 h 4881600"/>
                    <a:gd name="textAreaBottom" fmla="*/ 4881960 h 4881600"/>
                  </a:gdLst>
                  <a:ahLst/>
                  <a:rect l="textAreaLeft" t="textAreaTop" r="textAreaRight" b="textAreaBottom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28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>
                      <a:gd name="textAreaLeft" fmla="*/ 0 w 6292440"/>
                      <a:gd name="textAreaRight" fmla="*/ 6292800 w 6292440"/>
                      <a:gd name="textAreaTop" fmla="*/ 0 h 5557680"/>
                      <a:gd name="textAreaBottom" fmla="*/ 5557680 h 5557680"/>
                    </a:gdLst>
                    <a:ahLst/>
                    <a:rect l="textAreaLeft" t="textAreaTop" r="textAreaRight" b="textAreaBottom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>
                      <a:gd name="textAreaLeft" fmla="*/ 0 w 6037200"/>
                      <a:gd name="textAreaRight" fmla="*/ 6037560 w 6037200"/>
                      <a:gd name="textAreaTop" fmla="*/ 0 h 5338800"/>
                      <a:gd name="textAreaBottom" fmla="*/ 5338800 h 5338800"/>
                    </a:gdLst>
                    <a:ahLst/>
                    <a:rect l="textAreaLeft" t="textAreaTop" r="textAreaRight" b="textAreaBottom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>
                      <a:gd name="textAreaLeft" fmla="*/ 0 w 5616000"/>
                      <a:gd name="textAreaRight" fmla="*/ 5616360 w 5616000"/>
                      <a:gd name="textAreaTop" fmla="*/ 0 h 5119560"/>
                      <a:gd name="textAreaBottom" fmla="*/ 5119920 h 5119560"/>
                    </a:gdLst>
                    <a:ahLst/>
                    <a:rect l="textAreaLeft" t="textAreaTop" r="textAreaRight" b="textAreaBottom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1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432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>
                        <a:gd name="textAreaLeft" fmla="*/ 0 w 6768720"/>
                        <a:gd name="textAreaRight" fmla="*/ 6769080 w 6768720"/>
                        <a:gd name="textAreaTop" fmla="*/ 0 h 6022800"/>
                        <a:gd name="textAreaBottom" fmla="*/ 6023160 h 6022800"/>
                      </a:gdLst>
                      <a:ahLst/>
                      <a:rect l="textAreaLeft" t="textAreaTop" r="textAreaRight" b="textAreaBottom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3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434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>
                          <a:gd name="textAreaLeft" fmla="*/ 0 w 6541560"/>
                          <a:gd name="textAreaRight" fmla="*/ 6541920 w 6541560"/>
                          <a:gd name="textAreaTop" fmla="*/ 0 h 5805360"/>
                          <a:gd name="textAreaBottom" fmla="*/ 5805360 h 5805360"/>
                        </a:gdLst>
                        <a:ahLst/>
                        <a:rect l="textAreaLeft" t="textAreaTop" r="textAreaRight" b="textAreaBottom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35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436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7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8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9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0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1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2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1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>
                            <a:gd name="textAreaLeft" fmla="*/ 0 w 2447640"/>
                            <a:gd name="textAreaRight" fmla="*/ 2447640 w 2447640"/>
                            <a:gd name="textAreaTop" fmla="*/ 0 h 2806560"/>
                            <a:gd name="textAreaBottom" fmla="*/ 2806920 h 2806560"/>
                          </a:gdLst>
                          <a:ahLst/>
                          <a:rect l="textAreaLeft" t="textAreaTop" r="textAreaRight" b="textAreaBottom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2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473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5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6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7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8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9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21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522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4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525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>
                      <a:gd name="textAreaLeft" fmla="*/ 0 w 1596600"/>
                      <a:gd name="textAreaRight" fmla="*/ 1596960 w 1596600"/>
                      <a:gd name="textAreaTop" fmla="*/ 0 h 1749600"/>
                      <a:gd name="textAreaBottom" fmla="*/ 1749960 h 1749600"/>
                    </a:gdLst>
                    <a:ahLst/>
                    <a:rect l="textAreaLeft" t="textAreaTop" r="textAreaRight" b="textAreaBottom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34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535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2568600"/>
                  <a:gd name="textAreaBottom" fmla="*/ 2568960 h 2568600"/>
                </a:gdLst>
                <a:ahLst/>
                <a:rect l="textAreaLeft" t="textAreaTop" r="textAreaRight" b="textAreaBottom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>
                  <a:gd name="textAreaLeft" fmla="*/ 0 w 2655720"/>
                  <a:gd name="textAreaRight" fmla="*/ 2655720 w 2655720"/>
                  <a:gd name="textAreaTop" fmla="*/ 0 h 3197160"/>
                  <a:gd name="textAreaBottom" fmla="*/ 3197520 h 3197160"/>
                </a:gdLst>
                <a:ahLst/>
                <a:rect l="textAreaLeft" t="textAreaTop" r="textAreaRight" b="textAreaBottom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1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542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173520"/>
                    <a:gd name="textAreaBottom" fmla="*/ 173880 h 17352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>
                    <a:gd name="textAreaLeft" fmla="*/ 0 w 227160"/>
                    <a:gd name="textAreaRight" fmla="*/ 227520 w 227160"/>
                    <a:gd name="textAreaTop" fmla="*/ 0 h 221400"/>
                    <a:gd name="textAreaBottom" fmla="*/ 221760 h 221400"/>
                  </a:gdLst>
                  <a:ahLst/>
                  <a:rect l="textAreaLeft" t="textAreaTop" r="textAreaRight" b="textAreaBottom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>
                    <a:gd name="textAreaLeft" fmla="*/ 0 w 88560"/>
                    <a:gd name="textAreaRight" fmla="*/ 88920 w 8856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PlaceHolder 1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347-583E-483F-8B80-90A817D1D72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DAB6-C09C-48C8-90F1-26DBFE04BCE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5E18-8B6E-44D7-B672-F31014A979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Министерство образования и науки РФ</a:t>
            </a:r>
            <a:br>
              <a:rPr sz="1600"/>
            </a:b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66ff33"/>
                </a:solidFill>
                <a:latin typeface="Tahoma"/>
              </a:rPr>
              <a:t>С</a:t>
            </a: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очинский Государственный Университет Туризма и Курортного Дела</a:t>
            </a:r>
            <a:br>
              <a:rPr sz="1600"/>
            </a:br>
            <a:r>
              <a:rPr b="1" lang="ru-RU" sz="1600" spc="-1" strike="noStrike">
                <a:solidFill>
                  <a:srgbClr val="66ff33"/>
                </a:solidFill>
                <a:latin typeface="Tahoma"/>
                <a:ea typeface="Times New Roman"/>
              </a:rPr>
              <a:t>Институт Экономики и Менеджмента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ОТЧЕТ </a:t>
            </a:r>
            <a:br>
              <a:rPr sz="2400"/>
            </a:br>
            <a:br>
              <a:rPr sz="2400"/>
            </a:br>
            <a:r>
              <a:rPr b="1" i="1" lang="ru-RU" sz="2400" spc="-1" strike="noStrike" u="sng">
                <a:solidFill>
                  <a:srgbClr val="66ff33"/>
                </a:solidFill>
                <a:uFillTx/>
                <a:latin typeface="Tahoma"/>
              </a:rPr>
              <a:t>Вариант 12</a:t>
            </a:r>
            <a:br>
              <a:rPr sz="36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1066680" y="3573000"/>
            <a:ext cx="369576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ил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удент 3 кур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ы  06-ВЭ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лихов Михаил Юрь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ahoma"/>
              </a:rPr>
              <a:t>Файл отчета – Отчет_Пелихов_в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914720" y="3716280"/>
            <a:ext cx="3695400" cy="23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ерил: к.э.н., доц. Терентьев И.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5000">
    <p:wedge/>
    <p:sndAc>
      <p:stSnd>
        <p:snd r:embed="rId1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33"/>
                </a:solidFill>
                <a:latin typeface="Arial Black"/>
              </a:rPr>
              <a:t>ПОЖЕЛАНИЯ АВТОР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3347640" y="1744560"/>
            <a:ext cx="5614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олгария, которую Вы откроете для себя благодаря этому путешествию, поразит Вас своей сказочной природой, богатой культурой, изысканными памятниками древней истории и архитектуры. Посетив ее однажды, Вы захотите возвращаться сюда снова и снова, в поисках неизведанных мест, новых открытий и впечатлений и пусть это станет для Вас доброй традицией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България, която вие ще отворите с себе си поради това пътуване, ще ви учуди с фантастичната природа, богатата култура, рафинираните паметници на древна история и архитектура. Посетили сте го веднъж, вие искате да се завърнете тук отново и отново, в търсения на новите места, нови начални и впечатления и фал то става с вас вид традиция!!!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323" name="Picture 7" descr="Фото Пелихов"/>
          <p:cNvPicPr/>
          <p:nvPr/>
        </p:nvPicPr>
        <p:blipFill>
          <a:blip r:embed="rId1"/>
          <a:stretch/>
        </p:blipFill>
        <p:spPr>
          <a:xfrm>
            <a:off x="611280" y="20606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2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aeaea"/>
                </a:solidFill>
                <a:uFillTx/>
                <a:latin typeface="Tahoma"/>
              </a:rPr>
              <a:t>БОЛГАРИЯ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905360" y="1981080"/>
            <a:ext cx="3705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Болгария обладает красивой природой, развитой экскурсионной базой, тёплым мягким климатом и таким же морем. </a:t>
            </a:r>
            <a:r>
              <a:rPr b="1" i="1" lang="ru-RU" sz="2000" spc="-1" strike="noStrike">
                <a:solidFill>
                  <a:srgbClr val="66ff33"/>
                </a:solidFill>
                <a:latin typeface="Tahoma"/>
              </a:rPr>
              <a:t>Так что сегодня страна остаётся одним из лучших вариантов сравнительно недорогого семейного отдыха — особенно с детьми.</a:t>
            </a:r>
            <a:r>
              <a:rPr b="0" i="1" lang="ru-RU" sz="20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80" name="Group 13"/>
          <p:cNvGrpSpPr/>
          <p:nvPr/>
        </p:nvGrpSpPr>
        <p:grpSpPr>
          <a:xfrm>
            <a:off x="1116000" y="2276640"/>
            <a:ext cx="3887640" cy="3313080"/>
            <a:chOff x="1116000" y="2276640"/>
            <a:chExt cx="3887640" cy="3313080"/>
          </a:xfrm>
        </p:grpSpPr>
        <p:pic>
          <p:nvPicPr>
            <p:cNvPr id="1281" name="Picture 14" descr="C:\Documents and Settings\Сергей\Рабочий стол\Интернет тур\Описание страны\Болгария - описание3.files\spring.jpg"/>
            <p:cNvPicPr/>
            <p:nvPr/>
          </p:nvPicPr>
          <p:blipFill>
            <a:blip r:embed="rId1"/>
            <a:stretch/>
          </p:blipFill>
          <p:spPr>
            <a:xfrm>
              <a:off x="3117240" y="397080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2" name="Picture 15" descr="C:\Documents and Settings\Сергей\Рабочий стол\Интернет тур\Описание страны\Болгария - описание3.files\summer.jpg"/>
            <p:cNvPicPr/>
            <p:nvPr/>
          </p:nvPicPr>
          <p:blipFill>
            <a:blip r:embed="rId2"/>
            <a:stretch/>
          </p:blipFill>
          <p:spPr>
            <a:xfrm>
              <a:off x="1116000" y="227664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Picture 16" descr="C:\Documents and Settings\Сергей\Рабочий стол\Интернет тур\Описание страны\Болгария - описание3.files\winter.jpg"/>
            <p:cNvPicPr/>
            <p:nvPr/>
          </p:nvPicPr>
          <p:blipFill>
            <a:blip r:embed="rId3"/>
            <a:stretch/>
          </p:blipFill>
          <p:spPr>
            <a:xfrm>
              <a:off x="3117240" y="2276640"/>
              <a:ext cx="1886400" cy="16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Picture 17" descr="C:\Documents and Settings\Сергей\Рабочий стол\Интернет тур\Описание страны\Болгария - описание3.files\autumn.jpg"/>
            <p:cNvPicPr/>
            <p:nvPr/>
          </p:nvPicPr>
          <p:blipFill>
            <a:blip r:embed="rId4"/>
            <a:stretch/>
          </p:blipFill>
          <p:spPr>
            <a:xfrm>
              <a:off x="1116000" y="3970800"/>
              <a:ext cx="1886400" cy="1618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advTm="5000">
    <p:wedge/>
    <p:sndAc>
      <p:stSnd>
        <p:snd r:embed="rId5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  </a:t>
            </a:r>
            <a:r>
              <a:rPr b="0" lang="ru-RU" sz="4000" spc="-1" strike="noStrike" u="sng">
                <a:solidFill>
                  <a:srgbClr val="ffffcc"/>
                </a:solidFill>
                <a:uFillTx/>
                <a:latin typeface="Times New Roman"/>
                <a:ea typeface="Times New Roman"/>
              </a:rPr>
              <a:t>СОФИЯ  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Основанная семь тысяч лет назад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София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– второй старейший город Европы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Софии в избытке находятся музеи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Богатая и разнообразная история, великолепная горная природа, целый спектр достопримечательностей и масса культурных событий делает Софию городом, привлекательным для истинных любителей путешествий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HOTEL CENTRAL****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 расположен в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амом центре Софии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  <a:ea typeface="Times New Roman"/>
              </a:rPr>
              <a:t>, рядом со всеми главными достопримечательностям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aramond"/>
              </a:rPr>
              <a:t>Номера современные, хорошо оборудованы. В номерах все высокого качества, они оформлены со вкусом и приравнены к номерам лучших отелей Западной Европы.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7" name="Picture 13" descr="C:\Documents and Settings\Сергей\Рабочий стол\Интернет тур\София\фото вид спереди.files\375852.jpg"/>
          <p:cNvPicPr/>
          <p:nvPr/>
        </p:nvPicPr>
        <p:blipFill>
          <a:blip r:embed="rId1"/>
          <a:stretch/>
        </p:blipFill>
        <p:spPr>
          <a:xfrm>
            <a:off x="5335560" y="4425840"/>
            <a:ext cx="3252960" cy="1657440"/>
          </a:xfrm>
          <a:prstGeom prst="rect">
            <a:avLst/>
          </a:prstGeom>
          <a:ln w="0">
            <a:noFill/>
          </a:ln>
        </p:spPr>
      </p:pic>
      <p:pic>
        <p:nvPicPr>
          <p:cNvPr id="1288" name="Picture 17" descr="Фото Болгария : София : София"/>
          <p:cNvPicPr/>
          <p:nvPr/>
        </p:nvPicPr>
        <p:blipFill>
          <a:blip r:embed="rId2"/>
          <a:stretch/>
        </p:blipFill>
        <p:spPr>
          <a:xfrm>
            <a:off x="5435640" y="1628640"/>
            <a:ext cx="2997000" cy="213516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dceb9"/>
                </a:solidFill>
                <a:uFillTx/>
                <a:latin typeface="Arial"/>
              </a:rPr>
              <a:t>ЭКСКУРСИИ В СОФИИ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90" name="Picture 11" descr="Dragalevtsi Monastery"/>
          <p:cNvPicPr/>
          <p:nvPr/>
        </p:nvPicPr>
        <p:blipFill>
          <a:blip r:embed="rId1"/>
          <a:stretch/>
        </p:blipFill>
        <p:spPr>
          <a:xfrm>
            <a:off x="755640" y="3573360"/>
            <a:ext cx="1636560" cy="225756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0" descr="Фото Болгария : София : Церковь Александра Невского"/>
          <p:cNvPicPr/>
          <p:nvPr/>
        </p:nvPicPr>
        <p:blipFill>
          <a:blip r:embed="rId2"/>
          <a:stretch/>
        </p:blipFill>
        <p:spPr>
          <a:xfrm>
            <a:off x="2843280" y="1557360"/>
            <a:ext cx="1977840" cy="1832040"/>
          </a:xfrm>
          <a:prstGeom prst="rect">
            <a:avLst/>
          </a:prstGeom>
          <a:ln w="0">
            <a:noFill/>
          </a:ln>
        </p:spPr>
      </p:pic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1. «София» - обзорная экскурсия по городу с гидом, на микроавтобусе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2. Экскурсия по монастырям в окрестностях Софии на микроавтобус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13"/>
          <p:cNvSpPr/>
          <p:nvPr/>
        </p:nvSpPr>
        <p:spPr>
          <a:xfrm>
            <a:off x="0" y="245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wedge/>
    <p:sndAc>
      <p:stSnd>
        <p:snd r:embed="rId3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6600"/>
                </a:solidFill>
                <a:uFillTx/>
                <a:latin typeface="Tahoma"/>
              </a:rPr>
              <a:t>ВАРН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3848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рупный портовый город Варна издавна привлекает туристов своей красотой и изумительным расположением на берегу Черного мор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рна - жемчужина черноморского побережья Болгар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амом сердце Варны расположен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RAND HOTEL MUSALA PALACE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*****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уютный, респектабельный, один из старейших отелей горо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6" name="FotoHotel" descr="Musala Palace Hotel Varna (Bulgaria) - 9000 3 Musala Str."/>
          <p:cNvPicPr/>
          <p:nvPr/>
        </p:nvPicPr>
        <p:blipFill>
          <a:blip r:embed="rId1"/>
          <a:stretch/>
        </p:blipFill>
        <p:spPr>
          <a:xfrm>
            <a:off x="4932360" y="3559320"/>
            <a:ext cx="3152880" cy="19065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18" descr="Пляжи Варны"/>
          <p:cNvPicPr/>
          <p:nvPr/>
        </p:nvPicPr>
        <p:blipFill>
          <a:blip r:embed="rId2"/>
          <a:stretch/>
        </p:blipFill>
        <p:spPr>
          <a:xfrm>
            <a:off x="5003640" y="1197000"/>
            <a:ext cx="2979720" cy="223524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3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ЭКСКУРСИИ В ВАРНЕ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1. Аладжа монастырь. Вечерняя Варн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2. Варна-дельфинар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1" name="Picture 7" descr="Аладжа 2"/>
          <p:cNvPicPr/>
          <p:nvPr/>
        </p:nvPicPr>
        <p:blipFill>
          <a:blip r:embed="rId1"/>
          <a:stretch/>
        </p:blipFill>
        <p:spPr>
          <a:xfrm>
            <a:off x="900000" y="3357720"/>
            <a:ext cx="1871640" cy="130644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varna1web"/>
          <p:cNvPicPr/>
          <p:nvPr/>
        </p:nvPicPr>
        <p:blipFill>
          <a:blip r:embed="rId2"/>
          <a:stretch/>
        </p:blipFill>
        <p:spPr>
          <a:xfrm>
            <a:off x="900000" y="4797360"/>
            <a:ext cx="1944720" cy="155592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http://www.bolgaria-tour.ru/files/travels/136/1.jpg"/>
          <p:cNvPicPr/>
          <p:nvPr/>
        </p:nvPicPr>
        <p:blipFill>
          <a:blip r:embed="rId3"/>
          <a:stretch/>
        </p:blipFill>
        <p:spPr>
          <a:xfrm>
            <a:off x="3708360" y="3357720"/>
            <a:ext cx="4776840" cy="3016080"/>
          </a:xfrm>
          <a:prstGeom prst="rect">
            <a:avLst/>
          </a:prstGeom>
          <a:ln w="0">
            <a:noFill/>
          </a:ln>
        </p:spPr>
      </p:pic>
    </p:spTree>
  </p:cSld>
  <p:transition advTm="5000">
    <p:wedge/>
    <p:sndAc>
      <p:stSnd>
        <p:snd r:embed="rId4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4" name=""/>
          <p:cNvGraphicFramePr/>
          <p:nvPr/>
        </p:nvGraphicFramePr>
        <p:xfrm>
          <a:off x="395280" y="189000"/>
          <a:ext cx="8209080" cy="6610320"/>
        </p:xfrm>
        <a:graphic>
          <a:graphicData uri="http://schemas.openxmlformats.org/drawingml/2006/table">
            <a:tbl>
              <a:tblPr/>
              <a:tblGrid>
                <a:gridCol w="711360"/>
                <a:gridCol w="2387520"/>
                <a:gridCol w="1276200"/>
                <a:gridCol w="1278000"/>
                <a:gridCol w="1278000"/>
                <a:gridCol w="127800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ТОИМОСТЬ 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уб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л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евр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лев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73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АВИАПЕРЕЛЕТ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чи-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3,9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0,0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1,72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-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77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21,3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91,36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926,17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фия-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0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84,745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5,80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47,325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на-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39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13,26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7,3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68,1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-Соч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7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53,9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90,010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81,728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21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327,2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64,5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405,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ПРОЖИ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00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1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49,734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975,40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669,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299,55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30,2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24,23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ск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47,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79,12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42,21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36,413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3618,0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695,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2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236,05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ЭКСКУРС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оф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зорна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248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80,004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49,637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 монастырям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095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58,26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6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1,654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ар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4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Аладжа - Вечерня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398,4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4,00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9,710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льфинари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287,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39,307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70,589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7029,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21,582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6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401,59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247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cc6600"/>
                          </a:solidFill>
                          <a:latin typeface="Arial Cyr"/>
                        </a:rPr>
                        <a:t>ВИ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из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1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1,9436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7,1193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Общая стоим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83949,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7794,46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4979,6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5139,8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624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Общая округленная ст-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8394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779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498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463416"/>
                          </a:solidFill>
                          <a:latin typeface="Arial Cyr"/>
                        </a:rPr>
                        <a:t>1514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</p:spTree>
  </p:cSld>
  <p:transition advTm="5000">
    <p:wedge/>
    <p:sndAc>
      <p:stSnd>
        <p:snd r:embed="rId1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Organization Chart 35"/>
          <p:cNvGrpSpPr/>
          <p:nvPr/>
        </p:nvGrpSpPr>
        <p:grpSpPr>
          <a:xfrm>
            <a:off x="431640" y="692280"/>
            <a:ext cx="8388000" cy="5351400"/>
            <a:chOff x="431640" y="692280"/>
            <a:chExt cx="8388000" cy="5351400"/>
          </a:xfrm>
        </p:grpSpPr>
        <p:cxnSp>
          <p:nvCxnSpPr>
            <p:cNvPr id="1306" name="_s1028"/>
            <p:cNvCxnSpPr>
              <a:stCxn id="1307" idx="0"/>
              <a:endCxn id="1308" idx="5"/>
            </p:cNvCxnSpPr>
            <p:nvPr/>
          </p:nvCxnSpPr>
          <p:spPr>
            <a:xfrm flipV="1" rot="16200000">
              <a:off x="5879880" y="1576800"/>
              <a:ext cx="1071000" cy="358128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09" name="_s1029"/>
            <p:cNvCxnSpPr>
              <a:stCxn id="1310" idx="0"/>
              <a:endCxn id="1308" idx="4"/>
            </p:cNvCxnSpPr>
            <p:nvPr/>
          </p:nvCxnSpPr>
          <p:spPr>
            <a:xfrm flipV="1" rot="16200000">
              <a:off x="5164920" y="2291760"/>
              <a:ext cx="1071000" cy="215172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1" name="_s1030"/>
            <p:cNvCxnSpPr>
              <a:stCxn id="1312" idx="0"/>
              <a:endCxn id="1308" idx="3"/>
            </p:cNvCxnSpPr>
            <p:nvPr/>
          </p:nvCxnSpPr>
          <p:spPr>
            <a:xfrm flipV="1" rot="16200000">
              <a:off x="4448880" y="3007800"/>
              <a:ext cx="1071000" cy="71964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3" name="_s1031"/>
            <p:cNvCxnSpPr>
              <a:stCxn id="1314" idx="0"/>
              <a:endCxn id="1308" idx="2"/>
            </p:cNvCxnSpPr>
            <p:nvPr/>
          </p:nvCxnSpPr>
          <p:spPr>
            <a:xfrm flipH="1" flipV="1" rot="5400000">
              <a:off x="3732840" y="3010680"/>
              <a:ext cx="1071000" cy="71388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5" name="_s1032"/>
            <p:cNvCxnSpPr>
              <a:stCxn id="1316" idx="0"/>
              <a:endCxn id="1308" idx="1"/>
            </p:cNvCxnSpPr>
            <p:nvPr/>
          </p:nvCxnSpPr>
          <p:spPr>
            <a:xfrm flipH="1" flipV="1" rot="5400000">
              <a:off x="3016800" y="2294640"/>
              <a:ext cx="1071000" cy="214632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cxnSp>
          <p:nvCxnSpPr>
            <p:cNvPr id="1317" name="_s1033"/>
            <p:cNvCxnSpPr>
              <a:stCxn id="1318" idx="0"/>
              <a:endCxn id="1308" idx="0"/>
            </p:cNvCxnSpPr>
            <p:nvPr/>
          </p:nvCxnSpPr>
          <p:spPr>
            <a:xfrm flipH="1" flipV="1" rot="5400000">
              <a:off x="2300400" y="1578240"/>
              <a:ext cx="1071000" cy="3578760"/>
            </a:xfrm>
            <a:prstGeom prst="bentConnector3">
              <a:avLst>
                <a:gd name="adj1" fmla="val 13920"/>
              </a:avLst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308" name="_s1034"/>
            <p:cNvSpPr/>
            <p:nvPr/>
          </p:nvSpPr>
          <p:spPr>
            <a:xfrm>
              <a:off x="4011120" y="69228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ac2c0"/>
                </a:gs>
                <a:gs pos="50000">
                  <a:srgbClr val="757868"/>
                </a:gs>
                <a:gs pos="100000">
                  <a:srgbClr val="9ac2c0"/>
                </a:gs>
              </a:gsLst>
              <a:lin ang="8100000"/>
            </a:gradFill>
            <a:ln w="3240">
              <a:solidFill>
                <a:srgbClr val="9ac2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ГРАФИК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АРШРУТ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_s1035"/>
            <p:cNvSpPr/>
            <p:nvPr/>
          </p:nvSpPr>
          <p:spPr>
            <a:xfrm>
              <a:off x="43164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_s1036"/>
            <p:cNvSpPr/>
            <p:nvPr/>
          </p:nvSpPr>
          <p:spPr>
            <a:xfrm>
              <a:off x="186372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СК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_s1037"/>
            <p:cNvSpPr/>
            <p:nvPr/>
          </p:nvSpPr>
          <p:spPr>
            <a:xfrm>
              <a:off x="329616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ФИ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_s1038"/>
            <p:cNvSpPr/>
            <p:nvPr/>
          </p:nvSpPr>
          <p:spPr>
            <a:xfrm>
              <a:off x="472860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ВАРН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_s1039"/>
            <p:cNvSpPr/>
            <p:nvPr/>
          </p:nvSpPr>
          <p:spPr>
            <a:xfrm>
              <a:off x="6161040" y="3903120"/>
              <a:ext cx="122760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ОСКВ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_s1040"/>
            <p:cNvSpPr/>
            <p:nvPr/>
          </p:nvSpPr>
          <p:spPr>
            <a:xfrm>
              <a:off x="7593480" y="3903120"/>
              <a:ext cx="1226160" cy="2140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d4f45"/>
                </a:gs>
                <a:gs pos="50000">
                  <a:srgbClr val="757868"/>
                </a:gs>
                <a:gs pos="100000">
                  <a:srgbClr val="4d4f45"/>
                </a:gs>
              </a:gsLst>
              <a:lin ang="8100000"/>
            </a:gradFill>
            <a:ln w="3240">
              <a:solidFill>
                <a:srgbClr val="4d4f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ОЧ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5000">
    <p:wedge/>
    <p:sndAc>
      <p:stSnd>
        <p:snd r:embed="rId1" name="hammer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График маршру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20" name=""/>
          <p:cNvGraphicFramePr/>
          <p:nvPr/>
        </p:nvGraphicFramePr>
        <p:xfrm>
          <a:off x="324000" y="1676520"/>
          <a:ext cx="8518320" cy="5030640"/>
        </p:xfrm>
        <a:graphic>
          <a:graphicData uri="http://schemas.openxmlformats.org/drawingml/2006/table">
            <a:tbl>
              <a:tblPr/>
              <a:tblGrid>
                <a:gridCol w="1555560"/>
                <a:gridCol w="2075040"/>
                <a:gridCol w="4887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Врем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Cyr"/>
                        </a:rPr>
                        <a:t>Соб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Со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,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Моск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Соф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6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Соф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Варн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Вар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Москв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/10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Размещение в гостинице в Москв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 ию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ылет из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рибытие в Со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5000">
    <p:wedge/>
    <p:sndAc>
      <p:stSnd>
        <p:snd r:embed="rId1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17:23:07Z</dcterms:created>
  <dc:creator>Сергей</dc:creator>
  <dc:description/>
  <dc:language>en-US</dc:language>
  <cp:lastModifiedBy>Танюшка</cp:lastModifiedBy>
  <dcterms:modified xsi:type="dcterms:W3CDTF">2010-12-08T08:31:06Z</dcterms:modified>
  <cp:revision>12</cp:revision>
  <dc:subject/>
  <dc:title>Слайд 1</dc:title>
</cp:coreProperties>
</file>