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hammer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80B-3CC0-49C2-9C60-5E3925E5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2BA-8521-44BE-B75C-D3600C2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47CAB-110D-40EE-951D-D53939E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56FC8-E7D1-4428-8A4C-1BDD873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10582-55FB-492E-93B6-C5498741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4E2F-32D0-4A16-98F2-AF69B50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27C24-7AEB-47F9-A5E0-6AD1D36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AD027-7279-45EB-A0E4-F73F510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95751-D145-4CC3-B539-C73F4D4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5E49B-B10D-435A-9B6D-F293D626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4BE84-E660-43C5-B61B-65004224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94727C-3FCE-411E-9118-1FEB9F3E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15A-9102-431F-A8D3-44075CA5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F22937-ADAF-4A3F-B5A9-D0F05B3C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B97D5-27C0-4D52-AAF0-F29DCD1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B03D6-7F3D-424E-98D2-59E78CD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2ED7A9-80E4-48B4-BAA3-67F4068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D9110C-A894-40E1-B653-6E2C6C6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7B096-896F-4431-BFA2-ACB407E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F67B3-5EDD-4179-B743-8B309DB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CECBFF-C069-4501-ADDE-808A5B6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3AF88E-6707-4850-855A-287D448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C036D-9FCC-4881-A1F6-C41287DD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EAB-AE08-4DE2-896B-CCD4B496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A04435-4ABE-4280-A65D-3A3CC2A2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A94B23-0663-48EF-B308-BB254EF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EC01C-E682-4C8C-9778-7C89D77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A81730-0BDC-4190-A9E6-196FA210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A931FD-D8C3-4192-B7A1-BFF3014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BE3EC9-5D0D-4F29-BEB8-8B8FD27D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46998-55D4-49AF-8B3F-5D687482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E32C20-D669-43C2-9DD3-DD452A1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16122C-EEBB-48DA-A2AD-F9F15B6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F5042E-9F9B-4E94-B8C5-10B39EF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D82E-32EB-4EB3-9A86-84F616D5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95A43-8C48-4B36-9964-04F4411F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56A95E-31D6-45BA-A499-D502A4B4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20A2A1-16CA-4414-B2D9-63CAF850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6C27-7E75-4E1A-8AE4-F5A171A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1C0DB-D622-4335-B9B2-1917A23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15420-4DD2-431A-B16F-610A3DF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A4815-0BEB-4D9E-B5AB-B1C5A2A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01ACE-9646-45DD-B998-75891AA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87AA7-982D-4DAC-A7E0-23126B7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4EBA-901F-4062-A8FC-057C9CD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332F-7966-4974-83E5-9B9A3046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63C99-3158-42B5-8D9C-D06AD144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5293A-2D6A-47A4-B96E-F9435A3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D3FBB-2330-4827-BE64-D38F3C0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4C8DD-68A5-44B3-A7CF-5682E502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B5C3D-6857-4EEA-BD12-FCFDEF82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4BE3B-821D-4F7C-9CAF-24286F2B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77820-4661-40D2-8F61-237A99C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96A3D-70BE-4DC8-A3E8-0CA7691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B8D98-2CC5-4839-B8AC-45A9300C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41B0E-7C87-4319-BDE1-E916893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986-50AA-4B3A-8A41-C552B9E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EE2B4-DD50-434B-ABFE-840625DB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9D57B-FACD-4794-93EB-3BB0F0D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0C8D0-BBAE-49B3-B382-E7DC99D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91056-07DB-471B-98D3-1997C284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13576-6016-4BC1-A979-FD30D5B7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DD875-4ACE-4BED-BB93-62FA44C5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EDE80-5525-40A8-9D70-903E65D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31F1C-9D4B-4327-87C3-20E724F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9D1D6-5E4A-4921-9BEA-53B5A5AE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7520F-4FE3-434F-B0A4-8903D77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E378-3D75-4539-82CF-234D0A7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754E4-746A-4007-936C-12B2EB0F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1D599-B4E4-4E58-A9B7-CEB4EA6F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B683E-892B-496C-AEC3-2770845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2D17C-EB16-434E-921B-81483A1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2B9CA-7901-4FA9-BDCD-59CA010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40755-2255-4C4D-86CA-EC12685B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CEB3C-80C3-4807-8C3C-74C53B4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51CA5-CB2B-4D45-BC57-47002629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335F8-CA8F-4EE8-A530-BDE69E69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589A2-01E5-43FB-977A-4D9BA6F7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0731-B736-408B-8729-5764544A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BF5B4-B7F3-426A-AFE3-E07E82A9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4E9C6-FB8A-4AB0-93C2-89E2DD7A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000D0-F40F-41BB-9036-84F90E7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DE211-7956-4F92-A8C1-254243B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33DF0-30AC-440C-A127-3321DFD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00D87-6124-46F2-830B-9DFB971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6BF99-8F30-4653-B64B-18FFDD1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11325-A568-4214-9478-5D4A95C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1BE0C-E280-4DB6-9496-66119E3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571AA-BC0E-4790-9D8C-014EAF2E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CB4-26F9-40C0-B529-B2B4F765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5E85A-2E3B-41BF-A930-B4F835D5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7EF3F-EF32-4FBC-AB7C-5733C3A0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5864C-E345-4EF9-A6AE-8507255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3E2FB-6305-4DC7-A1F5-C3D88E1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8E345-6FD9-4DB4-AF15-B81F302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1305B-C1B1-4419-8910-93434EA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BC822-E250-4F94-B25B-E4E385E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24447-D97E-465E-9591-2531D57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18329-D9CC-4935-ADF9-FFC141E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1DF8B-EA28-4681-98A4-43DBD60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DC5A-2930-4F31-BFE9-E1FE898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2A527-3189-4F42-BFFA-1F99018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99DCC-5667-4BE4-97A8-899C85D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CDB58-B8E9-46F0-B229-7D8E7D18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180-7F18-4C05-8B34-0672C9A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E5D9-18F2-492F-A9C8-987BAC9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B684-B782-4D59-83AA-B2A3AE8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3FB-CE2D-4EC0-B4B3-4BCC431B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5D09-EA61-4DF6-924E-A5F1A517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D3D7-3896-47C6-B850-BD86E176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9D4A-F8B9-4526-89C0-C901F1B2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68C2-A34A-4121-B488-999B115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9B5D-EDF9-46C2-A52C-E32D62FC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B54E-3E08-4F21-B3C3-D3282BE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5A0F-66A7-4669-A34D-B4FA626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81C-67B0-4337-A138-51FEB4B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8005-216D-49DA-8AB3-A7ACFCB0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1870-94BF-423A-8315-954D76C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B588-FF3D-4874-B445-D7177F2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B16E-23A2-41F5-AB3E-A79EB24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29F2-F7DA-48F7-A9E5-ABF9F17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A7AB-7E76-43C4-9A2E-8A517356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14CC-36CF-4F17-98FA-51DAF8EB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C532-7C10-4181-857D-47787B32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8823-1157-4381-A6BF-187EE284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D382-3B2F-47CD-9C9D-96937AC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A12-F9F8-4831-B58A-CE280DC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FC82-EE55-4468-B8E3-B13FC2B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69D1-90F2-4180-B41D-1414F9B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4D3F-2D22-45CA-AC1D-A8F00A8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B0D5-8A7F-410F-BBCE-E9745AA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98C7-1D94-4C7F-A360-D71C50D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995F-3941-40B6-9257-E42F2FF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BC0E-9B31-41C8-96FC-6264B21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AAFE-9FAB-424C-A348-ABDDA6F4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0A81-C7E6-4807-92BB-D407523B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1D34-97E3-4855-A447-A94D449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5A5-5094-4984-9B59-9CDAEB7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316F-7AC9-4840-A616-D59EA97B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95A4-8833-43A1-A78E-132BE63D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2B2F-13E4-4043-8816-24AA6396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0B22-987A-46A6-AE27-C65B878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F2D1-C0E4-4A13-BEE3-093C469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08A35-91F5-4235-80EA-E9811FC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9478-F2F4-4379-98ED-C5175ABF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B0FE-41DE-4FCA-BFE1-15365E9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125D-E1E9-45E2-8176-60BCF6A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E133-9C62-4EA0-9A02-660AA41E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AB8-6AA5-4ACC-93FB-E2AE9B7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270F-513C-4063-B53A-5131E0F5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4ACD0-774D-4545-8B28-ED575061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CC275-2C74-42AA-8BA8-493E0E2B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1486A-EDC9-4CCB-91C1-BE867F1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DB601-FC13-42BA-A7D1-8236AA71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F917E-19EA-484F-A33C-A741BE2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C3CB9-F429-45E1-8517-5CE1B53C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B0E1E-B446-489E-8655-C44B15D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5D229-93B2-421E-9A02-9AF14E9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F4995-3DE1-45F6-AD99-23E0B72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01E-06BD-4039-9820-B2C91A0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8A952-90D7-4209-A1ED-E6B1F2D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AA404-9E61-4DD1-BD6E-E687EDA5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2747B-34A8-4F09-9B79-27596687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50DD-2CE3-4F51-A58D-209D4C7F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7C4E-8F01-4070-B80C-D6EB9737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8243F-4F6A-43D6-9586-78A32A99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122F2-EEAA-46B8-B86C-D00E1E1F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5A59-BA87-4A40-A70C-67B6C02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6F39-54CE-40BB-8306-80956E1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8B64-387E-4EB2-B02E-1568A9F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E5D-793C-44D5-A65D-FB39703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B18E-E7C1-4363-AF0F-32DAD2A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0367-C370-4355-828C-6F5ECBB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866A-8B64-42A7-8F94-BC2389A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4101-74E3-417D-87B5-E72F4539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214BD-22EB-4D68-936A-6082AFCB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8CCAC-37FB-4E6A-BA3F-42E836DD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1581-BE4A-4057-AAAF-2123ADC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ADF6C-6B73-4845-95C0-9290F34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851A-3CD8-40A2-941B-2A0E654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CEE5-D0EF-4A34-AA75-444F292C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6CE-857F-4CAC-B8B5-6F582A0E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8ABA-6F2F-4604-8DDD-EA58341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2AE32-BF69-4C81-B906-F7B0B46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A17F7-310A-48FA-A573-7F4B5C3B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E5A0-05F7-4902-96F1-C5E7670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E540-EBDC-466C-B944-E2270D50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4254-1818-4281-B271-DD62EB34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31949-A919-4E27-AE3C-009A7082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4026F-B000-40AA-B178-0F6317B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31C1F-7BE0-4EFF-8FBA-B066338E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29B18-A08B-4A55-838C-9309CCBC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5B68-B0D9-408B-9436-5126DB0282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774-5C60-4679-9E05-61A6DAC65C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2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2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EE9-2CAD-4A82-A211-BE426E9B1F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8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78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8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9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89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F6B-E0B4-4348-BA5C-42B72DFB5A4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89F-1517-49E6-A4BA-C89CA533B6D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1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F974-1F44-4E26-97FF-353A0E35E8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6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6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6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6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6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07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7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7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0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0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5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5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6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0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117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7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1178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C1F-23B3-43E9-8EB3-6BDF9EA299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2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22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22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DBD3-FFE1-489E-9105-1A88BA83A30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6E5-42F9-43DC-86F9-3B04F6839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CDD-09C4-4665-AFA5-99EBECEB9D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DB73-F520-4F54-85C8-6FDE2BA6ADB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2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2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529-6380-42E7-8DBF-31A31294DE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AB4-F294-48E5-B251-C07F3039FF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4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6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8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1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2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3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4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5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6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2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3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5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21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2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5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4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5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1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2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795-B30D-4DE5-B7DD-F6A5181B0B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451-E207-426F-BFB9-F2EA764771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D2B9-3FBC-4350-A98D-2030C2DC3D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Министерство образования и науки РФ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</a:rPr>
              <a:t>С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очинский Государственный Университет Туризма и Курортного Дела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Институт Экономики и Менеджмента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ОТЧЕТ 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Вариант 12</a:t>
            </a:r>
            <a:br>
              <a:rPr sz="36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066680" y="3573000"/>
            <a:ext cx="369576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удент 3 кур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ы  06-ВЭ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лихов Михаил Юрь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ahoma"/>
              </a:rPr>
              <a:t>Файл отчета – Отчет_Пелихов_в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914720" y="3716280"/>
            <a:ext cx="36954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рил: к.э.н., доц. Терентьев И.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 Black"/>
              </a:rPr>
              <a:t>ПОЖЕЛАНИЯ АВТОР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347640" y="1744560"/>
            <a:ext cx="56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олгария, которую Вы откроете для себя благодаря этому путешествию, поразит Вас своей сказочной природой, богатой культурой, изысканными памятниками древней истории и архитектуры. Посетив ее однажды, Вы захотите возвращаться сюда снова и снова, в поисках неизведанных мест, новых открытий и впечатлений и пусть это станет для Вас доброй традицией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ългария, която вие ще отворите с себе си поради това пътуване, ще ви учуди с фантастичната природа, богатата култура, рафинираните паметници на древна история и архитектура. Посетили сте го веднъж, вие искате да се завърнете тук отново и отново, в търсения на новите места, нови начални и впечатления и фал то става с вас вид традиция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3" name="Picture 7" descr="Фото Пелихов"/>
          <p:cNvPicPr/>
          <p:nvPr/>
        </p:nvPicPr>
        <p:blipFill>
          <a:blip r:embed="rId1"/>
          <a:stretch/>
        </p:blipFill>
        <p:spPr>
          <a:xfrm>
            <a:off x="611280" y="20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БОЛГАРИЯ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05360" y="1981080"/>
            <a:ext cx="370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Болгария обладает красивой природой, развитой экскурсионной базой, тёплым мягким климатом и таким же морем.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ак что сегодня страна остаётся одним из лучших вариантов сравнительно недорогого семейного отдыха — особенно с детьми.</a:t>
            </a: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0" name="Group 13"/>
          <p:cNvGrpSpPr/>
          <p:nvPr/>
        </p:nvGrpSpPr>
        <p:grpSpPr>
          <a:xfrm>
            <a:off x="1116000" y="2276640"/>
            <a:ext cx="3887640" cy="3313080"/>
            <a:chOff x="1116000" y="2276640"/>
            <a:chExt cx="3887640" cy="3313080"/>
          </a:xfrm>
        </p:grpSpPr>
        <p:pic>
          <p:nvPicPr>
            <p:cNvPr id="1281" name="Picture 14" descr="C:\Documents and Settings\Сергей\Рабочий стол\Интернет тур\Описание страны\Болгария - описание3.files\spring.jpg"/>
            <p:cNvPicPr/>
            <p:nvPr/>
          </p:nvPicPr>
          <p:blipFill>
            <a:blip r:embed="rId1"/>
            <a:stretch/>
          </p:blipFill>
          <p:spPr>
            <a:xfrm>
              <a:off x="311724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15" descr="C:\Documents and Settings\Сергей\Рабочий стол\Интернет тур\Описание страны\Болгария - описание3.files\summer.jpg"/>
            <p:cNvPicPr/>
            <p:nvPr/>
          </p:nvPicPr>
          <p:blipFill>
            <a:blip r:embed="rId2"/>
            <a:stretch/>
          </p:blipFill>
          <p:spPr>
            <a:xfrm>
              <a:off x="111600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16" descr="C:\Documents and Settings\Сергей\Рабочий стол\Интернет тур\Описание страны\Болгария - описание3.files\winter.jpg"/>
            <p:cNvPicPr/>
            <p:nvPr/>
          </p:nvPicPr>
          <p:blipFill>
            <a:blip r:embed="rId3"/>
            <a:stretch/>
          </p:blipFill>
          <p:spPr>
            <a:xfrm>
              <a:off x="311724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7" descr="C:\Documents and Settings\Сергей\Рабочий стол\Интернет тур\Описание страны\Болгария - описание3.files\autumn.jpg"/>
            <p:cNvPicPr/>
            <p:nvPr/>
          </p:nvPicPr>
          <p:blipFill>
            <a:blip r:embed="rId4"/>
            <a:stretch/>
          </p:blipFill>
          <p:spPr>
            <a:xfrm>
              <a:off x="111600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edge/>
    <p:sndAc>
      <p:stSnd>
        <p:snd r:embed="rId5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СОФИЯ  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анная семь тысяч лет наза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фия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– второй старейший город Евр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Софии в избытке находятся музе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огатая и разнообразная история, великолепная горная природа, целый спектр достопримечательностей и масса культурных событий делает Софию городом, привлекательным для истинных любителей путешеств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HOTEL CENTRAL****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 расположен в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амом центре Софи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, рядом со всеми главными достопримечательно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омера современные, хорошо оборудованы. В номерах все высокого качества, они оформлены со вкусом и приравнены к номерам лучших отелей Западной Европ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7" name="Picture 13" descr="C:\Documents and Settings\Сергей\Рабочий стол\Интернет тур\София\фото вид спереди.files\375852.jpg"/>
          <p:cNvPicPr/>
          <p:nvPr/>
        </p:nvPicPr>
        <p:blipFill>
          <a:blip r:embed="rId1"/>
          <a:stretch/>
        </p:blipFill>
        <p:spPr>
          <a:xfrm>
            <a:off x="5335560" y="4425840"/>
            <a:ext cx="3252960" cy="165744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17" descr="Фото Болгария : София : София"/>
          <p:cNvPicPr/>
          <p:nvPr/>
        </p:nvPicPr>
        <p:blipFill>
          <a:blip r:embed="rId2"/>
          <a:stretch/>
        </p:blipFill>
        <p:spPr>
          <a:xfrm>
            <a:off x="5435640" y="1628640"/>
            <a:ext cx="2997000" cy="21351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dceb9"/>
                </a:solidFill>
                <a:uFillTx/>
                <a:latin typeface="Arial"/>
              </a:rPr>
              <a:t>ЭКСКУРСИИ В СОФИ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0" name="Picture 11" descr="Dragalevtsi Monastery"/>
          <p:cNvPicPr/>
          <p:nvPr/>
        </p:nvPicPr>
        <p:blipFill>
          <a:blip r:embed="rId1"/>
          <a:stretch/>
        </p:blipFill>
        <p:spPr>
          <a:xfrm>
            <a:off x="755640" y="3573360"/>
            <a:ext cx="1636560" cy="2257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0" descr="Фото Болгария : София : Церковь Александра Невского"/>
          <p:cNvPicPr/>
          <p:nvPr/>
        </p:nvPicPr>
        <p:blipFill>
          <a:blip r:embed="rId2"/>
          <a:stretch/>
        </p:blipFill>
        <p:spPr>
          <a:xfrm>
            <a:off x="2843280" y="1557360"/>
            <a:ext cx="1977840" cy="183204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1. «София» - обзорная экскурсия по городу с гидом, на микроавтобусе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2. Экскурсия по монастырям в окрестностях Софии на микроавтобус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13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  <p:sndAc>
      <p:stSnd>
        <p:snd r:embed="rId3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6600"/>
                </a:solidFill>
                <a:uFillTx/>
                <a:latin typeface="Tahoma"/>
              </a:rPr>
              <a:t>ВАР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ый портовый город Варна издавна привлекает туристов своей красотой и изумительным расположением на берегу Черного мор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на - жемчужина черноморского побережья Болг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амом сердце Варны расположен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RAND HOTEL MUSALA PALACE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*****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ютный, респектабельный, один из старейших отелей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6" name="FotoHotel" descr="Musala Palace Hotel Varna (Bulgaria) - 9000 3 Musala Str."/>
          <p:cNvPicPr/>
          <p:nvPr/>
        </p:nvPicPr>
        <p:blipFill>
          <a:blip r:embed="rId1"/>
          <a:stretch/>
        </p:blipFill>
        <p:spPr>
          <a:xfrm>
            <a:off x="4932360" y="3559320"/>
            <a:ext cx="3152880" cy="19065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8" descr="Пляжи Варны"/>
          <p:cNvPicPr/>
          <p:nvPr/>
        </p:nvPicPr>
        <p:blipFill>
          <a:blip r:embed="rId2"/>
          <a:stretch/>
        </p:blipFill>
        <p:spPr>
          <a:xfrm>
            <a:off x="5003640" y="1197000"/>
            <a:ext cx="2979720" cy="22352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КСКУРСИИ В ВАРН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Аладжа монастырь. Вечерняя Вар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Варна-дельфина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1" name="Picture 7" descr="Аладжа 2"/>
          <p:cNvPicPr/>
          <p:nvPr/>
        </p:nvPicPr>
        <p:blipFill>
          <a:blip r:embed="rId1"/>
          <a:stretch/>
        </p:blipFill>
        <p:spPr>
          <a:xfrm>
            <a:off x="900000" y="3357720"/>
            <a:ext cx="1871640" cy="130644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varna1web"/>
          <p:cNvPicPr/>
          <p:nvPr/>
        </p:nvPicPr>
        <p:blipFill>
          <a:blip r:embed="rId2"/>
          <a:stretch/>
        </p:blipFill>
        <p:spPr>
          <a:xfrm>
            <a:off x="900000" y="479736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http://www.bolgaria-tour.ru/files/travels/136/1.jpg"/>
          <p:cNvPicPr/>
          <p:nvPr/>
        </p:nvPicPr>
        <p:blipFill>
          <a:blip r:embed="rId3"/>
          <a:stretch/>
        </p:blipFill>
        <p:spPr>
          <a:xfrm>
            <a:off x="3708360" y="3357720"/>
            <a:ext cx="4776840" cy="3016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4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4" name=""/>
          <p:cNvGraphicFramePr/>
          <p:nvPr/>
        </p:nvGraphicFramePr>
        <p:xfrm>
          <a:off x="395280" y="189000"/>
          <a:ext cx="8209080" cy="6610320"/>
        </p:xfrm>
        <a:graphic>
          <a:graphicData uri="http://schemas.openxmlformats.org/drawingml/2006/table">
            <a:tbl>
              <a:tblPr/>
              <a:tblGrid>
                <a:gridCol w="711360"/>
                <a:gridCol w="2387520"/>
                <a:gridCol w="1276200"/>
                <a:gridCol w="1278000"/>
                <a:gridCol w="1278000"/>
                <a:gridCol w="127800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ТОИМОСТЬ 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ев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ВИАПЕРЕЛЕ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7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21,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1,3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26,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-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4,7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5,8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7,32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9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3,2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7,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68,1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ч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2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27,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64,5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05,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ПРОЖИ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00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9,7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75,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669,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9,5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0,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24,2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47,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9,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2,21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6,41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618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95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2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36,0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ЭКСКУРС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зор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48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0,00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9,63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монастыря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95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8,26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1,65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ладжа - Вечерня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98,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4,00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9,7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льфинар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87,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9,30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0,58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029,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1,58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01,5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,94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,119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стоим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,4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79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39,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округленная ст-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Organization Chart 35"/>
          <p:cNvGrpSpPr/>
          <p:nvPr/>
        </p:nvGrpSpPr>
        <p:grpSpPr>
          <a:xfrm>
            <a:off x="431640" y="692280"/>
            <a:ext cx="8388000" cy="5351400"/>
            <a:chOff x="431640" y="692280"/>
            <a:chExt cx="8388000" cy="5351400"/>
          </a:xfrm>
        </p:grpSpPr>
        <p:cxnSp>
          <p:nvCxnSpPr>
            <p:cNvPr id="1306" name="_s1028"/>
            <p:cNvCxnSpPr>
              <a:stCxn id="1307" idx="0"/>
              <a:endCxn id="1308" idx="5"/>
            </p:cNvCxnSpPr>
            <p:nvPr/>
          </p:nvCxnSpPr>
          <p:spPr>
            <a:xfrm flipV="1" rot="16200000">
              <a:off x="5879880" y="1576800"/>
              <a:ext cx="1071000" cy="35812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09" name="_s1029"/>
            <p:cNvCxnSpPr>
              <a:stCxn id="1310" idx="0"/>
              <a:endCxn id="1308" idx="4"/>
            </p:cNvCxnSpPr>
            <p:nvPr/>
          </p:nvCxnSpPr>
          <p:spPr>
            <a:xfrm flipV="1" rot="16200000">
              <a:off x="5164920" y="2291760"/>
              <a:ext cx="1071000" cy="21517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1" name="_s1030"/>
            <p:cNvCxnSpPr>
              <a:stCxn id="1312" idx="0"/>
              <a:endCxn id="1308" idx="3"/>
            </p:cNvCxnSpPr>
            <p:nvPr/>
          </p:nvCxnSpPr>
          <p:spPr>
            <a:xfrm flipV="1" rot="16200000">
              <a:off x="4448880" y="3007800"/>
              <a:ext cx="1071000" cy="71964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3" name="_s1031"/>
            <p:cNvCxnSpPr>
              <a:stCxn id="1314" idx="0"/>
              <a:endCxn id="1308" idx="2"/>
            </p:cNvCxnSpPr>
            <p:nvPr/>
          </p:nvCxnSpPr>
          <p:spPr>
            <a:xfrm flipH="1" flipV="1" rot="5400000">
              <a:off x="3732840" y="3010680"/>
              <a:ext cx="1071000" cy="7138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5" name="_s1032"/>
            <p:cNvCxnSpPr>
              <a:stCxn id="1316" idx="0"/>
              <a:endCxn id="1308" idx="1"/>
            </p:cNvCxnSpPr>
            <p:nvPr/>
          </p:nvCxnSpPr>
          <p:spPr>
            <a:xfrm flipH="1" flipV="1" rot="5400000">
              <a:off x="3016800" y="2294640"/>
              <a:ext cx="1071000" cy="21463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7" name="_s1033"/>
            <p:cNvCxnSpPr>
              <a:stCxn id="1318" idx="0"/>
              <a:endCxn id="1308" idx="0"/>
            </p:cNvCxnSpPr>
            <p:nvPr/>
          </p:nvCxnSpPr>
          <p:spPr>
            <a:xfrm flipH="1" flipV="1" rot="5400000">
              <a:off x="2300400" y="1578240"/>
              <a:ext cx="1071000" cy="357876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08" name="_s1034"/>
            <p:cNvSpPr/>
            <p:nvPr/>
          </p:nvSpPr>
          <p:spPr>
            <a:xfrm>
              <a:off x="4011120" y="69228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ac2c0"/>
                </a:gs>
                <a:gs pos="50000">
                  <a:srgbClr val="757868"/>
                </a:gs>
                <a:gs pos="100000">
                  <a:srgbClr val="9ac2c0"/>
                </a:gs>
              </a:gsLst>
              <a:lin ang="8100000"/>
            </a:gradFill>
            <a:ln w="3240">
              <a:solidFill>
                <a:srgbClr val="9ac2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РАФИК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АРШРУ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_s1035"/>
            <p:cNvSpPr/>
            <p:nvPr/>
          </p:nvSpPr>
          <p:spPr>
            <a:xfrm>
              <a:off x="4316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_s1036"/>
            <p:cNvSpPr/>
            <p:nvPr/>
          </p:nvSpPr>
          <p:spPr>
            <a:xfrm>
              <a:off x="186372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_s1037"/>
            <p:cNvSpPr/>
            <p:nvPr/>
          </p:nvSpPr>
          <p:spPr>
            <a:xfrm>
              <a:off x="329616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ФИ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_s1038"/>
            <p:cNvSpPr/>
            <p:nvPr/>
          </p:nvSpPr>
          <p:spPr>
            <a:xfrm>
              <a:off x="472860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ВАРН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_s1039"/>
            <p:cNvSpPr/>
            <p:nvPr/>
          </p:nvSpPr>
          <p:spPr>
            <a:xfrm>
              <a:off x="61610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_s1040"/>
            <p:cNvSpPr/>
            <p:nvPr/>
          </p:nvSpPr>
          <p:spPr>
            <a:xfrm>
              <a:off x="7593480" y="3903120"/>
              <a:ext cx="122616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5000">
    <p:wedge/>
    <p:sndAc>
      <p:stSnd>
        <p:snd r:embed="rId1" name="hamme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 маршру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24000" y="1676520"/>
          <a:ext cx="8518320" cy="5030640"/>
        </p:xfrm>
        <a:graphic>
          <a:graphicData uri="http://schemas.openxmlformats.org/drawingml/2006/table">
            <a:tbl>
              <a:tblPr/>
              <a:tblGrid>
                <a:gridCol w="1555560"/>
                <a:gridCol w="2075040"/>
                <a:gridCol w="4887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ф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Вар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Ва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/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азмещение в гостинице в Моск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23:07Z</dcterms:created>
  <dc:creator>Сергей</dc:creator>
  <dc:description/>
  <dc:language>en-US</dc:language>
  <cp:lastModifiedBy>Танюшка</cp:lastModifiedBy>
  <dcterms:modified xsi:type="dcterms:W3CDTF">2010-12-08T08:31:06Z</dcterms:modified>
  <cp:revision>12</cp:revision>
  <dc:subject/>
  <dc:title>Слайд 1</dc:title>
</cp:coreProperties>
</file>