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58B2-C1CB-45B2-9442-F06FC0B6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B5C2-D7B2-40B4-BEFD-4D622586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46B-1783-4392-8796-28724A34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26C3-9FDE-4560-9476-5CCAD0AC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34DD-32B4-475C-B920-25C98039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2E7C-8EE6-4718-A114-DAC16A6E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C717-C856-437F-86C7-696EA024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59BC-9B2B-4051-8B29-9CEA29F8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C7B0-6A94-4A27-9B43-562F0B42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F126-A968-48CC-9009-C7F1D439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D2F1-61D4-4BCD-B883-A6724867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3C5B-67B6-4ACF-AEAD-1211A894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6DA1-5C2D-4F0D-AB15-3B17151E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410E-831A-4332-B506-65CE96C8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25B2-6830-49FB-9800-7151E109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E815-1D80-47E3-802C-9246D649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B880-606F-40F5-AE0A-4F6F2977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D0C7B-9B4E-4C31-BDD0-F08950F4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D2290-007E-493C-A2D4-81C78DB4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BF8C5-923A-4271-BD96-0A4E1950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1CF5D-8DD8-48F5-A4B0-CF26D0CC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1D8BA-4E19-4FD4-B998-1D6E34B7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CDE5-A088-45D9-A171-83042EAD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B27C6-8570-490F-A7D9-B46598E1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B3BF2-FEA7-4A26-BA65-940D6439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E8A25-6C3E-42F5-9B71-8F4E6204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5F7C8-9CD7-42AF-A5A4-E776A891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35499-B8B8-4EBE-A824-A7D16172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31853-4F9D-4A57-8460-3B7FEC29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3DCF2-CE3A-474F-BAB8-43CED1CA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50886-EF59-4B0E-90B7-4923958B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922F0-1455-4255-B92D-547E5692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DC23F-20C2-4A53-9791-962618CC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329A-59F7-4FC8-8C07-0C7878F0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2947E-50C1-43E2-8E2D-AB3FA625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E0CA8-DFD0-47A0-A39E-5E7F3883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DED9B-88F1-4645-9954-A9141842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B8D86-3446-427C-8DDE-4769A756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C4756-380A-4423-BDF1-6984E63B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E99E1-21FB-453F-A578-0AA22EA1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9C873-35EB-48CA-958F-678AF585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D2245-08AD-43B6-976B-736C7A45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43BAA-FDF3-40B5-A049-7E895444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0FCC9-2899-4954-B7BF-0419308B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0465-5330-4507-9464-0CADF8A2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5AA2D-CE63-4810-B624-05CC04C0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A33F6-DFE2-44C6-8805-484DD01A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077DD-FE96-40C1-9714-CC97F85D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30502-6625-4C42-8651-D6D4137F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862B2-75F6-47CE-9C5C-A02C3659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D7F9D-A9FD-4CDF-89FB-F59CBF64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7723B-347E-496C-B2A1-44E5CC60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A5D97-C2F3-4EF2-B99E-CF562F7F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FDDB7-9306-4631-ACC5-60EB8A2E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C6ED6-34CD-4E98-B906-AD9018CC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57C7-E5CC-4F6A-BF47-839A94B9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42502-EFC3-4FB2-8A12-B83F6D1D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B2C4-BAF4-46F6-AB9C-E0AEDF02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A520-CCBF-4193-B65A-65285321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9E25-3EC4-49A0-9457-A183F960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3B2F-5946-4C06-93A5-6B27E825F65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2D74-46BE-480A-AFC0-EDB4FF47233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99DA-518D-4BE1-B8E9-4075435E9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28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A2A1-D867-4D9C-ACF3-23F234E16D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CFD5-57B9-4317-B2FC-58E20425E0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37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06633"/>
                </a:solidFill>
                <a:latin typeface="Garamond"/>
              </a:rPr>
              <a:t>Вплив системи оподаткування підприємства на фінансові результати підприємства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219640" y="4723920"/>
            <a:ext cx="3487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Викон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Лівінчук І. 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Науковий керівни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Викл.-стаж. Бенедик Ю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00000" y="4005360"/>
            <a:ext cx="25718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33"/>
                </a:solidFill>
                <a:latin typeface="Garamond"/>
              </a:rPr>
              <a:t>Система оподаткування </a:t>
            </a:r>
            <a:br>
              <a:rPr sz="3200"/>
            </a:br>
            <a:r>
              <a:rPr b="1" lang="uk-UA" sz="3200" spc="-1" strike="noStrike">
                <a:solidFill>
                  <a:srgbClr val="006633"/>
                </a:solidFill>
                <a:latin typeface="Garamond"/>
              </a:rPr>
              <a:t>     ВАТ “Острозький молокозавод”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Д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одаток на прибуток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лата за земл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Податок з власників транспортних засобів, самохідних машин і механізмі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Збір за геологорозвідувальні роботи, виконані за рахунок державного бюджет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Збір за спеціальне використання природних ресурсі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Збір за забруднення навколишнього природного середовищ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Комунальний податок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Внески на загальнообов'язкове державне соціальне страхуванн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Збір на обов'язкове державне пенсійне страхування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185256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9900"/>
                </a:solidFill>
                <a:latin typeface="Arial"/>
              </a:rPr>
              <a:t>Основні показники експрес-аналізу фінансових результатів ВАТ “Острозький молокозавод” на основі податкових декларацій за 2006-2008 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040" y="1397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50920" y="1916280"/>
          <a:ext cx="8713800" cy="4760640"/>
        </p:xfrm>
        <a:graphic>
          <a:graphicData uri="http://schemas.openxmlformats.org/drawingml/2006/table">
            <a:tbl>
              <a:tblPr/>
              <a:tblGrid>
                <a:gridCol w="2136600"/>
                <a:gridCol w="816120"/>
                <a:gridCol w="815760"/>
                <a:gridCol w="816120"/>
                <a:gridCol w="1014480"/>
                <a:gridCol w="1014480"/>
                <a:gridCol w="1020600"/>
                <a:gridCol w="1079640"/>
              </a:tblGrid>
              <a:tr h="31140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Відхи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Абсолютне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Відносне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007-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008-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007/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008/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ий прибуто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1047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1392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1419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44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6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2,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1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 податків, збор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1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3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8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9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25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4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ахована сума податку на прибу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24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12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19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88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7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9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,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 сплати ПДВ до бюдже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6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94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аховані обов’язкові платеж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56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36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52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79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16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1,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4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Коефіцієнт податкового тис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Arial CYR"/>
                        </a:rPr>
                        <a:t>0,24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Arial CYR"/>
                        </a:rPr>
                        <a:t>0,24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Arial CYR"/>
                        </a:rPr>
                        <a:t>0,24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Arial CYR"/>
                        </a:rPr>
                        <a:t>-0,0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Arial CYR"/>
                        </a:rPr>
                        <a:t>0,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Arial CYR"/>
                        </a:rPr>
                        <a:t>-1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Arial CYR"/>
                        </a:rPr>
                        <a:t>2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ефективності оподатк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4,08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4,14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4,02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0,05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0,1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1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2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00"/>
                </a:solidFill>
                <a:latin typeface="Arial"/>
              </a:rPr>
              <a:t>Показники коефіцієнтів податкового тиску на ВАТ «Острозький молокозавод» </a:t>
            </a:r>
            <a:br>
              <a:rPr sz="2800"/>
            </a:br>
            <a:r>
              <a:rPr b="0" lang="uk-UA" sz="2800" spc="-1" strike="noStrike">
                <a:solidFill>
                  <a:srgbClr val="006600"/>
                </a:solidFill>
                <a:latin typeface="Arial"/>
              </a:rPr>
              <a:t>за 2006-2008 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557360"/>
          <a:ext cx="8785080" cy="4705200"/>
        </p:xfrm>
        <a:graphic>
          <a:graphicData uri="http://schemas.openxmlformats.org/drawingml/2006/table">
            <a:tbl>
              <a:tblPr/>
              <a:tblGrid>
                <a:gridCol w="2670120"/>
                <a:gridCol w="873000"/>
                <a:gridCol w="863640"/>
                <a:gridCol w="792360"/>
                <a:gridCol w="1008000"/>
                <a:gridCol w="1008000"/>
                <a:gridCol w="777960"/>
                <a:gridCol w="792000"/>
              </a:tblGrid>
              <a:tr h="498240">
                <a:tc rowSpan="2">
                  <a:txBody>
                    <a:bodyPr lIns="1800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казн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бсолютне відхилення, тис. грн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ідносне відхилення,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- 20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- 2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/ 20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/ 2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аловий прибуто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7,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2,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9,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4,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,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,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раховані обов’язкові платежі (без врахування страхових внесків (зборів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,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,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,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раховані обов’язкові платежі (з врахуванням страхових внесків (зборів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7,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38,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59,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0,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1,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,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,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 податкового тиску (без врахування страхових внесків (зборів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0,244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0,24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0,24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0,00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0,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-1,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2,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 податкового тиску (із врахуванням страхових внесків (зборів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71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6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81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0,03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14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5,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,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Динаміка податкового та облікового прибутку і податку на прибуток ВАТ «Острозький молокозавод» </a:t>
            </a:r>
            <a:br>
              <a:rPr sz="2400"/>
            </a:b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за 2006-2008 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11280" y="1644480"/>
          <a:ext cx="7993080" cy="456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44480"/>
                    <a:ext cx="7993080" cy="45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Визначення впливу податків, що включаються до валових витрат на фінансовий результат ВАТ «Острозький молокозаво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68360" y="1484280"/>
          <a:ext cx="8291520" cy="5041800"/>
        </p:xfrm>
        <a:graphic>
          <a:graphicData uri="http://schemas.openxmlformats.org/drawingml/2006/table">
            <a:tbl>
              <a:tblPr/>
              <a:tblGrid>
                <a:gridCol w="2425680"/>
                <a:gridCol w="1631880"/>
                <a:gridCol w="2403720"/>
                <a:gridCol w="183024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Факти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 виключенням податків, що входять до валових витр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ідхилення від фактич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иговані валові дохо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4502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і витр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33082,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24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 амортизаційних відрахува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CYR"/>
                        </a:rPr>
                        <a:t>139,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’єкт оподатк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79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19,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84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ток на прибу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9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9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10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ий результат до оподатк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6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тий прибу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7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0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6633"/>
                </a:solidFill>
                <a:latin typeface="Garamond"/>
              </a:rPr>
              <a:t>Шляхи мінімізації податків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Перенесення бази оподаткування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Зниження бази оподаткуванн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Укладення податкової поруки з банк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58616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Оптимізація податкових платежі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2" name="" descr="11"/>
          <p:cNvPicPr/>
          <p:nvPr/>
        </p:nvPicPr>
        <p:blipFill>
          <a:blip r:embed="rId1"/>
          <a:stretch/>
        </p:blipFill>
        <p:spPr>
          <a:xfrm>
            <a:off x="539640" y="1484280"/>
            <a:ext cx="7777440" cy="40053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851280" y="5718240"/>
            <a:ext cx="48243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уникнення штрафних санкцій;</a:t>
            </a:r>
            <a:br>
              <a:rPr sz="2400"/>
            </a:br>
            <a:r>
              <a:rPr b="1" lang="uk-UA" sz="2400" spc="-1" strike="noStrike">
                <a:solidFill>
                  <a:srgbClr val="006633"/>
                </a:solidFill>
                <a:latin typeface="Garamond"/>
              </a:rPr>
              <a:t>уникнення податкової заста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b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156360" y="765000"/>
            <a:ext cx="1635120" cy="16354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132000" y="2492280"/>
            <a:ext cx="504036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якую за увагу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4T21:46:33Z</dcterms:created>
  <dc:creator>Admin</dc:creator>
  <dc:description/>
  <dc:language>en-US</dc:language>
  <cp:lastModifiedBy>Admin</cp:lastModifiedBy>
  <dcterms:modified xsi:type="dcterms:W3CDTF">2009-12-25T01:17:21Z</dcterms:modified>
  <cp:revision>3</cp:revision>
  <dc:subject/>
  <dc:title>Вплив системи оподаткування підприємства на фінансові результати підприємства</dc:title>
</cp:coreProperties>
</file>