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AADB-5A41-4750-A531-CEE602F0F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7675-8201-421B-8B9F-F3B3E249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C241-AB18-4A06-B861-73A779FFF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00A1-3083-4E7F-B104-32E17CBDF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7C53-C4F1-4903-BDFD-70CFA1511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D559-899F-4F88-AD02-E97D71C8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C4890-0B9A-4ED1-A90A-217F6425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6001-3E4A-4CE0-A532-9CA272B1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90C6-2F0A-4739-957E-FE6AF302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A2B1-9217-44F3-94F4-85FCA8F8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E3DE-0E00-4664-BB67-AC9AD100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B767-2248-4FA7-86A8-CF68F1F0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AB98-7BF1-4D3A-9AF6-31B05014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CB12-0642-472C-9634-360A30C9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E986D-D19A-4DF8-864B-1FB8A922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E27E-1AA8-40F8-90C8-A0A04338B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99A7D-4451-4288-8336-F1459D6CB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E58B3-FD40-4E42-BC6A-B34457135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B9642-2F08-4C97-A330-AA497EF6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99E7B-DE2B-471A-AE22-53591E4E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C9799-0CA7-4AE1-B91B-54BAE741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DBD71-0AFD-4429-893D-8466E189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D67E-4304-4BC8-9B29-5CE05ACF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5B860-B5D5-4A28-8710-CD779CBA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1ACAD-9BCD-444E-B2C6-C44B79AC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4CD12-2ADF-4FE4-B3C0-CE7DC9DD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31CE6-0699-45BB-B7AE-3FFDBD7F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3C131-BD81-4306-B2E5-F6B15C18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B6E0F-E034-4139-9883-9CBD153AE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424E8-2634-4764-89AF-E21781A85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9A6F5-D5EA-4A2E-B3DB-6D16E26F2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50773-1A35-45BE-AD9F-3B695206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2FB83-0495-434A-8A76-A33E27C9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8681-FA9A-4AD7-BB5D-9C788277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186CD-A038-40ED-9309-7CAEEC35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C81FC-5538-4567-8533-0C3145BA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BE24F-AC0E-4617-B214-D2E75302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D3771-23D8-49D1-8F97-29E6390B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6ABA3-6553-4A0A-A008-6A649F9B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89F83-1F72-49C9-97B6-A0399D7C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BA895-0E2C-4A2E-8991-415E3325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1D975-7047-40F8-B069-82698E361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849DE-7015-4249-A838-3AC211A75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F37C4-DCFD-4AC4-8AD5-6D6D14BD8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D0A1-28BB-4BF5-9F41-0E173CA6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5669C-8C41-4C09-A8C7-F4BE673A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5F894-4F53-46B8-93B5-7CF69E0A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02238-B70C-4215-BDA2-FF908E7F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36C01-85C9-4028-85C5-AF80FD4B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1A5F0-15ED-48CA-9FE2-ABC54D1F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DA88D-55AA-4963-A6BA-8FA596B6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4574B-9B2B-4E76-9F8A-76DB94E9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CE754-92B2-4499-9436-A2B06744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59CFB-5613-4F2A-85A7-98BBEFB7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72351-93E8-44C4-A3DD-A4B087179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92CE-2EF6-44DD-9CBE-208D3DDA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45417-6316-45A4-8D33-7C6287EA9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74A3-F977-4993-91E4-67E9CB82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9427-6850-47A9-8C31-3E4BBFF8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2D4A-FC38-472B-B74A-46B930D2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A973-0034-4C5F-9555-53BB89C07B9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923A-7778-4BFD-81B4-D1B6D2DF669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BD80-0812-4B3E-857C-9F60AB624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28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EFC0-29D9-4EF3-888D-D9AF78154F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E925-78B1-474E-BB84-255BB09D6F4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13744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006633"/>
                </a:solidFill>
                <a:latin typeface="Garamond"/>
              </a:rPr>
              <a:t>Вплив системи оподаткування підприємства на фінансові результати підприємства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5219640" y="4723920"/>
            <a:ext cx="3487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Викона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Лівінчук І. 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Науковий керівни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Викл.-стаж. Бенедик Ю.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900000" y="4005360"/>
            <a:ext cx="257184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33"/>
                </a:solidFill>
                <a:latin typeface="Garamond"/>
              </a:rPr>
              <a:t>Система оподаткування </a:t>
            </a:r>
            <a:br>
              <a:rPr sz="3200"/>
            </a:br>
            <a:r>
              <a:rPr b="1" lang="uk-UA" sz="3200" spc="-1" strike="noStrike">
                <a:solidFill>
                  <a:srgbClr val="006633"/>
                </a:solidFill>
                <a:latin typeface="Garamond"/>
              </a:rPr>
              <a:t>     ВАТ “Острозький молокозавод”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ПД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Податок на прибуток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Плата за землю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Податок з власників транспортних засобів, самохідних машин і механізмі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Збір за геологорозвідувальні роботи, виконані за рахунок державного бюджету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Збір за спеціальне використання природних ресурсі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Збір за забруднення навколишнього природного середовищ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Комунальний податок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Внески на загальнообов'язкове державне соціальне страхуванн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Збір на обов'язкове державне пенсійне страхування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020000" y="260280"/>
            <a:ext cx="185256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9900"/>
                </a:solidFill>
                <a:latin typeface="Arial"/>
              </a:rPr>
              <a:t>Основні показники експрес-аналізу фінансових результатів ВАТ “Острозький молокозавод” на основі податкових декларацій за 2006-2008 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96040" y="13971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250920" y="1916280"/>
          <a:ext cx="8713800" cy="4760640"/>
        </p:xfrm>
        <a:graphic>
          <a:graphicData uri="http://schemas.openxmlformats.org/drawingml/2006/table">
            <a:tbl>
              <a:tblPr/>
              <a:tblGrid>
                <a:gridCol w="2136600"/>
                <a:gridCol w="816120"/>
                <a:gridCol w="815760"/>
                <a:gridCol w="816120"/>
                <a:gridCol w="1014480"/>
                <a:gridCol w="1014480"/>
                <a:gridCol w="1020600"/>
                <a:gridCol w="1079640"/>
              </a:tblGrid>
              <a:tr h="31140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Показ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Відхил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Абсолютне, тис. 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Відносне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2007-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2008-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2007/ 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2008/ 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овий прибуто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1047,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1392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1419,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344,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26,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32,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1,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а податків, збор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31,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23,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3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-8,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9,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-25,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40,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ахована сума податку на прибу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224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312,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319,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88,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7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39,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2,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а сплати ПДВ до бюдже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0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0,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0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-0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-0,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-61,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-94,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аховані обов’язкові платеж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256,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336,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352,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79,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16,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31,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4,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Коефіцієнт податкового тис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  <a:ea typeface="Arial CYR"/>
                        </a:rPr>
                        <a:t>0,24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  <a:ea typeface="Arial CYR"/>
                        </a:rPr>
                        <a:t>0,24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  <a:ea typeface="Arial CYR"/>
                        </a:rPr>
                        <a:t>0,24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  <a:ea typeface="Arial CYR"/>
                        </a:rPr>
                        <a:t>-0,00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  <a:ea typeface="Arial CYR"/>
                        </a:rPr>
                        <a:t>0,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  <a:ea typeface="Arial CYR"/>
                        </a:rPr>
                        <a:t>-1,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  <a:ea typeface="Arial CYR"/>
                        </a:rPr>
                        <a:t>2,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ефективності оподатк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4,08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4,14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4,02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0,05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-0,11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1,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-2,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00"/>
                </a:solidFill>
                <a:latin typeface="Arial"/>
              </a:rPr>
              <a:t>Показники коефіцієнтів податкового тиску на ВАТ «Острозький молокозавод» </a:t>
            </a:r>
            <a:br>
              <a:rPr sz="2800"/>
            </a:br>
            <a:r>
              <a:rPr b="0" lang="uk-UA" sz="2800" spc="-1" strike="noStrike">
                <a:solidFill>
                  <a:srgbClr val="006600"/>
                </a:solidFill>
                <a:latin typeface="Arial"/>
              </a:rPr>
              <a:t>за 2006-2008 р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50920" y="1557360"/>
          <a:ext cx="8785080" cy="4705200"/>
        </p:xfrm>
        <a:graphic>
          <a:graphicData uri="http://schemas.openxmlformats.org/drawingml/2006/table">
            <a:tbl>
              <a:tblPr/>
              <a:tblGrid>
                <a:gridCol w="2670120"/>
                <a:gridCol w="873000"/>
                <a:gridCol w="863640"/>
                <a:gridCol w="792360"/>
                <a:gridCol w="1008000"/>
                <a:gridCol w="1008000"/>
                <a:gridCol w="777960"/>
                <a:gridCol w="792000"/>
              </a:tblGrid>
              <a:tr h="498240">
                <a:tc rowSpan="2">
                  <a:txBody>
                    <a:bodyPr lIns="1800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казни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бсолютне відхилення, тис. грн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ідносне відхилення,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7- 200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8- 200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7/ 200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8/ 200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аловий прибуток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7,9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2,7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19,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4,8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,3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,9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,8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араховані обов’язкові платежі (без врахування страхових внесків (зборів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6,3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6,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2,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2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8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960"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араховані обов’язкові платежі (з врахуванням страхових внесків (зборів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47,8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38,7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59,9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0,9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1,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,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,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 податкового тиску (без врахування страхових внесків (зборів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0,244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0,24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0,248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-0,003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0,00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-1,3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2,8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 податкового тиску (із врахуванням страхових внесків (зборів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713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67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817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0,039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14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5,5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,2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00"/>
                </a:solidFill>
                <a:latin typeface="Arial"/>
              </a:rPr>
              <a:t>Динаміка податкового та облікового прибутку і податку на прибуток ВАТ «Острозький молокозавод» </a:t>
            </a:r>
            <a:br>
              <a:rPr sz="2400"/>
            </a:br>
            <a:r>
              <a:rPr b="0" lang="uk-UA" sz="2400" spc="-1" strike="noStrike">
                <a:solidFill>
                  <a:srgbClr val="006600"/>
                </a:solidFill>
                <a:latin typeface="Arial"/>
              </a:rPr>
              <a:t>за 2006-2008 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11280" y="1644480"/>
          <a:ext cx="7993080" cy="456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644480"/>
                    <a:ext cx="7993080" cy="45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00"/>
                </a:solidFill>
                <a:latin typeface="Arial"/>
              </a:rPr>
              <a:t>Визначення впливу податків, що включаються до валових витрат на фінансовий результат ВАТ «Острозький молокозавод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68360" y="1484280"/>
          <a:ext cx="8291520" cy="5041800"/>
        </p:xfrm>
        <a:graphic>
          <a:graphicData uri="http://schemas.openxmlformats.org/drawingml/2006/table">
            <a:tbl>
              <a:tblPr/>
              <a:tblGrid>
                <a:gridCol w="2425680"/>
                <a:gridCol w="1631880"/>
                <a:gridCol w="2403720"/>
                <a:gridCol w="1830240"/>
              </a:tblGrid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Фактич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 виключенням податків, що входять до валових витр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ідхилення від фактич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иговані валові доход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34502,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ові витра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33082,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24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0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а амортизаційних відрахува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139,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’єкт оподаткув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79,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19,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840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аток на прибут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9,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29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210,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інансовий результат до оподаткув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6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тий прибут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7,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0,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6633"/>
                </a:solidFill>
                <a:latin typeface="Garamond"/>
              </a:rPr>
              <a:t>Шляхи мінімізації податків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000000"/>
                </a:solidFill>
                <a:latin typeface="Arial"/>
              </a:rPr>
              <a:t>Перенесення бази оподаткування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000000"/>
                </a:solidFill>
                <a:latin typeface="Arial"/>
              </a:rPr>
              <a:t>Зниження бази оподаткуванн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000000"/>
                </a:solidFill>
                <a:latin typeface="Arial"/>
              </a:rPr>
              <a:t>Укладення податкової поруки з банк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7308720" y="1628640"/>
            <a:ext cx="1586160" cy="15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006633"/>
                </a:solidFill>
                <a:latin typeface="Garamond"/>
              </a:rPr>
              <a:t>Оптимізація податкових платежі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32" name="" descr="11"/>
          <p:cNvPicPr/>
          <p:nvPr/>
        </p:nvPicPr>
        <p:blipFill>
          <a:blip r:embed="rId1"/>
          <a:stretch/>
        </p:blipFill>
        <p:spPr>
          <a:xfrm>
            <a:off x="539640" y="1484280"/>
            <a:ext cx="7777440" cy="40053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851280" y="5718240"/>
            <a:ext cx="48243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уникнення штрафних санкцій;</a:t>
            </a:r>
            <a:br>
              <a:rPr sz="2400"/>
            </a:br>
            <a:r>
              <a:rPr b="1" lang="uk-UA" sz="2400" spc="-1" strike="noStrike">
                <a:solidFill>
                  <a:srgbClr val="006633"/>
                </a:solidFill>
                <a:latin typeface="Garamond"/>
              </a:rPr>
              <a:t>уникнення податкової заста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0b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156360" y="765000"/>
            <a:ext cx="1635120" cy="16354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3132000" y="2492280"/>
            <a:ext cx="504036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якую за увагу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4T21:46:33Z</dcterms:created>
  <dc:creator>Admin</dc:creator>
  <dc:description/>
  <dc:language>en-US</dc:language>
  <cp:lastModifiedBy>Admin</cp:lastModifiedBy>
  <dcterms:modified xsi:type="dcterms:W3CDTF">2009-12-25T01:17:21Z</dcterms:modified>
  <cp:revision>3</cp:revision>
  <dc:subject/>
  <dc:title>Вплив системи оподаткування підприємства на фінансові результати підприємства</dc:title>
</cp:coreProperties>
</file>