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0C3-5230-45D1-A09E-2B5672A0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1C0-81D7-4116-B70F-6C5B2CD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F09-77CB-48BD-A562-9F66666C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54B-7B84-49DB-B1B4-BFCAB57F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C7E-E3D6-4DEF-9E2C-DB594821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BA3E-0476-4C4B-88B7-EC660514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121-261C-4BF7-9EED-4540AC1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93F-17E3-4506-9501-EC2BB934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82D3-6045-42F3-BB97-E5A6E39C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325E-2BAF-4288-9428-19B102D9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24E-E247-4DA3-8E2B-BAAA990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046-920D-43FE-886D-51977D0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1E62-3437-493D-AEAC-5E7F34C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F98-EF00-4F0C-AE2B-5F6E3D3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C77B-1FDC-495A-9A79-C4233DB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249-03DB-42DD-B512-EF775027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FE7-A386-45D5-94D1-B877BED2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4DB0-704C-4E84-A19C-8FB580D9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D541-4405-40CA-8E74-A9B5991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0F88-4CFC-48C4-8CDC-A1F2102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11C2-5F36-4746-92F6-6F9FCE6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6F6F-6F1D-4A37-8439-D8007062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F27-5002-4EF3-8EDE-C8B5039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9556-E882-49A4-AA07-AAEEE4FD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E0D6-30DF-48B9-9A7D-732BED1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E453-5E26-43EB-97BC-068774C5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B4BA-FBF0-475D-BAE5-8C15B66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99C4-FA09-4080-9834-2BF132D4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35B4-AACA-4C60-9BC4-2EF48C9A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D8CB-0FF4-49E0-835F-72316CAF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16DC-09AD-4BFB-9CC8-D66648F1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6EE4-0443-43FA-B35C-7F1189E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6E1B-0D88-41CD-BF76-F56AD29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88C-1FBF-4ADB-9C36-D948129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E7D7-6813-4A14-8DF2-0730BD3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DA80-5C95-49EC-9672-0C29E6A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6213-A9E7-4B56-BC3D-E99558E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D802-2FA7-44C7-8BEC-7D2703F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62FB-B303-49EC-98AA-0C29FE5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E9F0-7DFF-49EB-8C96-623299A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3D39-B33E-43D5-8E7C-7632DCF8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C133-0829-4808-B1D3-EF566914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527B-E307-4884-A143-3CE474FC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0F93-A9AC-41E4-8817-5F8834C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2C7-D016-473A-A953-8B93149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0F88-B399-4BDF-A05C-F7D30E7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CD68-6B72-41E7-B4A3-F698E435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8730-B60F-4B21-B638-DABE8449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D7F0-CB89-4044-8CAD-E9A86DE6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88BF-98E3-40D2-941E-850538C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AEFA-A1D7-456E-9000-13ED76FF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A9A9-6825-4F67-8884-A2E724F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8BB8-26A4-4CDD-BB38-7FF4B18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807F-352F-48D7-8E50-3B7E468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1F25-28C8-4913-9202-38D20B09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285-D342-4775-81A6-9DF77672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5764-0DAD-4CB7-AFB1-02FDF096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8E9-ED16-481C-B7C4-9942F19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8F0-7F8C-4B4B-82B4-4ACB507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471-29A3-42C9-94CF-DC64ECD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BC8-1DFE-43DF-8747-787AD4F9BC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CA5-BE7B-465F-9F73-A9A36F7E3A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295-60BA-4040-957E-9E03C7B5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D00-2EC5-4DBE-886E-61721A253E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0F4-1853-45AC-A779-4BECBE496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7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6633"/>
                </a:solidFill>
                <a:latin typeface="Garamond"/>
              </a:rPr>
              <a:t>Вплив системи оподаткування підприємства на фінансові результати підприємст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19640" y="4723920"/>
            <a:ext cx="348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о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Лівінчук І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Науковий кері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л.-стаж. Бенедик Ю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Система оподаткування </a:t>
            </a:r>
            <a:br>
              <a:rPr sz="3200"/>
            </a:b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     ВАТ “Острозький молокозавод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Д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на прибу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лата за зем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з власників транспортних засобів, самохідних машин і механізм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геологорозвідувальні роботи, виконані за рахунок державного бюдже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спеціальне використання природних ресурс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забруднення навколишнього природного середовищ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мунальний пода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Внески на загальнообов'язкове державне соціальне страх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на обов'язкове державне пенсійне страхування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525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9900"/>
                </a:solidFill>
                <a:latin typeface="Arial"/>
              </a:rPr>
              <a:t>Основні показники експрес-аналізу фінансових результатів ВАТ “Острозький молокозавод” на основі податкових декларацій 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040" y="13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916280"/>
          <a:ext cx="8713800" cy="4760640"/>
        </p:xfrm>
        <a:graphic>
          <a:graphicData uri="http://schemas.openxmlformats.org/drawingml/2006/table">
            <a:tbl>
              <a:tblPr/>
              <a:tblGrid>
                <a:gridCol w="2136600"/>
                <a:gridCol w="816120"/>
                <a:gridCol w="815760"/>
                <a:gridCol w="816120"/>
                <a:gridCol w="1014480"/>
                <a:gridCol w="1014480"/>
                <a:gridCol w="1020600"/>
                <a:gridCol w="1079640"/>
              </a:tblGrid>
              <a:tr h="3114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Абсолютне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носн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-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/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/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прибу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047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419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4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6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податків, збо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3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8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9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5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а сума податку на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24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2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9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88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9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сплати ПДВ до бюдж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6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9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і обов’язкові платеж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5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6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52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6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оефіцієнт податкового ти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ефективності оподатк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Показники коефіцієнтів податкового тиску на ВАТ «Острозький молокозавод» </a:t>
            </a:r>
            <a:br>
              <a:rPr sz="2800"/>
            </a:b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557360"/>
          <a:ext cx="8785080" cy="4705200"/>
        </p:xfrm>
        <a:graphic>
          <a:graphicData uri="http://schemas.openxmlformats.org/drawingml/2006/table">
            <a:tbl>
              <a:tblPr/>
              <a:tblGrid>
                <a:gridCol w="2670120"/>
                <a:gridCol w="873000"/>
                <a:gridCol w="863640"/>
                <a:gridCol w="792360"/>
                <a:gridCol w="1008000"/>
                <a:gridCol w="1008000"/>
                <a:gridCol w="777960"/>
                <a:gridCol w="792000"/>
              </a:tblGrid>
              <a:tr h="498240"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каз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бсолютне відхилення, тис. гр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носне відхилення,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-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-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/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/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аловий прибут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7,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2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9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,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7,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8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9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1,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і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1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1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,03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1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Динаміка податкового та облікового прибутку і податку на прибуток ВАТ «Острозький молокозавод» </a:t>
            </a:r>
            <a:br>
              <a:rPr sz="2400"/>
            </a:b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1644480"/>
          <a:ext cx="799308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44480"/>
                    <a:ext cx="79930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Визначення впливу податків, що включаються до валових витрат на фінансовий результат ВАТ «Острозький молокозав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484280"/>
          <a:ext cx="8291520" cy="5041800"/>
        </p:xfrm>
        <a:graphic>
          <a:graphicData uri="http://schemas.openxmlformats.org/drawingml/2006/table">
            <a:tbl>
              <a:tblPr/>
              <a:tblGrid>
                <a:gridCol w="2425680"/>
                <a:gridCol w="1631880"/>
                <a:gridCol w="2403720"/>
                <a:gridCol w="1830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Фак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иключенням податків, що входять до валових ви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 від фактич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иговані валові до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50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082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24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амортизаційних відраху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’єкт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9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9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9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до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33"/>
                </a:solidFill>
                <a:latin typeface="Garamond"/>
              </a:rPr>
              <a:t>Шляхи мінімізації податків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Перенесення бази оподаткуванн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Зниження бази оподаткуванн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Укладення податкової поруки з ба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58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Оптимізація податкових платеж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2" name="" descr="11"/>
          <p:cNvPicPr/>
          <p:nvPr/>
        </p:nvPicPr>
        <p:blipFill>
          <a:blip r:embed="rId1"/>
          <a:stretch/>
        </p:blipFill>
        <p:spPr>
          <a:xfrm>
            <a:off x="539640" y="1484280"/>
            <a:ext cx="7777440" cy="4005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51280" y="5718240"/>
            <a:ext cx="4824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уникнення штрафних санкцій;</a:t>
            </a:r>
            <a:br>
              <a:rPr sz="2400"/>
            </a:br>
            <a:r>
              <a:rPr b="1" lang="uk-UA" sz="2400" spc="-1" strike="noStrike">
                <a:solidFill>
                  <a:srgbClr val="006633"/>
                </a:solidFill>
                <a:latin typeface="Garamond"/>
              </a:rPr>
              <a:t>уникнення податкової заста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635120" cy="1635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132000" y="2492280"/>
            <a:ext cx="504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21:46:33Z</dcterms:created>
  <dc:creator>Admin</dc:creator>
  <dc:description/>
  <dc:language>en-US</dc:language>
  <cp:lastModifiedBy>Admin</cp:lastModifiedBy>
  <dcterms:modified xsi:type="dcterms:W3CDTF">2009-12-25T01:17:21Z</dcterms:modified>
  <cp:revision>3</cp:revision>
  <dc:subject/>
  <dc:title>Вплив системи оподаткування підприємства на фінансові результати підприємства</dc:title>
</cp:coreProperties>
</file>