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1.jpeg" ContentType="image/jpeg"/>
  <Override PartName="/ppt/media/image2.wmf" ContentType="image/x-wmf"/>
  <Override PartName="/ppt/media/image20.jpeg" ContentType="image/jpeg"/>
  <Override PartName="/ppt/media/image19.png" ContentType="image/png"/>
  <Override PartName="/ppt/media/image15.gif" ContentType="image/gif"/>
  <Override PartName="/ppt/media/image5.jpeg" ContentType="image/jpeg"/>
  <Override PartName="/ppt/media/image11.wmf" ContentType="image/x-wmf"/>
  <Override PartName="/ppt/media/image14.png" ContentType="image/png"/>
  <Override PartName="/ppt/media/image24.png" ContentType="image/png"/>
  <Override PartName="/ppt/media/image31.gif" ContentType="image/gif"/>
  <Override PartName="/ppt/media/image1.png" ContentType="image/png"/>
  <Override PartName="/ppt/media/image28.gif" ContentType="image/gif"/>
  <Override PartName="/ppt/media/image16.wmf" ContentType="image/x-wmf"/>
  <Override PartName="/ppt/media/image8.png" ContentType="image/png"/>
  <Override PartName="/ppt/media/image38.png" ContentType="image/png"/>
  <Override PartName="/ppt/media/image45.gif" ContentType="image/gif"/>
  <Override PartName="/ppt/media/image12.wmf" ContentType="image/x-wmf"/>
  <Override PartName="/ppt/media/image23.png" ContentType="image/png"/>
  <Override PartName="/ppt/media/image18.gif" ContentType="image/gif"/>
  <Override PartName="/ppt/media/image13.jpeg" ContentType="image/jpeg"/>
  <Override PartName="/ppt/media/image30.png" ContentType="image/png"/>
  <Override PartName="/ppt/media/image10.png" ContentType="image/png"/>
  <Override PartName="/ppt/media/image29.gif" ContentType="image/gif"/>
  <Override PartName="/ppt/media/image34.png" ContentType="image/png"/>
  <Override PartName="/ppt/media/image41.gif" ContentType="image/gif"/>
  <Override PartName="/ppt/media/image39.wmf" ContentType="image/x-wmf"/>
  <Override PartName="/ppt/media/image37.gif" ContentType="image/gif"/>
  <Override PartName="/ppt/media/image42.jpeg" ContentType="image/jpeg"/>
  <Override PartName="/ppt/media/image35.gif" ContentType="image/gif"/>
  <Override PartName="/ppt/media/image43.jpeg" ContentType="image/jpeg"/>
  <Override PartName="/ppt/media/image48.png" ContentType="image/png"/>
  <Override PartName="/ppt/media/image40.gif" ContentType="image/gif"/>
  <Override PartName="/ppt/media/image3.png" ContentType="image/png"/>
  <Override PartName="/ppt/media/image17.jpeg" ContentType="image/jpeg"/>
  <Override PartName="/ppt/media/image44.gif" ContentType="image/gif"/>
  <Override PartName="/ppt/media/image7.png" ContentType="image/png"/>
  <Override PartName="/ppt/media/image33.jpeg" ContentType="image/jpeg"/>
  <Override PartName="/ppt/media/image4.gif" ContentType="image/gif"/>
  <Override PartName="/ppt/media/image9.png" ContentType="image/png"/>
  <Override PartName="/ppt/media/image46.gif" ContentType="image/gif"/>
  <Override PartName="/ppt/media/image22.jpeg" ContentType="image/jpeg"/>
  <Override PartName="/ppt/media/image27.gif" ContentType="image/gif"/>
  <Override PartName="/ppt/media/image47.jpeg" ContentType="image/jpeg"/>
  <Override PartName="/ppt/media/image36.wmf" ContentType="image/x-wmf"/>
  <Override PartName="/ppt/media/image6.wmf" ContentType="image/x-wmf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653-4B1D-400E-AD71-EC7E1E8B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591-7DB5-4C76-8CA0-CC0378F2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8A5-EBEC-40C8-9AE9-4E313260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F1D-63C5-4C60-AEF0-A266C058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2CC31-8934-4EFA-B051-2B68DFFD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B444E-3B30-40DD-90A4-7B9B5F11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78386-3F61-450D-9477-D8AFC726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CDF01-F6AB-43ED-B13F-45E79264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CA09B-DFCD-4787-B3D9-9DDECD4B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5E4C2-26EE-4DEF-9CDB-F2C37D5A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1DBA1-9864-42C9-A75B-D833C633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24D-4F67-4292-B19C-1E17E873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926FF-4950-489F-89C3-F75C36B4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8D772-BAF6-4C39-AC1A-6BF36A3E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5ADF5-C370-4026-A6B3-3F4979BA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13DA6-02E3-416F-8059-C4C30FBC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28468-05A1-4276-836C-6B443E0A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F4A-04A2-4F66-B79A-1028B596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3E5-C6FE-484D-92B0-93F47BAB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F39-ED01-4339-99A8-C9F6602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7DC-8156-4231-A970-AB482CE3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A5C-C836-44DA-8AE5-D98AE166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A45-893F-4E1B-8ECC-F0E0EC5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86D-F25F-4DEA-AB5E-27B6D724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8A04-5323-444C-8493-B994E96359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8EF0-CAFB-4602-988E-BD54FEC642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owl"/>
          <p:cNvPicPr/>
          <p:nvPr/>
        </p:nvPicPr>
        <p:blipFill>
          <a:blip r:embed="rId1"/>
          <a:stretch/>
        </p:blipFill>
        <p:spPr>
          <a:xfrm>
            <a:off x="6643800" y="4572000"/>
            <a:ext cx="2286000" cy="1630440"/>
          </a:xfrm>
          <a:prstGeom prst="rect">
            <a:avLst/>
          </a:prstGeom>
          <a:ln w="0">
            <a:noFill/>
          </a:ln>
        </p:spPr>
      </p:pic>
      <p:sp>
        <p:nvSpPr>
          <p:cNvPr id="96" name="WordArt 6"/>
          <p:cNvSpPr txBox="1"/>
          <p:nvPr/>
        </p:nvSpPr>
        <p:spPr>
          <a:xfrm>
            <a:off x="934920" y="907920"/>
            <a:ext cx="8209080" cy="37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ль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лыбельных песен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поэзии пестования в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стеме детского фолькло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7" descr="298"/>
          <p:cNvPicPr/>
          <p:nvPr/>
        </p:nvPicPr>
        <p:blipFill>
          <a:blip r:embed="rId2"/>
          <a:stretch/>
        </p:blipFill>
        <p:spPr>
          <a:xfrm>
            <a:off x="7740720" y="260280"/>
            <a:ext cx="124596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2558880" y="5000760"/>
            <a:ext cx="4051800" cy="13737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eorgia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Georgia"/>
              </a:rPr>
              <a:t>Ученица 10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Georgia"/>
              </a:rPr>
              <a:t>Говорина Анастас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876240" y="189000"/>
            <a:ext cx="7383240" cy="703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Georgia"/>
              </a:rPr>
              <a:t>Муниципаль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Georgia"/>
              </a:rPr>
              <a:t>«Гадалей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1682280" y="927360"/>
            <a:ext cx="3021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аю, дитятк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Качаю теб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Чтоб ты спал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Не плака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И матуш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Покой да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росим тебя в пруд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В Дунай рек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Хватай его водя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716360" y="927360"/>
            <a:ext cx="442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айки, побай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Куплю матери китай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Отцу кумач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ратцу бархатц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Сестре ленточк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Дедке - сапог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абке – к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Ей к обедне ход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702080" y="4219920"/>
            <a:ext cx="612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Купим сынку вален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Наденем на ножень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Пустим по дорожень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Достанутся ребенку и гостинц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Под подушкой калач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В руках прянич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В щечках ябл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5" descr="F:\Настёна\i[57].jpg"/>
          <p:cNvPicPr/>
          <p:nvPr/>
        </p:nvPicPr>
        <p:blipFill>
          <a:blip r:embed="rId1"/>
          <a:stretch/>
        </p:blipFill>
        <p:spPr>
          <a:xfrm>
            <a:off x="1071720" y="4500720"/>
            <a:ext cx="1357200" cy="1785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F:\Настёна\i[64].jpg"/>
          <p:cNvPicPr/>
          <p:nvPr/>
        </p:nvPicPr>
        <p:blipFill>
          <a:blip r:embed="rId2"/>
          <a:stretch/>
        </p:blipFill>
        <p:spPr>
          <a:xfrm>
            <a:off x="7643880" y="3857760"/>
            <a:ext cx="1285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124000" y="693720"/>
            <a:ext cx="702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Главным персонажем славянских колыбельных песен является кот. Он становится первым объектом наблюдения для ребенка - живет в избе, привлекает внимание своими движениями, игривостью, мягкой шерсткой. Кот изображается весьма подробно, с присущими ему внешними признаками, повадками и привычкам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Котик, кото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ерый хвосто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Шейка твоя белогорлист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Вместе с тем кот занят своими обычными делам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Сирый к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На колодку ски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Зпиймав мышк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Пустив у колыбк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Мышка буде гра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Ваня буде спа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"/>
          <p:cNvGrpSpPr/>
          <p:nvPr/>
        </p:nvGrpSpPr>
        <p:grpSpPr>
          <a:xfrm>
            <a:off x="0" y="3213000"/>
            <a:ext cx="3995640" cy="3645000"/>
            <a:chOff x="0" y="3213000"/>
            <a:chExt cx="3995640" cy="3645000"/>
          </a:xfrm>
        </p:grpSpPr>
        <p:grpSp>
          <p:nvGrpSpPr>
            <p:cNvPr id="306" name="Group 5"/>
            <p:cNvGrpSpPr/>
            <p:nvPr/>
          </p:nvGrpSpPr>
          <p:grpSpPr>
            <a:xfrm>
              <a:off x="0" y="3213000"/>
              <a:ext cx="3995640" cy="3645000"/>
              <a:chOff x="0" y="3213000"/>
              <a:chExt cx="3995640" cy="3645000"/>
            </a:xfrm>
          </p:grpSpPr>
          <p:pic>
            <p:nvPicPr>
              <p:cNvPr id="307" name="Picture 6" descr="CBIZ010"/>
              <p:cNvPicPr/>
              <p:nvPr/>
            </p:nvPicPr>
            <p:blipFill>
              <a:blip r:embed="rId1"/>
              <a:stretch/>
            </p:blipFill>
            <p:spPr>
              <a:xfrm>
                <a:off x="0" y="3213000"/>
                <a:ext cx="3995640" cy="364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7" descr="гриб"/>
              <p:cNvPicPr/>
              <p:nvPr/>
            </p:nvPicPr>
            <p:blipFill>
              <a:blip r:embed="rId2"/>
              <a:stretch/>
            </p:blipFill>
            <p:spPr>
              <a:xfrm rot="1098600">
                <a:off x="3390840" y="4172400"/>
                <a:ext cx="315000" cy="439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9" name="Oval 8"/>
            <p:cNvSpPr/>
            <p:nvPr/>
          </p:nvSpPr>
          <p:spPr>
            <a:xfrm>
              <a:off x="3082320" y="4790520"/>
              <a:ext cx="123480" cy="135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3267000" y="4790520"/>
              <a:ext cx="123840" cy="135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3452040" y="4790520"/>
              <a:ext cx="123480" cy="135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1"/>
            <p:cNvSpPr/>
            <p:nvPr/>
          </p:nvSpPr>
          <p:spPr>
            <a:xfrm>
              <a:off x="3636720" y="4790520"/>
              <a:ext cx="123480" cy="135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1292400" y="711360"/>
            <a:ext cx="6954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Кота уговаривают не ходи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к чужим детя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е качай ты, кот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Чужих деточ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Малолеточ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ди к нам ноче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Да Ванюшу кач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от осердил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а печку спать ложил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Онучи в голову кл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И Ванюшу не кач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12194074921lukomorie"/>
          <p:cNvPicPr/>
          <p:nvPr/>
        </p:nvPicPr>
        <p:blipFill>
          <a:blip r:embed="rId1"/>
          <a:srcRect l="2769" t="26304" r="40148" b="23535"/>
          <a:stretch/>
        </p:blipFill>
        <p:spPr>
          <a:xfrm>
            <a:off x="1071720" y="4714920"/>
            <a:ext cx="1598400" cy="165888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315" name="Picture 4" descr="F:\Настёна\i[65].jpg"/>
          <p:cNvPicPr/>
          <p:nvPr/>
        </p:nvPicPr>
        <p:blipFill>
          <a:blip r:embed="rId2"/>
          <a:stretch/>
        </p:blipFill>
        <p:spPr>
          <a:xfrm>
            <a:off x="7358040" y="2357280"/>
            <a:ext cx="16430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2389320" y="495720"/>
            <a:ext cx="6165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риобретая человеческие качеств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кот соверш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обычные повседневные действ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ыполня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радиционную домашнюю работ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ошка лыки дере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оту лапти плет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ымети сен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ымый лож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гуляй тро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5" descr="16m2"/>
          <p:cNvPicPr/>
          <p:nvPr/>
        </p:nvPicPr>
        <p:blipFill>
          <a:blip r:embed="rId1"/>
          <a:stretch/>
        </p:blipFill>
        <p:spPr>
          <a:xfrm>
            <a:off x="1476360" y="2924280"/>
            <a:ext cx="1809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2225880" y="474840"/>
            <a:ext cx="612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ногда кот ведет себя как воришк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лизывает сметану, творо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048480" y="1986120"/>
            <a:ext cx="412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вадился ко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 сметану, по творо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ак увидели к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Два лакея из ок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Они хлопнули окн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бежали за ко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Ударили чобо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7" descr="cat057"/>
          <p:cNvPicPr/>
          <p:nvPr/>
        </p:nvPicPr>
        <p:blipFill>
          <a:blip r:embed="rId1"/>
          <a:stretch/>
        </p:blipFill>
        <p:spPr>
          <a:xfrm>
            <a:off x="1187280" y="3933720"/>
            <a:ext cx="1511640" cy="2087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C:\Documents and Settings\User\Мои документы\Мои рисунки\я\cats.gif"/>
          <p:cNvPicPr/>
          <p:nvPr/>
        </p:nvPicPr>
        <p:blipFill>
          <a:blip r:embed="rId2"/>
          <a:stretch/>
        </p:blipFill>
        <p:spPr>
          <a:xfrm>
            <a:off x="6715080" y="4000680"/>
            <a:ext cx="20718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4"/>
          <p:cNvSpPr/>
          <p:nvPr/>
        </p:nvSpPr>
        <p:spPr>
          <a:xfrm>
            <a:off x="1727280" y="90468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Если в колыбельной пес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большинство мотив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непонятны ребенку, то поэз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пестования четко связа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с интересами, запросами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потребностями ребен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Поэтому ее счит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собственно детским фольклор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5" descr="дом"/>
          <p:cNvPicPr/>
          <p:nvPr/>
        </p:nvPicPr>
        <p:blipFill>
          <a:blip r:embed="rId1"/>
          <a:stretch/>
        </p:blipFill>
        <p:spPr>
          <a:xfrm>
            <a:off x="5429160" y="4357800"/>
            <a:ext cx="2237040" cy="2023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1aa"/>
          <p:cNvPicPr/>
          <p:nvPr/>
        </p:nvPicPr>
        <p:blipFill>
          <a:blip r:embed="rId2"/>
          <a:stretch/>
        </p:blipFill>
        <p:spPr>
          <a:xfrm>
            <a:off x="1187280" y="3714840"/>
            <a:ext cx="29559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79280" y="765360"/>
            <a:ext cx="861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Georgia"/>
              </a:rPr>
              <a:t>Пестушками </a:t>
            </a:r>
            <a:r>
              <a:rPr b="1" lang="ru-RU" sz="1800" spc="-1" strike="noStrike">
                <a:solidFill>
                  <a:srgbClr val="0000cc"/>
                </a:solidFill>
                <a:latin typeface="Georgia"/>
              </a:rPr>
              <a:t>называют короткие приговорки или песенки, сопровождающие игровые движения или физические упражнения (потягивание, разведение рук, тормошение, поглаживание, подбрасывание, щекотание). Они помогали «установить эмоциональный контакт со взрослым, без чего немыслимо нормальное психическое и физическое развитие ребенка, обучали языку и мелодике, давали первые представления о реалиях окружающей действительност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24000" y="3142080"/>
            <a:ext cx="838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cc"/>
                </a:solidFill>
                <a:latin typeface="Georgia"/>
              </a:rPr>
              <a:t>Каждый этап развития ребенка сопровождался соответствующей пестушкой. Когда проснувшийся ребенок потягивается и расправляет свое тельце, его поглаживают и говорят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отягунюшки, порастунюш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оперек толстунюш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в ножки ходунюш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в ручки фатунющ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в роток говоро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в головку разум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mal"/>
          <p:cNvPicPr/>
          <p:nvPr/>
        </p:nvPicPr>
        <p:blipFill>
          <a:blip r:embed="rId1"/>
          <a:stretch/>
        </p:blipFill>
        <p:spPr>
          <a:xfrm>
            <a:off x="250920" y="4581360"/>
            <a:ext cx="2017440" cy="2087640"/>
          </a:xfrm>
          <a:prstGeom prst="rect">
            <a:avLst/>
          </a:prstGeom>
          <a:ln w="0">
            <a:noFill/>
          </a:ln>
        </p:spPr>
      </p:pic>
      <p:sp>
        <p:nvSpPr>
          <p:cNvPr id="328" name="WordArt 6"/>
          <p:cNvSpPr txBox="1"/>
          <p:nvPr/>
        </p:nvSpPr>
        <p:spPr>
          <a:xfrm>
            <a:off x="2556000" y="189000"/>
            <a:ext cx="601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Пестуш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329" name="Picture 6" descr="F:\Настёна\i[54]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32560" y="693360"/>
            <a:ext cx="86436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Сводя и разводя ручки ребенка, произносят другую пестушк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Тяни холс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отягива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В коробочк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окладыва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Переваливая головку ребенка с ладони на ладонь, приговариваю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Валяй, валяй корова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ришел к бабе пономар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Дай, баба, тест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ет в печи мес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Когда ребенок пытается встать на ножки, ему помогаю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Дыбки, дыбо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коро Сашеньке - годок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5" descr="kubic"/>
          <p:cNvPicPr/>
          <p:nvPr/>
        </p:nvPicPr>
        <p:blipFill>
          <a:blip r:embed="rId1"/>
          <a:stretch/>
        </p:blipFill>
        <p:spPr>
          <a:xfrm>
            <a:off x="6732720" y="4508640"/>
            <a:ext cx="1873080" cy="2109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v05ani"/>
          <p:cNvPicPr/>
          <p:nvPr/>
        </p:nvPicPr>
        <p:blipFill>
          <a:blip r:embed="rId2"/>
          <a:stretch/>
        </p:blipFill>
        <p:spPr>
          <a:xfrm>
            <a:off x="214200" y="4357800"/>
            <a:ext cx="27021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1915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Чтобы приучить ребенка стоять без опор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припевают, взяв его за обе руч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й, деточка, попляш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Твои ножки хорош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ос сучко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Голова крючко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пинка ящич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Когда ребенок делает первые шаги, то поется следующая потешк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ожки, нож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Куда вы бежите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В лесок на мош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Избушку мши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Чтоб не холодно жи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Ребенок начинает бегать, делают вид, что догоняют его и приговариваю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Я точу, молоч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а чужом гум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Ко мне курочка пришл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Куропаточка приш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Я девушку нагоню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Я красную нагоню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За себя ее возь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609480" y="4495680"/>
          <a:ext cx="1828800" cy="17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495680"/>
                    <a:ext cx="182880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3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3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"/>
          <p:cNvSpPr/>
          <p:nvPr/>
        </p:nvSpPr>
        <p:spPr>
          <a:xfrm>
            <a:off x="2013120" y="1987200"/>
            <a:ext cx="64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Большое количество текстов связа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 подбрасыванием ребенка на рук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 качанием на коленя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2827440" y="3713760"/>
            <a:ext cx="387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Тюшки, тютюш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Овсяные лепеш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шеничный пирож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а опарушке мешо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ысокохонько взош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6" descr="a1"/>
          <p:cNvPicPr/>
          <p:nvPr/>
        </p:nvPicPr>
        <p:blipFill>
          <a:blip r:embed="rId1"/>
          <a:stretch/>
        </p:blipFill>
        <p:spPr>
          <a:xfrm>
            <a:off x="1692360" y="0"/>
            <a:ext cx="2463840" cy="2182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pic2a"/>
          <p:cNvPicPr/>
          <p:nvPr/>
        </p:nvPicPr>
        <p:blipFill>
          <a:blip r:embed="rId2"/>
          <a:stretch/>
        </p:blipFill>
        <p:spPr>
          <a:xfrm>
            <a:off x="7086600" y="3276720"/>
            <a:ext cx="15685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059280" y="404640"/>
            <a:ext cx="504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работы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7308360" y="5300640"/>
            <a:ext cx="1685880" cy="1432080"/>
            <a:chOff x="7308360" y="5300640"/>
            <a:chExt cx="1685880" cy="1432080"/>
          </a:xfrm>
        </p:grpSpPr>
        <p:sp>
          <p:nvSpPr>
            <p:cNvPr id="102" name="Freeform 7"/>
            <p:cNvSpPr/>
            <p:nvPr/>
          </p:nvSpPr>
          <p:spPr>
            <a:xfrm flipH="1">
              <a:off x="7308000" y="5300640"/>
              <a:ext cx="1685880" cy="1432080"/>
            </a:xfrm>
            <a:custGeom>
              <a:avLst/>
              <a:gdLst>
                <a:gd name="textAreaLeft" fmla="*/ -360 w 1685880"/>
                <a:gd name="textAreaRight" fmla="*/ 1685880 w 1685880"/>
                <a:gd name="textAreaTop" fmla="*/ 0 h 1432080"/>
                <a:gd name="textAreaBottom" fmla="*/ 1432440 h 1432080"/>
              </a:gdLst>
              <a:ahLst/>
              <a:rect l="textAreaLeft" t="textAreaTop" r="textAreaRight" b="textAreaBottom"/>
              <a:pathLst>
                <a:path w="2147" h="2123">
                  <a:moveTo>
                    <a:pt x="2121" y="2120"/>
                  </a:moveTo>
                  <a:lnTo>
                    <a:pt x="2003" y="2116"/>
                  </a:lnTo>
                  <a:lnTo>
                    <a:pt x="67" y="2120"/>
                  </a:lnTo>
                  <a:lnTo>
                    <a:pt x="57" y="2118"/>
                  </a:lnTo>
                  <a:lnTo>
                    <a:pt x="47" y="2119"/>
                  </a:lnTo>
                  <a:lnTo>
                    <a:pt x="36" y="2121"/>
                  </a:lnTo>
                  <a:lnTo>
                    <a:pt x="24" y="2123"/>
                  </a:lnTo>
                  <a:lnTo>
                    <a:pt x="14" y="2121"/>
                  </a:lnTo>
                  <a:lnTo>
                    <a:pt x="7" y="2118"/>
                  </a:lnTo>
                  <a:lnTo>
                    <a:pt x="1" y="2110"/>
                  </a:lnTo>
                  <a:lnTo>
                    <a:pt x="0" y="2096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136" y="0"/>
                  </a:lnTo>
                  <a:lnTo>
                    <a:pt x="2144" y="2057"/>
                  </a:lnTo>
                  <a:lnTo>
                    <a:pt x="2145" y="2065"/>
                  </a:lnTo>
                  <a:lnTo>
                    <a:pt x="2147" y="2076"/>
                  </a:lnTo>
                  <a:lnTo>
                    <a:pt x="2147" y="2087"/>
                  </a:lnTo>
                  <a:lnTo>
                    <a:pt x="2147" y="2097"/>
                  </a:lnTo>
                  <a:lnTo>
                    <a:pt x="2145" y="2106"/>
                  </a:lnTo>
                  <a:lnTo>
                    <a:pt x="2141" y="2114"/>
                  </a:lnTo>
                  <a:lnTo>
                    <a:pt x="2133" y="2119"/>
                  </a:lnTo>
                  <a:lnTo>
                    <a:pt x="2121" y="2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8"/>
            <p:cNvSpPr/>
            <p:nvPr/>
          </p:nvSpPr>
          <p:spPr>
            <a:xfrm flipH="1">
              <a:off x="7329960" y="5317920"/>
              <a:ext cx="1646640" cy="1060200"/>
            </a:xfrm>
            <a:custGeom>
              <a:avLst/>
              <a:gdLst>
                <a:gd name="textAreaLeft" fmla="*/ 360 w 1646640"/>
                <a:gd name="textAreaRight" fmla="*/ 1647360 w 164664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2097" h="1572">
                  <a:moveTo>
                    <a:pt x="2094" y="1565"/>
                  </a:moveTo>
                  <a:lnTo>
                    <a:pt x="2082" y="1569"/>
                  </a:lnTo>
                  <a:lnTo>
                    <a:pt x="2069" y="1572"/>
                  </a:lnTo>
                  <a:lnTo>
                    <a:pt x="2056" y="1572"/>
                  </a:lnTo>
                  <a:lnTo>
                    <a:pt x="2043" y="1569"/>
                  </a:lnTo>
                  <a:lnTo>
                    <a:pt x="2030" y="1568"/>
                  </a:lnTo>
                  <a:lnTo>
                    <a:pt x="2016" y="1567"/>
                  </a:lnTo>
                  <a:lnTo>
                    <a:pt x="2003" y="1567"/>
                  </a:lnTo>
                  <a:lnTo>
                    <a:pt x="1989" y="1568"/>
                  </a:lnTo>
                  <a:lnTo>
                    <a:pt x="1987" y="1564"/>
                  </a:lnTo>
                  <a:lnTo>
                    <a:pt x="1984" y="1559"/>
                  </a:lnTo>
                  <a:lnTo>
                    <a:pt x="1979" y="1554"/>
                  </a:lnTo>
                  <a:lnTo>
                    <a:pt x="1974" y="1550"/>
                  </a:lnTo>
                  <a:lnTo>
                    <a:pt x="1979" y="1550"/>
                  </a:lnTo>
                  <a:lnTo>
                    <a:pt x="1985" y="1550"/>
                  </a:lnTo>
                  <a:lnTo>
                    <a:pt x="1990" y="1551"/>
                  </a:lnTo>
                  <a:lnTo>
                    <a:pt x="1995" y="1551"/>
                  </a:lnTo>
                  <a:lnTo>
                    <a:pt x="2000" y="1551"/>
                  </a:lnTo>
                  <a:lnTo>
                    <a:pt x="2004" y="1550"/>
                  </a:lnTo>
                  <a:lnTo>
                    <a:pt x="2007" y="1548"/>
                  </a:lnTo>
                  <a:lnTo>
                    <a:pt x="2011" y="1545"/>
                  </a:lnTo>
                  <a:lnTo>
                    <a:pt x="2013" y="1535"/>
                  </a:lnTo>
                  <a:lnTo>
                    <a:pt x="2011" y="1529"/>
                  </a:lnTo>
                  <a:lnTo>
                    <a:pt x="2006" y="1526"/>
                  </a:lnTo>
                  <a:lnTo>
                    <a:pt x="2000" y="1524"/>
                  </a:lnTo>
                  <a:lnTo>
                    <a:pt x="1995" y="1522"/>
                  </a:lnTo>
                  <a:lnTo>
                    <a:pt x="1989" y="1519"/>
                  </a:lnTo>
                  <a:lnTo>
                    <a:pt x="1987" y="1513"/>
                  </a:lnTo>
                  <a:lnTo>
                    <a:pt x="1989" y="1505"/>
                  </a:lnTo>
                  <a:lnTo>
                    <a:pt x="1995" y="1483"/>
                  </a:lnTo>
                  <a:lnTo>
                    <a:pt x="2002" y="1461"/>
                  </a:lnTo>
                  <a:lnTo>
                    <a:pt x="2010" y="1442"/>
                  </a:lnTo>
                  <a:lnTo>
                    <a:pt x="2015" y="1423"/>
                  </a:lnTo>
                  <a:lnTo>
                    <a:pt x="2001" y="1417"/>
                  </a:lnTo>
                  <a:lnTo>
                    <a:pt x="1987" y="1412"/>
                  </a:lnTo>
                  <a:lnTo>
                    <a:pt x="1973" y="1407"/>
                  </a:lnTo>
                  <a:lnTo>
                    <a:pt x="1959" y="1402"/>
                  </a:lnTo>
                  <a:lnTo>
                    <a:pt x="1945" y="1399"/>
                  </a:lnTo>
                  <a:lnTo>
                    <a:pt x="1930" y="1394"/>
                  </a:lnTo>
                  <a:lnTo>
                    <a:pt x="1916" y="1390"/>
                  </a:lnTo>
                  <a:lnTo>
                    <a:pt x="1901" y="1387"/>
                  </a:lnTo>
                  <a:lnTo>
                    <a:pt x="1887" y="1383"/>
                  </a:lnTo>
                  <a:lnTo>
                    <a:pt x="1871" y="1379"/>
                  </a:lnTo>
                  <a:lnTo>
                    <a:pt x="1856" y="1376"/>
                  </a:lnTo>
                  <a:lnTo>
                    <a:pt x="1842" y="1372"/>
                  </a:lnTo>
                  <a:lnTo>
                    <a:pt x="1827" y="1369"/>
                  </a:lnTo>
                  <a:lnTo>
                    <a:pt x="1813" y="1365"/>
                  </a:lnTo>
                  <a:lnTo>
                    <a:pt x="1798" y="1361"/>
                  </a:lnTo>
                  <a:lnTo>
                    <a:pt x="1784" y="1358"/>
                  </a:lnTo>
                  <a:lnTo>
                    <a:pt x="1766" y="1361"/>
                  </a:lnTo>
                  <a:lnTo>
                    <a:pt x="1786" y="1270"/>
                  </a:lnTo>
                  <a:lnTo>
                    <a:pt x="1804" y="1177"/>
                  </a:lnTo>
                  <a:lnTo>
                    <a:pt x="1818" y="1083"/>
                  </a:lnTo>
                  <a:lnTo>
                    <a:pt x="1826" y="989"/>
                  </a:lnTo>
                  <a:lnTo>
                    <a:pt x="1824" y="896"/>
                  </a:lnTo>
                  <a:lnTo>
                    <a:pt x="1809" y="805"/>
                  </a:lnTo>
                  <a:lnTo>
                    <a:pt x="1779" y="717"/>
                  </a:lnTo>
                  <a:lnTo>
                    <a:pt x="1730" y="633"/>
                  </a:lnTo>
                  <a:lnTo>
                    <a:pt x="1725" y="629"/>
                  </a:lnTo>
                  <a:lnTo>
                    <a:pt x="1718" y="624"/>
                  </a:lnTo>
                  <a:lnTo>
                    <a:pt x="1712" y="620"/>
                  </a:lnTo>
                  <a:lnTo>
                    <a:pt x="1706" y="615"/>
                  </a:lnTo>
                  <a:lnTo>
                    <a:pt x="1700" y="610"/>
                  </a:lnTo>
                  <a:lnTo>
                    <a:pt x="1694" y="605"/>
                  </a:lnTo>
                  <a:lnTo>
                    <a:pt x="1689" y="599"/>
                  </a:lnTo>
                  <a:lnTo>
                    <a:pt x="1683" y="594"/>
                  </a:lnTo>
                  <a:lnTo>
                    <a:pt x="1689" y="572"/>
                  </a:lnTo>
                  <a:lnTo>
                    <a:pt x="1693" y="550"/>
                  </a:lnTo>
                  <a:lnTo>
                    <a:pt x="1692" y="528"/>
                  </a:lnTo>
                  <a:lnTo>
                    <a:pt x="1683" y="508"/>
                  </a:lnTo>
                  <a:lnTo>
                    <a:pt x="1658" y="486"/>
                  </a:lnTo>
                  <a:lnTo>
                    <a:pt x="1659" y="431"/>
                  </a:lnTo>
                  <a:lnTo>
                    <a:pt x="1660" y="375"/>
                  </a:lnTo>
                  <a:lnTo>
                    <a:pt x="1658" y="319"/>
                  </a:lnTo>
                  <a:lnTo>
                    <a:pt x="1650" y="265"/>
                  </a:lnTo>
                  <a:lnTo>
                    <a:pt x="1635" y="213"/>
                  </a:lnTo>
                  <a:lnTo>
                    <a:pt x="1611" y="165"/>
                  </a:lnTo>
                  <a:lnTo>
                    <a:pt x="1577" y="124"/>
                  </a:lnTo>
                  <a:lnTo>
                    <a:pt x="1529" y="90"/>
                  </a:lnTo>
                  <a:lnTo>
                    <a:pt x="1515" y="84"/>
                  </a:lnTo>
                  <a:lnTo>
                    <a:pt x="1501" y="79"/>
                  </a:lnTo>
                  <a:lnTo>
                    <a:pt x="1486" y="76"/>
                  </a:lnTo>
                  <a:lnTo>
                    <a:pt x="1471" y="73"/>
                  </a:lnTo>
                  <a:lnTo>
                    <a:pt x="1456" y="72"/>
                  </a:lnTo>
                  <a:lnTo>
                    <a:pt x="1439" y="71"/>
                  </a:lnTo>
                  <a:lnTo>
                    <a:pt x="1424" y="72"/>
                  </a:lnTo>
                  <a:lnTo>
                    <a:pt x="1409" y="73"/>
                  </a:lnTo>
                  <a:lnTo>
                    <a:pt x="1393" y="77"/>
                  </a:lnTo>
                  <a:lnTo>
                    <a:pt x="1378" y="80"/>
                  </a:lnTo>
                  <a:lnTo>
                    <a:pt x="1363" y="84"/>
                  </a:lnTo>
                  <a:lnTo>
                    <a:pt x="1349" y="88"/>
                  </a:lnTo>
                  <a:lnTo>
                    <a:pt x="1334" y="95"/>
                  </a:lnTo>
                  <a:lnTo>
                    <a:pt x="1321" y="100"/>
                  </a:lnTo>
                  <a:lnTo>
                    <a:pt x="1308" y="108"/>
                  </a:lnTo>
                  <a:lnTo>
                    <a:pt x="1295" y="116"/>
                  </a:lnTo>
                  <a:lnTo>
                    <a:pt x="1292" y="110"/>
                  </a:lnTo>
                  <a:lnTo>
                    <a:pt x="1294" y="104"/>
                  </a:lnTo>
                  <a:lnTo>
                    <a:pt x="1296" y="95"/>
                  </a:lnTo>
                  <a:lnTo>
                    <a:pt x="1297" y="87"/>
                  </a:lnTo>
                  <a:lnTo>
                    <a:pt x="1298" y="80"/>
                  </a:lnTo>
                  <a:lnTo>
                    <a:pt x="1295" y="74"/>
                  </a:lnTo>
                  <a:lnTo>
                    <a:pt x="1288" y="71"/>
                  </a:lnTo>
                  <a:lnTo>
                    <a:pt x="1276" y="72"/>
                  </a:lnTo>
                  <a:lnTo>
                    <a:pt x="1248" y="136"/>
                  </a:lnTo>
                  <a:lnTo>
                    <a:pt x="1241" y="133"/>
                  </a:lnTo>
                  <a:lnTo>
                    <a:pt x="1234" y="128"/>
                  </a:lnTo>
                  <a:lnTo>
                    <a:pt x="1227" y="124"/>
                  </a:lnTo>
                  <a:lnTo>
                    <a:pt x="1219" y="120"/>
                  </a:lnTo>
                  <a:lnTo>
                    <a:pt x="1211" y="117"/>
                  </a:lnTo>
                  <a:lnTo>
                    <a:pt x="1204" y="114"/>
                  </a:lnTo>
                  <a:lnTo>
                    <a:pt x="1196" y="117"/>
                  </a:lnTo>
                  <a:lnTo>
                    <a:pt x="1188" y="123"/>
                  </a:lnTo>
                  <a:lnTo>
                    <a:pt x="1188" y="130"/>
                  </a:lnTo>
                  <a:lnTo>
                    <a:pt x="1190" y="134"/>
                  </a:lnTo>
                  <a:lnTo>
                    <a:pt x="1193" y="138"/>
                  </a:lnTo>
                  <a:lnTo>
                    <a:pt x="1197" y="140"/>
                  </a:lnTo>
                  <a:lnTo>
                    <a:pt x="1203" y="143"/>
                  </a:lnTo>
                  <a:lnTo>
                    <a:pt x="1208" y="146"/>
                  </a:lnTo>
                  <a:lnTo>
                    <a:pt x="1214" y="149"/>
                  </a:lnTo>
                  <a:lnTo>
                    <a:pt x="1217" y="154"/>
                  </a:lnTo>
                  <a:lnTo>
                    <a:pt x="1204" y="159"/>
                  </a:lnTo>
                  <a:lnTo>
                    <a:pt x="1190" y="165"/>
                  </a:lnTo>
                  <a:lnTo>
                    <a:pt x="1176" y="172"/>
                  </a:lnTo>
                  <a:lnTo>
                    <a:pt x="1163" y="180"/>
                  </a:lnTo>
                  <a:lnTo>
                    <a:pt x="1150" y="190"/>
                  </a:lnTo>
                  <a:lnTo>
                    <a:pt x="1138" y="201"/>
                  </a:lnTo>
                  <a:lnTo>
                    <a:pt x="1127" y="213"/>
                  </a:lnTo>
                  <a:lnTo>
                    <a:pt x="1119" y="227"/>
                  </a:lnTo>
                  <a:lnTo>
                    <a:pt x="1107" y="268"/>
                  </a:lnTo>
                  <a:lnTo>
                    <a:pt x="1105" y="314"/>
                  </a:lnTo>
                  <a:lnTo>
                    <a:pt x="1112" y="359"/>
                  </a:lnTo>
                  <a:lnTo>
                    <a:pt x="1126" y="399"/>
                  </a:lnTo>
                  <a:lnTo>
                    <a:pt x="1120" y="453"/>
                  </a:lnTo>
                  <a:lnTo>
                    <a:pt x="1121" y="508"/>
                  </a:lnTo>
                  <a:lnTo>
                    <a:pt x="1125" y="563"/>
                  </a:lnTo>
                  <a:lnTo>
                    <a:pt x="1134" y="615"/>
                  </a:lnTo>
                  <a:lnTo>
                    <a:pt x="1114" y="622"/>
                  </a:lnTo>
                  <a:lnTo>
                    <a:pt x="1096" y="638"/>
                  </a:lnTo>
                  <a:lnTo>
                    <a:pt x="1079" y="657"/>
                  </a:lnTo>
                  <a:lnTo>
                    <a:pt x="1061" y="675"/>
                  </a:lnTo>
                  <a:lnTo>
                    <a:pt x="1045" y="689"/>
                  </a:lnTo>
                  <a:lnTo>
                    <a:pt x="1028" y="696"/>
                  </a:lnTo>
                  <a:lnTo>
                    <a:pt x="1010" y="689"/>
                  </a:lnTo>
                  <a:lnTo>
                    <a:pt x="990" y="666"/>
                  </a:lnTo>
                  <a:lnTo>
                    <a:pt x="944" y="702"/>
                  </a:lnTo>
                  <a:lnTo>
                    <a:pt x="937" y="697"/>
                  </a:lnTo>
                  <a:lnTo>
                    <a:pt x="932" y="689"/>
                  </a:lnTo>
                  <a:lnTo>
                    <a:pt x="927" y="680"/>
                  </a:lnTo>
                  <a:lnTo>
                    <a:pt x="923" y="673"/>
                  </a:lnTo>
                  <a:lnTo>
                    <a:pt x="919" y="666"/>
                  </a:lnTo>
                  <a:lnTo>
                    <a:pt x="913" y="662"/>
                  </a:lnTo>
                  <a:lnTo>
                    <a:pt x="906" y="660"/>
                  </a:lnTo>
                  <a:lnTo>
                    <a:pt x="897" y="663"/>
                  </a:lnTo>
                  <a:lnTo>
                    <a:pt x="890" y="666"/>
                  </a:lnTo>
                  <a:lnTo>
                    <a:pt x="882" y="673"/>
                  </a:lnTo>
                  <a:lnTo>
                    <a:pt x="876" y="680"/>
                  </a:lnTo>
                  <a:lnTo>
                    <a:pt x="869" y="687"/>
                  </a:lnTo>
                  <a:lnTo>
                    <a:pt x="862" y="693"/>
                  </a:lnTo>
                  <a:lnTo>
                    <a:pt x="855" y="697"/>
                  </a:lnTo>
                  <a:lnTo>
                    <a:pt x="848" y="697"/>
                  </a:lnTo>
                  <a:lnTo>
                    <a:pt x="839" y="691"/>
                  </a:lnTo>
                  <a:lnTo>
                    <a:pt x="782" y="645"/>
                  </a:lnTo>
                  <a:lnTo>
                    <a:pt x="792" y="635"/>
                  </a:lnTo>
                  <a:lnTo>
                    <a:pt x="804" y="626"/>
                  </a:lnTo>
                  <a:lnTo>
                    <a:pt x="816" y="618"/>
                  </a:lnTo>
                  <a:lnTo>
                    <a:pt x="828" y="610"/>
                  </a:lnTo>
                  <a:lnTo>
                    <a:pt x="841" y="602"/>
                  </a:lnTo>
                  <a:lnTo>
                    <a:pt x="853" y="594"/>
                  </a:lnTo>
                  <a:lnTo>
                    <a:pt x="866" y="585"/>
                  </a:lnTo>
                  <a:lnTo>
                    <a:pt x="878" y="578"/>
                  </a:lnTo>
                  <a:lnTo>
                    <a:pt x="891" y="569"/>
                  </a:lnTo>
                  <a:lnTo>
                    <a:pt x="903" y="561"/>
                  </a:lnTo>
                  <a:lnTo>
                    <a:pt x="914" y="552"/>
                  </a:lnTo>
                  <a:lnTo>
                    <a:pt x="925" y="542"/>
                  </a:lnTo>
                  <a:lnTo>
                    <a:pt x="936" y="531"/>
                  </a:lnTo>
                  <a:lnTo>
                    <a:pt x="946" y="521"/>
                  </a:lnTo>
                  <a:lnTo>
                    <a:pt x="956" y="510"/>
                  </a:lnTo>
                  <a:lnTo>
                    <a:pt x="964" y="497"/>
                  </a:lnTo>
                  <a:lnTo>
                    <a:pt x="953" y="441"/>
                  </a:lnTo>
                  <a:lnTo>
                    <a:pt x="943" y="383"/>
                  </a:lnTo>
                  <a:lnTo>
                    <a:pt x="933" y="327"/>
                  </a:lnTo>
                  <a:lnTo>
                    <a:pt x="921" y="271"/>
                  </a:lnTo>
                  <a:lnTo>
                    <a:pt x="908" y="215"/>
                  </a:lnTo>
                  <a:lnTo>
                    <a:pt x="892" y="161"/>
                  </a:lnTo>
                  <a:lnTo>
                    <a:pt x="872" y="108"/>
                  </a:lnTo>
                  <a:lnTo>
                    <a:pt x="849" y="57"/>
                  </a:lnTo>
                  <a:lnTo>
                    <a:pt x="842" y="60"/>
                  </a:lnTo>
                  <a:lnTo>
                    <a:pt x="835" y="61"/>
                  </a:lnTo>
                  <a:lnTo>
                    <a:pt x="825" y="61"/>
                  </a:lnTo>
                  <a:lnTo>
                    <a:pt x="815" y="61"/>
                  </a:lnTo>
                  <a:lnTo>
                    <a:pt x="805" y="61"/>
                  </a:lnTo>
                  <a:lnTo>
                    <a:pt x="796" y="63"/>
                  </a:lnTo>
                  <a:lnTo>
                    <a:pt x="786" y="66"/>
                  </a:lnTo>
                  <a:lnTo>
                    <a:pt x="777" y="72"/>
                  </a:lnTo>
                  <a:lnTo>
                    <a:pt x="752" y="83"/>
                  </a:lnTo>
                  <a:lnTo>
                    <a:pt x="729" y="97"/>
                  </a:lnTo>
                  <a:lnTo>
                    <a:pt x="706" y="113"/>
                  </a:lnTo>
                  <a:lnTo>
                    <a:pt x="684" y="133"/>
                  </a:lnTo>
                  <a:lnTo>
                    <a:pt x="664" y="152"/>
                  </a:lnTo>
                  <a:lnTo>
                    <a:pt x="646" y="174"/>
                  </a:lnTo>
                  <a:lnTo>
                    <a:pt x="626" y="195"/>
                  </a:lnTo>
                  <a:lnTo>
                    <a:pt x="609" y="216"/>
                  </a:lnTo>
                  <a:lnTo>
                    <a:pt x="597" y="209"/>
                  </a:lnTo>
                  <a:lnTo>
                    <a:pt x="586" y="203"/>
                  </a:lnTo>
                  <a:lnTo>
                    <a:pt x="574" y="198"/>
                  </a:lnTo>
                  <a:lnTo>
                    <a:pt x="562" y="191"/>
                  </a:lnTo>
                  <a:lnTo>
                    <a:pt x="551" y="185"/>
                  </a:lnTo>
                  <a:lnTo>
                    <a:pt x="539" y="179"/>
                  </a:lnTo>
                  <a:lnTo>
                    <a:pt x="527" y="173"/>
                  </a:lnTo>
                  <a:lnTo>
                    <a:pt x="515" y="166"/>
                  </a:lnTo>
                  <a:lnTo>
                    <a:pt x="504" y="161"/>
                  </a:lnTo>
                  <a:lnTo>
                    <a:pt x="492" y="154"/>
                  </a:lnTo>
                  <a:lnTo>
                    <a:pt x="480" y="148"/>
                  </a:lnTo>
                  <a:lnTo>
                    <a:pt x="468" y="141"/>
                  </a:lnTo>
                  <a:lnTo>
                    <a:pt x="458" y="134"/>
                  </a:lnTo>
                  <a:lnTo>
                    <a:pt x="447" y="126"/>
                  </a:lnTo>
                  <a:lnTo>
                    <a:pt x="435" y="119"/>
                  </a:lnTo>
                  <a:lnTo>
                    <a:pt x="424" y="111"/>
                  </a:lnTo>
                  <a:lnTo>
                    <a:pt x="419" y="116"/>
                  </a:lnTo>
                  <a:lnTo>
                    <a:pt x="417" y="122"/>
                  </a:lnTo>
                  <a:lnTo>
                    <a:pt x="417" y="130"/>
                  </a:lnTo>
                  <a:lnTo>
                    <a:pt x="417" y="136"/>
                  </a:lnTo>
                  <a:lnTo>
                    <a:pt x="421" y="141"/>
                  </a:lnTo>
                  <a:lnTo>
                    <a:pt x="415" y="141"/>
                  </a:lnTo>
                  <a:lnTo>
                    <a:pt x="411" y="137"/>
                  </a:lnTo>
                  <a:lnTo>
                    <a:pt x="406" y="133"/>
                  </a:lnTo>
                  <a:lnTo>
                    <a:pt x="401" y="126"/>
                  </a:lnTo>
                  <a:lnTo>
                    <a:pt x="396" y="122"/>
                  </a:lnTo>
                  <a:lnTo>
                    <a:pt x="391" y="119"/>
                  </a:lnTo>
                  <a:lnTo>
                    <a:pt x="384" y="120"/>
                  </a:lnTo>
                  <a:lnTo>
                    <a:pt x="378" y="126"/>
                  </a:lnTo>
                  <a:lnTo>
                    <a:pt x="381" y="144"/>
                  </a:lnTo>
                  <a:lnTo>
                    <a:pt x="373" y="134"/>
                  </a:lnTo>
                  <a:lnTo>
                    <a:pt x="365" y="131"/>
                  </a:lnTo>
                  <a:lnTo>
                    <a:pt x="355" y="133"/>
                  </a:lnTo>
                  <a:lnTo>
                    <a:pt x="343" y="137"/>
                  </a:lnTo>
                  <a:lnTo>
                    <a:pt x="331" y="143"/>
                  </a:lnTo>
                  <a:lnTo>
                    <a:pt x="319" y="147"/>
                  </a:lnTo>
                  <a:lnTo>
                    <a:pt x="307" y="149"/>
                  </a:lnTo>
                  <a:lnTo>
                    <a:pt x="296" y="147"/>
                  </a:lnTo>
                  <a:lnTo>
                    <a:pt x="288" y="159"/>
                  </a:lnTo>
                  <a:lnTo>
                    <a:pt x="300" y="229"/>
                  </a:lnTo>
                  <a:lnTo>
                    <a:pt x="314" y="297"/>
                  </a:lnTo>
                  <a:lnTo>
                    <a:pt x="329" y="364"/>
                  </a:lnTo>
                  <a:lnTo>
                    <a:pt x="345" y="430"/>
                  </a:lnTo>
                  <a:lnTo>
                    <a:pt x="364" y="496"/>
                  </a:lnTo>
                  <a:lnTo>
                    <a:pt x="383" y="562"/>
                  </a:lnTo>
                  <a:lnTo>
                    <a:pt x="405" y="626"/>
                  </a:lnTo>
                  <a:lnTo>
                    <a:pt x="428" y="691"/>
                  </a:lnTo>
                  <a:lnTo>
                    <a:pt x="434" y="694"/>
                  </a:lnTo>
                  <a:lnTo>
                    <a:pt x="440" y="697"/>
                  </a:lnTo>
                  <a:lnTo>
                    <a:pt x="447" y="697"/>
                  </a:lnTo>
                  <a:lnTo>
                    <a:pt x="453" y="696"/>
                  </a:lnTo>
                  <a:lnTo>
                    <a:pt x="461" y="694"/>
                  </a:lnTo>
                  <a:lnTo>
                    <a:pt x="467" y="693"/>
                  </a:lnTo>
                  <a:lnTo>
                    <a:pt x="475" y="693"/>
                  </a:lnTo>
                  <a:lnTo>
                    <a:pt x="482" y="694"/>
                  </a:lnTo>
                  <a:lnTo>
                    <a:pt x="540" y="767"/>
                  </a:lnTo>
                  <a:lnTo>
                    <a:pt x="530" y="771"/>
                  </a:lnTo>
                  <a:lnTo>
                    <a:pt x="528" y="781"/>
                  </a:lnTo>
                  <a:lnTo>
                    <a:pt x="530" y="792"/>
                  </a:lnTo>
                  <a:lnTo>
                    <a:pt x="536" y="799"/>
                  </a:lnTo>
                  <a:lnTo>
                    <a:pt x="547" y="819"/>
                  </a:lnTo>
                  <a:lnTo>
                    <a:pt x="563" y="837"/>
                  </a:lnTo>
                  <a:lnTo>
                    <a:pt x="580" y="854"/>
                  </a:lnTo>
                  <a:lnTo>
                    <a:pt x="595" y="871"/>
                  </a:lnTo>
                  <a:lnTo>
                    <a:pt x="606" y="888"/>
                  </a:lnTo>
                  <a:lnTo>
                    <a:pt x="608" y="906"/>
                  </a:lnTo>
                  <a:lnTo>
                    <a:pt x="600" y="925"/>
                  </a:lnTo>
                  <a:lnTo>
                    <a:pt x="579" y="946"/>
                  </a:lnTo>
                  <a:lnTo>
                    <a:pt x="579" y="992"/>
                  </a:lnTo>
                  <a:lnTo>
                    <a:pt x="583" y="1033"/>
                  </a:lnTo>
                  <a:lnTo>
                    <a:pt x="588" y="1074"/>
                  </a:lnTo>
                  <a:lnTo>
                    <a:pt x="590" y="1119"/>
                  </a:lnTo>
                  <a:lnTo>
                    <a:pt x="609" y="1199"/>
                  </a:lnTo>
                  <a:lnTo>
                    <a:pt x="594" y="1204"/>
                  </a:lnTo>
                  <a:lnTo>
                    <a:pt x="579" y="1213"/>
                  </a:lnTo>
                  <a:lnTo>
                    <a:pt x="565" y="1224"/>
                  </a:lnTo>
                  <a:lnTo>
                    <a:pt x="551" y="1235"/>
                  </a:lnTo>
                  <a:lnTo>
                    <a:pt x="535" y="1244"/>
                  </a:lnTo>
                  <a:lnTo>
                    <a:pt x="521" y="1251"/>
                  </a:lnTo>
                  <a:lnTo>
                    <a:pt x="505" y="1253"/>
                  </a:lnTo>
                  <a:lnTo>
                    <a:pt x="489" y="1250"/>
                  </a:lnTo>
                  <a:lnTo>
                    <a:pt x="482" y="1251"/>
                  </a:lnTo>
                  <a:lnTo>
                    <a:pt x="477" y="1253"/>
                  </a:lnTo>
                  <a:lnTo>
                    <a:pt x="472" y="1255"/>
                  </a:lnTo>
                  <a:lnTo>
                    <a:pt x="466" y="1258"/>
                  </a:lnTo>
                  <a:lnTo>
                    <a:pt x="460" y="1262"/>
                  </a:lnTo>
                  <a:lnTo>
                    <a:pt x="454" y="1264"/>
                  </a:lnTo>
                  <a:lnTo>
                    <a:pt x="449" y="1267"/>
                  </a:lnTo>
                  <a:lnTo>
                    <a:pt x="442" y="1270"/>
                  </a:lnTo>
                  <a:lnTo>
                    <a:pt x="449" y="1282"/>
                  </a:lnTo>
                  <a:lnTo>
                    <a:pt x="450" y="1294"/>
                  </a:lnTo>
                  <a:lnTo>
                    <a:pt x="449" y="1305"/>
                  </a:lnTo>
                  <a:lnTo>
                    <a:pt x="445" y="1316"/>
                  </a:lnTo>
                  <a:lnTo>
                    <a:pt x="439" y="1326"/>
                  </a:lnTo>
                  <a:lnTo>
                    <a:pt x="433" y="1337"/>
                  </a:lnTo>
                  <a:lnTo>
                    <a:pt x="426" y="1348"/>
                  </a:lnTo>
                  <a:lnTo>
                    <a:pt x="421" y="1358"/>
                  </a:lnTo>
                  <a:lnTo>
                    <a:pt x="408" y="1363"/>
                  </a:lnTo>
                  <a:lnTo>
                    <a:pt x="395" y="1370"/>
                  </a:lnTo>
                  <a:lnTo>
                    <a:pt x="382" y="1377"/>
                  </a:lnTo>
                  <a:lnTo>
                    <a:pt x="370" y="1386"/>
                  </a:lnTo>
                  <a:lnTo>
                    <a:pt x="359" y="1396"/>
                  </a:lnTo>
                  <a:lnTo>
                    <a:pt x="349" y="1406"/>
                  </a:lnTo>
                  <a:lnTo>
                    <a:pt x="339" y="1417"/>
                  </a:lnTo>
                  <a:lnTo>
                    <a:pt x="331" y="1430"/>
                  </a:lnTo>
                  <a:lnTo>
                    <a:pt x="326" y="1445"/>
                  </a:lnTo>
                  <a:lnTo>
                    <a:pt x="322" y="1462"/>
                  </a:lnTo>
                  <a:lnTo>
                    <a:pt x="320" y="1480"/>
                  </a:lnTo>
                  <a:lnTo>
                    <a:pt x="320" y="1497"/>
                  </a:lnTo>
                  <a:lnTo>
                    <a:pt x="323" y="1514"/>
                  </a:lnTo>
                  <a:lnTo>
                    <a:pt x="327" y="1531"/>
                  </a:lnTo>
                  <a:lnTo>
                    <a:pt x="334" y="1545"/>
                  </a:lnTo>
                  <a:lnTo>
                    <a:pt x="345" y="1558"/>
                  </a:lnTo>
                  <a:lnTo>
                    <a:pt x="334" y="1565"/>
                  </a:lnTo>
                  <a:lnTo>
                    <a:pt x="314" y="1564"/>
                  </a:lnTo>
                  <a:lnTo>
                    <a:pt x="295" y="1563"/>
                  </a:lnTo>
                  <a:lnTo>
                    <a:pt x="274" y="1562"/>
                  </a:lnTo>
                  <a:lnTo>
                    <a:pt x="253" y="1562"/>
                  </a:lnTo>
                  <a:lnTo>
                    <a:pt x="234" y="1562"/>
                  </a:lnTo>
                  <a:lnTo>
                    <a:pt x="214" y="1562"/>
                  </a:lnTo>
                  <a:lnTo>
                    <a:pt x="193" y="1562"/>
                  </a:lnTo>
                  <a:lnTo>
                    <a:pt x="172" y="1561"/>
                  </a:lnTo>
                  <a:lnTo>
                    <a:pt x="152" y="1561"/>
                  </a:lnTo>
                  <a:lnTo>
                    <a:pt x="131" y="1561"/>
                  </a:lnTo>
                  <a:lnTo>
                    <a:pt x="111" y="1561"/>
                  </a:lnTo>
                  <a:lnTo>
                    <a:pt x="90" y="1561"/>
                  </a:lnTo>
                  <a:lnTo>
                    <a:pt x="70" y="1561"/>
                  </a:lnTo>
                  <a:lnTo>
                    <a:pt x="49" y="1560"/>
                  </a:lnTo>
                  <a:lnTo>
                    <a:pt x="28" y="1559"/>
                  </a:lnTo>
                  <a:lnTo>
                    <a:pt x="7" y="1558"/>
                  </a:lnTo>
                  <a:lnTo>
                    <a:pt x="0" y="465"/>
                  </a:lnTo>
                  <a:lnTo>
                    <a:pt x="3" y="3"/>
                  </a:lnTo>
                  <a:lnTo>
                    <a:pt x="964" y="0"/>
                  </a:lnTo>
                  <a:lnTo>
                    <a:pt x="953" y="3"/>
                  </a:lnTo>
                  <a:lnTo>
                    <a:pt x="943" y="7"/>
                  </a:lnTo>
                  <a:lnTo>
                    <a:pt x="933" y="13"/>
                  </a:lnTo>
                  <a:lnTo>
                    <a:pt x="923" y="18"/>
                  </a:lnTo>
                  <a:lnTo>
                    <a:pt x="913" y="26"/>
                  </a:lnTo>
                  <a:lnTo>
                    <a:pt x="906" y="33"/>
                  </a:lnTo>
                  <a:lnTo>
                    <a:pt x="898" y="43"/>
                  </a:lnTo>
                  <a:lnTo>
                    <a:pt x="893" y="54"/>
                  </a:lnTo>
                  <a:lnTo>
                    <a:pt x="886" y="77"/>
                  </a:lnTo>
                  <a:lnTo>
                    <a:pt x="886" y="97"/>
                  </a:lnTo>
                  <a:lnTo>
                    <a:pt x="891" y="116"/>
                  </a:lnTo>
                  <a:lnTo>
                    <a:pt x="899" y="134"/>
                  </a:lnTo>
                  <a:lnTo>
                    <a:pt x="909" y="151"/>
                  </a:lnTo>
                  <a:lnTo>
                    <a:pt x="921" y="167"/>
                  </a:lnTo>
                  <a:lnTo>
                    <a:pt x="933" y="185"/>
                  </a:lnTo>
                  <a:lnTo>
                    <a:pt x="944" y="201"/>
                  </a:lnTo>
                  <a:lnTo>
                    <a:pt x="958" y="217"/>
                  </a:lnTo>
                  <a:lnTo>
                    <a:pt x="975" y="228"/>
                  </a:lnTo>
                  <a:lnTo>
                    <a:pt x="992" y="236"/>
                  </a:lnTo>
                  <a:lnTo>
                    <a:pt x="1011" y="243"/>
                  </a:lnTo>
                  <a:lnTo>
                    <a:pt x="1030" y="247"/>
                  </a:lnTo>
                  <a:lnTo>
                    <a:pt x="1049" y="252"/>
                  </a:lnTo>
                  <a:lnTo>
                    <a:pt x="1069" y="256"/>
                  </a:lnTo>
                  <a:lnTo>
                    <a:pt x="1087" y="262"/>
                  </a:lnTo>
                  <a:lnTo>
                    <a:pt x="1095" y="257"/>
                  </a:lnTo>
                  <a:lnTo>
                    <a:pt x="1098" y="252"/>
                  </a:lnTo>
                  <a:lnTo>
                    <a:pt x="1097" y="245"/>
                  </a:lnTo>
                  <a:lnTo>
                    <a:pt x="1094" y="238"/>
                  </a:lnTo>
                  <a:lnTo>
                    <a:pt x="1089" y="231"/>
                  </a:lnTo>
                  <a:lnTo>
                    <a:pt x="1085" y="224"/>
                  </a:lnTo>
                  <a:lnTo>
                    <a:pt x="1081" y="216"/>
                  </a:lnTo>
                  <a:lnTo>
                    <a:pt x="1080" y="208"/>
                  </a:lnTo>
                  <a:lnTo>
                    <a:pt x="1078" y="180"/>
                  </a:lnTo>
                  <a:lnTo>
                    <a:pt x="1079" y="149"/>
                  </a:lnTo>
                  <a:lnTo>
                    <a:pt x="1081" y="118"/>
                  </a:lnTo>
                  <a:lnTo>
                    <a:pt x="1082" y="87"/>
                  </a:lnTo>
                  <a:lnTo>
                    <a:pt x="1079" y="59"/>
                  </a:lnTo>
                  <a:lnTo>
                    <a:pt x="1070" y="34"/>
                  </a:lnTo>
                  <a:lnTo>
                    <a:pt x="1053" y="14"/>
                  </a:lnTo>
                  <a:lnTo>
                    <a:pt x="1026" y="0"/>
                  </a:lnTo>
                  <a:lnTo>
                    <a:pt x="1989" y="0"/>
                  </a:lnTo>
                  <a:lnTo>
                    <a:pt x="2080" y="3"/>
                  </a:lnTo>
                  <a:lnTo>
                    <a:pt x="2086" y="28"/>
                  </a:lnTo>
                  <a:lnTo>
                    <a:pt x="2086" y="255"/>
                  </a:lnTo>
                  <a:lnTo>
                    <a:pt x="2097" y="1423"/>
                  </a:lnTo>
                  <a:lnTo>
                    <a:pt x="2094" y="156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9"/>
            <p:cNvSpPr/>
            <p:nvPr/>
          </p:nvSpPr>
          <p:spPr>
            <a:xfrm flipH="1">
              <a:off x="7328520" y="6388560"/>
              <a:ext cx="1642680" cy="322920"/>
            </a:xfrm>
            <a:custGeom>
              <a:avLst/>
              <a:gdLst>
                <a:gd name="textAreaLeft" fmla="*/ -360 w 1642680"/>
                <a:gd name="textAreaRight" fmla="*/ 1642680 w 16426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2092" h="479">
                  <a:moveTo>
                    <a:pt x="2084" y="475"/>
                  </a:moveTo>
                  <a:lnTo>
                    <a:pt x="15" y="479"/>
                  </a:lnTo>
                  <a:lnTo>
                    <a:pt x="9" y="479"/>
                  </a:lnTo>
                  <a:lnTo>
                    <a:pt x="6" y="357"/>
                  </a:lnTo>
                  <a:lnTo>
                    <a:pt x="2" y="234"/>
                  </a:lnTo>
                  <a:lnTo>
                    <a:pt x="0" y="114"/>
                  </a:lnTo>
                  <a:lnTo>
                    <a:pt x="1" y="0"/>
                  </a:lnTo>
                  <a:lnTo>
                    <a:pt x="361" y="4"/>
                  </a:lnTo>
                  <a:lnTo>
                    <a:pt x="365" y="6"/>
                  </a:lnTo>
                  <a:lnTo>
                    <a:pt x="370" y="8"/>
                  </a:lnTo>
                  <a:lnTo>
                    <a:pt x="374" y="12"/>
                  </a:lnTo>
                  <a:lnTo>
                    <a:pt x="378" y="15"/>
                  </a:lnTo>
                  <a:lnTo>
                    <a:pt x="381" y="17"/>
                  </a:lnTo>
                  <a:lnTo>
                    <a:pt x="387" y="18"/>
                  </a:lnTo>
                  <a:lnTo>
                    <a:pt x="391" y="18"/>
                  </a:lnTo>
                  <a:lnTo>
                    <a:pt x="398" y="17"/>
                  </a:lnTo>
                  <a:lnTo>
                    <a:pt x="403" y="27"/>
                  </a:lnTo>
                  <a:lnTo>
                    <a:pt x="408" y="35"/>
                  </a:lnTo>
                  <a:lnTo>
                    <a:pt x="416" y="44"/>
                  </a:lnTo>
                  <a:lnTo>
                    <a:pt x="424" y="52"/>
                  </a:lnTo>
                  <a:lnTo>
                    <a:pt x="432" y="59"/>
                  </a:lnTo>
                  <a:lnTo>
                    <a:pt x="442" y="65"/>
                  </a:lnTo>
                  <a:lnTo>
                    <a:pt x="452" y="69"/>
                  </a:lnTo>
                  <a:lnTo>
                    <a:pt x="461" y="71"/>
                  </a:lnTo>
                  <a:lnTo>
                    <a:pt x="474" y="73"/>
                  </a:lnTo>
                  <a:lnTo>
                    <a:pt x="487" y="72"/>
                  </a:lnTo>
                  <a:lnTo>
                    <a:pt x="499" y="70"/>
                  </a:lnTo>
                  <a:lnTo>
                    <a:pt x="510" y="66"/>
                  </a:lnTo>
                  <a:lnTo>
                    <a:pt x="521" y="60"/>
                  </a:lnTo>
                  <a:lnTo>
                    <a:pt x="530" y="55"/>
                  </a:lnTo>
                  <a:lnTo>
                    <a:pt x="540" y="47"/>
                  </a:lnTo>
                  <a:lnTo>
                    <a:pt x="549" y="40"/>
                  </a:lnTo>
                  <a:lnTo>
                    <a:pt x="562" y="48"/>
                  </a:lnTo>
                  <a:lnTo>
                    <a:pt x="566" y="57"/>
                  </a:lnTo>
                  <a:lnTo>
                    <a:pt x="565" y="67"/>
                  </a:lnTo>
                  <a:lnTo>
                    <a:pt x="561" y="76"/>
                  </a:lnTo>
                  <a:lnTo>
                    <a:pt x="553" y="87"/>
                  </a:lnTo>
                  <a:lnTo>
                    <a:pt x="546" y="98"/>
                  </a:lnTo>
                  <a:lnTo>
                    <a:pt x="539" y="109"/>
                  </a:lnTo>
                  <a:lnTo>
                    <a:pt x="537" y="120"/>
                  </a:lnTo>
                  <a:lnTo>
                    <a:pt x="519" y="148"/>
                  </a:lnTo>
                  <a:lnTo>
                    <a:pt x="508" y="131"/>
                  </a:lnTo>
                  <a:lnTo>
                    <a:pt x="497" y="117"/>
                  </a:lnTo>
                  <a:lnTo>
                    <a:pt x="484" y="104"/>
                  </a:lnTo>
                  <a:lnTo>
                    <a:pt x="470" y="94"/>
                  </a:lnTo>
                  <a:lnTo>
                    <a:pt x="456" y="85"/>
                  </a:lnTo>
                  <a:lnTo>
                    <a:pt x="441" y="79"/>
                  </a:lnTo>
                  <a:lnTo>
                    <a:pt x="425" y="72"/>
                  </a:lnTo>
                  <a:lnTo>
                    <a:pt x="408" y="68"/>
                  </a:lnTo>
                  <a:lnTo>
                    <a:pt x="392" y="65"/>
                  </a:lnTo>
                  <a:lnTo>
                    <a:pt x="375" y="62"/>
                  </a:lnTo>
                  <a:lnTo>
                    <a:pt x="358" y="62"/>
                  </a:lnTo>
                  <a:lnTo>
                    <a:pt x="340" y="61"/>
                  </a:lnTo>
                  <a:lnTo>
                    <a:pt x="324" y="62"/>
                  </a:lnTo>
                  <a:lnTo>
                    <a:pt x="307" y="63"/>
                  </a:lnTo>
                  <a:lnTo>
                    <a:pt x="291" y="66"/>
                  </a:lnTo>
                  <a:lnTo>
                    <a:pt x="274" y="68"/>
                  </a:lnTo>
                  <a:lnTo>
                    <a:pt x="249" y="79"/>
                  </a:lnTo>
                  <a:lnTo>
                    <a:pt x="228" y="102"/>
                  </a:lnTo>
                  <a:lnTo>
                    <a:pt x="208" y="126"/>
                  </a:lnTo>
                  <a:lnTo>
                    <a:pt x="186" y="150"/>
                  </a:lnTo>
                  <a:lnTo>
                    <a:pt x="164" y="174"/>
                  </a:lnTo>
                  <a:lnTo>
                    <a:pt x="144" y="198"/>
                  </a:lnTo>
                  <a:lnTo>
                    <a:pt x="122" y="223"/>
                  </a:lnTo>
                  <a:lnTo>
                    <a:pt x="103" y="248"/>
                  </a:lnTo>
                  <a:lnTo>
                    <a:pt x="83" y="274"/>
                  </a:lnTo>
                  <a:lnTo>
                    <a:pt x="98" y="284"/>
                  </a:lnTo>
                  <a:lnTo>
                    <a:pt x="102" y="282"/>
                  </a:lnTo>
                  <a:lnTo>
                    <a:pt x="101" y="286"/>
                  </a:lnTo>
                  <a:lnTo>
                    <a:pt x="96" y="290"/>
                  </a:lnTo>
                  <a:lnTo>
                    <a:pt x="91" y="296"/>
                  </a:lnTo>
                  <a:lnTo>
                    <a:pt x="84" y="300"/>
                  </a:lnTo>
                  <a:lnTo>
                    <a:pt x="77" y="305"/>
                  </a:lnTo>
                  <a:lnTo>
                    <a:pt x="71" y="312"/>
                  </a:lnTo>
                  <a:lnTo>
                    <a:pt x="69" y="319"/>
                  </a:lnTo>
                  <a:lnTo>
                    <a:pt x="69" y="328"/>
                  </a:lnTo>
                  <a:lnTo>
                    <a:pt x="58" y="339"/>
                  </a:lnTo>
                  <a:lnTo>
                    <a:pt x="53" y="352"/>
                  </a:lnTo>
                  <a:lnTo>
                    <a:pt x="53" y="365"/>
                  </a:lnTo>
                  <a:lnTo>
                    <a:pt x="55" y="382"/>
                  </a:lnTo>
                  <a:lnTo>
                    <a:pt x="65" y="389"/>
                  </a:lnTo>
                  <a:lnTo>
                    <a:pt x="75" y="392"/>
                  </a:lnTo>
                  <a:lnTo>
                    <a:pt x="85" y="392"/>
                  </a:lnTo>
                  <a:lnTo>
                    <a:pt x="96" y="391"/>
                  </a:lnTo>
                  <a:lnTo>
                    <a:pt x="107" y="389"/>
                  </a:lnTo>
                  <a:lnTo>
                    <a:pt x="119" y="387"/>
                  </a:lnTo>
                  <a:lnTo>
                    <a:pt x="130" y="389"/>
                  </a:lnTo>
                  <a:lnTo>
                    <a:pt x="141" y="392"/>
                  </a:lnTo>
                  <a:lnTo>
                    <a:pt x="158" y="394"/>
                  </a:lnTo>
                  <a:lnTo>
                    <a:pt x="174" y="396"/>
                  </a:lnTo>
                  <a:lnTo>
                    <a:pt x="190" y="399"/>
                  </a:lnTo>
                  <a:lnTo>
                    <a:pt x="208" y="402"/>
                  </a:lnTo>
                  <a:lnTo>
                    <a:pt x="224" y="405"/>
                  </a:lnTo>
                  <a:lnTo>
                    <a:pt x="240" y="408"/>
                  </a:lnTo>
                  <a:lnTo>
                    <a:pt x="256" y="411"/>
                  </a:lnTo>
                  <a:lnTo>
                    <a:pt x="272" y="415"/>
                  </a:lnTo>
                  <a:lnTo>
                    <a:pt x="289" y="419"/>
                  </a:lnTo>
                  <a:lnTo>
                    <a:pt x="305" y="422"/>
                  </a:lnTo>
                  <a:lnTo>
                    <a:pt x="321" y="425"/>
                  </a:lnTo>
                  <a:lnTo>
                    <a:pt x="337" y="430"/>
                  </a:lnTo>
                  <a:lnTo>
                    <a:pt x="354" y="433"/>
                  </a:lnTo>
                  <a:lnTo>
                    <a:pt x="371" y="436"/>
                  </a:lnTo>
                  <a:lnTo>
                    <a:pt x="388" y="440"/>
                  </a:lnTo>
                  <a:lnTo>
                    <a:pt x="405" y="444"/>
                  </a:lnTo>
                  <a:lnTo>
                    <a:pt x="455" y="431"/>
                  </a:lnTo>
                  <a:lnTo>
                    <a:pt x="475" y="433"/>
                  </a:lnTo>
                  <a:lnTo>
                    <a:pt x="497" y="436"/>
                  </a:lnTo>
                  <a:lnTo>
                    <a:pt x="518" y="438"/>
                  </a:lnTo>
                  <a:lnTo>
                    <a:pt x="538" y="439"/>
                  </a:lnTo>
                  <a:lnTo>
                    <a:pt x="559" y="442"/>
                  </a:lnTo>
                  <a:lnTo>
                    <a:pt x="578" y="443"/>
                  </a:lnTo>
                  <a:lnTo>
                    <a:pt x="599" y="445"/>
                  </a:lnTo>
                  <a:lnTo>
                    <a:pt x="619" y="446"/>
                  </a:lnTo>
                  <a:lnTo>
                    <a:pt x="640" y="447"/>
                  </a:lnTo>
                  <a:lnTo>
                    <a:pt x="660" y="449"/>
                  </a:lnTo>
                  <a:lnTo>
                    <a:pt x="680" y="450"/>
                  </a:lnTo>
                  <a:lnTo>
                    <a:pt x="700" y="452"/>
                  </a:lnTo>
                  <a:lnTo>
                    <a:pt x="721" y="453"/>
                  </a:lnTo>
                  <a:lnTo>
                    <a:pt x="741" y="456"/>
                  </a:lnTo>
                  <a:lnTo>
                    <a:pt x="763" y="459"/>
                  </a:lnTo>
                  <a:lnTo>
                    <a:pt x="783" y="461"/>
                  </a:lnTo>
                  <a:lnTo>
                    <a:pt x="793" y="453"/>
                  </a:lnTo>
                  <a:lnTo>
                    <a:pt x="800" y="444"/>
                  </a:lnTo>
                  <a:lnTo>
                    <a:pt x="807" y="434"/>
                  </a:lnTo>
                  <a:lnTo>
                    <a:pt x="812" y="423"/>
                  </a:lnTo>
                  <a:lnTo>
                    <a:pt x="818" y="412"/>
                  </a:lnTo>
                  <a:lnTo>
                    <a:pt x="823" y="403"/>
                  </a:lnTo>
                  <a:lnTo>
                    <a:pt x="830" y="392"/>
                  </a:lnTo>
                  <a:lnTo>
                    <a:pt x="837" y="382"/>
                  </a:lnTo>
                  <a:lnTo>
                    <a:pt x="860" y="382"/>
                  </a:lnTo>
                  <a:lnTo>
                    <a:pt x="883" y="382"/>
                  </a:lnTo>
                  <a:lnTo>
                    <a:pt x="904" y="382"/>
                  </a:lnTo>
                  <a:lnTo>
                    <a:pt x="926" y="381"/>
                  </a:lnTo>
                  <a:lnTo>
                    <a:pt x="946" y="381"/>
                  </a:lnTo>
                  <a:lnTo>
                    <a:pt x="968" y="382"/>
                  </a:lnTo>
                  <a:lnTo>
                    <a:pt x="988" y="383"/>
                  </a:lnTo>
                  <a:lnTo>
                    <a:pt x="1009" y="384"/>
                  </a:lnTo>
                  <a:lnTo>
                    <a:pt x="1020" y="370"/>
                  </a:lnTo>
                  <a:lnTo>
                    <a:pt x="1028" y="354"/>
                  </a:lnTo>
                  <a:lnTo>
                    <a:pt x="1036" y="336"/>
                  </a:lnTo>
                  <a:lnTo>
                    <a:pt x="1041" y="317"/>
                  </a:lnTo>
                  <a:lnTo>
                    <a:pt x="1047" y="298"/>
                  </a:lnTo>
                  <a:lnTo>
                    <a:pt x="1052" y="278"/>
                  </a:lnTo>
                  <a:lnTo>
                    <a:pt x="1056" y="259"/>
                  </a:lnTo>
                  <a:lnTo>
                    <a:pt x="1063" y="241"/>
                  </a:lnTo>
                  <a:lnTo>
                    <a:pt x="1070" y="269"/>
                  </a:lnTo>
                  <a:lnTo>
                    <a:pt x="1068" y="299"/>
                  </a:lnTo>
                  <a:lnTo>
                    <a:pt x="1061" y="330"/>
                  </a:lnTo>
                  <a:lnTo>
                    <a:pt x="1053" y="359"/>
                  </a:lnTo>
                  <a:lnTo>
                    <a:pt x="1065" y="367"/>
                  </a:lnTo>
                  <a:lnTo>
                    <a:pt x="1077" y="373"/>
                  </a:lnTo>
                  <a:lnTo>
                    <a:pt x="1089" y="381"/>
                  </a:lnTo>
                  <a:lnTo>
                    <a:pt x="1100" y="389"/>
                  </a:lnTo>
                  <a:lnTo>
                    <a:pt x="1112" y="395"/>
                  </a:lnTo>
                  <a:lnTo>
                    <a:pt x="1123" y="403"/>
                  </a:lnTo>
                  <a:lnTo>
                    <a:pt x="1135" y="410"/>
                  </a:lnTo>
                  <a:lnTo>
                    <a:pt x="1147" y="417"/>
                  </a:lnTo>
                  <a:lnTo>
                    <a:pt x="1159" y="424"/>
                  </a:lnTo>
                  <a:lnTo>
                    <a:pt x="1171" y="432"/>
                  </a:lnTo>
                  <a:lnTo>
                    <a:pt x="1183" y="438"/>
                  </a:lnTo>
                  <a:lnTo>
                    <a:pt x="1195" y="446"/>
                  </a:lnTo>
                  <a:lnTo>
                    <a:pt x="1207" y="452"/>
                  </a:lnTo>
                  <a:lnTo>
                    <a:pt x="1218" y="459"/>
                  </a:lnTo>
                  <a:lnTo>
                    <a:pt x="1230" y="465"/>
                  </a:lnTo>
                  <a:lnTo>
                    <a:pt x="1242" y="472"/>
                  </a:lnTo>
                  <a:lnTo>
                    <a:pt x="1254" y="469"/>
                  </a:lnTo>
                  <a:lnTo>
                    <a:pt x="1266" y="466"/>
                  </a:lnTo>
                  <a:lnTo>
                    <a:pt x="1278" y="463"/>
                  </a:lnTo>
                  <a:lnTo>
                    <a:pt x="1290" y="461"/>
                  </a:lnTo>
                  <a:lnTo>
                    <a:pt x="1302" y="458"/>
                  </a:lnTo>
                  <a:lnTo>
                    <a:pt x="1313" y="456"/>
                  </a:lnTo>
                  <a:lnTo>
                    <a:pt x="1325" y="452"/>
                  </a:lnTo>
                  <a:lnTo>
                    <a:pt x="1338" y="450"/>
                  </a:lnTo>
                  <a:lnTo>
                    <a:pt x="1350" y="448"/>
                  </a:lnTo>
                  <a:lnTo>
                    <a:pt x="1362" y="445"/>
                  </a:lnTo>
                  <a:lnTo>
                    <a:pt x="1375" y="443"/>
                  </a:lnTo>
                  <a:lnTo>
                    <a:pt x="1387" y="439"/>
                  </a:lnTo>
                  <a:lnTo>
                    <a:pt x="1399" y="437"/>
                  </a:lnTo>
                  <a:lnTo>
                    <a:pt x="1412" y="434"/>
                  </a:lnTo>
                  <a:lnTo>
                    <a:pt x="1424" y="432"/>
                  </a:lnTo>
                  <a:lnTo>
                    <a:pt x="1436" y="429"/>
                  </a:lnTo>
                  <a:lnTo>
                    <a:pt x="1440" y="418"/>
                  </a:lnTo>
                  <a:lnTo>
                    <a:pt x="1445" y="408"/>
                  </a:lnTo>
                  <a:lnTo>
                    <a:pt x="1451" y="398"/>
                  </a:lnTo>
                  <a:lnTo>
                    <a:pt x="1455" y="389"/>
                  </a:lnTo>
                  <a:lnTo>
                    <a:pt x="1460" y="379"/>
                  </a:lnTo>
                  <a:lnTo>
                    <a:pt x="1464" y="368"/>
                  </a:lnTo>
                  <a:lnTo>
                    <a:pt x="1465" y="357"/>
                  </a:lnTo>
                  <a:lnTo>
                    <a:pt x="1465" y="345"/>
                  </a:lnTo>
                  <a:lnTo>
                    <a:pt x="1459" y="330"/>
                  </a:lnTo>
                  <a:lnTo>
                    <a:pt x="1452" y="315"/>
                  </a:lnTo>
                  <a:lnTo>
                    <a:pt x="1442" y="301"/>
                  </a:lnTo>
                  <a:lnTo>
                    <a:pt x="1432" y="288"/>
                  </a:lnTo>
                  <a:lnTo>
                    <a:pt x="1420" y="276"/>
                  </a:lnTo>
                  <a:lnTo>
                    <a:pt x="1409" y="264"/>
                  </a:lnTo>
                  <a:lnTo>
                    <a:pt x="1396" y="252"/>
                  </a:lnTo>
                  <a:lnTo>
                    <a:pt x="1382" y="242"/>
                  </a:lnTo>
                  <a:lnTo>
                    <a:pt x="1367" y="231"/>
                  </a:lnTo>
                  <a:lnTo>
                    <a:pt x="1353" y="220"/>
                  </a:lnTo>
                  <a:lnTo>
                    <a:pt x="1338" y="210"/>
                  </a:lnTo>
                  <a:lnTo>
                    <a:pt x="1324" y="200"/>
                  </a:lnTo>
                  <a:lnTo>
                    <a:pt x="1310" y="189"/>
                  </a:lnTo>
                  <a:lnTo>
                    <a:pt x="1296" y="178"/>
                  </a:lnTo>
                  <a:lnTo>
                    <a:pt x="1283" y="167"/>
                  </a:lnTo>
                  <a:lnTo>
                    <a:pt x="1270" y="155"/>
                  </a:lnTo>
                  <a:lnTo>
                    <a:pt x="1085" y="174"/>
                  </a:lnTo>
                  <a:lnTo>
                    <a:pt x="1081" y="158"/>
                  </a:lnTo>
                  <a:lnTo>
                    <a:pt x="1083" y="140"/>
                  </a:lnTo>
                  <a:lnTo>
                    <a:pt x="1088" y="122"/>
                  </a:lnTo>
                  <a:lnTo>
                    <a:pt x="1092" y="104"/>
                  </a:lnTo>
                  <a:lnTo>
                    <a:pt x="1093" y="88"/>
                  </a:lnTo>
                  <a:lnTo>
                    <a:pt x="1089" y="76"/>
                  </a:lnTo>
                  <a:lnTo>
                    <a:pt x="1076" y="71"/>
                  </a:lnTo>
                  <a:lnTo>
                    <a:pt x="1053" y="71"/>
                  </a:lnTo>
                  <a:lnTo>
                    <a:pt x="973" y="66"/>
                  </a:lnTo>
                  <a:lnTo>
                    <a:pt x="992" y="60"/>
                  </a:lnTo>
                  <a:lnTo>
                    <a:pt x="1011" y="55"/>
                  </a:lnTo>
                  <a:lnTo>
                    <a:pt x="1029" y="48"/>
                  </a:lnTo>
                  <a:lnTo>
                    <a:pt x="1049" y="42"/>
                  </a:lnTo>
                  <a:lnTo>
                    <a:pt x="1067" y="35"/>
                  </a:lnTo>
                  <a:lnTo>
                    <a:pt x="1086" y="27"/>
                  </a:lnTo>
                  <a:lnTo>
                    <a:pt x="1104" y="17"/>
                  </a:lnTo>
                  <a:lnTo>
                    <a:pt x="1120" y="6"/>
                  </a:lnTo>
                  <a:lnTo>
                    <a:pt x="1118" y="19"/>
                  </a:lnTo>
                  <a:lnTo>
                    <a:pt x="1118" y="30"/>
                  </a:lnTo>
                  <a:lnTo>
                    <a:pt x="1121" y="41"/>
                  </a:lnTo>
                  <a:lnTo>
                    <a:pt x="1127" y="50"/>
                  </a:lnTo>
                  <a:lnTo>
                    <a:pt x="1133" y="59"/>
                  </a:lnTo>
                  <a:lnTo>
                    <a:pt x="1142" y="67"/>
                  </a:lnTo>
                  <a:lnTo>
                    <a:pt x="1151" y="73"/>
                  </a:lnTo>
                  <a:lnTo>
                    <a:pt x="1161" y="79"/>
                  </a:lnTo>
                  <a:lnTo>
                    <a:pt x="1225" y="47"/>
                  </a:lnTo>
                  <a:lnTo>
                    <a:pt x="1225" y="63"/>
                  </a:lnTo>
                  <a:lnTo>
                    <a:pt x="1229" y="77"/>
                  </a:lnTo>
                  <a:lnTo>
                    <a:pt x="1236" y="92"/>
                  </a:lnTo>
                  <a:lnTo>
                    <a:pt x="1244" y="104"/>
                  </a:lnTo>
                  <a:lnTo>
                    <a:pt x="1255" y="116"/>
                  </a:lnTo>
                  <a:lnTo>
                    <a:pt x="1267" y="128"/>
                  </a:lnTo>
                  <a:lnTo>
                    <a:pt x="1279" y="138"/>
                  </a:lnTo>
                  <a:lnTo>
                    <a:pt x="1292" y="148"/>
                  </a:lnTo>
                  <a:lnTo>
                    <a:pt x="1312" y="152"/>
                  </a:lnTo>
                  <a:lnTo>
                    <a:pt x="1333" y="154"/>
                  </a:lnTo>
                  <a:lnTo>
                    <a:pt x="1355" y="153"/>
                  </a:lnTo>
                  <a:lnTo>
                    <a:pt x="1376" y="149"/>
                  </a:lnTo>
                  <a:lnTo>
                    <a:pt x="1398" y="142"/>
                  </a:lnTo>
                  <a:lnTo>
                    <a:pt x="1418" y="135"/>
                  </a:lnTo>
                  <a:lnTo>
                    <a:pt x="1437" y="124"/>
                  </a:lnTo>
                  <a:lnTo>
                    <a:pt x="1454" y="112"/>
                  </a:lnTo>
                  <a:lnTo>
                    <a:pt x="1461" y="104"/>
                  </a:lnTo>
                  <a:lnTo>
                    <a:pt x="1469" y="96"/>
                  </a:lnTo>
                  <a:lnTo>
                    <a:pt x="1474" y="86"/>
                  </a:lnTo>
                  <a:lnTo>
                    <a:pt x="1481" y="77"/>
                  </a:lnTo>
                  <a:lnTo>
                    <a:pt x="1486" y="69"/>
                  </a:lnTo>
                  <a:lnTo>
                    <a:pt x="1494" y="61"/>
                  </a:lnTo>
                  <a:lnTo>
                    <a:pt x="1502" y="55"/>
                  </a:lnTo>
                  <a:lnTo>
                    <a:pt x="1512" y="50"/>
                  </a:lnTo>
                  <a:lnTo>
                    <a:pt x="1512" y="88"/>
                  </a:lnTo>
                  <a:lnTo>
                    <a:pt x="1525" y="124"/>
                  </a:lnTo>
                  <a:lnTo>
                    <a:pt x="1544" y="158"/>
                  </a:lnTo>
                  <a:lnTo>
                    <a:pt x="1564" y="192"/>
                  </a:lnTo>
                  <a:lnTo>
                    <a:pt x="1580" y="225"/>
                  </a:lnTo>
                  <a:lnTo>
                    <a:pt x="1587" y="259"/>
                  </a:lnTo>
                  <a:lnTo>
                    <a:pt x="1579" y="294"/>
                  </a:lnTo>
                  <a:lnTo>
                    <a:pt x="1551" y="328"/>
                  </a:lnTo>
                  <a:lnTo>
                    <a:pt x="1553" y="343"/>
                  </a:lnTo>
                  <a:lnTo>
                    <a:pt x="1561" y="355"/>
                  </a:lnTo>
                  <a:lnTo>
                    <a:pt x="1572" y="366"/>
                  </a:lnTo>
                  <a:lnTo>
                    <a:pt x="1586" y="375"/>
                  </a:lnTo>
                  <a:lnTo>
                    <a:pt x="1601" y="382"/>
                  </a:lnTo>
                  <a:lnTo>
                    <a:pt x="1616" y="390"/>
                  </a:lnTo>
                  <a:lnTo>
                    <a:pt x="1631" y="396"/>
                  </a:lnTo>
                  <a:lnTo>
                    <a:pt x="1644" y="403"/>
                  </a:lnTo>
                  <a:lnTo>
                    <a:pt x="1663" y="416"/>
                  </a:lnTo>
                  <a:lnTo>
                    <a:pt x="1684" y="422"/>
                  </a:lnTo>
                  <a:lnTo>
                    <a:pt x="1704" y="425"/>
                  </a:lnTo>
                  <a:lnTo>
                    <a:pt x="1727" y="425"/>
                  </a:lnTo>
                  <a:lnTo>
                    <a:pt x="1749" y="422"/>
                  </a:lnTo>
                  <a:lnTo>
                    <a:pt x="1770" y="419"/>
                  </a:lnTo>
                  <a:lnTo>
                    <a:pt x="1792" y="415"/>
                  </a:lnTo>
                  <a:lnTo>
                    <a:pt x="1814" y="410"/>
                  </a:lnTo>
                  <a:lnTo>
                    <a:pt x="1980" y="392"/>
                  </a:lnTo>
                  <a:lnTo>
                    <a:pt x="1992" y="383"/>
                  </a:lnTo>
                  <a:lnTo>
                    <a:pt x="2000" y="372"/>
                  </a:lnTo>
                  <a:lnTo>
                    <a:pt x="2007" y="360"/>
                  </a:lnTo>
                  <a:lnTo>
                    <a:pt x="2011" y="348"/>
                  </a:lnTo>
                  <a:lnTo>
                    <a:pt x="2014" y="333"/>
                  </a:lnTo>
                  <a:lnTo>
                    <a:pt x="2017" y="319"/>
                  </a:lnTo>
                  <a:lnTo>
                    <a:pt x="2019" y="305"/>
                  </a:lnTo>
                  <a:lnTo>
                    <a:pt x="2022" y="291"/>
                  </a:lnTo>
                  <a:lnTo>
                    <a:pt x="2019" y="281"/>
                  </a:lnTo>
                  <a:lnTo>
                    <a:pt x="2014" y="270"/>
                  </a:lnTo>
                  <a:lnTo>
                    <a:pt x="2010" y="259"/>
                  </a:lnTo>
                  <a:lnTo>
                    <a:pt x="2006" y="248"/>
                  </a:lnTo>
                  <a:lnTo>
                    <a:pt x="2000" y="238"/>
                  </a:lnTo>
                  <a:lnTo>
                    <a:pt x="1994" y="228"/>
                  </a:lnTo>
                  <a:lnTo>
                    <a:pt x="1987" y="218"/>
                  </a:lnTo>
                  <a:lnTo>
                    <a:pt x="1980" y="209"/>
                  </a:lnTo>
                  <a:lnTo>
                    <a:pt x="1982" y="205"/>
                  </a:lnTo>
                  <a:lnTo>
                    <a:pt x="1983" y="200"/>
                  </a:lnTo>
                  <a:lnTo>
                    <a:pt x="1984" y="195"/>
                  </a:lnTo>
                  <a:lnTo>
                    <a:pt x="1983" y="191"/>
                  </a:lnTo>
                  <a:lnTo>
                    <a:pt x="1976" y="191"/>
                  </a:lnTo>
                  <a:lnTo>
                    <a:pt x="1969" y="189"/>
                  </a:lnTo>
                  <a:lnTo>
                    <a:pt x="1964" y="186"/>
                  </a:lnTo>
                  <a:lnTo>
                    <a:pt x="1959" y="181"/>
                  </a:lnTo>
                  <a:lnTo>
                    <a:pt x="1954" y="177"/>
                  </a:lnTo>
                  <a:lnTo>
                    <a:pt x="1951" y="170"/>
                  </a:lnTo>
                  <a:lnTo>
                    <a:pt x="1947" y="165"/>
                  </a:lnTo>
                  <a:lnTo>
                    <a:pt x="1944" y="158"/>
                  </a:lnTo>
                  <a:lnTo>
                    <a:pt x="1944" y="138"/>
                  </a:lnTo>
                  <a:lnTo>
                    <a:pt x="1943" y="119"/>
                  </a:lnTo>
                  <a:lnTo>
                    <a:pt x="1945" y="99"/>
                  </a:lnTo>
                  <a:lnTo>
                    <a:pt x="1951" y="79"/>
                  </a:lnTo>
                  <a:lnTo>
                    <a:pt x="1957" y="76"/>
                  </a:lnTo>
                  <a:lnTo>
                    <a:pt x="1963" y="74"/>
                  </a:lnTo>
                  <a:lnTo>
                    <a:pt x="1969" y="70"/>
                  </a:lnTo>
                  <a:lnTo>
                    <a:pt x="1973" y="66"/>
                  </a:lnTo>
                  <a:lnTo>
                    <a:pt x="1978" y="61"/>
                  </a:lnTo>
                  <a:lnTo>
                    <a:pt x="1982" y="55"/>
                  </a:lnTo>
                  <a:lnTo>
                    <a:pt x="1984" y="49"/>
                  </a:lnTo>
                  <a:lnTo>
                    <a:pt x="1986" y="43"/>
                  </a:lnTo>
                  <a:lnTo>
                    <a:pt x="1991" y="12"/>
                  </a:lnTo>
                  <a:lnTo>
                    <a:pt x="2088" y="12"/>
                  </a:lnTo>
                  <a:lnTo>
                    <a:pt x="2091" y="21"/>
                  </a:lnTo>
                  <a:lnTo>
                    <a:pt x="2091" y="136"/>
                  </a:lnTo>
                  <a:lnTo>
                    <a:pt x="2092" y="250"/>
                  </a:lnTo>
                  <a:lnTo>
                    <a:pt x="2090" y="364"/>
                  </a:lnTo>
                  <a:lnTo>
                    <a:pt x="2084" y="475"/>
                  </a:lnTo>
                  <a:close/>
                </a:path>
              </a:pathLst>
            </a:custGeom>
            <a:solidFill>
              <a:srgbClr val="ffe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0"/>
            <p:cNvSpPr/>
            <p:nvPr/>
          </p:nvSpPr>
          <p:spPr>
            <a:xfrm flipH="1">
              <a:off x="7402320" y="6555960"/>
              <a:ext cx="23400" cy="6048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" h="90">
                  <a:moveTo>
                    <a:pt x="18" y="90"/>
                  </a:moveTo>
                  <a:lnTo>
                    <a:pt x="11" y="79"/>
                  </a:lnTo>
                  <a:lnTo>
                    <a:pt x="3" y="67"/>
                  </a:lnTo>
                  <a:lnTo>
                    <a:pt x="0" y="52"/>
                  </a:lnTo>
                  <a:lnTo>
                    <a:pt x="0" y="36"/>
                  </a:lnTo>
                  <a:lnTo>
                    <a:pt x="2" y="26"/>
                  </a:lnTo>
                  <a:lnTo>
                    <a:pt x="6" y="17"/>
                  </a:lnTo>
                  <a:lnTo>
                    <a:pt x="8" y="9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1" y="20"/>
                  </a:lnTo>
                  <a:lnTo>
                    <a:pt x="26" y="35"/>
                  </a:lnTo>
                  <a:lnTo>
                    <a:pt x="30" y="51"/>
                  </a:lnTo>
                  <a:lnTo>
                    <a:pt x="27" y="61"/>
                  </a:lnTo>
                  <a:lnTo>
                    <a:pt x="25" y="70"/>
                  </a:lnTo>
                  <a:lnTo>
                    <a:pt x="22" y="80"/>
                  </a:lnTo>
                  <a:lnTo>
                    <a:pt x="18" y="9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1"/>
            <p:cNvSpPr/>
            <p:nvPr/>
          </p:nvSpPr>
          <p:spPr>
            <a:xfrm flipH="1">
              <a:off x="7422840" y="6296760"/>
              <a:ext cx="152280" cy="2160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94" h="32">
                  <a:moveTo>
                    <a:pt x="190" y="22"/>
                  </a:moveTo>
                  <a:lnTo>
                    <a:pt x="179" y="23"/>
                  </a:lnTo>
                  <a:lnTo>
                    <a:pt x="169" y="26"/>
                  </a:lnTo>
                  <a:lnTo>
                    <a:pt x="159" y="27"/>
                  </a:lnTo>
                  <a:lnTo>
                    <a:pt x="148" y="28"/>
                  </a:lnTo>
                  <a:lnTo>
                    <a:pt x="137" y="29"/>
                  </a:lnTo>
                  <a:lnTo>
                    <a:pt x="126" y="30"/>
                  </a:lnTo>
                  <a:lnTo>
                    <a:pt x="114" y="31"/>
                  </a:lnTo>
                  <a:lnTo>
                    <a:pt x="104" y="31"/>
                  </a:lnTo>
                  <a:lnTo>
                    <a:pt x="93" y="32"/>
                  </a:lnTo>
                  <a:lnTo>
                    <a:pt x="82" y="32"/>
                  </a:lnTo>
                  <a:lnTo>
                    <a:pt x="70" y="32"/>
                  </a:lnTo>
                  <a:lnTo>
                    <a:pt x="59" y="32"/>
                  </a:lnTo>
                  <a:lnTo>
                    <a:pt x="49" y="31"/>
                  </a:lnTo>
                  <a:lnTo>
                    <a:pt x="37" y="31"/>
                  </a:lnTo>
                  <a:lnTo>
                    <a:pt x="26" y="30"/>
                  </a:lnTo>
                  <a:lnTo>
                    <a:pt x="15" y="28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3" y="6"/>
                  </a:lnTo>
                  <a:lnTo>
                    <a:pt x="34" y="7"/>
                  </a:lnTo>
                  <a:lnTo>
                    <a:pt x="47" y="7"/>
                  </a:lnTo>
                  <a:lnTo>
                    <a:pt x="59" y="7"/>
                  </a:lnTo>
                  <a:lnTo>
                    <a:pt x="71" y="6"/>
                  </a:lnTo>
                  <a:lnTo>
                    <a:pt x="83" y="3"/>
                  </a:lnTo>
                  <a:lnTo>
                    <a:pt x="94" y="0"/>
                  </a:lnTo>
                  <a:lnTo>
                    <a:pt x="194" y="7"/>
                  </a:lnTo>
                  <a:lnTo>
                    <a:pt x="190" y="22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2"/>
            <p:cNvSpPr/>
            <p:nvPr/>
          </p:nvSpPr>
          <p:spPr>
            <a:xfrm flipH="1">
              <a:off x="7422840" y="6611400"/>
              <a:ext cx="309960" cy="46440"/>
            </a:xfrm>
            <a:custGeom>
              <a:avLst/>
              <a:gdLst>
                <a:gd name="textAreaLeft" fmla="*/ -360 w 309960"/>
                <a:gd name="textAreaRight" fmla="*/ 309960 w 3099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95" h="69">
                  <a:moveTo>
                    <a:pt x="125" y="69"/>
                  </a:moveTo>
                  <a:lnTo>
                    <a:pt x="109" y="62"/>
                  </a:lnTo>
                  <a:lnTo>
                    <a:pt x="92" y="55"/>
                  </a:lnTo>
                  <a:lnTo>
                    <a:pt x="76" y="48"/>
                  </a:lnTo>
                  <a:lnTo>
                    <a:pt x="58" y="41"/>
                  </a:lnTo>
                  <a:lnTo>
                    <a:pt x="42" y="33"/>
                  </a:lnTo>
                  <a:lnTo>
                    <a:pt x="27" y="24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16" y="5"/>
                  </a:lnTo>
                  <a:lnTo>
                    <a:pt x="32" y="11"/>
                  </a:lnTo>
                  <a:lnTo>
                    <a:pt x="50" y="18"/>
                  </a:lnTo>
                  <a:lnTo>
                    <a:pt x="66" y="25"/>
                  </a:lnTo>
                  <a:lnTo>
                    <a:pt x="82" y="34"/>
                  </a:lnTo>
                  <a:lnTo>
                    <a:pt x="98" y="43"/>
                  </a:lnTo>
                  <a:lnTo>
                    <a:pt x="113" y="54"/>
                  </a:lnTo>
                  <a:lnTo>
                    <a:pt x="129" y="65"/>
                  </a:lnTo>
                  <a:lnTo>
                    <a:pt x="144" y="60"/>
                  </a:lnTo>
                  <a:lnTo>
                    <a:pt x="160" y="55"/>
                  </a:lnTo>
                  <a:lnTo>
                    <a:pt x="176" y="52"/>
                  </a:lnTo>
                  <a:lnTo>
                    <a:pt x="192" y="50"/>
                  </a:lnTo>
                  <a:lnTo>
                    <a:pt x="208" y="49"/>
                  </a:lnTo>
                  <a:lnTo>
                    <a:pt x="226" y="47"/>
                  </a:lnTo>
                  <a:lnTo>
                    <a:pt x="243" y="47"/>
                  </a:lnTo>
                  <a:lnTo>
                    <a:pt x="260" y="46"/>
                  </a:lnTo>
                  <a:lnTo>
                    <a:pt x="278" y="45"/>
                  </a:lnTo>
                  <a:lnTo>
                    <a:pt x="294" y="45"/>
                  </a:lnTo>
                  <a:lnTo>
                    <a:pt x="311" y="43"/>
                  </a:lnTo>
                  <a:lnTo>
                    <a:pt x="328" y="42"/>
                  </a:lnTo>
                  <a:lnTo>
                    <a:pt x="346" y="40"/>
                  </a:lnTo>
                  <a:lnTo>
                    <a:pt x="362" y="37"/>
                  </a:lnTo>
                  <a:lnTo>
                    <a:pt x="379" y="34"/>
                  </a:lnTo>
                  <a:lnTo>
                    <a:pt x="395" y="29"/>
                  </a:lnTo>
                  <a:lnTo>
                    <a:pt x="380" y="34"/>
                  </a:lnTo>
                  <a:lnTo>
                    <a:pt x="365" y="37"/>
                  </a:lnTo>
                  <a:lnTo>
                    <a:pt x="350" y="41"/>
                  </a:lnTo>
                  <a:lnTo>
                    <a:pt x="334" y="43"/>
                  </a:lnTo>
                  <a:lnTo>
                    <a:pt x="318" y="47"/>
                  </a:lnTo>
                  <a:lnTo>
                    <a:pt x="300" y="49"/>
                  </a:lnTo>
                  <a:lnTo>
                    <a:pt x="284" y="51"/>
                  </a:lnTo>
                  <a:lnTo>
                    <a:pt x="267" y="53"/>
                  </a:lnTo>
                  <a:lnTo>
                    <a:pt x="250" y="55"/>
                  </a:lnTo>
                  <a:lnTo>
                    <a:pt x="232" y="57"/>
                  </a:lnTo>
                  <a:lnTo>
                    <a:pt x="214" y="60"/>
                  </a:lnTo>
                  <a:lnTo>
                    <a:pt x="197" y="61"/>
                  </a:lnTo>
                  <a:lnTo>
                    <a:pt x="179" y="63"/>
                  </a:lnTo>
                  <a:lnTo>
                    <a:pt x="161" y="65"/>
                  </a:lnTo>
                  <a:lnTo>
                    <a:pt x="144" y="67"/>
                  </a:lnTo>
                  <a:lnTo>
                    <a:pt x="125" y="69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3"/>
            <p:cNvSpPr/>
            <p:nvPr/>
          </p:nvSpPr>
          <p:spPr>
            <a:xfrm flipH="1">
              <a:off x="7430040" y="6328080"/>
              <a:ext cx="131040" cy="864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67" h="13">
                  <a:moveTo>
                    <a:pt x="167" y="8"/>
                  </a:moveTo>
                  <a:lnTo>
                    <a:pt x="146" y="7"/>
                  </a:lnTo>
                  <a:lnTo>
                    <a:pt x="126" y="7"/>
                  </a:lnTo>
                  <a:lnTo>
                    <a:pt x="104" y="8"/>
                  </a:lnTo>
                  <a:lnTo>
                    <a:pt x="83" y="10"/>
                  </a:lnTo>
                  <a:lnTo>
                    <a:pt x="63" y="11"/>
                  </a:lnTo>
                  <a:lnTo>
                    <a:pt x="41" y="12"/>
                  </a:lnTo>
                  <a:lnTo>
                    <a:pt x="21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67" y="0"/>
                  </a:lnTo>
                  <a:lnTo>
                    <a:pt x="167" y="8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4"/>
            <p:cNvSpPr/>
            <p:nvPr/>
          </p:nvSpPr>
          <p:spPr>
            <a:xfrm flipH="1">
              <a:off x="7430040" y="6382800"/>
              <a:ext cx="173160" cy="864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21" h="13">
                  <a:moveTo>
                    <a:pt x="0" y="5"/>
                  </a:moveTo>
                  <a:lnTo>
                    <a:pt x="14" y="4"/>
                  </a:lnTo>
                  <a:lnTo>
                    <a:pt x="29" y="3"/>
                  </a:lnTo>
                  <a:lnTo>
                    <a:pt x="42" y="2"/>
                  </a:lnTo>
                  <a:lnTo>
                    <a:pt x="56" y="2"/>
                  </a:lnTo>
                  <a:lnTo>
                    <a:pt x="69" y="1"/>
                  </a:lnTo>
                  <a:lnTo>
                    <a:pt x="82" y="1"/>
                  </a:lnTo>
                  <a:lnTo>
                    <a:pt x="95" y="1"/>
                  </a:lnTo>
                  <a:lnTo>
                    <a:pt x="108" y="0"/>
                  </a:lnTo>
                  <a:lnTo>
                    <a:pt x="121" y="1"/>
                  </a:lnTo>
                  <a:lnTo>
                    <a:pt x="134" y="1"/>
                  </a:lnTo>
                  <a:lnTo>
                    <a:pt x="147" y="1"/>
                  </a:lnTo>
                  <a:lnTo>
                    <a:pt x="160" y="2"/>
                  </a:lnTo>
                  <a:lnTo>
                    <a:pt x="174" y="2"/>
                  </a:lnTo>
                  <a:lnTo>
                    <a:pt x="187" y="3"/>
                  </a:lnTo>
                  <a:lnTo>
                    <a:pt x="202" y="4"/>
                  </a:lnTo>
                  <a:lnTo>
                    <a:pt x="216" y="5"/>
                  </a:lnTo>
                  <a:lnTo>
                    <a:pt x="221" y="13"/>
                  </a:lnTo>
                  <a:lnTo>
                    <a:pt x="0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5"/>
            <p:cNvSpPr/>
            <p:nvPr/>
          </p:nvSpPr>
          <p:spPr>
            <a:xfrm flipH="1">
              <a:off x="7430400" y="6402240"/>
              <a:ext cx="175680" cy="13320"/>
            </a:xfrm>
            <a:custGeom>
              <a:avLst/>
              <a:gdLst>
                <a:gd name="textAreaLeft" fmla="*/ 360 w 175680"/>
                <a:gd name="textAreaRight" fmla="*/ 176400 w 175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24" h="20">
                  <a:moveTo>
                    <a:pt x="224" y="20"/>
                  </a:moveTo>
                  <a:lnTo>
                    <a:pt x="210" y="16"/>
                  </a:lnTo>
                  <a:lnTo>
                    <a:pt x="197" y="13"/>
                  </a:lnTo>
                  <a:lnTo>
                    <a:pt x="183" y="12"/>
                  </a:lnTo>
                  <a:lnTo>
                    <a:pt x="169" y="10"/>
                  </a:lnTo>
                  <a:lnTo>
                    <a:pt x="154" y="9"/>
                  </a:lnTo>
                  <a:lnTo>
                    <a:pt x="139" y="9"/>
                  </a:lnTo>
                  <a:lnTo>
                    <a:pt x="125" y="9"/>
                  </a:lnTo>
                  <a:lnTo>
                    <a:pt x="111" y="9"/>
                  </a:lnTo>
                  <a:lnTo>
                    <a:pt x="97" y="9"/>
                  </a:lnTo>
                  <a:lnTo>
                    <a:pt x="83" y="9"/>
                  </a:lnTo>
                  <a:lnTo>
                    <a:pt x="69" y="9"/>
                  </a:lnTo>
                  <a:lnTo>
                    <a:pt x="55" y="9"/>
                  </a:lnTo>
                  <a:lnTo>
                    <a:pt x="41" y="8"/>
                  </a:lnTo>
                  <a:lnTo>
                    <a:pt x="27" y="8"/>
                  </a:lnTo>
                  <a:lnTo>
                    <a:pt x="13" y="7"/>
                  </a:lnTo>
                  <a:lnTo>
                    <a:pt x="0" y="5"/>
                  </a:lnTo>
                  <a:lnTo>
                    <a:pt x="0" y="1"/>
                  </a:lnTo>
                  <a:lnTo>
                    <a:pt x="13" y="1"/>
                  </a:lnTo>
                  <a:lnTo>
                    <a:pt x="26" y="2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1" y="1"/>
                  </a:lnTo>
                  <a:lnTo>
                    <a:pt x="96" y="0"/>
                  </a:lnTo>
                  <a:lnTo>
                    <a:pt x="110" y="0"/>
                  </a:lnTo>
                  <a:lnTo>
                    <a:pt x="125" y="0"/>
                  </a:lnTo>
                  <a:lnTo>
                    <a:pt x="140" y="1"/>
                  </a:lnTo>
                  <a:lnTo>
                    <a:pt x="154" y="1"/>
                  </a:lnTo>
                  <a:lnTo>
                    <a:pt x="170" y="2"/>
                  </a:lnTo>
                  <a:lnTo>
                    <a:pt x="184" y="5"/>
                  </a:lnTo>
                  <a:lnTo>
                    <a:pt x="197" y="7"/>
                  </a:lnTo>
                  <a:lnTo>
                    <a:pt x="211" y="9"/>
                  </a:lnTo>
                  <a:lnTo>
                    <a:pt x="224" y="12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6"/>
            <p:cNvSpPr/>
            <p:nvPr/>
          </p:nvSpPr>
          <p:spPr>
            <a:xfrm flipH="1">
              <a:off x="7434360" y="6251760"/>
              <a:ext cx="288720" cy="32400"/>
            </a:xfrm>
            <a:custGeom>
              <a:avLst/>
              <a:gdLst>
                <a:gd name="textAreaLeft" fmla="*/ 360 w 288720"/>
                <a:gd name="textAreaRight" fmla="*/ 289440 w 2887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68" h="48">
                  <a:moveTo>
                    <a:pt x="44" y="20"/>
                  </a:moveTo>
                  <a:lnTo>
                    <a:pt x="39" y="19"/>
                  </a:lnTo>
                  <a:lnTo>
                    <a:pt x="33" y="18"/>
                  </a:lnTo>
                  <a:lnTo>
                    <a:pt x="28" y="16"/>
                  </a:lnTo>
                  <a:lnTo>
                    <a:pt x="23" y="15"/>
                  </a:lnTo>
                  <a:lnTo>
                    <a:pt x="16" y="14"/>
                  </a:lnTo>
                  <a:lnTo>
                    <a:pt x="11" y="12"/>
                  </a:lnTo>
                  <a:lnTo>
                    <a:pt x="5" y="8"/>
                  </a:lnTo>
                  <a:lnTo>
                    <a:pt x="0" y="5"/>
                  </a:lnTo>
                  <a:lnTo>
                    <a:pt x="12" y="6"/>
                  </a:lnTo>
                  <a:lnTo>
                    <a:pt x="23" y="7"/>
                  </a:lnTo>
                  <a:lnTo>
                    <a:pt x="35" y="8"/>
                  </a:lnTo>
                  <a:lnTo>
                    <a:pt x="46" y="9"/>
                  </a:lnTo>
                  <a:lnTo>
                    <a:pt x="59" y="9"/>
                  </a:lnTo>
                  <a:lnTo>
                    <a:pt x="71" y="9"/>
                  </a:lnTo>
                  <a:lnTo>
                    <a:pt x="83" y="9"/>
                  </a:lnTo>
                  <a:lnTo>
                    <a:pt x="96" y="8"/>
                  </a:lnTo>
                  <a:lnTo>
                    <a:pt x="108" y="8"/>
                  </a:lnTo>
                  <a:lnTo>
                    <a:pt x="120" y="7"/>
                  </a:lnTo>
                  <a:lnTo>
                    <a:pt x="133" y="6"/>
                  </a:lnTo>
                  <a:lnTo>
                    <a:pt x="145" y="5"/>
                  </a:lnTo>
                  <a:lnTo>
                    <a:pt x="157" y="4"/>
                  </a:lnTo>
                  <a:lnTo>
                    <a:pt x="168" y="3"/>
                  </a:lnTo>
                  <a:lnTo>
                    <a:pt x="180" y="1"/>
                  </a:lnTo>
                  <a:lnTo>
                    <a:pt x="192" y="0"/>
                  </a:lnTo>
                  <a:lnTo>
                    <a:pt x="368" y="48"/>
                  </a:lnTo>
                  <a:lnTo>
                    <a:pt x="347" y="47"/>
                  </a:lnTo>
                  <a:lnTo>
                    <a:pt x="325" y="47"/>
                  </a:lnTo>
                  <a:lnTo>
                    <a:pt x="303" y="47"/>
                  </a:lnTo>
                  <a:lnTo>
                    <a:pt x="283" y="48"/>
                  </a:lnTo>
                  <a:lnTo>
                    <a:pt x="262" y="48"/>
                  </a:lnTo>
                  <a:lnTo>
                    <a:pt x="242" y="48"/>
                  </a:lnTo>
                  <a:lnTo>
                    <a:pt x="222" y="48"/>
                  </a:lnTo>
                  <a:lnTo>
                    <a:pt x="202" y="48"/>
                  </a:lnTo>
                  <a:lnTo>
                    <a:pt x="183" y="47"/>
                  </a:lnTo>
                  <a:lnTo>
                    <a:pt x="163" y="46"/>
                  </a:lnTo>
                  <a:lnTo>
                    <a:pt x="144" y="45"/>
                  </a:lnTo>
                  <a:lnTo>
                    <a:pt x="124" y="42"/>
                  </a:lnTo>
                  <a:lnTo>
                    <a:pt x="104" y="39"/>
                  </a:lnTo>
                  <a:lnTo>
                    <a:pt x="84" y="33"/>
                  </a:lnTo>
                  <a:lnTo>
                    <a:pt x="65" y="28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a30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7"/>
            <p:cNvSpPr/>
            <p:nvPr/>
          </p:nvSpPr>
          <p:spPr>
            <a:xfrm flipH="1">
              <a:off x="7439760" y="6532920"/>
              <a:ext cx="192240" cy="11160"/>
            </a:xfrm>
            <a:custGeom>
              <a:avLst/>
              <a:gdLst>
                <a:gd name="textAreaLeft" fmla="*/ 360 w 192240"/>
                <a:gd name="textAreaRight" fmla="*/ 192960 w 19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5" h="17">
                  <a:moveTo>
                    <a:pt x="0" y="14"/>
                  </a:moveTo>
                  <a:lnTo>
                    <a:pt x="14" y="10"/>
                  </a:lnTo>
                  <a:lnTo>
                    <a:pt x="28" y="8"/>
                  </a:lnTo>
                  <a:lnTo>
                    <a:pt x="43" y="6"/>
                  </a:lnTo>
                  <a:lnTo>
                    <a:pt x="59" y="4"/>
                  </a:lnTo>
                  <a:lnTo>
                    <a:pt x="74" y="3"/>
                  </a:lnTo>
                  <a:lnTo>
                    <a:pt x="90" y="2"/>
                  </a:lnTo>
                  <a:lnTo>
                    <a:pt x="106" y="1"/>
                  </a:lnTo>
                  <a:lnTo>
                    <a:pt x="123" y="0"/>
                  </a:lnTo>
                  <a:lnTo>
                    <a:pt x="138" y="0"/>
                  </a:lnTo>
                  <a:lnTo>
                    <a:pt x="154" y="0"/>
                  </a:lnTo>
                  <a:lnTo>
                    <a:pt x="170" y="0"/>
                  </a:lnTo>
                  <a:lnTo>
                    <a:pt x="185" y="0"/>
                  </a:lnTo>
                  <a:lnTo>
                    <a:pt x="202" y="1"/>
                  </a:lnTo>
                  <a:lnTo>
                    <a:pt x="217" y="3"/>
                  </a:lnTo>
                  <a:lnTo>
                    <a:pt x="231" y="4"/>
                  </a:lnTo>
                  <a:lnTo>
                    <a:pt x="245" y="6"/>
                  </a:lnTo>
                  <a:lnTo>
                    <a:pt x="232" y="9"/>
                  </a:lnTo>
                  <a:lnTo>
                    <a:pt x="219" y="11"/>
                  </a:lnTo>
                  <a:lnTo>
                    <a:pt x="205" y="14"/>
                  </a:lnTo>
                  <a:lnTo>
                    <a:pt x="190" y="15"/>
                  </a:lnTo>
                  <a:lnTo>
                    <a:pt x="175" y="16"/>
                  </a:lnTo>
                  <a:lnTo>
                    <a:pt x="159" y="17"/>
                  </a:lnTo>
                  <a:lnTo>
                    <a:pt x="143" y="17"/>
                  </a:lnTo>
                  <a:lnTo>
                    <a:pt x="127" y="17"/>
                  </a:lnTo>
                  <a:lnTo>
                    <a:pt x="111" y="17"/>
                  </a:lnTo>
                  <a:lnTo>
                    <a:pt x="95" y="17"/>
                  </a:lnTo>
                  <a:lnTo>
                    <a:pt x="78" y="16"/>
                  </a:lnTo>
                  <a:lnTo>
                    <a:pt x="62" y="16"/>
                  </a:lnTo>
                  <a:lnTo>
                    <a:pt x="46" y="15"/>
                  </a:lnTo>
                  <a:lnTo>
                    <a:pt x="30" y="15"/>
                  </a:lnTo>
                  <a:lnTo>
                    <a:pt x="1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 flipH="1">
              <a:off x="7439400" y="6594480"/>
              <a:ext cx="163800" cy="2088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9" h="31">
                  <a:moveTo>
                    <a:pt x="0" y="31"/>
                  </a:moveTo>
                  <a:lnTo>
                    <a:pt x="0" y="16"/>
                  </a:lnTo>
                  <a:lnTo>
                    <a:pt x="13" y="14"/>
                  </a:lnTo>
                  <a:lnTo>
                    <a:pt x="26" y="13"/>
                  </a:lnTo>
                  <a:lnTo>
                    <a:pt x="40" y="12"/>
                  </a:lnTo>
                  <a:lnTo>
                    <a:pt x="53" y="10"/>
                  </a:lnTo>
                  <a:lnTo>
                    <a:pt x="66" y="9"/>
                  </a:lnTo>
                  <a:lnTo>
                    <a:pt x="79" y="7"/>
                  </a:lnTo>
                  <a:lnTo>
                    <a:pt x="92" y="5"/>
                  </a:lnTo>
                  <a:lnTo>
                    <a:pt x="105" y="4"/>
                  </a:lnTo>
                  <a:lnTo>
                    <a:pt x="118" y="3"/>
                  </a:lnTo>
                  <a:lnTo>
                    <a:pt x="131" y="1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1"/>
                  </a:lnTo>
                  <a:lnTo>
                    <a:pt x="196" y="3"/>
                  </a:lnTo>
                  <a:lnTo>
                    <a:pt x="209" y="5"/>
                  </a:lnTo>
                  <a:lnTo>
                    <a:pt x="209" y="1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9"/>
            <p:cNvSpPr/>
            <p:nvPr/>
          </p:nvSpPr>
          <p:spPr>
            <a:xfrm flipH="1">
              <a:off x="7443000" y="6554160"/>
              <a:ext cx="174960" cy="14760"/>
            </a:xfrm>
            <a:custGeom>
              <a:avLst/>
              <a:gdLst>
                <a:gd name="textAreaLeft" fmla="*/ 0 w 174960"/>
                <a:gd name="textAreaRight" fmla="*/ 174960 w 174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23" h="22">
                  <a:moveTo>
                    <a:pt x="223" y="11"/>
                  </a:moveTo>
                  <a:lnTo>
                    <a:pt x="211" y="12"/>
                  </a:lnTo>
                  <a:lnTo>
                    <a:pt x="196" y="14"/>
                  </a:lnTo>
                  <a:lnTo>
                    <a:pt x="184" y="15"/>
                  </a:lnTo>
                  <a:lnTo>
                    <a:pt x="169" y="16"/>
                  </a:lnTo>
                  <a:lnTo>
                    <a:pt x="157" y="17"/>
                  </a:lnTo>
                  <a:lnTo>
                    <a:pt x="142" y="18"/>
                  </a:lnTo>
                  <a:lnTo>
                    <a:pt x="128" y="19"/>
                  </a:lnTo>
                  <a:lnTo>
                    <a:pt x="115" y="20"/>
                  </a:lnTo>
                  <a:lnTo>
                    <a:pt x="101" y="20"/>
                  </a:lnTo>
                  <a:lnTo>
                    <a:pt x="87" y="22"/>
                  </a:lnTo>
                  <a:lnTo>
                    <a:pt x="73" y="22"/>
                  </a:lnTo>
                  <a:lnTo>
                    <a:pt x="59" y="22"/>
                  </a:lnTo>
                  <a:lnTo>
                    <a:pt x="45" y="22"/>
                  </a:lnTo>
                  <a:lnTo>
                    <a:pt x="32" y="20"/>
                  </a:lnTo>
                  <a:lnTo>
                    <a:pt x="18" y="19"/>
                  </a:lnTo>
                  <a:lnTo>
                    <a:pt x="4" y="18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23" y="0"/>
                  </a:lnTo>
                  <a:lnTo>
                    <a:pt x="223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0"/>
            <p:cNvSpPr/>
            <p:nvPr/>
          </p:nvSpPr>
          <p:spPr>
            <a:xfrm flipH="1">
              <a:off x="7444800" y="6573600"/>
              <a:ext cx="163800" cy="1872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09" h="28">
                  <a:moveTo>
                    <a:pt x="209" y="10"/>
                  </a:moveTo>
                  <a:lnTo>
                    <a:pt x="197" y="11"/>
                  </a:lnTo>
                  <a:lnTo>
                    <a:pt x="184" y="13"/>
                  </a:lnTo>
                  <a:lnTo>
                    <a:pt x="173" y="14"/>
                  </a:lnTo>
                  <a:lnTo>
                    <a:pt x="160" y="15"/>
                  </a:lnTo>
                  <a:lnTo>
                    <a:pt x="147" y="16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09" y="21"/>
                  </a:lnTo>
                  <a:lnTo>
                    <a:pt x="96" y="22"/>
                  </a:lnTo>
                  <a:lnTo>
                    <a:pt x="83" y="23"/>
                  </a:lnTo>
                  <a:lnTo>
                    <a:pt x="70" y="24"/>
                  </a:lnTo>
                  <a:lnTo>
                    <a:pt x="58" y="25"/>
                  </a:lnTo>
                  <a:lnTo>
                    <a:pt x="45" y="26"/>
                  </a:lnTo>
                  <a:lnTo>
                    <a:pt x="32" y="27"/>
                  </a:lnTo>
                  <a:lnTo>
                    <a:pt x="19" y="27"/>
                  </a:lnTo>
                  <a:lnTo>
                    <a:pt x="7" y="28"/>
                  </a:lnTo>
                  <a:lnTo>
                    <a:pt x="0" y="10"/>
                  </a:lnTo>
                  <a:lnTo>
                    <a:pt x="209" y="0"/>
                  </a:lnTo>
                  <a:lnTo>
                    <a:pt x="209" y="1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21"/>
            <p:cNvSpPr/>
            <p:nvPr/>
          </p:nvSpPr>
          <p:spPr>
            <a:xfrm flipH="1">
              <a:off x="7444800" y="6618600"/>
              <a:ext cx="163800" cy="1728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9" h="26">
                  <a:moveTo>
                    <a:pt x="0" y="26"/>
                  </a:moveTo>
                  <a:lnTo>
                    <a:pt x="0" y="18"/>
                  </a:lnTo>
                  <a:lnTo>
                    <a:pt x="12" y="15"/>
                  </a:lnTo>
                  <a:lnTo>
                    <a:pt x="23" y="12"/>
                  </a:lnTo>
                  <a:lnTo>
                    <a:pt x="36" y="9"/>
                  </a:lnTo>
                  <a:lnTo>
                    <a:pt x="48" y="7"/>
                  </a:lnTo>
                  <a:lnTo>
                    <a:pt x="61" y="5"/>
                  </a:lnTo>
                  <a:lnTo>
                    <a:pt x="74" y="3"/>
                  </a:lnTo>
                  <a:lnTo>
                    <a:pt x="87" y="2"/>
                  </a:lnTo>
                  <a:lnTo>
                    <a:pt x="101" y="2"/>
                  </a:lnTo>
                  <a:lnTo>
                    <a:pt x="114" y="1"/>
                  </a:lnTo>
                  <a:lnTo>
                    <a:pt x="127" y="1"/>
                  </a:lnTo>
                  <a:lnTo>
                    <a:pt x="141" y="1"/>
                  </a:lnTo>
                  <a:lnTo>
                    <a:pt x="155" y="1"/>
                  </a:lnTo>
                  <a:lnTo>
                    <a:pt x="168" y="1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209" y="0"/>
                  </a:lnTo>
                  <a:lnTo>
                    <a:pt x="196" y="3"/>
                  </a:lnTo>
                  <a:lnTo>
                    <a:pt x="183" y="5"/>
                  </a:lnTo>
                  <a:lnTo>
                    <a:pt x="170" y="8"/>
                  </a:lnTo>
                  <a:lnTo>
                    <a:pt x="156" y="10"/>
                  </a:lnTo>
                  <a:lnTo>
                    <a:pt x="143" y="11"/>
                  </a:lnTo>
                  <a:lnTo>
                    <a:pt x="130" y="12"/>
                  </a:lnTo>
                  <a:lnTo>
                    <a:pt x="117" y="12"/>
                  </a:lnTo>
                  <a:lnTo>
                    <a:pt x="104" y="13"/>
                  </a:lnTo>
                  <a:lnTo>
                    <a:pt x="92" y="14"/>
                  </a:lnTo>
                  <a:lnTo>
                    <a:pt x="79" y="14"/>
                  </a:lnTo>
                  <a:lnTo>
                    <a:pt x="66" y="15"/>
                  </a:lnTo>
                  <a:lnTo>
                    <a:pt x="53" y="16"/>
                  </a:lnTo>
                  <a:lnTo>
                    <a:pt x="39" y="18"/>
                  </a:lnTo>
                  <a:lnTo>
                    <a:pt x="26" y="21"/>
                  </a:lnTo>
                  <a:lnTo>
                    <a:pt x="13" y="2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22"/>
            <p:cNvSpPr/>
            <p:nvPr/>
          </p:nvSpPr>
          <p:spPr>
            <a:xfrm flipH="1">
              <a:off x="7450560" y="6345360"/>
              <a:ext cx="131040" cy="936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7" h="14">
                  <a:moveTo>
                    <a:pt x="0" y="8"/>
                  </a:moveTo>
                  <a:lnTo>
                    <a:pt x="7" y="0"/>
                  </a:lnTo>
                  <a:lnTo>
                    <a:pt x="14" y="1"/>
                  </a:lnTo>
                  <a:lnTo>
                    <a:pt x="23" y="5"/>
                  </a:lnTo>
                  <a:lnTo>
                    <a:pt x="31" y="8"/>
                  </a:lnTo>
                  <a:lnTo>
                    <a:pt x="48" y="5"/>
                  </a:lnTo>
                  <a:lnTo>
                    <a:pt x="66" y="4"/>
                  </a:lnTo>
                  <a:lnTo>
                    <a:pt x="84" y="3"/>
                  </a:lnTo>
                  <a:lnTo>
                    <a:pt x="101" y="3"/>
                  </a:lnTo>
                  <a:lnTo>
                    <a:pt x="118" y="3"/>
                  </a:lnTo>
                  <a:lnTo>
                    <a:pt x="135" y="3"/>
                  </a:lnTo>
                  <a:lnTo>
                    <a:pt x="152" y="4"/>
                  </a:lnTo>
                  <a:lnTo>
                    <a:pt x="167" y="4"/>
                  </a:lnTo>
                  <a:lnTo>
                    <a:pt x="147" y="9"/>
                  </a:lnTo>
                  <a:lnTo>
                    <a:pt x="127" y="12"/>
                  </a:lnTo>
                  <a:lnTo>
                    <a:pt x="104" y="14"/>
                  </a:lnTo>
                  <a:lnTo>
                    <a:pt x="82" y="14"/>
                  </a:lnTo>
                  <a:lnTo>
                    <a:pt x="60" y="14"/>
                  </a:lnTo>
                  <a:lnTo>
                    <a:pt x="39" y="12"/>
                  </a:lnTo>
                  <a:lnTo>
                    <a:pt x="19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3"/>
            <p:cNvSpPr/>
            <p:nvPr/>
          </p:nvSpPr>
          <p:spPr>
            <a:xfrm flipH="1">
              <a:off x="7450200" y="6369120"/>
              <a:ext cx="64440" cy="2520"/>
            </a:xfrm>
            <a:custGeom>
              <a:avLst/>
              <a:gdLst>
                <a:gd name="textAreaLeft" fmla="*/ -360 w 64440"/>
                <a:gd name="textAreaRight" fmla="*/ 64440 w 64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82" h="4">
                  <a:moveTo>
                    <a:pt x="0" y="4"/>
                  </a:moveTo>
                  <a:lnTo>
                    <a:pt x="82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4"/>
            <p:cNvSpPr/>
            <p:nvPr/>
          </p:nvSpPr>
          <p:spPr>
            <a:xfrm flipH="1">
              <a:off x="7450560" y="6505560"/>
              <a:ext cx="155520" cy="11880"/>
            </a:xfrm>
            <a:custGeom>
              <a:avLst/>
              <a:gdLst>
                <a:gd name="textAreaLeft" fmla="*/ 360 w 155520"/>
                <a:gd name="textAreaRight" fmla="*/ 156240 w 1555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8" h="18">
                  <a:moveTo>
                    <a:pt x="0" y="18"/>
                  </a:moveTo>
                  <a:lnTo>
                    <a:pt x="11" y="6"/>
                  </a:lnTo>
                  <a:lnTo>
                    <a:pt x="23" y="5"/>
                  </a:lnTo>
                  <a:lnTo>
                    <a:pt x="35" y="4"/>
                  </a:lnTo>
                  <a:lnTo>
                    <a:pt x="46" y="4"/>
                  </a:lnTo>
                  <a:lnTo>
                    <a:pt x="57" y="3"/>
                  </a:lnTo>
                  <a:lnTo>
                    <a:pt x="69" y="2"/>
                  </a:lnTo>
                  <a:lnTo>
                    <a:pt x="81" y="1"/>
                  </a:lnTo>
                  <a:lnTo>
                    <a:pt x="92" y="1"/>
                  </a:lnTo>
                  <a:lnTo>
                    <a:pt x="104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8" y="0"/>
                  </a:lnTo>
                  <a:lnTo>
                    <a:pt x="160" y="0"/>
                  </a:lnTo>
                  <a:lnTo>
                    <a:pt x="171" y="1"/>
                  </a:lnTo>
                  <a:lnTo>
                    <a:pt x="183" y="2"/>
                  </a:lnTo>
                  <a:lnTo>
                    <a:pt x="193" y="3"/>
                  </a:lnTo>
                  <a:lnTo>
                    <a:pt x="198" y="10"/>
                  </a:lnTo>
                  <a:lnTo>
                    <a:pt x="187" y="13"/>
                  </a:lnTo>
                  <a:lnTo>
                    <a:pt x="175" y="14"/>
                  </a:lnTo>
                  <a:lnTo>
                    <a:pt x="163" y="16"/>
                  </a:lnTo>
                  <a:lnTo>
                    <a:pt x="151" y="16"/>
                  </a:lnTo>
                  <a:lnTo>
                    <a:pt x="138" y="17"/>
                  </a:lnTo>
                  <a:lnTo>
                    <a:pt x="125" y="18"/>
                  </a:lnTo>
                  <a:lnTo>
                    <a:pt x="113" y="18"/>
                  </a:lnTo>
                  <a:lnTo>
                    <a:pt x="100" y="18"/>
                  </a:lnTo>
                  <a:lnTo>
                    <a:pt x="88" y="18"/>
                  </a:lnTo>
                  <a:lnTo>
                    <a:pt x="75" y="18"/>
                  </a:lnTo>
                  <a:lnTo>
                    <a:pt x="62" y="18"/>
                  </a:lnTo>
                  <a:lnTo>
                    <a:pt x="49" y="18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1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5"/>
            <p:cNvSpPr/>
            <p:nvPr/>
          </p:nvSpPr>
          <p:spPr>
            <a:xfrm flipH="1">
              <a:off x="7457040" y="6436440"/>
              <a:ext cx="159840" cy="69480"/>
            </a:xfrm>
            <a:custGeom>
              <a:avLst/>
              <a:gdLst>
                <a:gd name="textAreaLeft" fmla="*/ 0 w 159840"/>
                <a:gd name="textAreaRight" fmla="*/ 159840 w 1598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04" h="103">
                  <a:moveTo>
                    <a:pt x="201" y="12"/>
                  </a:moveTo>
                  <a:lnTo>
                    <a:pt x="190" y="12"/>
                  </a:lnTo>
                  <a:lnTo>
                    <a:pt x="178" y="13"/>
                  </a:lnTo>
                  <a:lnTo>
                    <a:pt x="166" y="13"/>
                  </a:lnTo>
                  <a:lnTo>
                    <a:pt x="154" y="14"/>
                  </a:lnTo>
                  <a:lnTo>
                    <a:pt x="143" y="15"/>
                  </a:lnTo>
                  <a:lnTo>
                    <a:pt x="131" y="16"/>
                  </a:lnTo>
                  <a:lnTo>
                    <a:pt x="119" y="17"/>
                  </a:lnTo>
                  <a:lnTo>
                    <a:pt x="106" y="17"/>
                  </a:lnTo>
                  <a:lnTo>
                    <a:pt x="94" y="18"/>
                  </a:lnTo>
                  <a:lnTo>
                    <a:pt x="82" y="18"/>
                  </a:lnTo>
                  <a:lnTo>
                    <a:pt x="70" y="18"/>
                  </a:lnTo>
                  <a:lnTo>
                    <a:pt x="58" y="18"/>
                  </a:lnTo>
                  <a:lnTo>
                    <a:pt x="46" y="17"/>
                  </a:lnTo>
                  <a:lnTo>
                    <a:pt x="36" y="16"/>
                  </a:lnTo>
                  <a:lnTo>
                    <a:pt x="25" y="14"/>
                  </a:lnTo>
                  <a:lnTo>
                    <a:pt x="14" y="12"/>
                  </a:lnTo>
                  <a:lnTo>
                    <a:pt x="16" y="33"/>
                  </a:lnTo>
                  <a:lnTo>
                    <a:pt x="19" y="58"/>
                  </a:lnTo>
                  <a:lnTo>
                    <a:pt x="18" y="82"/>
                  </a:lnTo>
                  <a:lnTo>
                    <a:pt x="3" y="103"/>
                  </a:lnTo>
                  <a:lnTo>
                    <a:pt x="0" y="79"/>
                  </a:lnTo>
                  <a:lnTo>
                    <a:pt x="0" y="54"/>
                  </a:lnTo>
                  <a:lnTo>
                    <a:pt x="5" y="29"/>
                  </a:lnTo>
                  <a:lnTo>
                    <a:pt x="14" y="8"/>
                  </a:lnTo>
                  <a:lnTo>
                    <a:pt x="26" y="5"/>
                  </a:lnTo>
                  <a:lnTo>
                    <a:pt x="38" y="4"/>
                  </a:lnTo>
                  <a:lnTo>
                    <a:pt x="49" y="2"/>
                  </a:lnTo>
                  <a:lnTo>
                    <a:pt x="60" y="2"/>
                  </a:lnTo>
                  <a:lnTo>
                    <a:pt x="72" y="1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31" y="0"/>
                  </a:lnTo>
                  <a:lnTo>
                    <a:pt x="143" y="0"/>
                  </a:lnTo>
                  <a:lnTo>
                    <a:pt x="156" y="0"/>
                  </a:lnTo>
                  <a:lnTo>
                    <a:pt x="167" y="0"/>
                  </a:lnTo>
                  <a:lnTo>
                    <a:pt x="179" y="0"/>
                  </a:lnTo>
                  <a:lnTo>
                    <a:pt x="191" y="0"/>
                  </a:lnTo>
                  <a:lnTo>
                    <a:pt x="204" y="0"/>
                  </a:lnTo>
                  <a:lnTo>
                    <a:pt x="202" y="2"/>
                  </a:lnTo>
                  <a:lnTo>
                    <a:pt x="201" y="5"/>
                  </a:lnTo>
                  <a:lnTo>
                    <a:pt x="201" y="9"/>
                  </a:lnTo>
                  <a:lnTo>
                    <a:pt x="201" y="12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6"/>
            <p:cNvSpPr/>
            <p:nvPr/>
          </p:nvSpPr>
          <p:spPr>
            <a:xfrm flipH="1">
              <a:off x="7462440" y="6458760"/>
              <a:ext cx="123840" cy="1656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58" h="25">
                  <a:moveTo>
                    <a:pt x="154" y="18"/>
                  </a:moveTo>
                  <a:lnTo>
                    <a:pt x="135" y="19"/>
                  </a:lnTo>
                  <a:lnTo>
                    <a:pt x="115" y="20"/>
                  </a:lnTo>
                  <a:lnTo>
                    <a:pt x="96" y="22"/>
                  </a:lnTo>
                  <a:lnTo>
                    <a:pt x="77" y="24"/>
                  </a:lnTo>
                  <a:lnTo>
                    <a:pt x="57" y="25"/>
                  </a:lnTo>
                  <a:lnTo>
                    <a:pt x="38" y="25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3"/>
                  </a:lnTo>
                  <a:lnTo>
                    <a:pt x="158" y="0"/>
                  </a:lnTo>
                  <a:lnTo>
                    <a:pt x="156" y="5"/>
                  </a:lnTo>
                  <a:lnTo>
                    <a:pt x="155" y="8"/>
                  </a:lnTo>
                  <a:lnTo>
                    <a:pt x="154" y="12"/>
                  </a:lnTo>
                  <a:lnTo>
                    <a:pt x="154" y="18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7"/>
            <p:cNvSpPr/>
            <p:nvPr/>
          </p:nvSpPr>
          <p:spPr>
            <a:xfrm flipH="1">
              <a:off x="7465680" y="6485040"/>
              <a:ext cx="123840" cy="1188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58" h="18">
                  <a:moveTo>
                    <a:pt x="158" y="8"/>
                  </a:moveTo>
                  <a:lnTo>
                    <a:pt x="154" y="5"/>
                  </a:lnTo>
                  <a:lnTo>
                    <a:pt x="150" y="4"/>
                  </a:lnTo>
                  <a:lnTo>
                    <a:pt x="146" y="5"/>
                  </a:lnTo>
                  <a:lnTo>
                    <a:pt x="143" y="7"/>
                  </a:lnTo>
                  <a:lnTo>
                    <a:pt x="139" y="10"/>
                  </a:lnTo>
                  <a:lnTo>
                    <a:pt x="136" y="12"/>
                  </a:lnTo>
                  <a:lnTo>
                    <a:pt x="131" y="13"/>
                  </a:lnTo>
                  <a:lnTo>
                    <a:pt x="126" y="12"/>
                  </a:lnTo>
                  <a:lnTo>
                    <a:pt x="0" y="18"/>
                  </a:lnTo>
                  <a:lnTo>
                    <a:pt x="4" y="5"/>
                  </a:lnTo>
                  <a:lnTo>
                    <a:pt x="158" y="0"/>
                  </a:lnTo>
                  <a:lnTo>
                    <a:pt x="158" y="8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8"/>
            <p:cNvSpPr/>
            <p:nvPr/>
          </p:nvSpPr>
          <p:spPr>
            <a:xfrm flipH="1">
              <a:off x="7561080" y="5733000"/>
              <a:ext cx="974520" cy="679320"/>
            </a:xfrm>
            <a:custGeom>
              <a:avLst/>
              <a:gdLst>
                <a:gd name="textAreaLeft" fmla="*/ -360 w 974520"/>
                <a:gd name="textAreaRight" fmla="*/ 974520 w 97452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1241" h="1007">
                  <a:moveTo>
                    <a:pt x="1173" y="750"/>
                  </a:moveTo>
                  <a:lnTo>
                    <a:pt x="1160" y="751"/>
                  </a:lnTo>
                  <a:lnTo>
                    <a:pt x="1146" y="752"/>
                  </a:lnTo>
                  <a:lnTo>
                    <a:pt x="1133" y="754"/>
                  </a:lnTo>
                  <a:lnTo>
                    <a:pt x="1120" y="754"/>
                  </a:lnTo>
                  <a:lnTo>
                    <a:pt x="1108" y="754"/>
                  </a:lnTo>
                  <a:lnTo>
                    <a:pt x="1095" y="754"/>
                  </a:lnTo>
                  <a:lnTo>
                    <a:pt x="1083" y="752"/>
                  </a:lnTo>
                  <a:lnTo>
                    <a:pt x="1071" y="752"/>
                  </a:lnTo>
                  <a:lnTo>
                    <a:pt x="1059" y="751"/>
                  </a:lnTo>
                  <a:lnTo>
                    <a:pt x="1046" y="750"/>
                  </a:lnTo>
                  <a:lnTo>
                    <a:pt x="1034" y="749"/>
                  </a:lnTo>
                  <a:lnTo>
                    <a:pt x="1021" y="748"/>
                  </a:lnTo>
                  <a:lnTo>
                    <a:pt x="1009" y="747"/>
                  </a:lnTo>
                  <a:lnTo>
                    <a:pt x="996" y="746"/>
                  </a:lnTo>
                  <a:lnTo>
                    <a:pt x="984" y="744"/>
                  </a:lnTo>
                  <a:lnTo>
                    <a:pt x="971" y="743"/>
                  </a:lnTo>
                  <a:lnTo>
                    <a:pt x="959" y="748"/>
                  </a:lnTo>
                  <a:lnTo>
                    <a:pt x="951" y="755"/>
                  </a:lnTo>
                  <a:lnTo>
                    <a:pt x="944" y="764"/>
                  </a:lnTo>
                  <a:lnTo>
                    <a:pt x="940" y="774"/>
                  </a:lnTo>
                  <a:lnTo>
                    <a:pt x="936" y="785"/>
                  </a:lnTo>
                  <a:lnTo>
                    <a:pt x="933" y="796"/>
                  </a:lnTo>
                  <a:lnTo>
                    <a:pt x="930" y="806"/>
                  </a:lnTo>
                  <a:lnTo>
                    <a:pt x="927" y="817"/>
                  </a:lnTo>
                  <a:lnTo>
                    <a:pt x="928" y="835"/>
                  </a:lnTo>
                  <a:lnTo>
                    <a:pt x="935" y="847"/>
                  </a:lnTo>
                  <a:lnTo>
                    <a:pt x="946" y="856"/>
                  </a:lnTo>
                  <a:lnTo>
                    <a:pt x="959" y="863"/>
                  </a:lnTo>
                  <a:lnTo>
                    <a:pt x="971" y="870"/>
                  </a:lnTo>
                  <a:lnTo>
                    <a:pt x="981" y="880"/>
                  </a:lnTo>
                  <a:lnTo>
                    <a:pt x="984" y="893"/>
                  </a:lnTo>
                  <a:lnTo>
                    <a:pt x="981" y="912"/>
                  </a:lnTo>
                  <a:lnTo>
                    <a:pt x="976" y="921"/>
                  </a:lnTo>
                  <a:lnTo>
                    <a:pt x="968" y="926"/>
                  </a:lnTo>
                  <a:lnTo>
                    <a:pt x="959" y="931"/>
                  </a:lnTo>
                  <a:lnTo>
                    <a:pt x="951" y="935"/>
                  </a:lnTo>
                  <a:lnTo>
                    <a:pt x="943" y="938"/>
                  </a:lnTo>
                  <a:lnTo>
                    <a:pt x="936" y="943"/>
                  </a:lnTo>
                  <a:lnTo>
                    <a:pt x="930" y="949"/>
                  </a:lnTo>
                  <a:lnTo>
                    <a:pt x="927" y="958"/>
                  </a:lnTo>
                  <a:lnTo>
                    <a:pt x="931" y="961"/>
                  </a:lnTo>
                  <a:lnTo>
                    <a:pt x="936" y="963"/>
                  </a:lnTo>
                  <a:lnTo>
                    <a:pt x="940" y="966"/>
                  </a:lnTo>
                  <a:lnTo>
                    <a:pt x="944" y="968"/>
                  </a:lnTo>
                  <a:lnTo>
                    <a:pt x="949" y="971"/>
                  </a:lnTo>
                  <a:lnTo>
                    <a:pt x="952" y="973"/>
                  </a:lnTo>
                  <a:lnTo>
                    <a:pt x="956" y="976"/>
                  </a:lnTo>
                  <a:lnTo>
                    <a:pt x="960" y="978"/>
                  </a:lnTo>
                  <a:lnTo>
                    <a:pt x="955" y="987"/>
                  </a:lnTo>
                  <a:lnTo>
                    <a:pt x="950" y="995"/>
                  </a:lnTo>
                  <a:lnTo>
                    <a:pt x="941" y="1003"/>
                  </a:lnTo>
                  <a:lnTo>
                    <a:pt x="931" y="1007"/>
                  </a:lnTo>
                  <a:lnTo>
                    <a:pt x="925" y="983"/>
                  </a:lnTo>
                  <a:lnTo>
                    <a:pt x="915" y="959"/>
                  </a:lnTo>
                  <a:lnTo>
                    <a:pt x="901" y="936"/>
                  </a:lnTo>
                  <a:lnTo>
                    <a:pt x="885" y="916"/>
                  </a:lnTo>
                  <a:lnTo>
                    <a:pt x="866" y="897"/>
                  </a:lnTo>
                  <a:lnTo>
                    <a:pt x="847" y="880"/>
                  </a:lnTo>
                  <a:lnTo>
                    <a:pt x="825" y="865"/>
                  </a:lnTo>
                  <a:lnTo>
                    <a:pt x="803" y="851"/>
                  </a:lnTo>
                  <a:lnTo>
                    <a:pt x="830" y="823"/>
                  </a:lnTo>
                  <a:lnTo>
                    <a:pt x="855" y="795"/>
                  </a:lnTo>
                  <a:lnTo>
                    <a:pt x="877" y="764"/>
                  </a:lnTo>
                  <a:lnTo>
                    <a:pt x="899" y="734"/>
                  </a:lnTo>
                  <a:lnTo>
                    <a:pt x="918" y="703"/>
                  </a:lnTo>
                  <a:lnTo>
                    <a:pt x="936" y="670"/>
                  </a:lnTo>
                  <a:lnTo>
                    <a:pt x="952" y="638"/>
                  </a:lnTo>
                  <a:lnTo>
                    <a:pt x="966" y="603"/>
                  </a:lnTo>
                  <a:lnTo>
                    <a:pt x="978" y="569"/>
                  </a:lnTo>
                  <a:lnTo>
                    <a:pt x="987" y="533"/>
                  </a:lnTo>
                  <a:lnTo>
                    <a:pt x="995" y="498"/>
                  </a:lnTo>
                  <a:lnTo>
                    <a:pt x="1001" y="461"/>
                  </a:lnTo>
                  <a:lnTo>
                    <a:pt x="1005" y="423"/>
                  </a:lnTo>
                  <a:lnTo>
                    <a:pt x="1007" y="385"/>
                  </a:lnTo>
                  <a:lnTo>
                    <a:pt x="1006" y="346"/>
                  </a:lnTo>
                  <a:lnTo>
                    <a:pt x="1004" y="306"/>
                  </a:lnTo>
                  <a:lnTo>
                    <a:pt x="996" y="303"/>
                  </a:lnTo>
                  <a:lnTo>
                    <a:pt x="989" y="305"/>
                  </a:lnTo>
                  <a:lnTo>
                    <a:pt x="982" y="311"/>
                  </a:lnTo>
                  <a:lnTo>
                    <a:pt x="979" y="318"/>
                  </a:lnTo>
                  <a:lnTo>
                    <a:pt x="984" y="384"/>
                  </a:lnTo>
                  <a:lnTo>
                    <a:pt x="981" y="447"/>
                  </a:lnTo>
                  <a:lnTo>
                    <a:pt x="970" y="507"/>
                  </a:lnTo>
                  <a:lnTo>
                    <a:pt x="954" y="566"/>
                  </a:lnTo>
                  <a:lnTo>
                    <a:pt x="931" y="622"/>
                  </a:lnTo>
                  <a:lnTo>
                    <a:pt x="904" y="676"/>
                  </a:lnTo>
                  <a:lnTo>
                    <a:pt x="872" y="728"/>
                  </a:lnTo>
                  <a:lnTo>
                    <a:pt x="837" y="778"/>
                  </a:lnTo>
                  <a:lnTo>
                    <a:pt x="830" y="757"/>
                  </a:lnTo>
                  <a:lnTo>
                    <a:pt x="821" y="735"/>
                  </a:lnTo>
                  <a:lnTo>
                    <a:pt x="811" y="714"/>
                  </a:lnTo>
                  <a:lnTo>
                    <a:pt x="801" y="693"/>
                  </a:lnTo>
                  <a:lnTo>
                    <a:pt x="789" y="671"/>
                  </a:lnTo>
                  <a:lnTo>
                    <a:pt x="777" y="651"/>
                  </a:lnTo>
                  <a:lnTo>
                    <a:pt x="763" y="630"/>
                  </a:lnTo>
                  <a:lnTo>
                    <a:pt x="749" y="611"/>
                  </a:lnTo>
                  <a:lnTo>
                    <a:pt x="733" y="593"/>
                  </a:lnTo>
                  <a:lnTo>
                    <a:pt x="715" y="575"/>
                  </a:lnTo>
                  <a:lnTo>
                    <a:pt x="698" y="559"/>
                  </a:lnTo>
                  <a:lnTo>
                    <a:pt x="679" y="544"/>
                  </a:lnTo>
                  <a:lnTo>
                    <a:pt x="659" y="531"/>
                  </a:lnTo>
                  <a:lnTo>
                    <a:pt x="638" y="520"/>
                  </a:lnTo>
                  <a:lnTo>
                    <a:pt x="615" y="510"/>
                  </a:lnTo>
                  <a:lnTo>
                    <a:pt x="591" y="504"/>
                  </a:lnTo>
                  <a:lnTo>
                    <a:pt x="587" y="460"/>
                  </a:lnTo>
                  <a:lnTo>
                    <a:pt x="588" y="413"/>
                  </a:lnTo>
                  <a:lnTo>
                    <a:pt x="586" y="368"/>
                  </a:lnTo>
                  <a:lnTo>
                    <a:pt x="573" y="324"/>
                  </a:lnTo>
                  <a:lnTo>
                    <a:pt x="558" y="300"/>
                  </a:lnTo>
                  <a:lnTo>
                    <a:pt x="545" y="275"/>
                  </a:lnTo>
                  <a:lnTo>
                    <a:pt x="532" y="250"/>
                  </a:lnTo>
                  <a:lnTo>
                    <a:pt x="518" y="225"/>
                  </a:lnTo>
                  <a:lnTo>
                    <a:pt x="503" y="202"/>
                  </a:lnTo>
                  <a:lnTo>
                    <a:pt x="484" y="180"/>
                  </a:lnTo>
                  <a:lnTo>
                    <a:pt x="463" y="163"/>
                  </a:lnTo>
                  <a:lnTo>
                    <a:pt x="437" y="149"/>
                  </a:lnTo>
                  <a:lnTo>
                    <a:pt x="423" y="138"/>
                  </a:lnTo>
                  <a:lnTo>
                    <a:pt x="407" y="132"/>
                  </a:lnTo>
                  <a:lnTo>
                    <a:pt x="391" y="130"/>
                  </a:lnTo>
                  <a:lnTo>
                    <a:pt x="374" y="129"/>
                  </a:lnTo>
                  <a:lnTo>
                    <a:pt x="356" y="130"/>
                  </a:lnTo>
                  <a:lnTo>
                    <a:pt x="338" y="130"/>
                  </a:lnTo>
                  <a:lnTo>
                    <a:pt x="320" y="128"/>
                  </a:lnTo>
                  <a:lnTo>
                    <a:pt x="303" y="123"/>
                  </a:lnTo>
                  <a:lnTo>
                    <a:pt x="285" y="124"/>
                  </a:lnTo>
                  <a:lnTo>
                    <a:pt x="268" y="127"/>
                  </a:lnTo>
                  <a:lnTo>
                    <a:pt x="252" y="130"/>
                  </a:lnTo>
                  <a:lnTo>
                    <a:pt x="236" y="135"/>
                  </a:lnTo>
                  <a:lnTo>
                    <a:pt x="220" y="139"/>
                  </a:lnTo>
                  <a:lnTo>
                    <a:pt x="203" y="145"/>
                  </a:lnTo>
                  <a:lnTo>
                    <a:pt x="188" y="152"/>
                  </a:lnTo>
                  <a:lnTo>
                    <a:pt x="173" y="159"/>
                  </a:lnTo>
                  <a:lnTo>
                    <a:pt x="158" y="168"/>
                  </a:lnTo>
                  <a:lnTo>
                    <a:pt x="144" y="177"/>
                  </a:lnTo>
                  <a:lnTo>
                    <a:pt x="130" y="186"/>
                  </a:lnTo>
                  <a:lnTo>
                    <a:pt x="117" y="197"/>
                  </a:lnTo>
                  <a:lnTo>
                    <a:pt x="104" y="208"/>
                  </a:lnTo>
                  <a:lnTo>
                    <a:pt x="92" y="220"/>
                  </a:lnTo>
                  <a:lnTo>
                    <a:pt x="80" y="233"/>
                  </a:lnTo>
                  <a:lnTo>
                    <a:pt x="68" y="246"/>
                  </a:lnTo>
                  <a:lnTo>
                    <a:pt x="56" y="239"/>
                  </a:lnTo>
                  <a:lnTo>
                    <a:pt x="47" y="232"/>
                  </a:lnTo>
                  <a:lnTo>
                    <a:pt x="37" y="223"/>
                  </a:lnTo>
                  <a:lnTo>
                    <a:pt x="29" y="213"/>
                  </a:lnTo>
                  <a:lnTo>
                    <a:pt x="22" y="203"/>
                  </a:lnTo>
                  <a:lnTo>
                    <a:pt x="15" y="192"/>
                  </a:lnTo>
                  <a:lnTo>
                    <a:pt x="8" y="181"/>
                  </a:lnTo>
                  <a:lnTo>
                    <a:pt x="0" y="169"/>
                  </a:lnTo>
                  <a:lnTo>
                    <a:pt x="11" y="158"/>
                  </a:lnTo>
                  <a:lnTo>
                    <a:pt x="22" y="150"/>
                  </a:lnTo>
                  <a:lnTo>
                    <a:pt x="34" y="141"/>
                  </a:lnTo>
                  <a:lnTo>
                    <a:pt x="47" y="133"/>
                  </a:lnTo>
                  <a:lnTo>
                    <a:pt x="59" y="127"/>
                  </a:lnTo>
                  <a:lnTo>
                    <a:pt x="72" y="121"/>
                  </a:lnTo>
                  <a:lnTo>
                    <a:pt x="85" y="115"/>
                  </a:lnTo>
                  <a:lnTo>
                    <a:pt x="98" y="110"/>
                  </a:lnTo>
                  <a:lnTo>
                    <a:pt x="110" y="104"/>
                  </a:lnTo>
                  <a:lnTo>
                    <a:pt x="123" y="99"/>
                  </a:lnTo>
                  <a:lnTo>
                    <a:pt x="136" y="94"/>
                  </a:lnTo>
                  <a:lnTo>
                    <a:pt x="149" y="88"/>
                  </a:lnTo>
                  <a:lnTo>
                    <a:pt x="162" y="82"/>
                  </a:lnTo>
                  <a:lnTo>
                    <a:pt x="174" y="75"/>
                  </a:lnTo>
                  <a:lnTo>
                    <a:pt x="186" y="68"/>
                  </a:lnTo>
                  <a:lnTo>
                    <a:pt x="198" y="59"/>
                  </a:lnTo>
                  <a:lnTo>
                    <a:pt x="211" y="63"/>
                  </a:lnTo>
                  <a:lnTo>
                    <a:pt x="223" y="69"/>
                  </a:lnTo>
                  <a:lnTo>
                    <a:pt x="235" y="76"/>
                  </a:lnTo>
                  <a:lnTo>
                    <a:pt x="247" y="85"/>
                  </a:lnTo>
                  <a:lnTo>
                    <a:pt x="257" y="94"/>
                  </a:lnTo>
                  <a:lnTo>
                    <a:pt x="269" y="103"/>
                  </a:lnTo>
                  <a:lnTo>
                    <a:pt x="280" y="112"/>
                  </a:lnTo>
                  <a:lnTo>
                    <a:pt x="292" y="121"/>
                  </a:lnTo>
                  <a:lnTo>
                    <a:pt x="338" y="76"/>
                  </a:lnTo>
                  <a:lnTo>
                    <a:pt x="344" y="82"/>
                  </a:lnTo>
                  <a:lnTo>
                    <a:pt x="349" y="89"/>
                  </a:lnTo>
                  <a:lnTo>
                    <a:pt x="355" y="97"/>
                  </a:lnTo>
                  <a:lnTo>
                    <a:pt x="360" y="104"/>
                  </a:lnTo>
                  <a:lnTo>
                    <a:pt x="366" y="112"/>
                  </a:lnTo>
                  <a:lnTo>
                    <a:pt x="374" y="117"/>
                  </a:lnTo>
                  <a:lnTo>
                    <a:pt x="383" y="121"/>
                  </a:lnTo>
                  <a:lnTo>
                    <a:pt x="392" y="121"/>
                  </a:lnTo>
                  <a:lnTo>
                    <a:pt x="398" y="111"/>
                  </a:lnTo>
                  <a:lnTo>
                    <a:pt x="405" y="103"/>
                  </a:lnTo>
                  <a:lnTo>
                    <a:pt x="413" y="96"/>
                  </a:lnTo>
                  <a:lnTo>
                    <a:pt x="418" y="87"/>
                  </a:lnTo>
                  <a:lnTo>
                    <a:pt x="427" y="90"/>
                  </a:lnTo>
                  <a:lnTo>
                    <a:pt x="436" y="97"/>
                  </a:lnTo>
                  <a:lnTo>
                    <a:pt x="445" y="102"/>
                  </a:lnTo>
                  <a:lnTo>
                    <a:pt x="454" y="109"/>
                  </a:lnTo>
                  <a:lnTo>
                    <a:pt x="463" y="112"/>
                  </a:lnTo>
                  <a:lnTo>
                    <a:pt x="472" y="113"/>
                  </a:lnTo>
                  <a:lnTo>
                    <a:pt x="481" y="111"/>
                  </a:lnTo>
                  <a:lnTo>
                    <a:pt x="491" y="102"/>
                  </a:lnTo>
                  <a:lnTo>
                    <a:pt x="503" y="91"/>
                  </a:lnTo>
                  <a:lnTo>
                    <a:pt x="514" y="81"/>
                  </a:lnTo>
                  <a:lnTo>
                    <a:pt x="525" y="70"/>
                  </a:lnTo>
                  <a:lnTo>
                    <a:pt x="536" y="60"/>
                  </a:lnTo>
                  <a:lnTo>
                    <a:pt x="548" y="50"/>
                  </a:lnTo>
                  <a:lnTo>
                    <a:pt x="560" y="42"/>
                  </a:lnTo>
                  <a:lnTo>
                    <a:pt x="573" y="35"/>
                  </a:lnTo>
                  <a:lnTo>
                    <a:pt x="588" y="30"/>
                  </a:lnTo>
                  <a:lnTo>
                    <a:pt x="592" y="45"/>
                  </a:lnTo>
                  <a:lnTo>
                    <a:pt x="598" y="60"/>
                  </a:lnTo>
                  <a:lnTo>
                    <a:pt x="604" y="74"/>
                  </a:lnTo>
                  <a:lnTo>
                    <a:pt x="611" y="88"/>
                  </a:lnTo>
                  <a:lnTo>
                    <a:pt x="618" y="102"/>
                  </a:lnTo>
                  <a:lnTo>
                    <a:pt x="627" y="115"/>
                  </a:lnTo>
                  <a:lnTo>
                    <a:pt x="636" y="128"/>
                  </a:lnTo>
                  <a:lnTo>
                    <a:pt x="648" y="141"/>
                  </a:lnTo>
                  <a:lnTo>
                    <a:pt x="645" y="314"/>
                  </a:lnTo>
                  <a:lnTo>
                    <a:pt x="655" y="316"/>
                  </a:lnTo>
                  <a:lnTo>
                    <a:pt x="665" y="315"/>
                  </a:lnTo>
                  <a:lnTo>
                    <a:pt x="673" y="312"/>
                  </a:lnTo>
                  <a:lnTo>
                    <a:pt x="682" y="307"/>
                  </a:lnTo>
                  <a:lnTo>
                    <a:pt x="690" y="302"/>
                  </a:lnTo>
                  <a:lnTo>
                    <a:pt x="699" y="297"/>
                  </a:lnTo>
                  <a:lnTo>
                    <a:pt x="707" y="290"/>
                  </a:lnTo>
                  <a:lnTo>
                    <a:pt x="715" y="285"/>
                  </a:lnTo>
                  <a:lnTo>
                    <a:pt x="725" y="297"/>
                  </a:lnTo>
                  <a:lnTo>
                    <a:pt x="733" y="310"/>
                  </a:lnTo>
                  <a:lnTo>
                    <a:pt x="739" y="324"/>
                  </a:lnTo>
                  <a:lnTo>
                    <a:pt x="746" y="339"/>
                  </a:lnTo>
                  <a:lnTo>
                    <a:pt x="752" y="353"/>
                  </a:lnTo>
                  <a:lnTo>
                    <a:pt x="762" y="365"/>
                  </a:lnTo>
                  <a:lnTo>
                    <a:pt x="773" y="375"/>
                  </a:lnTo>
                  <a:lnTo>
                    <a:pt x="788" y="383"/>
                  </a:lnTo>
                  <a:lnTo>
                    <a:pt x="868" y="300"/>
                  </a:lnTo>
                  <a:lnTo>
                    <a:pt x="873" y="311"/>
                  </a:lnTo>
                  <a:lnTo>
                    <a:pt x="878" y="320"/>
                  </a:lnTo>
                  <a:lnTo>
                    <a:pt x="883" y="331"/>
                  </a:lnTo>
                  <a:lnTo>
                    <a:pt x="888" y="342"/>
                  </a:lnTo>
                  <a:lnTo>
                    <a:pt x="893" y="353"/>
                  </a:lnTo>
                  <a:lnTo>
                    <a:pt x="900" y="362"/>
                  </a:lnTo>
                  <a:lnTo>
                    <a:pt x="906" y="373"/>
                  </a:lnTo>
                  <a:lnTo>
                    <a:pt x="914" y="383"/>
                  </a:lnTo>
                  <a:lnTo>
                    <a:pt x="936" y="358"/>
                  </a:lnTo>
                  <a:lnTo>
                    <a:pt x="951" y="331"/>
                  </a:lnTo>
                  <a:lnTo>
                    <a:pt x="963" y="301"/>
                  </a:lnTo>
                  <a:lnTo>
                    <a:pt x="972" y="270"/>
                  </a:lnTo>
                  <a:lnTo>
                    <a:pt x="980" y="238"/>
                  </a:lnTo>
                  <a:lnTo>
                    <a:pt x="987" y="206"/>
                  </a:lnTo>
                  <a:lnTo>
                    <a:pt x="996" y="175"/>
                  </a:lnTo>
                  <a:lnTo>
                    <a:pt x="1007" y="144"/>
                  </a:lnTo>
                  <a:lnTo>
                    <a:pt x="1012" y="129"/>
                  </a:lnTo>
                  <a:lnTo>
                    <a:pt x="1020" y="114"/>
                  </a:lnTo>
                  <a:lnTo>
                    <a:pt x="1028" y="99"/>
                  </a:lnTo>
                  <a:lnTo>
                    <a:pt x="1037" y="85"/>
                  </a:lnTo>
                  <a:lnTo>
                    <a:pt x="1045" y="70"/>
                  </a:lnTo>
                  <a:lnTo>
                    <a:pt x="1051" y="55"/>
                  </a:lnTo>
                  <a:lnTo>
                    <a:pt x="1056" y="40"/>
                  </a:lnTo>
                  <a:lnTo>
                    <a:pt x="1058" y="22"/>
                  </a:lnTo>
                  <a:lnTo>
                    <a:pt x="1101" y="0"/>
                  </a:lnTo>
                  <a:lnTo>
                    <a:pt x="1140" y="29"/>
                  </a:lnTo>
                  <a:lnTo>
                    <a:pt x="1170" y="63"/>
                  </a:lnTo>
                  <a:lnTo>
                    <a:pt x="1194" y="103"/>
                  </a:lnTo>
                  <a:lnTo>
                    <a:pt x="1211" y="146"/>
                  </a:lnTo>
                  <a:lnTo>
                    <a:pt x="1224" y="193"/>
                  </a:lnTo>
                  <a:lnTo>
                    <a:pt x="1233" y="240"/>
                  </a:lnTo>
                  <a:lnTo>
                    <a:pt x="1238" y="289"/>
                  </a:lnTo>
                  <a:lnTo>
                    <a:pt x="1241" y="337"/>
                  </a:lnTo>
                  <a:lnTo>
                    <a:pt x="1237" y="386"/>
                  </a:lnTo>
                  <a:lnTo>
                    <a:pt x="1233" y="438"/>
                  </a:lnTo>
                  <a:lnTo>
                    <a:pt x="1228" y="491"/>
                  </a:lnTo>
                  <a:lnTo>
                    <a:pt x="1223" y="544"/>
                  </a:lnTo>
                  <a:lnTo>
                    <a:pt x="1215" y="598"/>
                  </a:lnTo>
                  <a:lnTo>
                    <a:pt x="1206" y="651"/>
                  </a:lnTo>
                  <a:lnTo>
                    <a:pt x="1192" y="702"/>
                  </a:lnTo>
                  <a:lnTo>
                    <a:pt x="1173" y="75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9"/>
            <p:cNvSpPr/>
            <p:nvPr/>
          </p:nvSpPr>
          <p:spPr>
            <a:xfrm flipH="1">
              <a:off x="7575120" y="6311880"/>
              <a:ext cx="14040" cy="24120"/>
            </a:xfrm>
            <a:custGeom>
              <a:avLst/>
              <a:gdLst>
                <a:gd name="textAreaLeft" fmla="*/ -360 w 14040"/>
                <a:gd name="textAreaRight" fmla="*/ 14040 w 140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8" h="36">
                  <a:moveTo>
                    <a:pt x="10" y="36"/>
                  </a:moveTo>
                  <a:lnTo>
                    <a:pt x="0" y="36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1" y="7"/>
                  </a:lnTo>
                  <a:lnTo>
                    <a:pt x="7" y="0"/>
                  </a:lnTo>
                  <a:lnTo>
                    <a:pt x="10" y="5"/>
                  </a:lnTo>
                  <a:lnTo>
                    <a:pt x="16" y="14"/>
                  </a:lnTo>
                  <a:lnTo>
                    <a:pt x="18" y="25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 flipH="1">
              <a:off x="7575840" y="6372000"/>
              <a:ext cx="203040" cy="5256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59" h="78">
                  <a:moveTo>
                    <a:pt x="0" y="6"/>
                  </a:moveTo>
                  <a:lnTo>
                    <a:pt x="7" y="0"/>
                  </a:lnTo>
                  <a:lnTo>
                    <a:pt x="194" y="75"/>
                  </a:lnTo>
                  <a:lnTo>
                    <a:pt x="202" y="73"/>
                  </a:lnTo>
                  <a:lnTo>
                    <a:pt x="209" y="72"/>
                  </a:lnTo>
                  <a:lnTo>
                    <a:pt x="217" y="71"/>
                  </a:lnTo>
                  <a:lnTo>
                    <a:pt x="224" y="71"/>
                  </a:lnTo>
                  <a:lnTo>
                    <a:pt x="232" y="71"/>
                  </a:lnTo>
                  <a:lnTo>
                    <a:pt x="241" y="71"/>
                  </a:lnTo>
                  <a:lnTo>
                    <a:pt x="249" y="72"/>
                  </a:lnTo>
                  <a:lnTo>
                    <a:pt x="259" y="72"/>
                  </a:lnTo>
                  <a:lnTo>
                    <a:pt x="241" y="77"/>
                  </a:lnTo>
                  <a:lnTo>
                    <a:pt x="223" y="78"/>
                  </a:lnTo>
                  <a:lnTo>
                    <a:pt x="207" y="78"/>
                  </a:lnTo>
                  <a:lnTo>
                    <a:pt x="190" y="77"/>
                  </a:lnTo>
                  <a:lnTo>
                    <a:pt x="174" y="72"/>
                  </a:lnTo>
                  <a:lnTo>
                    <a:pt x="157" y="68"/>
                  </a:lnTo>
                  <a:lnTo>
                    <a:pt x="142" y="63"/>
                  </a:lnTo>
                  <a:lnTo>
                    <a:pt x="126" y="56"/>
                  </a:lnTo>
                  <a:lnTo>
                    <a:pt x="111" y="48"/>
                  </a:lnTo>
                  <a:lnTo>
                    <a:pt x="96" y="42"/>
                  </a:lnTo>
                  <a:lnTo>
                    <a:pt x="80" y="34"/>
                  </a:lnTo>
                  <a:lnTo>
                    <a:pt x="64" y="28"/>
                  </a:lnTo>
                  <a:lnTo>
                    <a:pt x="48" y="20"/>
                  </a:lnTo>
                  <a:lnTo>
                    <a:pt x="32" y="15"/>
                  </a:lnTo>
                  <a:lnTo>
                    <a:pt x="16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1"/>
            <p:cNvSpPr/>
            <p:nvPr/>
          </p:nvSpPr>
          <p:spPr>
            <a:xfrm flipH="1">
              <a:off x="7597080" y="6257160"/>
              <a:ext cx="186840" cy="97560"/>
            </a:xfrm>
            <a:custGeom>
              <a:avLst/>
              <a:gdLst>
                <a:gd name="textAreaLeft" fmla="*/ -360 w 186840"/>
                <a:gd name="textAreaRight" fmla="*/ 186840 w 1868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8" h="145">
                  <a:moveTo>
                    <a:pt x="230" y="145"/>
                  </a:moveTo>
                  <a:lnTo>
                    <a:pt x="215" y="144"/>
                  </a:lnTo>
                  <a:lnTo>
                    <a:pt x="201" y="142"/>
                  </a:lnTo>
                  <a:lnTo>
                    <a:pt x="187" y="140"/>
                  </a:lnTo>
                  <a:lnTo>
                    <a:pt x="173" y="136"/>
                  </a:lnTo>
                  <a:lnTo>
                    <a:pt x="160" y="132"/>
                  </a:lnTo>
                  <a:lnTo>
                    <a:pt x="147" y="128"/>
                  </a:lnTo>
                  <a:lnTo>
                    <a:pt x="134" y="122"/>
                  </a:lnTo>
                  <a:lnTo>
                    <a:pt x="121" y="117"/>
                  </a:lnTo>
                  <a:lnTo>
                    <a:pt x="109" y="110"/>
                  </a:lnTo>
                  <a:lnTo>
                    <a:pt x="96" y="105"/>
                  </a:lnTo>
                  <a:lnTo>
                    <a:pt x="84" y="99"/>
                  </a:lnTo>
                  <a:lnTo>
                    <a:pt x="71" y="92"/>
                  </a:lnTo>
                  <a:lnTo>
                    <a:pt x="60" y="87"/>
                  </a:lnTo>
                  <a:lnTo>
                    <a:pt x="47" y="80"/>
                  </a:lnTo>
                  <a:lnTo>
                    <a:pt x="35" y="75"/>
                  </a:lnTo>
                  <a:lnTo>
                    <a:pt x="22" y="69"/>
                  </a:lnTo>
                  <a:lnTo>
                    <a:pt x="9" y="56"/>
                  </a:lnTo>
                  <a:lnTo>
                    <a:pt x="1" y="39"/>
                  </a:lnTo>
                  <a:lnTo>
                    <a:pt x="0" y="22"/>
                  </a:lnTo>
                  <a:lnTo>
                    <a:pt x="7" y="5"/>
                  </a:lnTo>
                  <a:lnTo>
                    <a:pt x="24" y="0"/>
                  </a:lnTo>
                  <a:lnTo>
                    <a:pt x="41" y="0"/>
                  </a:lnTo>
                  <a:lnTo>
                    <a:pt x="57" y="5"/>
                  </a:lnTo>
                  <a:lnTo>
                    <a:pt x="74" y="11"/>
                  </a:lnTo>
                  <a:lnTo>
                    <a:pt x="89" y="19"/>
                  </a:lnTo>
                  <a:lnTo>
                    <a:pt x="105" y="25"/>
                  </a:lnTo>
                  <a:lnTo>
                    <a:pt x="122" y="31"/>
                  </a:lnTo>
                  <a:lnTo>
                    <a:pt x="140" y="33"/>
                  </a:lnTo>
                  <a:lnTo>
                    <a:pt x="238" y="63"/>
                  </a:lnTo>
                  <a:lnTo>
                    <a:pt x="228" y="81"/>
                  </a:lnTo>
                  <a:lnTo>
                    <a:pt x="226" y="102"/>
                  </a:lnTo>
                  <a:lnTo>
                    <a:pt x="227" y="123"/>
                  </a:lnTo>
                  <a:lnTo>
                    <a:pt x="230" y="145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2"/>
            <p:cNvSpPr/>
            <p:nvPr/>
          </p:nvSpPr>
          <p:spPr>
            <a:xfrm flipH="1">
              <a:off x="7620120" y="6330600"/>
              <a:ext cx="131040" cy="5508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67" h="82">
                  <a:moveTo>
                    <a:pt x="167" y="82"/>
                  </a:moveTo>
                  <a:lnTo>
                    <a:pt x="147" y="75"/>
                  </a:lnTo>
                  <a:lnTo>
                    <a:pt x="127" y="68"/>
                  </a:lnTo>
                  <a:lnTo>
                    <a:pt x="106" y="62"/>
                  </a:lnTo>
                  <a:lnTo>
                    <a:pt x="86" y="55"/>
                  </a:lnTo>
                  <a:lnTo>
                    <a:pt x="65" y="49"/>
                  </a:lnTo>
                  <a:lnTo>
                    <a:pt x="46" y="41"/>
                  </a:lnTo>
                  <a:lnTo>
                    <a:pt x="26" y="33"/>
                  </a:lnTo>
                  <a:lnTo>
                    <a:pt x="8" y="22"/>
                  </a:lnTo>
                  <a:lnTo>
                    <a:pt x="5" y="18"/>
                  </a:lnTo>
                  <a:lnTo>
                    <a:pt x="5" y="11"/>
                  </a:lnTo>
                  <a:lnTo>
                    <a:pt x="4" y="6"/>
                  </a:lnTo>
                  <a:lnTo>
                    <a:pt x="0" y="0"/>
                  </a:lnTo>
                  <a:lnTo>
                    <a:pt x="21" y="9"/>
                  </a:lnTo>
                  <a:lnTo>
                    <a:pt x="41" y="17"/>
                  </a:lnTo>
                  <a:lnTo>
                    <a:pt x="62" y="25"/>
                  </a:lnTo>
                  <a:lnTo>
                    <a:pt x="82" y="34"/>
                  </a:lnTo>
                  <a:lnTo>
                    <a:pt x="103" y="41"/>
                  </a:lnTo>
                  <a:lnTo>
                    <a:pt x="125" y="49"/>
                  </a:lnTo>
                  <a:lnTo>
                    <a:pt x="145" y="57"/>
                  </a:lnTo>
                  <a:lnTo>
                    <a:pt x="167" y="64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 flipH="1">
              <a:off x="7619760" y="6555960"/>
              <a:ext cx="91080" cy="36360"/>
            </a:xfrm>
            <a:custGeom>
              <a:avLst/>
              <a:gdLst>
                <a:gd name="textAreaLeft" fmla="*/ -360 w 91080"/>
                <a:gd name="textAreaRight" fmla="*/ 91080 w 91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16" h="54">
                  <a:moveTo>
                    <a:pt x="0" y="0"/>
                  </a:moveTo>
                  <a:lnTo>
                    <a:pt x="116" y="54"/>
                  </a:lnTo>
                  <a:lnTo>
                    <a:pt x="101" y="53"/>
                  </a:lnTo>
                  <a:lnTo>
                    <a:pt x="85" y="50"/>
                  </a:lnTo>
                  <a:lnTo>
                    <a:pt x="69" y="44"/>
                  </a:lnTo>
                  <a:lnTo>
                    <a:pt x="54" y="38"/>
                  </a:lnTo>
                  <a:lnTo>
                    <a:pt x="39" y="29"/>
                  </a:lnTo>
                  <a:lnTo>
                    <a:pt x="25" y="20"/>
                  </a:lnTo>
                  <a:lnTo>
                    <a:pt x="1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 flipH="1">
              <a:off x="7624080" y="6580440"/>
              <a:ext cx="87120" cy="4104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1" h="61">
                  <a:moveTo>
                    <a:pt x="108" y="61"/>
                  </a:moveTo>
                  <a:lnTo>
                    <a:pt x="94" y="54"/>
                  </a:lnTo>
                  <a:lnTo>
                    <a:pt x="80" y="47"/>
                  </a:lnTo>
                  <a:lnTo>
                    <a:pt x="66" y="42"/>
                  </a:lnTo>
                  <a:lnTo>
                    <a:pt x="52" y="35"/>
                  </a:lnTo>
                  <a:lnTo>
                    <a:pt x="38" y="28"/>
                  </a:lnTo>
                  <a:lnTo>
                    <a:pt x="24" y="20"/>
                  </a:lnTo>
                  <a:lnTo>
                    <a:pt x="12" y="11"/>
                  </a:lnTo>
                  <a:lnTo>
                    <a:pt x="0" y="0"/>
                  </a:lnTo>
                  <a:lnTo>
                    <a:pt x="11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 flipH="1">
              <a:off x="7625880" y="6360480"/>
              <a:ext cx="132840" cy="450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69" h="67">
                  <a:moveTo>
                    <a:pt x="162" y="67"/>
                  </a:moveTo>
                  <a:lnTo>
                    <a:pt x="141" y="58"/>
                  </a:lnTo>
                  <a:lnTo>
                    <a:pt x="121" y="50"/>
                  </a:lnTo>
                  <a:lnTo>
                    <a:pt x="100" y="43"/>
                  </a:lnTo>
                  <a:lnTo>
                    <a:pt x="79" y="34"/>
                  </a:lnTo>
                  <a:lnTo>
                    <a:pt x="58" y="27"/>
                  </a:lnTo>
                  <a:lnTo>
                    <a:pt x="38" y="18"/>
                  </a:lnTo>
                  <a:lnTo>
                    <a:pt x="19" y="9"/>
                  </a:lnTo>
                  <a:lnTo>
                    <a:pt x="0" y="0"/>
                  </a:lnTo>
                  <a:lnTo>
                    <a:pt x="21" y="4"/>
                  </a:lnTo>
                  <a:lnTo>
                    <a:pt x="43" y="8"/>
                  </a:lnTo>
                  <a:lnTo>
                    <a:pt x="64" y="15"/>
                  </a:lnTo>
                  <a:lnTo>
                    <a:pt x="86" y="22"/>
                  </a:lnTo>
                  <a:lnTo>
                    <a:pt x="108" y="31"/>
                  </a:lnTo>
                  <a:lnTo>
                    <a:pt x="129" y="40"/>
                  </a:lnTo>
                  <a:lnTo>
                    <a:pt x="150" y="49"/>
                  </a:lnTo>
                  <a:lnTo>
                    <a:pt x="169" y="59"/>
                  </a:lnTo>
                  <a:lnTo>
                    <a:pt x="162" y="6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 flipH="1">
              <a:off x="7628760" y="6402960"/>
              <a:ext cx="136440" cy="11664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74" h="173">
                  <a:moveTo>
                    <a:pt x="166" y="173"/>
                  </a:moveTo>
                  <a:lnTo>
                    <a:pt x="149" y="173"/>
                  </a:lnTo>
                  <a:lnTo>
                    <a:pt x="131" y="172"/>
                  </a:lnTo>
                  <a:lnTo>
                    <a:pt x="112" y="168"/>
                  </a:lnTo>
                  <a:lnTo>
                    <a:pt x="95" y="161"/>
                  </a:lnTo>
                  <a:lnTo>
                    <a:pt x="78" y="154"/>
                  </a:lnTo>
                  <a:lnTo>
                    <a:pt x="60" y="145"/>
                  </a:lnTo>
                  <a:lnTo>
                    <a:pt x="45" y="134"/>
                  </a:lnTo>
                  <a:lnTo>
                    <a:pt x="30" y="122"/>
                  </a:lnTo>
                  <a:lnTo>
                    <a:pt x="25" y="109"/>
                  </a:lnTo>
                  <a:lnTo>
                    <a:pt x="18" y="96"/>
                  </a:lnTo>
                  <a:lnTo>
                    <a:pt x="12" y="83"/>
                  </a:lnTo>
                  <a:lnTo>
                    <a:pt x="5" y="71"/>
                  </a:lnTo>
                  <a:lnTo>
                    <a:pt x="1" y="56"/>
                  </a:lnTo>
                  <a:lnTo>
                    <a:pt x="0" y="42"/>
                  </a:lnTo>
                  <a:lnTo>
                    <a:pt x="1" y="28"/>
                  </a:lnTo>
                  <a:lnTo>
                    <a:pt x="8" y="14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57" y="13"/>
                  </a:lnTo>
                  <a:lnTo>
                    <a:pt x="77" y="22"/>
                  </a:lnTo>
                  <a:lnTo>
                    <a:pt x="95" y="29"/>
                  </a:lnTo>
                  <a:lnTo>
                    <a:pt x="114" y="38"/>
                  </a:lnTo>
                  <a:lnTo>
                    <a:pt x="134" y="45"/>
                  </a:lnTo>
                  <a:lnTo>
                    <a:pt x="153" y="50"/>
                  </a:lnTo>
                  <a:lnTo>
                    <a:pt x="174" y="54"/>
                  </a:lnTo>
                  <a:lnTo>
                    <a:pt x="168" y="83"/>
                  </a:lnTo>
                  <a:lnTo>
                    <a:pt x="164" y="114"/>
                  </a:lnTo>
                  <a:lnTo>
                    <a:pt x="163" y="144"/>
                  </a:lnTo>
                  <a:lnTo>
                    <a:pt x="166" y="173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 flipH="1">
              <a:off x="7628760" y="6538320"/>
              <a:ext cx="84600" cy="36360"/>
            </a:xfrm>
            <a:custGeom>
              <a:avLst/>
              <a:gdLst>
                <a:gd name="textAreaLeft" fmla="*/ -360 w 84600"/>
                <a:gd name="textAreaRight" fmla="*/ 84600 w 8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08" h="54">
                  <a:moveTo>
                    <a:pt x="108" y="54"/>
                  </a:moveTo>
                  <a:lnTo>
                    <a:pt x="94" y="49"/>
                  </a:lnTo>
                  <a:lnTo>
                    <a:pt x="79" y="43"/>
                  </a:lnTo>
                  <a:lnTo>
                    <a:pt x="65" y="37"/>
                  </a:lnTo>
                  <a:lnTo>
                    <a:pt x="52" y="29"/>
                  </a:lnTo>
                  <a:lnTo>
                    <a:pt x="38" y="23"/>
                  </a:lnTo>
                  <a:lnTo>
                    <a:pt x="25" y="15"/>
                  </a:lnTo>
                  <a:lnTo>
                    <a:pt x="12" y="8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7" y="9"/>
                  </a:lnTo>
                  <a:lnTo>
                    <a:pt x="43" y="13"/>
                  </a:lnTo>
                  <a:lnTo>
                    <a:pt x="59" y="19"/>
                  </a:lnTo>
                  <a:lnTo>
                    <a:pt x="74" y="25"/>
                  </a:lnTo>
                  <a:lnTo>
                    <a:pt x="88" y="33"/>
                  </a:lnTo>
                  <a:lnTo>
                    <a:pt x="100" y="42"/>
                  </a:lnTo>
                  <a:lnTo>
                    <a:pt x="108" y="5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 flipH="1">
              <a:off x="7632000" y="6597720"/>
              <a:ext cx="87840" cy="36360"/>
            </a:xfrm>
            <a:custGeom>
              <a:avLst/>
              <a:gdLst>
                <a:gd name="textAreaLeft" fmla="*/ 360 w 87840"/>
                <a:gd name="textAreaRight" fmla="*/ 88560 w 87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12" h="54">
                  <a:moveTo>
                    <a:pt x="94" y="54"/>
                  </a:moveTo>
                  <a:lnTo>
                    <a:pt x="82" y="47"/>
                  </a:lnTo>
                  <a:lnTo>
                    <a:pt x="72" y="40"/>
                  </a:lnTo>
                  <a:lnTo>
                    <a:pt x="60" y="33"/>
                  </a:lnTo>
                  <a:lnTo>
                    <a:pt x="48" y="27"/>
                  </a:lnTo>
                  <a:lnTo>
                    <a:pt x="36" y="20"/>
                  </a:lnTo>
                  <a:lnTo>
                    <a:pt x="24" y="14"/>
                  </a:lnTo>
                  <a:lnTo>
                    <a:pt x="12" y="6"/>
                  </a:lnTo>
                  <a:lnTo>
                    <a:pt x="0" y="0"/>
                  </a:lnTo>
                  <a:lnTo>
                    <a:pt x="112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 flipH="1">
              <a:off x="7648200" y="6517440"/>
              <a:ext cx="75960" cy="2628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97" h="39">
                  <a:moveTo>
                    <a:pt x="0" y="0"/>
                  </a:moveTo>
                  <a:lnTo>
                    <a:pt x="10" y="4"/>
                  </a:lnTo>
                  <a:lnTo>
                    <a:pt x="21" y="9"/>
                  </a:lnTo>
                  <a:lnTo>
                    <a:pt x="33" y="13"/>
                  </a:lnTo>
                  <a:lnTo>
                    <a:pt x="46" y="17"/>
                  </a:lnTo>
                  <a:lnTo>
                    <a:pt x="59" y="23"/>
                  </a:lnTo>
                  <a:lnTo>
                    <a:pt x="72" y="28"/>
                  </a:lnTo>
                  <a:lnTo>
                    <a:pt x="85" y="33"/>
                  </a:lnTo>
                  <a:lnTo>
                    <a:pt x="9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 flipH="1">
              <a:off x="7665840" y="5488200"/>
              <a:ext cx="411120" cy="370080"/>
            </a:xfrm>
            <a:custGeom>
              <a:avLst/>
              <a:gdLst>
                <a:gd name="textAreaLeft" fmla="*/ 360 w 411120"/>
                <a:gd name="textAreaRight" fmla="*/ 411840 w 41112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524" h="549">
                  <a:moveTo>
                    <a:pt x="484" y="353"/>
                  </a:moveTo>
                  <a:lnTo>
                    <a:pt x="477" y="358"/>
                  </a:lnTo>
                  <a:lnTo>
                    <a:pt x="469" y="360"/>
                  </a:lnTo>
                  <a:lnTo>
                    <a:pt x="461" y="359"/>
                  </a:lnTo>
                  <a:lnTo>
                    <a:pt x="453" y="358"/>
                  </a:lnTo>
                  <a:lnTo>
                    <a:pt x="446" y="358"/>
                  </a:lnTo>
                  <a:lnTo>
                    <a:pt x="438" y="358"/>
                  </a:lnTo>
                  <a:lnTo>
                    <a:pt x="432" y="363"/>
                  </a:lnTo>
                  <a:lnTo>
                    <a:pt x="427" y="370"/>
                  </a:lnTo>
                  <a:lnTo>
                    <a:pt x="439" y="379"/>
                  </a:lnTo>
                  <a:lnTo>
                    <a:pt x="444" y="390"/>
                  </a:lnTo>
                  <a:lnTo>
                    <a:pt x="444" y="400"/>
                  </a:lnTo>
                  <a:lnTo>
                    <a:pt x="441" y="412"/>
                  </a:lnTo>
                  <a:lnTo>
                    <a:pt x="436" y="424"/>
                  </a:lnTo>
                  <a:lnTo>
                    <a:pt x="429" y="436"/>
                  </a:lnTo>
                  <a:lnTo>
                    <a:pt x="424" y="447"/>
                  </a:lnTo>
                  <a:lnTo>
                    <a:pt x="420" y="458"/>
                  </a:lnTo>
                  <a:lnTo>
                    <a:pt x="411" y="469"/>
                  </a:lnTo>
                  <a:lnTo>
                    <a:pt x="402" y="481"/>
                  </a:lnTo>
                  <a:lnTo>
                    <a:pt x="393" y="492"/>
                  </a:lnTo>
                  <a:lnTo>
                    <a:pt x="382" y="502"/>
                  </a:lnTo>
                  <a:lnTo>
                    <a:pt x="371" y="511"/>
                  </a:lnTo>
                  <a:lnTo>
                    <a:pt x="359" y="519"/>
                  </a:lnTo>
                  <a:lnTo>
                    <a:pt x="347" y="526"/>
                  </a:lnTo>
                  <a:lnTo>
                    <a:pt x="335" y="532"/>
                  </a:lnTo>
                  <a:lnTo>
                    <a:pt x="322" y="538"/>
                  </a:lnTo>
                  <a:lnTo>
                    <a:pt x="309" y="542"/>
                  </a:lnTo>
                  <a:lnTo>
                    <a:pt x="297" y="545"/>
                  </a:lnTo>
                  <a:lnTo>
                    <a:pt x="282" y="547"/>
                  </a:lnTo>
                  <a:lnTo>
                    <a:pt x="268" y="548"/>
                  </a:lnTo>
                  <a:lnTo>
                    <a:pt x="254" y="549"/>
                  </a:lnTo>
                  <a:lnTo>
                    <a:pt x="239" y="548"/>
                  </a:lnTo>
                  <a:lnTo>
                    <a:pt x="225" y="547"/>
                  </a:lnTo>
                  <a:lnTo>
                    <a:pt x="212" y="545"/>
                  </a:lnTo>
                  <a:lnTo>
                    <a:pt x="198" y="543"/>
                  </a:lnTo>
                  <a:lnTo>
                    <a:pt x="185" y="540"/>
                  </a:lnTo>
                  <a:lnTo>
                    <a:pt x="172" y="535"/>
                  </a:lnTo>
                  <a:lnTo>
                    <a:pt x="159" y="531"/>
                  </a:lnTo>
                  <a:lnTo>
                    <a:pt x="147" y="526"/>
                  </a:lnTo>
                  <a:lnTo>
                    <a:pt x="135" y="520"/>
                  </a:lnTo>
                  <a:lnTo>
                    <a:pt x="123" y="514"/>
                  </a:lnTo>
                  <a:lnTo>
                    <a:pt x="112" y="506"/>
                  </a:lnTo>
                  <a:lnTo>
                    <a:pt x="101" y="499"/>
                  </a:lnTo>
                  <a:lnTo>
                    <a:pt x="90" y="490"/>
                  </a:lnTo>
                  <a:lnTo>
                    <a:pt x="79" y="480"/>
                  </a:lnTo>
                  <a:lnTo>
                    <a:pt x="71" y="471"/>
                  </a:lnTo>
                  <a:lnTo>
                    <a:pt x="61" y="460"/>
                  </a:lnTo>
                  <a:lnTo>
                    <a:pt x="54" y="448"/>
                  </a:lnTo>
                  <a:lnTo>
                    <a:pt x="46" y="435"/>
                  </a:lnTo>
                  <a:lnTo>
                    <a:pt x="28" y="391"/>
                  </a:lnTo>
                  <a:lnTo>
                    <a:pt x="14" y="344"/>
                  </a:lnTo>
                  <a:lnTo>
                    <a:pt x="4" y="296"/>
                  </a:lnTo>
                  <a:lnTo>
                    <a:pt x="0" y="246"/>
                  </a:lnTo>
                  <a:lnTo>
                    <a:pt x="2" y="196"/>
                  </a:lnTo>
                  <a:lnTo>
                    <a:pt x="9" y="148"/>
                  </a:lnTo>
                  <a:lnTo>
                    <a:pt x="24" y="100"/>
                  </a:lnTo>
                  <a:lnTo>
                    <a:pt x="46" y="57"/>
                  </a:lnTo>
                  <a:lnTo>
                    <a:pt x="56" y="47"/>
                  </a:lnTo>
                  <a:lnTo>
                    <a:pt x="66" y="38"/>
                  </a:lnTo>
                  <a:lnTo>
                    <a:pt x="76" y="31"/>
                  </a:lnTo>
                  <a:lnTo>
                    <a:pt x="87" y="23"/>
                  </a:lnTo>
                  <a:lnTo>
                    <a:pt x="98" y="17"/>
                  </a:lnTo>
                  <a:lnTo>
                    <a:pt x="110" y="11"/>
                  </a:lnTo>
                  <a:lnTo>
                    <a:pt x="120" y="5"/>
                  </a:lnTo>
                  <a:lnTo>
                    <a:pt x="131" y="0"/>
                  </a:lnTo>
                  <a:lnTo>
                    <a:pt x="139" y="20"/>
                  </a:lnTo>
                  <a:lnTo>
                    <a:pt x="147" y="40"/>
                  </a:lnTo>
                  <a:lnTo>
                    <a:pt x="156" y="60"/>
                  </a:lnTo>
                  <a:lnTo>
                    <a:pt x="165" y="80"/>
                  </a:lnTo>
                  <a:lnTo>
                    <a:pt x="173" y="99"/>
                  </a:lnTo>
                  <a:lnTo>
                    <a:pt x="182" y="120"/>
                  </a:lnTo>
                  <a:lnTo>
                    <a:pt x="192" y="139"/>
                  </a:lnTo>
                  <a:lnTo>
                    <a:pt x="200" y="159"/>
                  </a:lnTo>
                  <a:lnTo>
                    <a:pt x="209" y="153"/>
                  </a:lnTo>
                  <a:lnTo>
                    <a:pt x="213" y="144"/>
                  </a:lnTo>
                  <a:lnTo>
                    <a:pt x="216" y="135"/>
                  </a:lnTo>
                  <a:lnTo>
                    <a:pt x="219" y="126"/>
                  </a:lnTo>
                  <a:lnTo>
                    <a:pt x="235" y="3"/>
                  </a:lnTo>
                  <a:lnTo>
                    <a:pt x="347" y="105"/>
                  </a:lnTo>
                  <a:lnTo>
                    <a:pt x="360" y="94"/>
                  </a:lnTo>
                  <a:lnTo>
                    <a:pt x="365" y="73"/>
                  </a:lnTo>
                  <a:lnTo>
                    <a:pt x="368" y="49"/>
                  </a:lnTo>
                  <a:lnTo>
                    <a:pt x="376" y="29"/>
                  </a:lnTo>
                  <a:lnTo>
                    <a:pt x="386" y="58"/>
                  </a:lnTo>
                  <a:lnTo>
                    <a:pt x="395" y="89"/>
                  </a:lnTo>
                  <a:lnTo>
                    <a:pt x="401" y="120"/>
                  </a:lnTo>
                  <a:lnTo>
                    <a:pt x="409" y="151"/>
                  </a:lnTo>
                  <a:lnTo>
                    <a:pt x="416" y="181"/>
                  </a:lnTo>
                  <a:lnTo>
                    <a:pt x="425" y="211"/>
                  </a:lnTo>
                  <a:lnTo>
                    <a:pt x="436" y="242"/>
                  </a:lnTo>
                  <a:lnTo>
                    <a:pt x="449" y="270"/>
                  </a:lnTo>
                  <a:lnTo>
                    <a:pt x="455" y="263"/>
                  </a:lnTo>
                  <a:lnTo>
                    <a:pt x="463" y="259"/>
                  </a:lnTo>
                  <a:lnTo>
                    <a:pt x="472" y="256"/>
                  </a:lnTo>
                  <a:lnTo>
                    <a:pt x="480" y="255"/>
                  </a:lnTo>
                  <a:lnTo>
                    <a:pt x="489" y="255"/>
                  </a:lnTo>
                  <a:lnTo>
                    <a:pt x="496" y="258"/>
                  </a:lnTo>
                  <a:lnTo>
                    <a:pt x="505" y="261"/>
                  </a:lnTo>
                  <a:lnTo>
                    <a:pt x="513" y="267"/>
                  </a:lnTo>
                  <a:lnTo>
                    <a:pt x="521" y="279"/>
                  </a:lnTo>
                  <a:lnTo>
                    <a:pt x="524" y="291"/>
                  </a:lnTo>
                  <a:lnTo>
                    <a:pt x="523" y="303"/>
                  </a:lnTo>
                  <a:lnTo>
                    <a:pt x="520" y="315"/>
                  </a:lnTo>
                  <a:lnTo>
                    <a:pt x="514" y="327"/>
                  </a:lnTo>
                  <a:lnTo>
                    <a:pt x="505" y="338"/>
                  </a:lnTo>
                  <a:lnTo>
                    <a:pt x="495" y="346"/>
                  </a:lnTo>
                  <a:lnTo>
                    <a:pt x="484" y="35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41"/>
            <p:cNvSpPr/>
            <p:nvPr/>
          </p:nvSpPr>
          <p:spPr>
            <a:xfrm flipH="1">
              <a:off x="7693920" y="5684400"/>
              <a:ext cx="33120" cy="20880"/>
            </a:xfrm>
            <a:custGeom>
              <a:avLst/>
              <a:gdLst>
                <a:gd name="textAreaLeft" fmla="*/ 360 w 33120"/>
                <a:gd name="textAreaRight" fmla="*/ 33840 w 33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2" h="31">
                  <a:moveTo>
                    <a:pt x="5" y="31"/>
                  </a:moveTo>
                  <a:lnTo>
                    <a:pt x="4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1" y="14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30" y="6"/>
                  </a:lnTo>
                  <a:lnTo>
                    <a:pt x="36" y="3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40" y="12"/>
                  </a:lnTo>
                  <a:lnTo>
                    <a:pt x="36" y="16"/>
                  </a:lnTo>
                  <a:lnTo>
                    <a:pt x="31" y="20"/>
                  </a:lnTo>
                  <a:lnTo>
                    <a:pt x="24" y="23"/>
                  </a:lnTo>
                  <a:lnTo>
                    <a:pt x="18" y="25"/>
                  </a:lnTo>
                  <a:lnTo>
                    <a:pt x="11" y="28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42"/>
            <p:cNvSpPr/>
            <p:nvPr/>
          </p:nvSpPr>
          <p:spPr>
            <a:xfrm flipH="1">
              <a:off x="7765560" y="5840280"/>
              <a:ext cx="103320" cy="128520"/>
            </a:xfrm>
            <a:custGeom>
              <a:avLst/>
              <a:gdLst>
                <a:gd name="textAreaLeft" fmla="*/ -360 w 103320"/>
                <a:gd name="textAreaRight" fmla="*/ 103320 w 103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32" h="191">
                  <a:moveTo>
                    <a:pt x="73" y="191"/>
                  </a:moveTo>
                  <a:lnTo>
                    <a:pt x="61" y="175"/>
                  </a:lnTo>
                  <a:lnTo>
                    <a:pt x="50" y="159"/>
                  </a:lnTo>
                  <a:lnTo>
                    <a:pt x="41" y="142"/>
                  </a:lnTo>
                  <a:lnTo>
                    <a:pt x="33" y="125"/>
                  </a:lnTo>
                  <a:lnTo>
                    <a:pt x="24" y="106"/>
                  </a:lnTo>
                  <a:lnTo>
                    <a:pt x="16" y="89"/>
                  </a:lnTo>
                  <a:lnTo>
                    <a:pt x="9" y="72"/>
                  </a:lnTo>
                  <a:lnTo>
                    <a:pt x="0" y="54"/>
                  </a:lnTo>
                  <a:lnTo>
                    <a:pt x="19" y="52"/>
                  </a:lnTo>
                  <a:lnTo>
                    <a:pt x="37" y="49"/>
                  </a:lnTo>
                  <a:lnTo>
                    <a:pt x="55" y="45"/>
                  </a:lnTo>
                  <a:lnTo>
                    <a:pt x="71" y="39"/>
                  </a:lnTo>
                  <a:lnTo>
                    <a:pt x="88" y="32"/>
                  </a:lnTo>
                  <a:lnTo>
                    <a:pt x="104" y="23"/>
                  </a:lnTo>
                  <a:lnTo>
                    <a:pt x="118" y="12"/>
                  </a:lnTo>
                  <a:lnTo>
                    <a:pt x="132" y="0"/>
                  </a:lnTo>
                  <a:lnTo>
                    <a:pt x="125" y="24"/>
                  </a:lnTo>
                  <a:lnTo>
                    <a:pt x="119" y="48"/>
                  </a:lnTo>
                  <a:lnTo>
                    <a:pt x="113" y="73"/>
                  </a:lnTo>
                  <a:lnTo>
                    <a:pt x="106" y="97"/>
                  </a:lnTo>
                  <a:lnTo>
                    <a:pt x="100" y="121"/>
                  </a:lnTo>
                  <a:lnTo>
                    <a:pt x="92" y="145"/>
                  </a:lnTo>
                  <a:lnTo>
                    <a:pt x="83" y="168"/>
                  </a:lnTo>
                  <a:lnTo>
                    <a:pt x="73" y="1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43"/>
            <p:cNvSpPr/>
            <p:nvPr/>
          </p:nvSpPr>
          <p:spPr>
            <a:xfrm flipH="1">
              <a:off x="7815600" y="5531040"/>
              <a:ext cx="76680" cy="64080"/>
            </a:xfrm>
            <a:custGeom>
              <a:avLst/>
              <a:gdLst>
                <a:gd name="textAreaLeft" fmla="*/ -360 w 76680"/>
                <a:gd name="textAreaRight" fmla="*/ 76680 w 766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98" h="95">
                  <a:moveTo>
                    <a:pt x="95" y="90"/>
                  </a:moveTo>
                  <a:lnTo>
                    <a:pt x="87" y="77"/>
                  </a:lnTo>
                  <a:lnTo>
                    <a:pt x="84" y="61"/>
                  </a:lnTo>
                  <a:lnTo>
                    <a:pt x="80" y="44"/>
                  </a:lnTo>
                  <a:lnTo>
                    <a:pt x="69" y="29"/>
                  </a:lnTo>
                  <a:lnTo>
                    <a:pt x="65" y="23"/>
                  </a:lnTo>
                  <a:lnTo>
                    <a:pt x="62" y="20"/>
                  </a:lnTo>
                  <a:lnTo>
                    <a:pt x="57" y="18"/>
                  </a:lnTo>
                  <a:lnTo>
                    <a:pt x="53" y="18"/>
                  </a:lnTo>
                  <a:lnTo>
                    <a:pt x="49" y="19"/>
                  </a:lnTo>
                  <a:lnTo>
                    <a:pt x="44" y="20"/>
                  </a:lnTo>
                  <a:lnTo>
                    <a:pt x="39" y="21"/>
                  </a:lnTo>
                  <a:lnTo>
                    <a:pt x="33" y="23"/>
                  </a:lnTo>
                  <a:lnTo>
                    <a:pt x="22" y="39"/>
                  </a:lnTo>
                  <a:lnTo>
                    <a:pt x="16" y="58"/>
                  </a:lnTo>
                  <a:lnTo>
                    <a:pt x="14" y="77"/>
                  </a:lnTo>
                  <a:lnTo>
                    <a:pt x="12" y="95"/>
                  </a:lnTo>
                  <a:lnTo>
                    <a:pt x="4" y="95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10" y="40"/>
                  </a:lnTo>
                  <a:lnTo>
                    <a:pt x="15" y="23"/>
                  </a:lnTo>
                  <a:lnTo>
                    <a:pt x="19" y="17"/>
                  </a:lnTo>
                  <a:lnTo>
                    <a:pt x="25" y="11"/>
                  </a:lnTo>
                  <a:lnTo>
                    <a:pt x="30" y="8"/>
                  </a:lnTo>
                  <a:lnTo>
                    <a:pt x="37" y="6"/>
                  </a:lnTo>
                  <a:lnTo>
                    <a:pt x="42" y="5"/>
                  </a:lnTo>
                  <a:lnTo>
                    <a:pt x="49" y="4"/>
                  </a:lnTo>
                  <a:lnTo>
                    <a:pt x="55" y="3"/>
                  </a:lnTo>
                  <a:lnTo>
                    <a:pt x="62" y="0"/>
                  </a:lnTo>
                  <a:lnTo>
                    <a:pt x="72" y="8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4" y="41"/>
                  </a:lnTo>
                  <a:lnTo>
                    <a:pt x="97" y="53"/>
                  </a:lnTo>
                  <a:lnTo>
                    <a:pt x="98" y="66"/>
                  </a:lnTo>
                  <a:lnTo>
                    <a:pt x="98" y="78"/>
                  </a:lnTo>
                  <a:lnTo>
                    <a:pt x="9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44"/>
            <p:cNvSpPr/>
            <p:nvPr/>
          </p:nvSpPr>
          <p:spPr>
            <a:xfrm flipH="1">
              <a:off x="7824240" y="5779440"/>
              <a:ext cx="93240" cy="54360"/>
            </a:xfrm>
            <a:custGeom>
              <a:avLst/>
              <a:gdLst>
                <a:gd name="textAreaLeft" fmla="*/ -360 w 93240"/>
                <a:gd name="textAreaRight" fmla="*/ 93240 w 932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19" h="81">
                  <a:moveTo>
                    <a:pt x="73" y="80"/>
                  </a:moveTo>
                  <a:lnTo>
                    <a:pt x="63" y="81"/>
                  </a:lnTo>
                  <a:lnTo>
                    <a:pt x="55" y="80"/>
                  </a:lnTo>
                  <a:lnTo>
                    <a:pt x="47" y="76"/>
                  </a:lnTo>
                  <a:lnTo>
                    <a:pt x="40" y="72"/>
                  </a:lnTo>
                  <a:lnTo>
                    <a:pt x="32" y="68"/>
                  </a:lnTo>
                  <a:lnTo>
                    <a:pt x="25" y="62"/>
                  </a:lnTo>
                  <a:lnTo>
                    <a:pt x="19" y="57"/>
                  </a:lnTo>
                  <a:lnTo>
                    <a:pt x="11" y="52"/>
                  </a:lnTo>
                  <a:lnTo>
                    <a:pt x="9" y="43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15" y="21"/>
                  </a:lnTo>
                  <a:lnTo>
                    <a:pt x="30" y="17"/>
                  </a:lnTo>
                  <a:lnTo>
                    <a:pt x="45" y="14"/>
                  </a:lnTo>
                  <a:lnTo>
                    <a:pt x="61" y="10"/>
                  </a:lnTo>
                  <a:lnTo>
                    <a:pt x="76" y="7"/>
                  </a:lnTo>
                  <a:lnTo>
                    <a:pt x="91" y="5"/>
                  </a:lnTo>
                  <a:lnTo>
                    <a:pt x="105" y="2"/>
                  </a:lnTo>
                  <a:lnTo>
                    <a:pt x="119" y="0"/>
                  </a:lnTo>
                  <a:lnTo>
                    <a:pt x="118" y="12"/>
                  </a:lnTo>
                  <a:lnTo>
                    <a:pt x="116" y="23"/>
                  </a:lnTo>
                  <a:lnTo>
                    <a:pt x="112" y="35"/>
                  </a:lnTo>
                  <a:lnTo>
                    <a:pt x="106" y="45"/>
                  </a:lnTo>
                  <a:lnTo>
                    <a:pt x="100" y="55"/>
                  </a:lnTo>
                  <a:lnTo>
                    <a:pt x="92" y="64"/>
                  </a:lnTo>
                  <a:lnTo>
                    <a:pt x="83" y="72"/>
                  </a:lnTo>
                  <a:lnTo>
                    <a:pt x="73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45"/>
            <p:cNvSpPr/>
            <p:nvPr/>
          </p:nvSpPr>
          <p:spPr>
            <a:xfrm flipH="1">
              <a:off x="7822800" y="6315840"/>
              <a:ext cx="248760" cy="1598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17" h="237">
                  <a:moveTo>
                    <a:pt x="265" y="220"/>
                  </a:moveTo>
                  <a:lnTo>
                    <a:pt x="247" y="224"/>
                  </a:lnTo>
                  <a:lnTo>
                    <a:pt x="231" y="229"/>
                  </a:lnTo>
                  <a:lnTo>
                    <a:pt x="214" y="234"/>
                  </a:lnTo>
                  <a:lnTo>
                    <a:pt x="197" y="236"/>
                  </a:lnTo>
                  <a:lnTo>
                    <a:pt x="179" y="237"/>
                  </a:lnTo>
                  <a:lnTo>
                    <a:pt x="163" y="234"/>
                  </a:lnTo>
                  <a:lnTo>
                    <a:pt x="147" y="228"/>
                  </a:lnTo>
                  <a:lnTo>
                    <a:pt x="132" y="215"/>
                  </a:lnTo>
                  <a:lnTo>
                    <a:pt x="125" y="207"/>
                  </a:lnTo>
                  <a:lnTo>
                    <a:pt x="119" y="200"/>
                  </a:lnTo>
                  <a:lnTo>
                    <a:pt x="113" y="192"/>
                  </a:lnTo>
                  <a:lnTo>
                    <a:pt x="108" y="183"/>
                  </a:lnTo>
                  <a:lnTo>
                    <a:pt x="104" y="175"/>
                  </a:lnTo>
                  <a:lnTo>
                    <a:pt x="102" y="165"/>
                  </a:lnTo>
                  <a:lnTo>
                    <a:pt x="102" y="154"/>
                  </a:lnTo>
                  <a:lnTo>
                    <a:pt x="104" y="143"/>
                  </a:lnTo>
                  <a:lnTo>
                    <a:pt x="112" y="138"/>
                  </a:lnTo>
                  <a:lnTo>
                    <a:pt x="119" y="130"/>
                  </a:lnTo>
                  <a:lnTo>
                    <a:pt x="121" y="122"/>
                  </a:lnTo>
                  <a:lnTo>
                    <a:pt x="118" y="112"/>
                  </a:lnTo>
                  <a:lnTo>
                    <a:pt x="110" y="104"/>
                  </a:lnTo>
                  <a:lnTo>
                    <a:pt x="99" y="112"/>
                  </a:lnTo>
                  <a:lnTo>
                    <a:pt x="88" y="120"/>
                  </a:lnTo>
                  <a:lnTo>
                    <a:pt x="77" y="128"/>
                  </a:lnTo>
                  <a:lnTo>
                    <a:pt x="65" y="137"/>
                  </a:lnTo>
                  <a:lnTo>
                    <a:pt x="52" y="146"/>
                  </a:lnTo>
                  <a:lnTo>
                    <a:pt x="39" y="152"/>
                  </a:lnTo>
                  <a:lnTo>
                    <a:pt x="25" y="156"/>
                  </a:lnTo>
                  <a:lnTo>
                    <a:pt x="11" y="158"/>
                  </a:lnTo>
                  <a:lnTo>
                    <a:pt x="3" y="148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" y="112"/>
                  </a:lnTo>
                  <a:lnTo>
                    <a:pt x="5" y="100"/>
                  </a:lnTo>
                  <a:lnTo>
                    <a:pt x="10" y="88"/>
                  </a:lnTo>
                  <a:lnTo>
                    <a:pt x="15" y="77"/>
                  </a:lnTo>
                  <a:lnTo>
                    <a:pt x="21" y="68"/>
                  </a:lnTo>
                  <a:lnTo>
                    <a:pt x="31" y="53"/>
                  </a:lnTo>
                  <a:lnTo>
                    <a:pt x="45" y="41"/>
                  </a:lnTo>
                  <a:lnTo>
                    <a:pt x="61" y="31"/>
                  </a:lnTo>
                  <a:lnTo>
                    <a:pt x="77" y="23"/>
                  </a:lnTo>
                  <a:lnTo>
                    <a:pt x="93" y="17"/>
                  </a:lnTo>
                  <a:lnTo>
                    <a:pt x="111" y="10"/>
                  </a:lnTo>
                  <a:lnTo>
                    <a:pt x="129" y="5"/>
                  </a:lnTo>
                  <a:lnTo>
                    <a:pt x="146" y="0"/>
                  </a:lnTo>
                  <a:lnTo>
                    <a:pt x="175" y="6"/>
                  </a:lnTo>
                  <a:lnTo>
                    <a:pt x="203" y="16"/>
                  </a:lnTo>
                  <a:lnTo>
                    <a:pt x="229" y="29"/>
                  </a:lnTo>
                  <a:lnTo>
                    <a:pt x="253" y="45"/>
                  </a:lnTo>
                  <a:lnTo>
                    <a:pt x="274" y="66"/>
                  </a:lnTo>
                  <a:lnTo>
                    <a:pt x="292" y="88"/>
                  </a:lnTo>
                  <a:lnTo>
                    <a:pt x="306" y="114"/>
                  </a:lnTo>
                  <a:lnTo>
                    <a:pt x="315" y="143"/>
                  </a:lnTo>
                  <a:lnTo>
                    <a:pt x="317" y="157"/>
                  </a:lnTo>
                  <a:lnTo>
                    <a:pt x="314" y="169"/>
                  </a:lnTo>
                  <a:lnTo>
                    <a:pt x="310" y="180"/>
                  </a:lnTo>
                  <a:lnTo>
                    <a:pt x="304" y="190"/>
                  </a:lnTo>
                  <a:lnTo>
                    <a:pt x="295" y="198"/>
                  </a:lnTo>
                  <a:lnTo>
                    <a:pt x="285" y="206"/>
                  </a:lnTo>
                  <a:lnTo>
                    <a:pt x="274" y="214"/>
                  </a:lnTo>
                  <a:lnTo>
                    <a:pt x="265" y="22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 flipH="1">
              <a:off x="7841160" y="5791680"/>
              <a:ext cx="55440" cy="28800"/>
            </a:xfrm>
            <a:custGeom>
              <a:avLst/>
              <a:gdLst>
                <a:gd name="textAreaLeft" fmla="*/ 360 w 55440"/>
                <a:gd name="textAreaRight" fmla="*/ 56160 w 554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1" h="43">
                  <a:moveTo>
                    <a:pt x="42" y="43"/>
                  </a:moveTo>
                  <a:lnTo>
                    <a:pt x="35" y="42"/>
                  </a:lnTo>
                  <a:lnTo>
                    <a:pt x="29" y="41"/>
                  </a:lnTo>
                  <a:lnTo>
                    <a:pt x="22" y="39"/>
                  </a:lnTo>
                  <a:lnTo>
                    <a:pt x="16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71" y="0"/>
                  </a:lnTo>
                  <a:lnTo>
                    <a:pt x="69" y="14"/>
                  </a:lnTo>
                  <a:lnTo>
                    <a:pt x="62" y="26"/>
                  </a:lnTo>
                  <a:lnTo>
                    <a:pt x="54" y="36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ff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 flipH="1">
              <a:off x="7841160" y="6599880"/>
              <a:ext cx="18000" cy="43200"/>
            </a:xfrm>
            <a:custGeom>
              <a:avLst/>
              <a:gdLst>
                <a:gd name="textAreaLeft" fmla="*/ 360 w 18000"/>
                <a:gd name="textAreaRight" fmla="*/ 18720 w 180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3" h="64">
                  <a:moveTo>
                    <a:pt x="15" y="64"/>
                  </a:moveTo>
                  <a:lnTo>
                    <a:pt x="10" y="49"/>
                  </a:lnTo>
                  <a:lnTo>
                    <a:pt x="3" y="33"/>
                  </a:lnTo>
                  <a:lnTo>
                    <a:pt x="0" y="17"/>
                  </a:lnTo>
                  <a:lnTo>
                    <a:pt x="6" y="0"/>
                  </a:lnTo>
                  <a:lnTo>
                    <a:pt x="13" y="15"/>
                  </a:lnTo>
                  <a:lnTo>
                    <a:pt x="21" y="31"/>
                  </a:lnTo>
                  <a:lnTo>
                    <a:pt x="23" y="47"/>
                  </a:lnTo>
                  <a:lnTo>
                    <a:pt x="15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 flipH="1">
              <a:off x="7851960" y="5627880"/>
              <a:ext cx="28800" cy="774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7" h="115">
                  <a:moveTo>
                    <a:pt x="34" y="115"/>
                  </a:moveTo>
                  <a:lnTo>
                    <a:pt x="25" y="106"/>
                  </a:lnTo>
                  <a:lnTo>
                    <a:pt x="18" y="95"/>
                  </a:lnTo>
                  <a:lnTo>
                    <a:pt x="14" y="83"/>
                  </a:lnTo>
                  <a:lnTo>
                    <a:pt x="11" y="70"/>
                  </a:lnTo>
                  <a:lnTo>
                    <a:pt x="9" y="56"/>
                  </a:lnTo>
                  <a:lnTo>
                    <a:pt x="7" y="42"/>
                  </a:lnTo>
                  <a:lnTo>
                    <a:pt x="3" y="2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27" y="29"/>
                  </a:lnTo>
                  <a:lnTo>
                    <a:pt x="34" y="58"/>
                  </a:lnTo>
                  <a:lnTo>
                    <a:pt x="37" y="86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 flipH="1">
              <a:off x="7863480" y="5875920"/>
              <a:ext cx="93240" cy="97560"/>
            </a:xfrm>
            <a:custGeom>
              <a:avLst/>
              <a:gdLst>
                <a:gd name="textAreaLeft" fmla="*/ -360 w 93240"/>
                <a:gd name="textAreaRight" fmla="*/ 93240 w 932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19" h="145">
                  <a:moveTo>
                    <a:pt x="47" y="145"/>
                  </a:moveTo>
                  <a:lnTo>
                    <a:pt x="40" y="135"/>
                  </a:lnTo>
                  <a:lnTo>
                    <a:pt x="33" y="126"/>
                  </a:lnTo>
                  <a:lnTo>
                    <a:pt x="27" y="115"/>
                  </a:lnTo>
                  <a:lnTo>
                    <a:pt x="21" y="105"/>
                  </a:lnTo>
                  <a:lnTo>
                    <a:pt x="16" y="94"/>
                  </a:lnTo>
                  <a:lnTo>
                    <a:pt x="11" y="84"/>
                  </a:lnTo>
                  <a:lnTo>
                    <a:pt x="5" y="74"/>
                  </a:lnTo>
                  <a:lnTo>
                    <a:pt x="0" y="63"/>
                  </a:lnTo>
                  <a:lnTo>
                    <a:pt x="6" y="53"/>
                  </a:lnTo>
                  <a:lnTo>
                    <a:pt x="15" y="41"/>
                  </a:lnTo>
                  <a:lnTo>
                    <a:pt x="24" y="31"/>
                  </a:lnTo>
                  <a:lnTo>
                    <a:pt x="34" y="20"/>
                  </a:lnTo>
                  <a:lnTo>
                    <a:pt x="45" y="11"/>
                  </a:lnTo>
                  <a:lnTo>
                    <a:pt x="57" y="5"/>
                  </a:lnTo>
                  <a:lnTo>
                    <a:pt x="69" y="0"/>
                  </a:lnTo>
                  <a:lnTo>
                    <a:pt x="82" y="1"/>
                  </a:lnTo>
                  <a:lnTo>
                    <a:pt x="119" y="58"/>
                  </a:lnTo>
                  <a:lnTo>
                    <a:pt x="112" y="69"/>
                  </a:lnTo>
                  <a:lnTo>
                    <a:pt x="105" y="81"/>
                  </a:lnTo>
                  <a:lnTo>
                    <a:pt x="97" y="93"/>
                  </a:lnTo>
                  <a:lnTo>
                    <a:pt x="87" y="104"/>
                  </a:lnTo>
                  <a:lnTo>
                    <a:pt x="78" y="115"/>
                  </a:lnTo>
                  <a:lnTo>
                    <a:pt x="68" y="125"/>
                  </a:lnTo>
                  <a:lnTo>
                    <a:pt x="57" y="135"/>
                  </a:lnTo>
                  <a:lnTo>
                    <a:pt x="47" y="14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 flipH="1">
              <a:off x="7863480" y="6655320"/>
              <a:ext cx="137880" cy="2736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76" h="41">
                  <a:moveTo>
                    <a:pt x="29" y="41"/>
                  </a:moveTo>
                  <a:lnTo>
                    <a:pt x="0" y="41"/>
                  </a:lnTo>
                  <a:lnTo>
                    <a:pt x="2" y="34"/>
                  </a:lnTo>
                  <a:lnTo>
                    <a:pt x="7" y="28"/>
                  </a:lnTo>
                  <a:lnTo>
                    <a:pt x="13" y="25"/>
                  </a:lnTo>
                  <a:lnTo>
                    <a:pt x="20" y="24"/>
                  </a:lnTo>
                  <a:lnTo>
                    <a:pt x="29" y="23"/>
                  </a:lnTo>
                  <a:lnTo>
                    <a:pt x="36" y="22"/>
                  </a:lnTo>
                  <a:lnTo>
                    <a:pt x="44" y="20"/>
                  </a:lnTo>
                  <a:lnTo>
                    <a:pt x="50" y="15"/>
                  </a:lnTo>
                  <a:lnTo>
                    <a:pt x="176" y="0"/>
                  </a:lnTo>
                  <a:lnTo>
                    <a:pt x="162" y="13"/>
                  </a:lnTo>
                  <a:lnTo>
                    <a:pt x="145" y="22"/>
                  </a:lnTo>
                  <a:lnTo>
                    <a:pt x="128" y="27"/>
                  </a:lnTo>
                  <a:lnTo>
                    <a:pt x="109" y="30"/>
                  </a:lnTo>
                  <a:lnTo>
                    <a:pt x="88" y="34"/>
                  </a:lnTo>
                  <a:lnTo>
                    <a:pt x="68" y="35"/>
                  </a:lnTo>
                  <a:lnTo>
                    <a:pt x="48" y="38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 flipH="1">
              <a:off x="7866720" y="6640200"/>
              <a:ext cx="129240" cy="17280"/>
            </a:xfrm>
            <a:custGeom>
              <a:avLst/>
              <a:gdLst>
                <a:gd name="textAreaLeft" fmla="*/ -360 w 129240"/>
                <a:gd name="textAreaRight" fmla="*/ 129240 w 129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65" h="26">
                  <a:moveTo>
                    <a:pt x="0" y="26"/>
                  </a:moveTo>
                  <a:lnTo>
                    <a:pt x="0" y="11"/>
                  </a:lnTo>
                  <a:lnTo>
                    <a:pt x="21" y="8"/>
                  </a:lnTo>
                  <a:lnTo>
                    <a:pt x="41" y="6"/>
                  </a:lnTo>
                  <a:lnTo>
                    <a:pt x="62" y="4"/>
                  </a:lnTo>
                  <a:lnTo>
                    <a:pt x="83" y="3"/>
                  </a:lnTo>
                  <a:lnTo>
                    <a:pt x="104" y="2"/>
                  </a:lnTo>
                  <a:lnTo>
                    <a:pt x="124" y="0"/>
                  </a:lnTo>
                  <a:lnTo>
                    <a:pt x="145" y="0"/>
                  </a:lnTo>
                  <a:lnTo>
                    <a:pt x="165" y="2"/>
                  </a:lnTo>
                  <a:lnTo>
                    <a:pt x="145" y="7"/>
                  </a:lnTo>
                  <a:lnTo>
                    <a:pt x="124" y="10"/>
                  </a:lnTo>
                  <a:lnTo>
                    <a:pt x="104" y="13"/>
                  </a:lnTo>
                  <a:lnTo>
                    <a:pt x="83" y="16"/>
                  </a:lnTo>
                  <a:lnTo>
                    <a:pt x="62" y="18"/>
                  </a:lnTo>
                  <a:lnTo>
                    <a:pt x="41" y="20"/>
                  </a:lnTo>
                  <a:lnTo>
                    <a:pt x="21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 flipH="1">
              <a:off x="7869240" y="6593760"/>
              <a:ext cx="138600" cy="1728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77" h="26">
                  <a:moveTo>
                    <a:pt x="4" y="26"/>
                  </a:moveTo>
                  <a:lnTo>
                    <a:pt x="0" y="24"/>
                  </a:lnTo>
                  <a:lnTo>
                    <a:pt x="11" y="21"/>
                  </a:lnTo>
                  <a:lnTo>
                    <a:pt x="21" y="18"/>
                  </a:lnTo>
                  <a:lnTo>
                    <a:pt x="31" y="14"/>
                  </a:lnTo>
                  <a:lnTo>
                    <a:pt x="43" y="12"/>
                  </a:lnTo>
                  <a:lnTo>
                    <a:pt x="54" y="10"/>
                  </a:lnTo>
                  <a:lnTo>
                    <a:pt x="65" y="8"/>
                  </a:lnTo>
                  <a:lnTo>
                    <a:pt x="77" y="6"/>
                  </a:lnTo>
                  <a:lnTo>
                    <a:pt x="89" y="5"/>
                  </a:lnTo>
                  <a:lnTo>
                    <a:pt x="99" y="4"/>
                  </a:lnTo>
                  <a:lnTo>
                    <a:pt x="111" y="2"/>
                  </a:lnTo>
                  <a:lnTo>
                    <a:pt x="122" y="1"/>
                  </a:lnTo>
                  <a:lnTo>
                    <a:pt x="134" y="1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6" y="1"/>
                  </a:lnTo>
                  <a:lnTo>
                    <a:pt x="177" y="1"/>
                  </a:lnTo>
                  <a:lnTo>
                    <a:pt x="169" y="9"/>
                  </a:lnTo>
                  <a:lnTo>
                    <a:pt x="160" y="14"/>
                  </a:lnTo>
                  <a:lnTo>
                    <a:pt x="150" y="19"/>
                  </a:lnTo>
                  <a:lnTo>
                    <a:pt x="139" y="21"/>
                  </a:lnTo>
                  <a:lnTo>
                    <a:pt x="129" y="23"/>
                  </a:lnTo>
                  <a:lnTo>
                    <a:pt x="117" y="24"/>
                  </a:lnTo>
                  <a:lnTo>
                    <a:pt x="106" y="25"/>
                  </a:lnTo>
                  <a:lnTo>
                    <a:pt x="94" y="25"/>
                  </a:lnTo>
                  <a:lnTo>
                    <a:pt x="82" y="24"/>
                  </a:lnTo>
                  <a:lnTo>
                    <a:pt x="70" y="24"/>
                  </a:lnTo>
                  <a:lnTo>
                    <a:pt x="58" y="23"/>
                  </a:lnTo>
                  <a:lnTo>
                    <a:pt x="47" y="23"/>
                  </a:lnTo>
                  <a:lnTo>
                    <a:pt x="36" y="23"/>
                  </a:lnTo>
                  <a:lnTo>
                    <a:pt x="24" y="23"/>
                  </a:lnTo>
                  <a:lnTo>
                    <a:pt x="14" y="24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53"/>
            <p:cNvSpPr/>
            <p:nvPr/>
          </p:nvSpPr>
          <p:spPr>
            <a:xfrm flipH="1">
              <a:off x="7872120" y="6618600"/>
              <a:ext cx="127080" cy="15120"/>
            </a:xfrm>
            <a:custGeom>
              <a:avLst/>
              <a:gdLst>
                <a:gd name="textAreaLeft" fmla="*/ -360 w 127080"/>
                <a:gd name="textAreaRight" fmla="*/ 127080 w 1270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2" h="23">
                  <a:moveTo>
                    <a:pt x="162" y="8"/>
                  </a:moveTo>
                  <a:lnTo>
                    <a:pt x="142" y="10"/>
                  </a:lnTo>
                  <a:lnTo>
                    <a:pt x="123" y="13"/>
                  </a:lnTo>
                  <a:lnTo>
                    <a:pt x="102" y="16"/>
                  </a:lnTo>
                  <a:lnTo>
                    <a:pt x="82" y="19"/>
                  </a:lnTo>
                  <a:lnTo>
                    <a:pt x="61" y="22"/>
                  </a:lnTo>
                  <a:lnTo>
                    <a:pt x="41" y="23"/>
                  </a:lnTo>
                  <a:lnTo>
                    <a:pt x="20" y="22"/>
                  </a:lnTo>
                  <a:lnTo>
                    <a:pt x="0" y="18"/>
                  </a:lnTo>
                  <a:lnTo>
                    <a:pt x="0" y="8"/>
                  </a:lnTo>
                  <a:lnTo>
                    <a:pt x="162" y="0"/>
                  </a:lnTo>
                  <a:lnTo>
                    <a:pt x="16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 flipH="1">
              <a:off x="7886520" y="6512040"/>
              <a:ext cx="250200" cy="80280"/>
            </a:xfrm>
            <a:custGeom>
              <a:avLst/>
              <a:gdLst>
                <a:gd name="textAreaLeft" fmla="*/ -360 w 250200"/>
                <a:gd name="textAreaRight" fmla="*/ 250200 w 2502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9" h="119">
                  <a:moveTo>
                    <a:pt x="319" y="101"/>
                  </a:moveTo>
                  <a:lnTo>
                    <a:pt x="302" y="98"/>
                  </a:lnTo>
                  <a:lnTo>
                    <a:pt x="285" y="95"/>
                  </a:lnTo>
                  <a:lnTo>
                    <a:pt x="269" y="96"/>
                  </a:lnTo>
                  <a:lnTo>
                    <a:pt x="253" y="99"/>
                  </a:lnTo>
                  <a:lnTo>
                    <a:pt x="236" y="103"/>
                  </a:lnTo>
                  <a:lnTo>
                    <a:pt x="220" y="106"/>
                  </a:lnTo>
                  <a:lnTo>
                    <a:pt x="204" y="111"/>
                  </a:lnTo>
                  <a:lnTo>
                    <a:pt x="188" y="114"/>
                  </a:lnTo>
                  <a:lnTo>
                    <a:pt x="173" y="117"/>
                  </a:lnTo>
                  <a:lnTo>
                    <a:pt x="158" y="119"/>
                  </a:lnTo>
                  <a:lnTo>
                    <a:pt x="142" y="119"/>
                  </a:lnTo>
                  <a:lnTo>
                    <a:pt x="128" y="117"/>
                  </a:lnTo>
                  <a:lnTo>
                    <a:pt x="114" y="112"/>
                  </a:lnTo>
                  <a:lnTo>
                    <a:pt x="101" y="104"/>
                  </a:lnTo>
                  <a:lnTo>
                    <a:pt x="88" y="92"/>
                  </a:lnTo>
                  <a:lnTo>
                    <a:pt x="76" y="76"/>
                  </a:lnTo>
                  <a:lnTo>
                    <a:pt x="67" y="68"/>
                  </a:lnTo>
                  <a:lnTo>
                    <a:pt x="57" y="62"/>
                  </a:lnTo>
                  <a:lnTo>
                    <a:pt x="47" y="55"/>
                  </a:lnTo>
                  <a:lnTo>
                    <a:pt x="37" y="50"/>
                  </a:lnTo>
                  <a:lnTo>
                    <a:pt x="26" y="44"/>
                  </a:lnTo>
                  <a:lnTo>
                    <a:pt x="16" y="36"/>
                  </a:lnTo>
                  <a:lnTo>
                    <a:pt x="7" y="28"/>
                  </a:lnTo>
                  <a:lnTo>
                    <a:pt x="0" y="19"/>
                  </a:lnTo>
                  <a:lnTo>
                    <a:pt x="205" y="0"/>
                  </a:lnTo>
                  <a:lnTo>
                    <a:pt x="219" y="13"/>
                  </a:lnTo>
                  <a:lnTo>
                    <a:pt x="233" y="24"/>
                  </a:lnTo>
                  <a:lnTo>
                    <a:pt x="249" y="36"/>
                  </a:lnTo>
                  <a:lnTo>
                    <a:pt x="265" y="47"/>
                  </a:lnTo>
                  <a:lnTo>
                    <a:pt x="280" y="59"/>
                  </a:lnTo>
                  <a:lnTo>
                    <a:pt x="295" y="72"/>
                  </a:lnTo>
                  <a:lnTo>
                    <a:pt x="308" y="86"/>
                  </a:lnTo>
                  <a:lnTo>
                    <a:pt x="319" y="101"/>
                  </a:lnTo>
                  <a:close/>
                </a:path>
              </a:pathLst>
            </a:custGeom>
            <a:solidFill>
              <a:srgbClr val="007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55"/>
            <p:cNvSpPr/>
            <p:nvPr/>
          </p:nvSpPr>
          <p:spPr>
            <a:xfrm flipH="1">
              <a:off x="7896600" y="6093360"/>
              <a:ext cx="666720" cy="280440"/>
            </a:xfrm>
            <a:custGeom>
              <a:avLst/>
              <a:gdLst>
                <a:gd name="textAreaLeft" fmla="*/ 360 w 666720"/>
                <a:gd name="textAreaRight" fmla="*/ 667440 w 66672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9" h="416">
                  <a:moveTo>
                    <a:pt x="669" y="345"/>
                  </a:moveTo>
                  <a:lnTo>
                    <a:pt x="660" y="351"/>
                  </a:lnTo>
                  <a:lnTo>
                    <a:pt x="651" y="359"/>
                  </a:lnTo>
                  <a:lnTo>
                    <a:pt x="643" y="366"/>
                  </a:lnTo>
                  <a:lnTo>
                    <a:pt x="637" y="374"/>
                  </a:lnTo>
                  <a:lnTo>
                    <a:pt x="630" y="383"/>
                  </a:lnTo>
                  <a:lnTo>
                    <a:pt x="624" y="390"/>
                  </a:lnTo>
                  <a:lnTo>
                    <a:pt x="617" y="400"/>
                  </a:lnTo>
                  <a:lnTo>
                    <a:pt x="611" y="409"/>
                  </a:lnTo>
                  <a:lnTo>
                    <a:pt x="602" y="396"/>
                  </a:lnTo>
                  <a:lnTo>
                    <a:pt x="593" y="383"/>
                  </a:lnTo>
                  <a:lnTo>
                    <a:pt x="582" y="369"/>
                  </a:lnTo>
                  <a:lnTo>
                    <a:pt x="569" y="356"/>
                  </a:lnTo>
                  <a:lnTo>
                    <a:pt x="556" y="343"/>
                  </a:lnTo>
                  <a:lnTo>
                    <a:pt x="541" y="332"/>
                  </a:lnTo>
                  <a:lnTo>
                    <a:pt x="526" y="323"/>
                  </a:lnTo>
                  <a:lnTo>
                    <a:pt x="511" y="317"/>
                  </a:lnTo>
                  <a:lnTo>
                    <a:pt x="526" y="307"/>
                  </a:lnTo>
                  <a:lnTo>
                    <a:pt x="541" y="295"/>
                  </a:lnTo>
                  <a:lnTo>
                    <a:pt x="557" y="284"/>
                  </a:lnTo>
                  <a:lnTo>
                    <a:pt x="573" y="274"/>
                  </a:lnTo>
                  <a:lnTo>
                    <a:pt x="590" y="265"/>
                  </a:lnTo>
                  <a:lnTo>
                    <a:pt x="608" y="259"/>
                  </a:lnTo>
                  <a:lnTo>
                    <a:pt x="627" y="259"/>
                  </a:lnTo>
                  <a:lnTo>
                    <a:pt x="647" y="266"/>
                  </a:lnTo>
                  <a:lnTo>
                    <a:pt x="656" y="268"/>
                  </a:lnTo>
                  <a:lnTo>
                    <a:pt x="666" y="274"/>
                  </a:lnTo>
                  <a:lnTo>
                    <a:pt x="676" y="279"/>
                  </a:lnTo>
                  <a:lnTo>
                    <a:pt x="684" y="285"/>
                  </a:lnTo>
                  <a:lnTo>
                    <a:pt x="694" y="290"/>
                  </a:lnTo>
                  <a:lnTo>
                    <a:pt x="703" y="293"/>
                  </a:lnTo>
                  <a:lnTo>
                    <a:pt x="712" y="293"/>
                  </a:lnTo>
                  <a:lnTo>
                    <a:pt x="722" y="289"/>
                  </a:lnTo>
                  <a:lnTo>
                    <a:pt x="719" y="280"/>
                  </a:lnTo>
                  <a:lnTo>
                    <a:pt x="715" y="272"/>
                  </a:lnTo>
                  <a:lnTo>
                    <a:pt x="708" y="266"/>
                  </a:lnTo>
                  <a:lnTo>
                    <a:pt x="701" y="261"/>
                  </a:lnTo>
                  <a:lnTo>
                    <a:pt x="692" y="256"/>
                  </a:lnTo>
                  <a:lnTo>
                    <a:pt x="683" y="252"/>
                  </a:lnTo>
                  <a:lnTo>
                    <a:pt x="676" y="249"/>
                  </a:lnTo>
                  <a:lnTo>
                    <a:pt x="669" y="244"/>
                  </a:lnTo>
                  <a:lnTo>
                    <a:pt x="675" y="241"/>
                  </a:lnTo>
                  <a:lnTo>
                    <a:pt x="680" y="239"/>
                  </a:lnTo>
                  <a:lnTo>
                    <a:pt x="687" y="237"/>
                  </a:lnTo>
                  <a:lnTo>
                    <a:pt x="693" y="235"/>
                  </a:lnTo>
                  <a:lnTo>
                    <a:pt x="701" y="235"/>
                  </a:lnTo>
                  <a:lnTo>
                    <a:pt x="708" y="234"/>
                  </a:lnTo>
                  <a:lnTo>
                    <a:pt x="715" y="234"/>
                  </a:lnTo>
                  <a:lnTo>
                    <a:pt x="722" y="235"/>
                  </a:lnTo>
                  <a:lnTo>
                    <a:pt x="729" y="240"/>
                  </a:lnTo>
                  <a:lnTo>
                    <a:pt x="736" y="242"/>
                  </a:lnTo>
                  <a:lnTo>
                    <a:pt x="744" y="242"/>
                  </a:lnTo>
                  <a:lnTo>
                    <a:pt x="750" y="237"/>
                  </a:lnTo>
                  <a:lnTo>
                    <a:pt x="750" y="230"/>
                  </a:lnTo>
                  <a:lnTo>
                    <a:pt x="748" y="225"/>
                  </a:lnTo>
                  <a:lnTo>
                    <a:pt x="745" y="221"/>
                  </a:lnTo>
                  <a:lnTo>
                    <a:pt x="741" y="216"/>
                  </a:lnTo>
                  <a:lnTo>
                    <a:pt x="735" y="213"/>
                  </a:lnTo>
                  <a:lnTo>
                    <a:pt x="730" y="211"/>
                  </a:lnTo>
                  <a:lnTo>
                    <a:pt x="723" y="210"/>
                  </a:lnTo>
                  <a:lnTo>
                    <a:pt x="718" y="209"/>
                  </a:lnTo>
                  <a:lnTo>
                    <a:pt x="701" y="213"/>
                  </a:lnTo>
                  <a:lnTo>
                    <a:pt x="684" y="217"/>
                  </a:lnTo>
                  <a:lnTo>
                    <a:pt x="668" y="221"/>
                  </a:lnTo>
                  <a:lnTo>
                    <a:pt x="653" y="225"/>
                  </a:lnTo>
                  <a:lnTo>
                    <a:pt x="637" y="229"/>
                  </a:lnTo>
                  <a:lnTo>
                    <a:pt x="622" y="234"/>
                  </a:lnTo>
                  <a:lnTo>
                    <a:pt x="607" y="239"/>
                  </a:lnTo>
                  <a:lnTo>
                    <a:pt x="593" y="243"/>
                  </a:lnTo>
                  <a:lnTo>
                    <a:pt x="577" y="249"/>
                  </a:lnTo>
                  <a:lnTo>
                    <a:pt x="563" y="254"/>
                  </a:lnTo>
                  <a:lnTo>
                    <a:pt x="548" y="261"/>
                  </a:lnTo>
                  <a:lnTo>
                    <a:pt x="534" y="267"/>
                  </a:lnTo>
                  <a:lnTo>
                    <a:pt x="519" y="275"/>
                  </a:lnTo>
                  <a:lnTo>
                    <a:pt x="505" y="283"/>
                  </a:lnTo>
                  <a:lnTo>
                    <a:pt x="490" y="292"/>
                  </a:lnTo>
                  <a:lnTo>
                    <a:pt x="475" y="302"/>
                  </a:lnTo>
                  <a:lnTo>
                    <a:pt x="463" y="303"/>
                  </a:lnTo>
                  <a:lnTo>
                    <a:pt x="452" y="306"/>
                  </a:lnTo>
                  <a:lnTo>
                    <a:pt x="441" y="310"/>
                  </a:lnTo>
                  <a:lnTo>
                    <a:pt x="431" y="316"/>
                  </a:lnTo>
                  <a:lnTo>
                    <a:pt x="421" y="321"/>
                  </a:lnTo>
                  <a:lnTo>
                    <a:pt x="410" y="328"/>
                  </a:lnTo>
                  <a:lnTo>
                    <a:pt x="400" y="333"/>
                  </a:lnTo>
                  <a:lnTo>
                    <a:pt x="391" y="339"/>
                  </a:lnTo>
                  <a:lnTo>
                    <a:pt x="380" y="345"/>
                  </a:lnTo>
                  <a:lnTo>
                    <a:pt x="370" y="350"/>
                  </a:lnTo>
                  <a:lnTo>
                    <a:pt x="359" y="353"/>
                  </a:lnTo>
                  <a:lnTo>
                    <a:pt x="349" y="356"/>
                  </a:lnTo>
                  <a:lnTo>
                    <a:pt x="337" y="357"/>
                  </a:lnTo>
                  <a:lnTo>
                    <a:pt x="325" y="357"/>
                  </a:lnTo>
                  <a:lnTo>
                    <a:pt x="312" y="353"/>
                  </a:lnTo>
                  <a:lnTo>
                    <a:pt x="299" y="348"/>
                  </a:lnTo>
                  <a:lnTo>
                    <a:pt x="288" y="352"/>
                  </a:lnTo>
                  <a:lnTo>
                    <a:pt x="278" y="358"/>
                  </a:lnTo>
                  <a:lnTo>
                    <a:pt x="270" y="364"/>
                  </a:lnTo>
                  <a:lnTo>
                    <a:pt x="263" y="373"/>
                  </a:lnTo>
                  <a:lnTo>
                    <a:pt x="257" y="383"/>
                  </a:lnTo>
                  <a:lnTo>
                    <a:pt x="251" y="392"/>
                  </a:lnTo>
                  <a:lnTo>
                    <a:pt x="248" y="403"/>
                  </a:lnTo>
                  <a:lnTo>
                    <a:pt x="245" y="413"/>
                  </a:lnTo>
                  <a:lnTo>
                    <a:pt x="229" y="413"/>
                  </a:lnTo>
                  <a:lnTo>
                    <a:pt x="209" y="414"/>
                  </a:lnTo>
                  <a:lnTo>
                    <a:pt x="189" y="415"/>
                  </a:lnTo>
                  <a:lnTo>
                    <a:pt x="167" y="415"/>
                  </a:lnTo>
                  <a:lnTo>
                    <a:pt x="144" y="416"/>
                  </a:lnTo>
                  <a:lnTo>
                    <a:pt x="123" y="416"/>
                  </a:lnTo>
                  <a:lnTo>
                    <a:pt x="102" y="415"/>
                  </a:lnTo>
                  <a:lnTo>
                    <a:pt x="83" y="413"/>
                  </a:lnTo>
                  <a:lnTo>
                    <a:pt x="71" y="382"/>
                  </a:lnTo>
                  <a:lnTo>
                    <a:pt x="81" y="374"/>
                  </a:lnTo>
                  <a:lnTo>
                    <a:pt x="88" y="366"/>
                  </a:lnTo>
                  <a:lnTo>
                    <a:pt x="95" y="357"/>
                  </a:lnTo>
                  <a:lnTo>
                    <a:pt x="100" y="347"/>
                  </a:lnTo>
                  <a:lnTo>
                    <a:pt x="103" y="336"/>
                  </a:lnTo>
                  <a:lnTo>
                    <a:pt x="106" y="325"/>
                  </a:lnTo>
                  <a:lnTo>
                    <a:pt x="104" y="313"/>
                  </a:lnTo>
                  <a:lnTo>
                    <a:pt x="101" y="302"/>
                  </a:lnTo>
                  <a:lnTo>
                    <a:pt x="99" y="294"/>
                  </a:lnTo>
                  <a:lnTo>
                    <a:pt x="95" y="289"/>
                  </a:lnTo>
                  <a:lnTo>
                    <a:pt x="89" y="283"/>
                  </a:lnTo>
                  <a:lnTo>
                    <a:pt x="84" y="279"/>
                  </a:lnTo>
                  <a:lnTo>
                    <a:pt x="77" y="275"/>
                  </a:lnTo>
                  <a:lnTo>
                    <a:pt x="71" y="269"/>
                  </a:lnTo>
                  <a:lnTo>
                    <a:pt x="66" y="265"/>
                  </a:lnTo>
                  <a:lnTo>
                    <a:pt x="60" y="258"/>
                  </a:lnTo>
                  <a:lnTo>
                    <a:pt x="35" y="263"/>
                  </a:lnTo>
                  <a:lnTo>
                    <a:pt x="30" y="242"/>
                  </a:lnTo>
                  <a:lnTo>
                    <a:pt x="21" y="221"/>
                  </a:lnTo>
                  <a:lnTo>
                    <a:pt x="12" y="197"/>
                  </a:lnTo>
                  <a:lnTo>
                    <a:pt x="3" y="173"/>
                  </a:lnTo>
                  <a:lnTo>
                    <a:pt x="0" y="150"/>
                  </a:lnTo>
                  <a:lnTo>
                    <a:pt x="3" y="130"/>
                  </a:lnTo>
                  <a:lnTo>
                    <a:pt x="17" y="113"/>
                  </a:lnTo>
                  <a:lnTo>
                    <a:pt x="43" y="101"/>
                  </a:lnTo>
                  <a:lnTo>
                    <a:pt x="86" y="78"/>
                  </a:lnTo>
                  <a:lnTo>
                    <a:pt x="93" y="95"/>
                  </a:lnTo>
                  <a:lnTo>
                    <a:pt x="100" y="113"/>
                  </a:lnTo>
                  <a:lnTo>
                    <a:pt x="109" y="129"/>
                  </a:lnTo>
                  <a:lnTo>
                    <a:pt x="120" y="145"/>
                  </a:lnTo>
                  <a:lnTo>
                    <a:pt x="130" y="161"/>
                  </a:lnTo>
                  <a:lnTo>
                    <a:pt x="141" y="176"/>
                  </a:lnTo>
                  <a:lnTo>
                    <a:pt x="154" y="190"/>
                  </a:lnTo>
                  <a:lnTo>
                    <a:pt x="168" y="204"/>
                  </a:lnTo>
                  <a:lnTo>
                    <a:pt x="182" y="217"/>
                  </a:lnTo>
                  <a:lnTo>
                    <a:pt x="197" y="229"/>
                  </a:lnTo>
                  <a:lnTo>
                    <a:pt x="214" y="240"/>
                  </a:lnTo>
                  <a:lnTo>
                    <a:pt x="230" y="250"/>
                  </a:lnTo>
                  <a:lnTo>
                    <a:pt x="247" y="257"/>
                  </a:lnTo>
                  <a:lnTo>
                    <a:pt x="264" y="265"/>
                  </a:lnTo>
                  <a:lnTo>
                    <a:pt x="283" y="270"/>
                  </a:lnTo>
                  <a:lnTo>
                    <a:pt x="302" y="274"/>
                  </a:lnTo>
                  <a:lnTo>
                    <a:pt x="311" y="285"/>
                  </a:lnTo>
                  <a:lnTo>
                    <a:pt x="320" y="294"/>
                  </a:lnTo>
                  <a:lnTo>
                    <a:pt x="332" y="302"/>
                  </a:lnTo>
                  <a:lnTo>
                    <a:pt x="344" y="306"/>
                  </a:lnTo>
                  <a:lnTo>
                    <a:pt x="357" y="310"/>
                  </a:lnTo>
                  <a:lnTo>
                    <a:pt x="370" y="313"/>
                  </a:lnTo>
                  <a:lnTo>
                    <a:pt x="383" y="315"/>
                  </a:lnTo>
                  <a:lnTo>
                    <a:pt x="395" y="317"/>
                  </a:lnTo>
                  <a:lnTo>
                    <a:pt x="412" y="317"/>
                  </a:lnTo>
                  <a:lnTo>
                    <a:pt x="428" y="312"/>
                  </a:lnTo>
                  <a:lnTo>
                    <a:pt x="444" y="307"/>
                  </a:lnTo>
                  <a:lnTo>
                    <a:pt x="458" y="298"/>
                  </a:lnTo>
                  <a:lnTo>
                    <a:pt x="471" y="288"/>
                  </a:lnTo>
                  <a:lnTo>
                    <a:pt x="482" y="276"/>
                  </a:lnTo>
                  <a:lnTo>
                    <a:pt x="492" y="262"/>
                  </a:lnTo>
                  <a:lnTo>
                    <a:pt x="500" y="248"/>
                  </a:lnTo>
                  <a:lnTo>
                    <a:pt x="504" y="236"/>
                  </a:lnTo>
                  <a:lnTo>
                    <a:pt x="504" y="226"/>
                  </a:lnTo>
                  <a:lnTo>
                    <a:pt x="503" y="214"/>
                  </a:lnTo>
                  <a:lnTo>
                    <a:pt x="503" y="201"/>
                  </a:lnTo>
                  <a:lnTo>
                    <a:pt x="516" y="187"/>
                  </a:lnTo>
                  <a:lnTo>
                    <a:pt x="528" y="173"/>
                  </a:lnTo>
                  <a:lnTo>
                    <a:pt x="538" y="157"/>
                  </a:lnTo>
                  <a:lnTo>
                    <a:pt x="545" y="142"/>
                  </a:lnTo>
                  <a:lnTo>
                    <a:pt x="552" y="124"/>
                  </a:lnTo>
                  <a:lnTo>
                    <a:pt x="557" y="108"/>
                  </a:lnTo>
                  <a:lnTo>
                    <a:pt x="561" y="90"/>
                  </a:lnTo>
                  <a:lnTo>
                    <a:pt x="565" y="73"/>
                  </a:lnTo>
                  <a:lnTo>
                    <a:pt x="576" y="72"/>
                  </a:lnTo>
                  <a:lnTo>
                    <a:pt x="586" y="68"/>
                  </a:lnTo>
                  <a:lnTo>
                    <a:pt x="595" y="63"/>
                  </a:lnTo>
                  <a:lnTo>
                    <a:pt x="603" y="56"/>
                  </a:lnTo>
                  <a:lnTo>
                    <a:pt x="610" y="48"/>
                  </a:lnTo>
                  <a:lnTo>
                    <a:pt x="615" y="38"/>
                  </a:lnTo>
                  <a:lnTo>
                    <a:pt x="620" y="28"/>
                  </a:lnTo>
                  <a:lnTo>
                    <a:pt x="623" y="19"/>
                  </a:lnTo>
                  <a:lnTo>
                    <a:pt x="626" y="0"/>
                  </a:lnTo>
                  <a:lnTo>
                    <a:pt x="648" y="7"/>
                  </a:lnTo>
                  <a:lnTo>
                    <a:pt x="668" y="15"/>
                  </a:lnTo>
                  <a:lnTo>
                    <a:pt x="689" y="26"/>
                  </a:lnTo>
                  <a:lnTo>
                    <a:pt x="707" y="38"/>
                  </a:lnTo>
                  <a:lnTo>
                    <a:pt x="724" y="52"/>
                  </a:lnTo>
                  <a:lnTo>
                    <a:pt x="741" y="68"/>
                  </a:lnTo>
                  <a:lnTo>
                    <a:pt x="756" y="84"/>
                  </a:lnTo>
                  <a:lnTo>
                    <a:pt x="770" y="103"/>
                  </a:lnTo>
                  <a:lnTo>
                    <a:pt x="783" y="122"/>
                  </a:lnTo>
                  <a:lnTo>
                    <a:pt x="795" y="142"/>
                  </a:lnTo>
                  <a:lnTo>
                    <a:pt x="806" y="162"/>
                  </a:lnTo>
                  <a:lnTo>
                    <a:pt x="816" y="183"/>
                  </a:lnTo>
                  <a:lnTo>
                    <a:pt x="826" y="204"/>
                  </a:lnTo>
                  <a:lnTo>
                    <a:pt x="835" y="225"/>
                  </a:lnTo>
                  <a:lnTo>
                    <a:pt x="842" y="245"/>
                  </a:lnTo>
                  <a:lnTo>
                    <a:pt x="849" y="266"/>
                  </a:lnTo>
                  <a:lnTo>
                    <a:pt x="841" y="278"/>
                  </a:lnTo>
                  <a:lnTo>
                    <a:pt x="832" y="288"/>
                  </a:lnTo>
                  <a:lnTo>
                    <a:pt x="822" y="295"/>
                  </a:lnTo>
                  <a:lnTo>
                    <a:pt x="811" y="301"/>
                  </a:lnTo>
                  <a:lnTo>
                    <a:pt x="799" y="304"/>
                  </a:lnTo>
                  <a:lnTo>
                    <a:pt x="787" y="307"/>
                  </a:lnTo>
                  <a:lnTo>
                    <a:pt x="775" y="309"/>
                  </a:lnTo>
                  <a:lnTo>
                    <a:pt x="762" y="310"/>
                  </a:lnTo>
                  <a:lnTo>
                    <a:pt x="749" y="311"/>
                  </a:lnTo>
                  <a:lnTo>
                    <a:pt x="736" y="313"/>
                  </a:lnTo>
                  <a:lnTo>
                    <a:pt x="723" y="315"/>
                  </a:lnTo>
                  <a:lnTo>
                    <a:pt x="711" y="318"/>
                  </a:lnTo>
                  <a:lnTo>
                    <a:pt x="700" y="322"/>
                  </a:lnTo>
                  <a:lnTo>
                    <a:pt x="689" y="328"/>
                  </a:lnTo>
                  <a:lnTo>
                    <a:pt x="678" y="335"/>
                  </a:lnTo>
                  <a:lnTo>
                    <a:pt x="669" y="34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56"/>
            <p:cNvSpPr/>
            <p:nvPr/>
          </p:nvSpPr>
          <p:spPr>
            <a:xfrm flipH="1">
              <a:off x="7900560" y="5705280"/>
              <a:ext cx="78480" cy="67320"/>
            </a:xfrm>
            <a:custGeom>
              <a:avLst/>
              <a:gdLst>
                <a:gd name="textAreaLeft" fmla="*/ 360 w 78480"/>
                <a:gd name="textAreaRight" fmla="*/ 79200 w 784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00" h="100">
                  <a:moveTo>
                    <a:pt x="97" y="100"/>
                  </a:moveTo>
                  <a:lnTo>
                    <a:pt x="86" y="96"/>
                  </a:lnTo>
                  <a:lnTo>
                    <a:pt x="75" y="93"/>
                  </a:lnTo>
                  <a:lnTo>
                    <a:pt x="64" y="91"/>
                  </a:lnTo>
                  <a:lnTo>
                    <a:pt x="52" y="91"/>
                  </a:lnTo>
                  <a:lnTo>
                    <a:pt x="39" y="91"/>
                  </a:lnTo>
                  <a:lnTo>
                    <a:pt x="27" y="92"/>
                  </a:lnTo>
                  <a:lnTo>
                    <a:pt x="15" y="92"/>
                  </a:lnTo>
                  <a:lnTo>
                    <a:pt x="4" y="92"/>
                  </a:lnTo>
                  <a:lnTo>
                    <a:pt x="0" y="82"/>
                  </a:lnTo>
                  <a:lnTo>
                    <a:pt x="7" y="72"/>
                  </a:lnTo>
                  <a:lnTo>
                    <a:pt x="14" y="61"/>
                  </a:lnTo>
                  <a:lnTo>
                    <a:pt x="21" y="51"/>
                  </a:lnTo>
                  <a:lnTo>
                    <a:pt x="28" y="42"/>
                  </a:lnTo>
                  <a:lnTo>
                    <a:pt x="33" y="31"/>
                  </a:lnTo>
                  <a:lnTo>
                    <a:pt x="39" y="21"/>
                  </a:lnTo>
                  <a:lnTo>
                    <a:pt x="43" y="1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56" y="9"/>
                  </a:lnTo>
                  <a:lnTo>
                    <a:pt x="52" y="19"/>
                  </a:lnTo>
                  <a:lnTo>
                    <a:pt x="47" y="28"/>
                  </a:lnTo>
                  <a:lnTo>
                    <a:pt x="43" y="36"/>
                  </a:lnTo>
                  <a:lnTo>
                    <a:pt x="38" y="46"/>
                  </a:lnTo>
                  <a:lnTo>
                    <a:pt x="32" y="55"/>
                  </a:lnTo>
                  <a:lnTo>
                    <a:pt x="28" y="64"/>
                  </a:lnTo>
                  <a:lnTo>
                    <a:pt x="25" y="74"/>
                  </a:lnTo>
                  <a:lnTo>
                    <a:pt x="100" y="85"/>
                  </a:lnTo>
                  <a:lnTo>
                    <a:pt x="97" y="88"/>
                  </a:lnTo>
                  <a:lnTo>
                    <a:pt x="97" y="91"/>
                  </a:lnTo>
                  <a:lnTo>
                    <a:pt x="97" y="96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57"/>
            <p:cNvSpPr/>
            <p:nvPr/>
          </p:nvSpPr>
          <p:spPr>
            <a:xfrm flipH="1">
              <a:off x="7933680" y="5842800"/>
              <a:ext cx="79200" cy="86760"/>
            </a:xfrm>
            <a:custGeom>
              <a:avLst/>
              <a:gdLst>
                <a:gd name="textAreaLeft" fmla="*/ 360 w 79200"/>
                <a:gd name="textAreaRight" fmla="*/ 79920 w 792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01" h="129">
                  <a:moveTo>
                    <a:pt x="4" y="129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23" y="8"/>
                  </a:lnTo>
                  <a:lnTo>
                    <a:pt x="35" y="16"/>
                  </a:lnTo>
                  <a:lnTo>
                    <a:pt x="48" y="22"/>
                  </a:lnTo>
                  <a:lnTo>
                    <a:pt x="60" y="30"/>
                  </a:lnTo>
                  <a:lnTo>
                    <a:pt x="73" y="35"/>
                  </a:lnTo>
                  <a:lnTo>
                    <a:pt x="87" y="41"/>
                  </a:lnTo>
                  <a:lnTo>
                    <a:pt x="101" y="43"/>
                  </a:lnTo>
                  <a:lnTo>
                    <a:pt x="92" y="56"/>
                  </a:lnTo>
                  <a:lnTo>
                    <a:pt x="83" y="69"/>
                  </a:lnTo>
                  <a:lnTo>
                    <a:pt x="71" y="80"/>
                  </a:lnTo>
                  <a:lnTo>
                    <a:pt x="58" y="90"/>
                  </a:lnTo>
                  <a:lnTo>
                    <a:pt x="44" y="101"/>
                  </a:lnTo>
                  <a:lnTo>
                    <a:pt x="31" y="111"/>
                  </a:lnTo>
                  <a:lnTo>
                    <a:pt x="17" y="120"/>
                  </a:lnTo>
                  <a:lnTo>
                    <a:pt x="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58"/>
            <p:cNvSpPr/>
            <p:nvPr/>
          </p:nvSpPr>
          <p:spPr>
            <a:xfrm flipH="1">
              <a:off x="7951320" y="5543280"/>
              <a:ext cx="91800" cy="65880"/>
            </a:xfrm>
            <a:custGeom>
              <a:avLst/>
              <a:gdLst>
                <a:gd name="textAreaLeft" fmla="*/ -360 w 91800"/>
                <a:gd name="textAreaRight" fmla="*/ 91800 w 918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17" h="98">
                  <a:moveTo>
                    <a:pt x="107" y="83"/>
                  </a:moveTo>
                  <a:lnTo>
                    <a:pt x="101" y="74"/>
                  </a:lnTo>
                  <a:lnTo>
                    <a:pt x="98" y="65"/>
                  </a:lnTo>
                  <a:lnTo>
                    <a:pt x="96" y="55"/>
                  </a:lnTo>
                  <a:lnTo>
                    <a:pt x="94" y="44"/>
                  </a:lnTo>
                  <a:lnTo>
                    <a:pt x="90" y="33"/>
                  </a:lnTo>
                  <a:lnTo>
                    <a:pt x="86" y="25"/>
                  </a:lnTo>
                  <a:lnTo>
                    <a:pt x="79" y="17"/>
                  </a:lnTo>
                  <a:lnTo>
                    <a:pt x="68" y="11"/>
                  </a:lnTo>
                  <a:lnTo>
                    <a:pt x="59" y="13"/>
                  </a:lnTo>
                  <a:lnTo>
                    <a:pt x="52" y="15"/>
                  </a:lnTo>
                  <a:lnTo>
                    <a:pt x="43" y="20"/>
                  </a:lnTo>
                  <a:lnTo>
                    <a:pt x="36" y="26"/>
                  </a:lnTo>
                  <a:lnTo>
                    <a:pt x="29" y="32"/>
                  </a:lnTo>
                  <a:lnTo>
                    <a:pt x="23" y="39"/>
                  </a:lnTo>
                  <a:lnTo>
                    <a:pt x="19" y="47"/>
                  </a:lnTo>
                  <a:lnTo>
                    <a:pt x="15" y="55"/>
                  </a:lnTo>
                  <a:lnTo>
                    <a:pt x="11" y="98"/>
                  </a:lnTo>
                  <a:lnTo>
                    <a:pt x="3" y="98"/>
                  </a:lnTo>
                  <a:lnTo>
                    <a:pt x="0" y="77"/>
                  </a:lnTo>
                  <a:lnTo>
                    <a:pt x="3" y="59"/>
                  </a:lnTo>
                  <a:lnTo>
                    <a:pt x="9" y="41"/>
                  </a:lnTo>
                  <a:lnTo>
                    <a:pt x="18" y="23"/>
                  </a:lnTo>
                  <a:lnTo>
                    <a:pt x="25" y="17"/>
                  </a:lnTo>
                  <a:lnTo>
                    <a:pt x="31" y="12"/>
                  </a:lnTo>
                  <a:lnTo>
                    <a:pt x="39" y="7"/>
                  </a:lnTo>
                  <a:lnTo>
                    <a:pt x="46" y="4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9" y="1"/>
                  </a:lnTo>
                  <a:lnTo>
                    <a:pt x="89" y="6"/>
                  </a:lnTo>
                  <a:lnTo>
                    <a:pt x="97" y="14"/>
                  </a:lnTo>
                  <a:lnTo>
                    <a:pt x="102" y="23"/>
                  </a:lnTo>
                  <a:lnTo>
                    <a:pt x="107" y="33"/>
                  </a:lnTo>
                  <a:lnTo>
                    <a:pt x="110" y="44"/>
                  </a:lnTo>
                  <a:lnTo>
                    <a:pt x="112" y="56"/>
                  </a:lnTo>
                  <a:lnTo>
                    <a:pt x="114" y="67"/>
                  </a:lnTo>
                  <a:lnTo>
                    <a:pt x="117" y="77"/>
                  </a:lnTo>
                  <a:lnTo>
                    <a:pt x="107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59"/>
            <p:cNvSpPr/>
            <p:nvPr/>
          </p:nvSpPr>
          <p:spPr>
            <a:xfrm flipH="1">
              <a:off x="7959240" y="5640480"/>
              <a:ext cx="30600" cy="7596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9" h="113">
                  <a:moveTo>
                    <a:pt x="39" y="113"/>
                  </a:moveTo>
                  <a:lnTo>
                    <a:pt x="28" y="113"/>
                  </a:lnTo>
                  <a:lnTo>
                    <a:pt x="19" y="88"/>
                  </a:lnTo>
                  <a:lnTo>
                    <a:pt x="14" y="61"/>
                  </a:lnTo>
                  <a:lnTo>
                    <a:pt x="8" y="34"/>
                  </a:lnTo>
                  <a:lnTo>
                    <a:pt x="0" y="8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6" y="27"/>
                  </a:lnTo>
                  <a:lnTo>
                    <a:pt x="32" y="56"/>
                  </a:lnTo>
                  <a:lnTo>
                    <a:pt x="36" y="85"/>
                  </a:lnTo>
                  <a:lnTo>
                    <a:pt x="39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60"/>
            <p:cNvSpPr/>
            <p:nvPr/>
          </p:nvSpPr>
          <p:spPr>
            <a:xfrm flipH="1">
              <a:off x="8013240" y="6585120"/>
              <a:ext cx="106560" cy="62640"/>
            </a:xfrm>
            <a:custGeom>
              <a:avLst/>
              <a:gdLst>
                <a:gd name="textAreaLeft" fmla="*/ 360 w 106560"/>
                <a:gd name="textAreaRight" fmla="*/ 107280 w 1065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6" h="93">
                  <a:moveTo>
                    <a:pt x="0" y="1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0"/>
                  </a:lnTo>
                  <a:lnTo>
                    <a:pt x="136" y="93"/>
                  </a:lnTo>
                  <a:lnTo>
                    <a:pt x="118" y="84"/>
                  </a:lnTo>
                  <a:lnTo>
                    <a:pt x="102" y="75"/>
                  </a:lnTo>
                  <a:lnTo>
                    <a:pt x="84" y="65"/>
                  </a:lnTo>
                  <a:lnTo>
                    <a:pt x="66" y="57"/>
                  </a:lnTo>
                  <a:lnTo>
                    <a:pt x="49" y="48"/>
                  </a:lnTo>
                  <a:lnTo>
                    <a:pt x="32" y="37"/>
                  </a:lnTo>
                  <a:lnTo>
                    <a:pt x="16" y="2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61"/>
            <p:cNvSpPr/>
            <p:nvPr/>
          </p:nvSpPr>
          <p:spPr>
            <a:xfrm flipH="1">
              <a:off x="8015040" y="6609960"/>
              <a:ext cx="110520" cy="6516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41" h="97">
                  <a:moveTo>
                    <a:pt x="138" y="97"/>
                  </a:moveTo>
                  <a:lnTo>
                    <a:pt x="120" y="89"/>
                  </a:lnTo>
                  <a:lnTo>
                    <a:pt x="103" y="79"/>
                  </a:lnTo>
                  <a:lnTo>
                    <a:pt x="85" y="69"/>
                  </a:lnTo>
                  <a:lnTo>
                    <a:pt x="68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7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40" y="82"/>
                  </a:lnTo>
                  <a:lnTo>
                    <a:pt x="140" y="85"/>
                  </a:lnTo>
                  <a:lnTo>
                    <a:pt x="141" y="90"/>
                  </a:lnTo>
                  <a:lnTo>
                    <a:pt x="140" y="94"/>
                  </a:lnTo>
                  <a:lnTo>
                    <a:pt x="13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62"/>
            <p:cNvSpPr/>
            <p:nvPr/>
          </p:nvSpPr>
          <p:spPr>
            <a:xfrm flipH="1">
              <a:off x="8017200" y="6563520"/>
              <a:ext cx="99000" cy="60480"/>
            </a:xfrm>
            <a:custGeom>
              <a:avLst/>
              <a:gdLst>
                <a:gd name="textAreaLeft" fmla="*/ -360 w 99000"/>
                <a:gd name="textAreaRight" fmla="*/ 99000 w 990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26" h="90">
                  <a:moveTo>
                    <a:pt x="126" y="90"/>
                  </a:moveTo>
                  <a:lnTo>
                    <a:pt x="109" y="82"/>
                  </a:lnTo>
                  <a:lnTo>
                    <a:pt x="92" y="72"/>
                  </a:lnTo>
                  <a:lnTo>
                    <a:pt x="75" y="63"/>
                  </a:lnTo>
                  <a:lnTo>
                    <a:pt x="58" y="52"/>
                  </a:lnTo>
                  <a:lnTo>
                    <a:pt x="43" y="40"/>
                  </a:lnTo>
                  <a:lnTo>
                    <a:pt x="28" y="28"/>
                  </a:lnTo>
                  <a:lnTo>
                    <a:pt x="13" y="14"/>
                  </a:lnTo>
                  <a:lnTo>
                    <a:pt x="0" y="0"/>
                  </a:lnTo>
                  <a:lnTo>
                    <a:pt x="16" y="9"/>
                  </a:lnTo>
                  <a:lnTo>
                    <a:pt x="32" y="18"/>
                  </a:lnTo>
                  <a:lnTo>
                    <a:pt x="48" y="29"/>
                  </a:lnTo>
                  <a:lnTo>
                    <a:pt x="64" y="39"/>
                  </a:lnTo>
                  <a:lnTo>
                    <a:pt x="80" y="50"/>
                  </a:lnTo>
                  <a:lnTo>
                    <a:pt x="95" y="59"/>
                  </a:lnTo>
                  <a:lnTo>
                    <a:pt x="111" y="69"/>
                  </a:lnTo>
                  <a:lnTo>
                    <a:pt x="126" y="79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63"/>
            <p:cNvSpPr/>
            <p:nvPr/>
          </p:nvSpPr>
          <p:spPr>
            <a:xfrm flipH="1">
              <a:off x="8090280" y="5932440"/>
              <a:ext cx="405000" cy="328320"/>
            </a:xfrm>
            <a:custGeom>
              <a:avLst/>
              <a:gdLst>
                <a:gd name="textAreaLeft" fmla="*/ -360 w 405000"/>
                <a:gd name="textAreaRight" fmla="*/ 405000 w 40500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516" h="487">
                  <a:moveTo>
                    <a:pt x="486" y="285"/>
                  </a:moveTo>
                  <a:lnTo>
                    <a:pt x="479" y="287"/>
                  </a:lnTo>
                  <a:lnTo>
                    <a:pt x="471" y="286"/>
                  </a:lnTo>
                  <a:lnTo>
                    <a:pt x="464" y="284"/>
                  </a:lnTo>
                  <a:lnTo>
                    <a:pt x="459" y="280"/>
                  </a:lnTo>
                  <a:lnTo>
                    <a:pt x="453" y="278"/>
                  </a:lnTo>
                  <a:lnTo>
                    <a:pt x="447" y="277"/>
                  </a:lnTo>
                  <a:lnTo>
                    <a:pt x="442" y="279"/>
                  </a:lnTo>
                  <a:lnTo>
                    <a:pt x="435" y="285"/>
                  </a:lnTo>
                  <a:lnTo>
                    <a:pt x="434" y="292"/>
                  </a:lnTo>
                  <a:lnTo>
                    <a:pt x="437" y="299"/>
                  </a:lnTo>
                  <a:lnTo>
                    <a:pt x="444" y="304"/>
                  </a:lnTo>
                  <a:lnTo>
                    <a:pt x="449" y="311"/>
                  </a:lnTo>
                  <a:lnTo>
                    <a:pt x="446" y="341"/>
                  </a:lnTo>
                  <a:lnTo>
                    <a:pt x="436" y="368"/>
                  </a:lnTo>
                  <a:lnTo>
                    <a:pt x="422" y="394"/>
                  </a:lnTo>
                  <a:lnTo>
                    <a:pt x="405" y="416"/>
                  </a:lnTo>
                  <a:lnTo>
                    <a:pt x="383" y="436"/>
                  </a:lnTo>
                  <a:lnTo>
                    <a:pt x="359" y="453"/>
                  </a:lnTo>
                  <a:lnTo>
                    <a:pt x="333" y="467"/>
                  </a:lnTo>
                  <a:lnTo>
                    <a:pt x="306" y="478"/>
                  </a:lnTo>
                  <a:lnTo>
                    <a:pt x="291" y="482"/>
                  </a:lnTo>
                  <a:lnTo>
                    <a:pt x="277" y="485"/>
                  </a:lnTo>
                  <a:lnTo>
                    <a:pt x="261" y="487"/>
                  </a:lnTo>
                  <a:lnTo>
                    <a:pt x="247" y="487"/>
                  </a:lnTo>
                  <a:lnTo>
                    <a:pt x="233" y="486"/>
                  </a:lnTo>
                  <a:lnTo>
                    <a:pt x="219" y="485"/>
                  </a:lnTo>
                  <a:lnTo>
                    <a:pt x="205" y="481"/>
                  </a:lnTo>
                  <a:lnTo>
                    <a:pt x="191" y="478"/>
                  </a:lnTo>
                  <a:lnTo>
                    <a:pt x="178" y="474"/>
                  </a:lnTo>
                  <a:lnTo>
                    <a:pt x="164" y="468"/>
                  </a:lnTo>
                  <a:lnTo>
                    <a:pt x="151" y="462"/>
                  </a:lnTo>
                  <a:lnTo>
                    <a:pt x="139" y="455"/>
                  </a:lnTo>
                  <a:lnTo>
                    <a:pt x="128" y="448"/>
                  </a:lnTo>
                  <a:lnTo>
                    <a:pt x="116" y="440"/>
                  </a:lnTo>
                  <a:lnTo>
                    <a:pt x="104" y="433"/>
                  </a:lnTo>
                  <a:lnTo>
                    <a:pt x="93" y="424"/>
                  </a:lnTo>
                  <a:lnTo>
                    <a:pt x="68" y="391"/>
                  </a:lnTo>
                  <a:lnTo>
                    <a:pt x="48" y="355"/>
                  </a:lnTo>
                  <a:lnTo>
                    <a:pt x="30" y="316"/>
                  </a:lnTo>
                  <a:lnTo>
                    <a:pt x="18" y="277"/>
                  </a:lnTo>
                  <a:lnTo>
                    <a:pt x="9" y="236"/>
                  </a:lnTo>
                  <a:lnTo>
                    <a:pt x="3" y="194"/>
                  </a:lnTo>
                  <a:lnTo>
                    <a:pt x="0" y="151"/>
                  </a:lnTo>
                  <a:lnTo>
                    <a:pt x="0" y="108"/>
                  </a:lnTo>
                  <a:lnTo>
                    <a:pt x="69" y="22"/>
                  </a:lnTo>
                  <a:lnTo>
                    <a:pt x="77" y="33"/>
                  </a:lnTo>
                  <a:lnTo>
                    <a:pt x="86" y="44"/>
                  </a:lnTo>
                  <a:lnTo>
                    <a:pt x="95" y="56"/>
                  </a:lnTo>
                  <a:lnTo>
                    <a:pt x="106" y="68"/>
                  </a:lnTo>
                  <a:lnTo>
                    <a:pt x="117" y="78"/>
                  </a:lnTo>
                  <a:lnTo>
                    <a:pt x="128" y="89"/>
                  </a:lnTo>
                  <a:lnTo>
                    <a:pt x="139" y="98"/>
                  </a:lnTo>
                  <a:lnTo>
                    <a:pt x="151" y="104"/>
                  </a:lnTo>
                  <a:lnTo>
                    <a:pt x="183" y="0"/>
                  </a:lnTo>
                  <a:lnTo>
                    <a:pt x="190" y="9"/>
                  </a:lnTo>
                  <a:lnTo>
                    <a:pt x="198" y="19"/>
                  </a:lnTo>
                  <a:lnTo>
                    <a:pt x="206" y="28"/>
                  </a:lnTo>
                  <a:lnTo>
                    <a:pt x="215" y="37"/>
                  </a:lnTo>
                  <a:lnTo>
                    <a:pt x="223" y="46"/>
                  </a:lnTo>
                  <a:lnTo>
                    <a:pt x="229" y="56"/>
                  </a:lnTo>
                  <a:lnTo>
                    <a:pt x="236" y="65"/>
                  </a:lnTo>
                  <a:lnTo>
                    <a:pt x="241" y="76"/>
                  </a:lnTo>
                  <a:lnTo>
                    <a:pt x="233" y="81"/>
                  </a:lnTo>
                  <a:lnTo>
                    <a:pt x="226" y="85"/>
                  </a:lnTo>
                  <a:lnTo>
                    <a:pt x="218" y="91"/>
                  </a:lnTo>
                  <a:lnTo>
                    <a:pt x="213" y="98"/>
                  </a:lnTo>
                  <a:lnTo>
                    <a:pt x="206" y="105"/>
                  </a:lnTo>
                  <a:lnTo>
                    <a:pt x="202" y="113"/>
                  </a:lnTo>
                  <a:lnTo>
                    <a:pt x="198" y="122"/>
                  </a:lnTo>
                  <a:lnTo>
                    <a:pt x="194" y="130"/>
                  </a:lnTo>
                  <a:lnTo>
                    <a:pt x="193" y="140"/>
                  </a:lnTo>
                  <a:lnTo>
                    <a:pt x="193" y="150"/>
                  </a:lnTo>
                  <a:lnTo>
                    <a:pt x="194" y="160"/>
                  </a:lnTo>
                  <a:lnTo>
                    <a:pt x="198" y="169"/>
                  </a:lnTo>
                  <a:lnTo>
                    <a:pt x="205" y="166"/>
                  </a:lnTo>
                  <a:lnTo>
                    <a:pt x="211" y="159"/>
                  </a:lnTo>
                  <a:lnTo>
                    <a:pt x="213" y="152"/>
                  </a:lnTo>
                  <a:lnTo>
                    <a:pt x="215" y="142"/>
                  </a:lnTo>
                  <a:lnTo>
                    <a:pt x="216" y="132"/>
                  </a:lnTo>
                  <a:lnTo>
                    <a:pt x="218" y="123"/>
                  </a:lnTo>
                  <a:lnTo>
                    <a:pt x="224" y="114"/>
                  </a:lnTo>
                  <a:lnTo>
                    <a:pt x="231" y="108"/>
                  </a:lnTo>
                  <a:lnTo>
                    <a:pt x="236" y="102"/>
                  </a:lnTo>
                  <a:lnTo>
                    <a:pt x="241" y="99"/>
                  </a:lnTo>
                  <a:lnTo>
                    <a:pt x="246" y="97"/>
                  </a:lnTo>
                  <a:lnTo>
                    <a:pt x="253" y="95"/>
                  </a:lnTo>
                  <a:lnTo>
                    <a:pt x="258" y="95"/>
                  </a:lnTo>
                  <a:lnTo>
                    <a:pt x="265" y="96"/>
                  </a:lnTo>
                  <a:lnTo>
                    <a:pt x="271" y="97"/>
                  </a:lnTo>
                  <a:lnTo>
                    <a:pt x="278" y="100"/>
                  </a:lnTo>
                  <a:lnTo>
                    <a:pt x="284" y="106"/>
                  </a:lnTo>
                  <a:lnTo>
                    <a:pt x="290" y="115"/>
                  </a:lnTo>
                  <a:lnTo>
                    <a:pt x="293" y="126"/>
                  </a:lnTo>
                  <a:lnTo>
                    <a:pt x="297" y="136"/>
                  </a:lnTo>
                  <a:lnTo>
                    <a:pt x="301" y="143"/>
                  </a:lnTo>
                  <a:lnTo>
                    <a:pt x="307" y="149"/>
                  </a:lnTo>
                  <a:lnTo>
                    <a:pt x="314" y="149"/>
                  </a:lnTo>
                  <a:lnTo>
                    <a:pt x="324" y="143"/>
                  </a:lnTo>
                  <a:lnTo>
                    <a:pt x="321" y="132"/>
                  </a:lnTo>
                  <a:lnTo>
                    <a:pt x="317" y="122"/>
                  </a:lnTo>
                  <a:lnTo>
                    <a:pt x="311" y="111"/>
                  </a:lnTo>
                  <a:lnTo>
                    <a:pt x="305" y="101"/>
                  </a:lnTo>
                  <a:lnTo>
                    <a:pt x="297" y="91"/>
                  </a:lnTo>
                  <a:lnTo>
                    <a:pt x="288" y="83"/>
                  </a:lnTo>
                  <a:lnTo>
                    <a:pt x="280" y="76"/>
                  </a:lnTo>
                  <a:lnTo>
                    <a:pt x="270" y="72"/>
                  </a:lnTo>
                  <a:lnTo>
                    <a:pt x="291" y="7"/>
                  </a:lnTo>
                  <a:lnTo>
                    <a:pt x="308" y="31"/>
                  </a:lnTo>
                  <a:lnTo>
                    <a:pt x="325" y="57"/>
                  </a:lnTo>
                  <a:lnTo>
                    <a:pt x="342" y="83"/>
                  </a:lnTo>
                  <a:lnTo>
                    <a:pt x="360" y="109"/>
                  </a:lnTo>
                  <a:lnTo>
                    <a:pt x="378" y="135"/>
                  </a:lnTo>
                  <a:lnTo>
                    <a:pt x="398" y="158"/>
                  </a:lnTo>
                  <a:lnTo>
                    <a:pt x="419" y="179"/>
                  </a:lnTo>
                  <a:lnTo>
                    <a:pt x="443" y="197"/>
                  </a:lnTo>
                  <a:lnTo>
                    <a:pt x="448" y="194"/>
                  </a:lnTo>
                  <a:lnTo>
                    <a:pt x="455" y="190"/>
                  </a:lnTo>
                  <a:lnTo>
                    <a:pt x="460" y="184"/>
                  </a:lnTo>
                  <a:lnTo>
                    <a:pt x="466" y="179"/>
                  </a:lnTo>
                  <a:lnTo>
                    <a:pt x="472" y="175"/>
                  </a:lnTo>
                  <a:lnTo>
                    <a:pt x="479" y="172"/>
                  </a:lnTo>
                  <a:lnTo>
                    <a:pt x="486" y="173"/>
                  </a:lnTo>
                  <a:lnTo>
                    <a:pt x="494" y="177"/>
                  </a:lnTo>
                  <a:lnTo>
                    <a:pt x="504" y="186"/>
                  </a:lnTo>
                  <a:lnTo>
                    <a:pt x="512" y="200"/>
                  </a:lnTo>
                  <a:lnTo>
                    <a:pt x="515" y="216"/>
                  </a:lnTo>
                  <a:lnTo>
                    <a:pt x="516" y="232"/>
                  </a:lnTo>
                  <a:lnTo>
                    <a:pt x="513" y="249"/>
                  </a:lnTo>
                  <a:lnTo>
                    <a:pt x="507" y="264"/>
                  </a:lnTo>
                  <a:lnTo>
                    <a:pt x="498" y="276"/>
                  </a:lnTo>
                  <a:lnTo>
                    <a:pt x="486" y="28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64"/>
            <p:cNvSpPr/>
            <p:nvPr/>
          </p:nvSpPr>
          <p:spPr>
            <a:xfrm flipH="1">
              <a:off x="8102160" y="6315120"/>
              <a:ext cx="258120" cy="102240"/>
            </a:xfrm>
            <a:custGeom>
              <a:avLst/>
              <a:gdLst>
                <a:gd name="textAreaLeft" fmla="*/ -360 w 258120"/>
                <a:gd name="textAreaRight" fmla="*/ 258120 w 258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29" h="152">
                  <a:moveTo>
                    <a:pt x="173" y="152"/>
                  </a:moveTo>
                  <a:lnTo>
                    <a:pt x="165" y="152"/>
                  </a:lnTo>
                  <a:lnTo>
                    <a:pt x="156" y="151"/>
                  </a:lnTo>
                  <a:lnTo>
                    <a:pt x="148" y="149"/>
                  </a:lnTo>
                  <a:lnTo>
                    <a:pt x="141" y="144"/>
                  </a:lnTo>
                  <a:lnTo>
                    <a:pt x="146" y="137"/>
                  </a:lnTo>
                  <a:lnTo>
                    <a:pt x="151" y="130"/>
                  </a:lnTo>
                  <a:lnTo>
                    <a:pt x="157" y="125"/>
                  </a:lnTo>
                  <a:lnTo>
                    <a:pt x="165" y="120"/>
                  </a:lnTo>
                  <a:lnTo>
                    <a:pt x="174" y="115"/>
                  </a:lnTo>
                  <a:lnTo>
                    <a:pt x="181" y="110"/>
                  </a:lnTo>
                  <a:lnTo>
                    <a:pt x="189" y="104"/>
                  </a:lnTo>
                  <a:lnTo>
                    <a:pt x="195" y="98"/>
                  </a:lnTo>
                  <a:lnTo>
                    <a:pt x="203" y="93"/>
                  </a:lnTo>
                  <a:lnTo>
                    <a:pt x="211" y="90"/>
                  </a:lnTo>
                  <a:lnTo>
                    <a:pt x="221" y="90"/>
                  </a:lnTo>
                  <a:lnTo>
                    <a:pt x="231" y="91"/>
                  </a:lnTo>
                  <a:lnTo>
                    <a:pt x="241" y="91"/>
                  </a:lnTo>
                  <a:lnTo>
                    <a:pt x="249" y="89"/>
                  </a:lnTo>
                  <a:lnTo>
                    <a:pt x="256" y="85"/>
                  </a:lnTo>
                  <a:lnTo>
                    <a:pt x="260" y="76"/>
                  </a:lnTo>
                  <a:lnTo>
                    <a:pt x="247" y="71"/>
                  </a:lnTo>
                  <a:lnTo>
                    <a:pt x="234" y="69"/>
                  </a:lnTo>
                  <a:lnTo>
                    <a:pt x="221" y="70"/>
                  </a:lnTo>
                  <a:lnTo>
                    <a:pt x="209" y="73"/>
                  </a:lnTo>
                  <a:lnTo>
                    <a:pt x="196" y="77"/>
                  </a:lnTo>
                  <a:lnTo>
                    <a:pt x="186" y="84"/>
                  </a:lnTo>
                  <a:lnTo>
                    <a:pt x="174" y="91"/>
                  </a:lnTo>
                  <a:lnTo>
                    <a:pt x="163" y="98"/>
                  </a:lnTo>
                  <a:lnTo>
                    <a:pt x="153" y="104"/>
                  </a:lnTo>
                  <a:lnTo>
                    <a:pt x="145" y="111"/>
                  </a:lnTo>
                  <a:lnTo>
                    <a:pt x="136" y="118"/>
                  </a:lnTo>
                  <a:lnTo>
                    <a:pt x="127" y="126"/>
                  </a:lnTo>
                  <a:lnTo>
                    <a:pt x="118" y="132"/>
                  </a:lnTo>
                  <a:lnTo>
                    <a:pt x="108" y="138"/>
                  </a:lnTo>
                  <a:lnTo>
                    <a:pt x="98" y="142"/>
                  </a:lnTo>
                  <a:lnTo>
                    <a:pt x="87" y="144"/>
                  </a:lnTo>
                  <a:lnTo>
                    <a:pt x="52" y="134"/>
                  </a:lnTo>
                  <a:lnTo>
                    <a:pt x="61" y="122"/>
                  </a:lnTo>
                  <a:lnTo>
                    <a:pt x="72" y="112"/>
                  </a:lnTo>
                  <a:lnTo>
                    <a:pt x="85" y="102"/>
                  </a:lnTo>
                  <a:lnTo>
                    <a:pt x="97" y="94"/>
                  </a:lnTo>
                  <a:lnTo>
                    <a:pt x="111" y="86"/>
                  </a:lnTo>
                  <a:lnTo>
                    <a:pt x="124" y="80"/>
                  </a:lnTo>
                  <a:lnTo>
                    <a:pt x="138" y="73"/>
                  </a:lnTo>
                  <a:lnTo>
                    <a:pt x="152" y="67"/>
                  </a:lnTo>
                  <a:lnTo>
                    <a:pt x="152" y="61"/>
                  </a:lnTo>
                  <a:lnTo>
                    <a:pt x="151" y="57"/>
                  </a:lnTo>
                  <a:lnTo>
                    <a:pt x="148" y="53"/>
                  </a:lnTo>
                  <a:lnTo>
                    <a:pt x="145" y="49"/>
                  </a:lnTo>
                  <a:lnTo>
                    <a:pt x="125" y="57"/>
                  </a:lnTo>
                  <a:lnTo>
                    <a:pt x="107" y="64"/>
                  </a:lnTo>
                  <a:lnTo>
                    <a:pt x="91" y="74"/>
                  </a:lnTo>
                  <a:lnTo>
                    <a:pt x="74" y="85"/>
                  </a:lnTo>
                  <a:lnTo>
                    <a:pt x="59" y="97"/>
                  </a:lnTo>
                  <a:lnTo>
                    <a:pt x="44" y="110"/>
                  </a:lnTo>
                  <a:lnTo>
                    <a:pt x="28" y="124"/>
                  </a:lnTo>
                  <a:lnTo>
                    <a:pt x="11" y="138"/>
                  </a:lnTo>
                  <a:lnTo>
                    <a:pt x="5" y="135"/>
                  </a:lnTo>
                  <a:lnTo>
                    <a:pt x="2" y="129"/>
                  </a:lnTo>
                  <a:lnTo>
                    <a:pt x="0" y="123"/>
                  </a:lnTo>
                  <a:lnTo>
                    <a:pt x="1" y="115"/>
                  </a:lnTo>
                  <a:lnTo>
                    <a:pt x="13" y="108"/>
                  </a:lnTo>
                  <a:lnTo>
                    <a:pt x="26" y="99"/>
                  </a:lnTo>
                  <a:lnTo>
                    <a:pt x="38" y="93"/>
                  </a:lnTo>
                  <a:lnTo>
                    <a:pt x="49" y="85"/>
                  </a:lnTo>
                  <a:lnTo>
                    <a:pt x="61" y="78"/>
                  </a:lnTo>
                  <a:lnTo>
                    <a:pt x="74" y="72"/>
                  </a:lnTo>
                  <a:lnTo>
                    <a:pt x="86" y="64"/>
                  </a:lnTo>
                  <a:lnTo>
                    <a:pt x="98" y="58"/>
                  </a:lnTo>
                  <a:lnTo>
                    <a:pt x="110" y="51"/>
                  </a:lnTo>
                  <a:lnTo>
                    <a:pt x="122" y="45"/>
                  </a:lnTo>
                  <a:lnTo>
                    <a:pt x="135" y="38"/>
                  </a:lnTo>
                  <a:lnTo>
                    <a:pt x="147" y="32"/>
                  </a:lnTo>
                  <a:lnTo>
                    <a:pt x="159" y="24"/>
                  </a:lnTo>
                  <a:lnTo>
                    <a:pt x="170" y="17"/>
                  </a:lnTo>
                  <a:lnTo>
                    <a:pt x="183" y="9"/>
                  </a:lnTo>
                  <a:lnTo>
                    <a:pt x="195" y="1"/>
                  </a:lnTo>
                  <a:lnTo>
                    <a:pt x="205" y="0"/>
                  </a:lnTo>
                  <a:lnTo>
                    <a:pt x="216" y="0"/>
                  </a:lnTo>
                  <a:lnTo>
                    <a:pt x="226" y="1"/>
                  </a:lnTo>
                  <a:lnTo>
                    <a:pt x="236" y="2"/>
                  </a:lnTo>
                  <a:lnTo>
                    <a:pt x="247" y="5"/>
                  </a:lnTo>
                  <a:lnTo>
                    <a:pt x="257" y="8"/>
                  </a:lnTo>
                  <a:lnTo>
                    <a:pt x="267" y="14"/>
                  </a:lnTo>
                  <a:lnTo>
                    <a:pt x="275" y="19"/>
                  </a:lnTo>
                  <a:lnTo>
                    <a:pt x="283" y="28"/>
                  </a:lnTo>
                  <a:lnTo>
                    <a:pt x="290" y="36"/>
                  </a:lnTo>
                  <a:lnTo>
                    <a:pt x="299" y="45"/>
                  </a:lnTo>
                  <a:lnTo>
                    <a:pt x="308" y="54"/>
                  </a:lnTo>
                  <a:lnTo>
                    <a:pt x="315" y="63"/>
                  </a:lnTo>
                  <a:lnTo>
                    <a:pt x="322" y="73"/>
                  </a:lnTo>
                  <a:lnTo>
                    <a:pt x="327" y="84"/>
                  </a:lnTo>
                  <a:lnTo>
                    <a:pt x="329" y="95"/>
                  </a:lnTo>
                  <a:lnTo>
                    <a:pt x="312" y="108"/>
                  </a:lnTo>
                  <a:lnTo>
                    <a:pt x="292" y="116"/>
                  </a:lnTo>
                  <a:lnTo>
                    <a:pt x="273" y="123"/>
                  </a:lnTo>
                  <a:lnTo>
                    <a:pt x="253" y="128"/>
                  </a:lnTo>
                  <a:lnTo>
                    <a:pt x="232" y="132"/>
                  </a:lnTo>
                  <a:lnTo>
                    <a:pt x="211" y="137"/>
                  </a:lnTo>
                  <a:lnTo>
                    <a:pt x="191" y="143"/>
                  </a:lnTo>
                  <a:lnTo>
                    <a:pt x="173" y="15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65"/>
            <p:cNvSpPr/>
            <p:nvPr/>
          </p:nvSpPr>
          <p:spPr>
            <a:xfrm flipH="1">
              <a:off x="8116920" y="6072840"/>
              <a:ext cx="37440" cy="2736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8" h="41">
                  <a:moveTo>
                    <a:pt x="5" y="41"/>
                  </a:moveTo>
                  <a:lnTo>
                    <a:pt x="0" y="36"/>
                  </a:lnTo>
                  <a:lnTo>
                    <a:pt x="6" y="31"/>
                  </a:lnTo>
                  <a:lnTo>
                    <a:pt x="10" y="27"/>
                  </a:lnTo>
                  <a:lnTo>
                    <a:pt x="15" y="22"/>
                  </a:lnTo>
                  <a:lnTo>
                    <a:pt x="21" y="15"/>
                  </a:lnTo>
                  <a:lnTo>
                    <a:pt x="27" y="10"/>
                  </a:lnTo>
                  <a:lnTo>
                    <a:pt x="34" y="5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7" y="21"/>
                  </a:lnTo>
                  <a:lnTo>
                    <a:pt x="31" y="25"/>
                  </a:lnTo>
                  <a:lnTo>
                    <a:pt x="23" y="30"/>
                  </a:lnTo>
                  <a:lnTo>
                    <a:pt x="17" y="33"/>
                  </a:lnTo>
                  <a:lnTo>
                    <a:pt x="10" y="38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66"/>
            <p:cNvSpPr/>
            <p:nvPr/>
          </p:nvSpPr>
          <p:spPr>
            <a:xfrm flipH="1">
              <a:off x="8134200" y="6420240"/>
              <a:ext cx="420840" cy="213840"/>
            </a:xfrm>
            <a:custGeom>
              <a:avLst/>
              <a:gdLst>
                <a:gd name="textAreaLeft" fmla="*/ -360 w 420840"/>
                <a:gd name="textAreaRight" fmla="*/ 420840 w 42084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536" h="317">
                  <a:moveTo>
                    <a:pt x="511" y="136"/>
                  </a:moveTo>
                  <a:lnTo>
                    <a:pt x="509" y="148"/>
                  </a:lnTo>
                  <a:lnTo>
                    <a:pt x="508" y="159"/>
                  </a:lnTo>
                  <a:lnTo>
                    <a:pt x="509" y="170"/>
                  </a:lnTo>
                  <a:lnTo>
                    <a:pt x="516" y="181"/>
                  </a:lnTo>
                  <a:lnTo>
                    <a:pt x="511" y="197"/>
                  </a:lnTo>
                  <a:lnTo>
                    <a:pt x="507" y="213"/>
                  </a:lnTo>
                  <a:lnTo>
                    <a:pt x="503" y="229"/>
                  </a:lnTo>
                  <a:lnTo>
                    <a:pt x="499" y="245"/>
                  </a:lnTo>
                  <a:lnTo>
                    <a:pt x="495" y="262"/>
                  </a:lnTo>
                  <a:lnTo>
                    <a:pt x="491" y="278"/>
                  </a:lnTo>
                  <a:lnTo>
                    <a:pt x="485" y="294"/>
                  </a:lnTo>
                  <a:lnTo>
                    <a:pt x="479" y="309"/>
                  </a:lnTo>
                  <a:lnTo>
                    <a:pt x="461" y="312"/>
                  </a:lnTo>
                  <a:lnTo>
                    <a:pt x="442" y="316"/>
                  </a:lnTo>
                  <a:lnTo>
                    <a:pt x="423" y="317"/>
                  </a:lnTo>
                  <a:lnTo>
                    <a:pt x="402" y="317"/>
                  </a:lnTo>
                  <a:lnTo>
                    <a:pt x="383" y="317"/>
                  </a:lnTo>
                  <a:lnTo>
                    <a:pt x="363" y="316"/>
                  </a:lnTo>
                  <a:lnTo>
                    <a:pt x="344" y="313"/>
                  </a:lnTo>
                  <a:lnTo>
                    <a:pt x="324" y="312"/>
                  </a:lnTo>
                  <a:lnTo>
                    <a:pt x="327" y="299"/>
                  </a:lnTo>
                  <a:lnTo>
                    <a:pt x="332" y="288"/>
                  </a:lnTo>
                  <a:lnTo>
                    <a:pt x="342" y="279"/>
                  </a:lnTo>
                  <a:lnTo>
                    <a:pt x="354" y="274"/>
                  </a:lnTo>
                  <a:lnTo>
                    <a:pt x="368" y="274"/>
                  </a:lnTo>
                  <a:lnTo>
                    <a:pt x="384" y="275"/>
                  </a:lnTo>
                  <a:lnTo>
                    <a:pt x="401" y="277"/>
                  </a:lnTo>
                  <a:lnTo>
                    <a:pt x="417" y="277"/>
                  </a:lnTo>
                  <a:lnTo>
                    <a:pt x="431" y="275"/>
                  </a:lnTo>
                  <a:lnTo>
                    <a:pt x="443" y="268"/>
                  </a:lnTo>
                  <a:lnTo>
                    <a:pt x="452" y="256"/>
                  </a:lnTo>
                  <a:lnTo>
                    <a:pt x="454" y="237"/>
                  </a:lnTo>
                  <a:lnTo>
                    <a:pt x="456" y="224"/>
                  </a:lnTo>
                  <a:lnTo>
                    <a:pt x="461" y="210"/>
                  </a:lnTo>
                  <a:lnTo>
                    <a:pt x="461" y="199"/>
                  </a:lnTo>
                  <a:lnTo>
                    <a:pt x="451" y="190"/>
                  </a:lnTo>
                  <a:lnTo>
                    <a:pt x="435" y="191"/>
                  </a:lnTo>
                  <a:lnTo>
                    <a:pt x="420" y="191"/>
                  </a:lnTo>
                  <a:lnTo>
                    <a:pt x="405" y="189"/>
                  </a:lnTo>
                  <a:lnTo>
                    <a:pt x="393" y="185"/>
                  </a:lnTo>
                  <a:lnTo>
                    <a:pt x="381" y="180"/>
                  </a:lnTo>
                  <a:lnTo>
                    <a:pt x="369" y="172"/>
                  </a:lnTo>
                  <a:lnTo>
                    <a:pt x="359" y="162"/>
                  </a:lnTo>
                  <a:lnTo>
                    <a:pt x="349" y="150"/>
                  </a:lnTo>
                  <a:lnTo>
                    <a:pt x="349" y="144"/>
                  </a:lnTo>
                  <a:lnTo>
                    <a:pt x="366" y="144"/>
                  </a:lnTo>
                  <a:lnTo>
                    <a:pt x="381" y="145"/>
                  </a:lnTo>
                  <a:lnTo>
                    <a:pt x="397" y="148"/>
                  </a:lnTo>
                  <a:lnTo>
                    <a:pt x="412" y="151"/>
                  </a:lnTo>
                  <a:lnTo>
                    <a:pt x="427" y="154"/>
                  </a:lnTo>
                  <a:lnTo>
                    <a:pt x="442" y="155"/>
                  </a:lnTo>
                  <a:lnTo>
                    <a:pt x="456" y="155"/>
                  </a:lnTo>
                  <a:lnTo>
                    <a:pt x="471" y="150"/>
                  </a:lnTo>
                  <a:lnTo>
                    <a:pt x="470" y="145"/>
                  </a:lnTo>
                  <a:lnTo>
                    <a:pt x="467" y="141"/>
                  </a:lnTo>
                  <a:lnTo>
                    <a:pt x="463" y="137"/>
                  </a:lnTo>
                  <a:lnTo>
                    <a:pt x="457" y="136"/>
                  </a:lnTo>
                  <a:lnTo>
                    <a:pt x="343" y="127"/>
                  </a:lnTo>
                  <a:lnTo>
                    <a:pt x="328" y="108"/>
                  </a:lnTo>
                  <a:lnTo>
                    <a:pt x="475" y="127"/>
                  </a:lnTo>
                  <a:lnTo>
                    <a:pt x="479" y="120"/>
                  </a:lnTo>
                  <a:lnTo>
                    <a:pt x="481" y="113"/>
                  </a:lnTo>
                  <a:lnTo>
                    <a:pt x="479" y="107"/>
                  </a:lnTo>
                  <a:lnTo>
                    <a:pt x="471" y="104"/>
                  </a:lnTo>
                  <a:lnTo>
                    <a:pt x="456" y="102"/>
                  </a:lnTo>
                  <a:lnTo>
                    <a:pt x="440" y="100"/>
                  </a:lnTo>
                  <a:lnTo>
                    <a:pt x="425" y="99"/>
                  </a:lnTo>
                  <a:lnTo>
                    <a:pt x="409" y="96"/>
                  </a:lnTo>
                  <a:lnTo>
                    <a:pt x="394" y="94"/>
                  </a:lnTo>
                  <a:lnTo>
                    <a:pt x="377" y="92"/>
                  </a:lnTo>
                  <a:lnTo>
                    <a:pt x="361" y="90"/>
                  </a:lnTo>
                  <a:lnTo>
                    <a:pt x="345" y="88"/>
                  </a:lnTo>
                  <a:lnTo>
                    <a:pt x="329" y="86"/>
                  </a:lnTo>
                  <a:lnTo>
                    <a:pt x="313" y="83"/>
                  </a:lnTo>
                  <a:lnTo>
                    <a:pt x="296" y="82"/>
                  </a:lnTo>
                  <a:lnTo>
                    <a:pt x="280" y="80"/>
                  </a:lnTo>
                  <a:lnTo>
                    <a:pt x="264" y="79"/>
                  </a:lnTo>
                  <a:lnTo>
                    <a:pt x="248" y="77"/>
                  </a:lnTo>
                  <a:lnTo>
                    <a:pt x="233" y="76"/>
                  </a:lnTo>
                  <a:lnTo>
                    <a:pt x="216" y="75"/>
                  </a:lnTo>
                  <a:lnTo>
                    <a:pt x="210" y="60"/>
                  </a:lnTo>
                  <a:lnTo>
                    <a:pt x="208" y="41"/>
                  </a:lnTo>
                  <a:lnTo>
                    <a:pt x="202" y="27"/>
                  </a:lnTo>
                  <a:lnTo>
                    <a:pt x="187" y="21"/>
                  </a:lnTo>
                  <a:lnTo>
                    <a:pt x="174" y="23"/>
                  </a:lnTo>
                  <a:lnTo>
                    <a:pt x="161" y="22"/>
                  </a:lnTo>
                  <a:lnTo>
                    <a:pt x="148" y="21"/>
                  </a:lnTo>
                  <a:lnTo>
                    <a:pt x="135" y="19"/>
                  </a:lnTo>
                  <a:lnTo>
                    <a:pt x="124" y="18"/>
                  </a:lnTo>
                  <a:lnTo>
                    <a:pt x="112" y="19"/>
                  </a:lnTo>
                  <a:lnTo>
                    <a:pt x="102" y="23"/>
                  </a:lnTo>
                  <a:lnTo>
                    <a:pt x="93" y="32"/>
                  </a:lnTo>
                  <a:lnTo>
                    <a:pt x="89" y="47"/>
                  </a:lnTo>
                  <a:lnTo>
                    <a:pt x="83" y="62"/>
                  </a:lnTo>
                  <a:lnTo>
                    <a:pt x="76" y="76"/>
                  </a:lnTo>
                  <a:lnTo>
                    <a:pt x="67" y="89"/>
                  </a:lnTo>
                  <a:lnTo>
                    <a:pt x="58" y="101"/>
                  </a:lnTo>
                  <a:lnTo>
                    <a:pt x="45" y="109"/>
                  </a:lnTo>
                  <a:lnTo>
                    <a:pt x="31" y="117"/>
                  </a:lnTo>
                  <a:lnTo>
                    <a:pt x="15" y="121"/>
                  </a:lnTo>
                  <a:lnTo>
                    <a:pt x="0" y="121"/>
                  </a:lnTo>
                  <a:lnTo>
                    <a:pt x="7" y="105"/>
                  </a:lnTo>
                  <a:lnTo>
                    <a:pt x="15" y="88"/>
                  </a:lnTo>
                  <a:lnTo>
                    <a:pt x="23" y="72"/>
                  </a:lnTo>
                  <a:lnTo>
                    <a:pt x="33" y="55"/>
                  </a:lnTo>
                  <a:lnTo>
                    <a:pt x="44" y="40"/>
                  </a:lnTo>
                  <a:lnTo>
                    <a:pt x="54" y="26"/>
                  </a:lnTo>
                  <a:lnTo>
                    <a:pt x="66" y="12"/>
                  </a:lnTo>
                  <a:lnTo>
                    <a:pt x="79" y="0"/>
                  </a:lnTo>
                  <a:lnTo>
                    <a:pt x="108" y="2"/>
                  </a:lnTo>
                  <a:lnTo>
                    <a:pt x="138" y="5"/>
                  </a:lnTo>
                  <a:lnTo>
                    <a:pt x="167" y="8"/>
                  </a:lnTo>
                  <a:lnTo>
                    <a:pt x="196" y="10"/>
                  </a:lnTo>
                  <a:lnTo>
                    <a:pt x="225" y="13"/>
                  </a:lnTo>
                  <a:lnTo>
                    <a:pt x="254" y="16"/>
                  </a:lnTo>
                  <a:lnTo>
                    <a:pt x="283" y="20"/>
                  </a:lnTo>
                  <a:lnTo>
                    <a:pt x="313" y="23"/>
                  </a:lnTo>
                  <a:lnTo>
                    <a:pt x="341" y="26"/>
                  </a:lnTo>
                  <a:lnTo>
                    <a:pt x="370" y="29"/>
                  </a:lnTo>
                  <a:lnTo>
                    <a:pt x="398" y="34"/>
                  </a:lnTo>
                  <a:lnTo>
                    <a:pt x="426" y="37"/>
                  </a:lnTo>
                  <a:lnTo>
                    <a:pt x="454" y="40"/>
                  </a:lnTo>
                  <a:lnTo>
                    <a:pt x="482" y="43"/>
                  </a:lnTo>
                  <a:lnTo>
                    <a:pt x="509" y="47"/>
                  </a:lnTo>
                  <a:lnTo>
                    <a:pt x="536" y="50"/>
                  </a:lnTo>
                  <a:lnTo>
                    <a:pt x="535" y="62"/>
                  </a:lnTo>
                  <a:lnTo>
                    <a:pt x="535" y="75"/>
                  </a:lnTo>
                  <a:lnTo>
                    <a:pt x="535" y="88"/>
                  </a:lnTo>
                  <a:lnTo>
                    <a:pt x="535" y="101"/>
                  </a:lnTo>
                  <a:lnTo>
                    <a:pt x="534" y="113"/>
                  </a:lnTo>
                  <a:lnTo>
                    <a:pt x="530" y="123"/>
                  </a:lnTo>
                  <a:lnTo>
                    <a:pt x="523" y="131"/>
                  </a:lnTo>
                  <a:lnTo>
                    <a:pt x="51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67"/>
            <p:cNvSpPr/>
            <p:nvPr/>
          </p:nvSpPr>
          <p:spPr>
            <a:xfrm flipH="1">
              <a:off x="8167320" y="6456960"/>
              <a:ext cx="163800" cy="1584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9" h="24">
                  <a:moveTo>
                    <a:pt x="208" y="24"/>
                  </a:moveTo>
                  <a:lnTo>
                    <a:pt x="195" y="24"/>
                  </a:lnTo>
                  <a:lnTo>
                    <a:pt x="182" y="23"/>
                  </a:lnTo>
                  <a:lnTo>
                    <a:pt x="170" y="23"/>
                  </a:lnTo>
                  <a:lnTo>
                    <a:pt x="157" y="22"/>
                  </a:lnTo>
                  <a:lnTo>
                    <a:pt x="144" y="21"/>
                  </a:lnTo>
                  <a:lnTo>
                    <a:pt x="131" y="20"/>
                  </a:lnTo>
                  <a:lnTo>
                    <a:pt x="118" y="19"/>
                  </a:lnTo>
                  <a:lnTo>
                    <a:pt x="105" y="18"/>
                  </a:lnTo>
                  <a:lnTo>
                    <a:pt x="92" y="16"/>
                  </a:lnTo>
                  <a:lnTo>
                    <a:pt x="79" y="15"/>
                  </a:lnTo>
                  <a:lnTo>
                    <a:pt x="66" y="13"/>
                  </a:lnTo>
                  <a:lnTo>
                    <a:pt x="54" y="11"/>
                  </a:lnTo>
                  <a:lnTo>
                    <a:pt x="39" y="10"/>
                  </a:lnTo>
                  <a:lnTo>
                    <a:pt x="27" y="8"/>
                  </a:lnTo>
                  <a:lnTo>
                    <a:pt x="14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9" y="1"/>
                  </a:lnTo>
                  <a:lnTo>
                    <a:pt x="62" y="2"/>
                  </a:lnTo>
                  <a:lnTo>
                    <a:pt x="74" y="5"/>
                  </a:lnTo>
                  <a:lnTo>
                    <a:pt x="86" y="6"/>
                  </a:lnTo>
                  <a:lnTo>
                    <a:pt x="98" y="7"/>
                  </a:lnTo>
                  <a:lnTo>
                    <a:pt x="111" y="9"/>
                  </a:lnTo>
                  <a:lnTo>
                    <a:pt x="123" y="10"/>
                  </a:lnTo>
                  <a:lnTo>
                    <a:pt x="136" y="11"/>
                  </a:lnTo>
                  <a:lnTo>
                    <a:pt x="147" y="12"/>
                  </a:lnTo>
                  <a:lnTo>
                    <a:pt x="160" y="12"/>
                  </a:lnTo>
                  <a:lnTo>
                    <a:pt x="173" y="12"/>
                  </a:lnTo>
                  <a:lnTo>
                    <a:pt x="187" y="12"/>
                  </a:lnTo>
                  <a:lnTo>
                    <a:pt x="201" y="11"/>
                  </a:lnTo>
                  <a:lnTo>
                    <a:pt x="205" y="13"/>
                  </a:lnTo>
                  <a:lnTo>
                    <a:pt x="207" y="16"/>
                  </a:lnTo>
                  <a:lnTo>
                    <a:pt x="209" y="20"/>
                  </a:lnTo>
                  <a:lnTo>
                    <a:pt x="20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68"/>
            <p:cNvSpPr/>
            <p:nvPr/>
          </p:nvSpPr>
          <p:spPr>
            <a:xfrm flipH="1">
              <a:off x="8187120" y="6246360"/>
              <a:ext cx="110520" cy="428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1" h="64">
                  <a:moveTo>
                    <a:pt x="93" y="56"/>
                  </a:moveTo>
                  <a:lnTo>
                    <a:pt x="82" y="61"/>
                  </a:lnTo>
                  <a:lnTo>
                    <a:pt x="70" y="63"/>
                  </a:lnTo>
                  <a:lnTo>
                    <a:pt x="58" y="64"/>
                  </a:lnTo>
                  <a:lnTo>
                    <a:pt x="46" y="63"/>
                  </a:lnTo>
                  <a:lnTo>
                    <a:pt x="34" y="62"/>
                  </a:lnTo>
                  <a:lnTo>
                    <a:pt x="22" y="58"/>
                  </a:lnTo>
                  <a:lnTo>
                    <a:pt x="11" y="56"/>
                  </a:lnTo>
                  <a:lnTo>
                    <a:pt x="0" y="54"/>
                  </a:lnTo>
                  <a:lnTo>
                    <a:pt x="18" y="51"/>
                  </a:lnTo>
                  <a:lnTo>
                    <a:pt x="36" y="47"/>
                  </a:lnTo>
                  <a:lnTo>
                    <a:pt x="54" y="41"/>
                  </a:lnTo>
                  <a:lnTo>
                    <a:pt x="72" y="35"/>
                  </a:lnTo>
                  <a:lnTo>
                    <a:pt x="89" y="27"/>
                  </a:lnTo>
                  <a:lnTo>
                    <a:pt x="108" y="20"/>
                  </a:lnTo>
                  <a:lnTo>
                    <a:pt x="124" y="10"/>
                  </a:lnTo>
                  <a:lnTo>
                    <a:pt x="141" y="0"/>
                  </a:lnTo>
                  <a:lnTo>
                    <a:pt x="138" y="9"/>
                  </a:lnTo>
                  <a:lnTo>
                    <a:pt x="134" y="17"/>
                  </a:lnTo>
                  <a:lnTo>
                    <a:pt x="129" y="26"/>
                  </a:lnTo>
                  <a:lnTo>
                    <a:pt x="124" y="32"/>
                  </a:lnTo>
                  <a:lnTo>
                    <a:pt x="117" y="40"/>
                  </a:lnTo>
                  <a:lnTo>
                    <a:pt x="110" y="45"/>
                  </a:lnTo>
                  <a:lnTo>
                    <a:pt x="102" y="52"/>
                  </a:lnTo>
                  <a:lnTo>
                    <a:pt x="93" y="5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69"/>
            <p:cNvSpPr/>
            <p:nvPr/>
          </p:nvSpPr>
          <p:spPr>
            <a:xfrm flipH="1">
              <a:off x="8213400" y="6561360"/>
              <a:ext cx="61920" cy="30960"/>
            </a:xfrm>
            <a:custGeom>
              <a:avLst/>
              <a:gdLst>
                <a:gd name="textAreaLeft" fmla="*/ 360 w 61920"/>
                <a:gd name="textAreaRight" fmla="*/ 62640 w 61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79" h="46">
                  <a:moveTo>
                    <a:pt x="0" y="46"/>
                  </a:moveTo>
                  <a:lnTo>
                    <a:pt x="25" y="0"/>
                  </a:lnTo>
                  <a:lnTo>
                    <a:pt x="79" y="0"/>
                  </a:lnTo>
                  <a:lnTo>
                    <a:pt x="6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70"/>
            <p:cNvSpPr/>
            <p:nvPr/>
          </p:nvSpPr>
          <p:spPr>
            <a:xfrm flipH="1">
              <a:off x="8230320" y="6179040"/>
              <a:ext cx="119160" cy="6264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52" h="93">
                  <a:moveTo>
                    <a:pt x="135" y="71"/>
                  </a:moveTo>
                  <a:lnTo>
                    <a:pt x="124" y="80"/>
                  </a:lnTo>
                  <a:lnTo>
                    <a:pt x="112" y="86"/>
                  </a:lnTo>
                  <a:lnTo>
                    <a:pt x="99" y="89"/>
                  </a:lnTo>
                  <a:lnTo>
                    <a:pt x="85" y="91"/>
                  </a:lnTo>
                  <a:lnTo>
                    <a:pt x="71" y="93"/>
                  </a:lnTo>
                  <a:lnTo>
                    <a:pt x="57" y="93"/>
                  </a:lnTo>
                  <a:lnTo>
                    <a:pt x="43" y="90"/>
                  </a:lnTo>
                  <a:lnTo>
                    <a:pt x="30" y="89"/>
                  </a:lnTo>
                  <a:lnTo>
                    <a:pt x="27" y="83"/>
                  </a:lnTo>
                  <a:lnTo>
                    <a:pt x="23" y="77"/>
                  </a:lnTo>
                  <a:lnTo>
                    <a:pt x="17" y="72"/>
                  </a:lnTo>
                  <a:lnTo>
                    <a:pt x="11" y="67"/>
                  </a:lnTo>
                  <a:lnTo>
                    <a:pt x="6" y="61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1" y="42"/>
                  </a:lnTo>
                  <a:lnTo>
                    <a:pt x="18" y="35"/>
                  </a:lnTo>
                  <a:lnTo>
                    <a:pt x="35" y="30"/>
                  </a:lnTo>
                  <a:lnTo>
                    <a:pt x="53" y="26"/>
                  </a:lnTo>
                  <a:lnTo>
                    <a:pt x="70" y="20"/>
                  </a:lnTo>
                  <a:lnTo>
                    <a:pt x="87" y="16"/>
                  </a:lnTo>
                  <a:lnTo>
                    <a:pt x="105" y="12"/>
                  </a:lnTo>
                  <a:lnTo>
                    <a:pt x="122" y="6"/>
                  </a:lnTo>
                  <a:lnTo>
                    <a:pt x="138" y="0"/>
                  </a:lnTo>
                  <a:lnTo>
                    <a:pt x="151" y="12"/>
                  </a:lnTo>
                  <a:lnTo>
                    <a:pt x="152" y="32"/>
                  </a:lnTo>
                  <a:lnTo>
                    <a:pt x="146" y="54"/>
                  </a:lnTo>
                  <a:lnTo>
                    <a:pt x="13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71"/>
            <p:cNvSpPr/>
            <p:nvPr/>
          </p:nvSpPr>
          <p:spPr>
            <a:xfrm flipH="1">
              <a:off x="8244000" y="5544000"/>
              <a:ext cx="20160" cy="9972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6" h="148">
                  <a:moveTo>
                    <a:pt x="26" y="148"/>
                  </a:moveTo>
                  <a:lnTo>
                    <a:pt x="16" y="111"/>
                  </a:lnTo>
                  <a:lnTo>
                    <a:pt x="10" y="74"/>
                  </a:lnTo>
                  <a:lnTo>
                    <a:pt x="5" y="38"/>
                  </a:lnTo>
                  <a:lnTo>
                    <a:pt x="0" y="0"/>
                  </a:lnTo>
                  <a:lnTo>
                    <a:pt x="7" y="32"/>
                  </a:lnTo>
                  <a:lnTo>
                    <a:pt x="16" y="70"/>
                  </a:lnTo>
                  <a:lnTo>
                    <a:pt x="24" y="109"/>
                  </a:lnTo>
                  <a:lnTo>
                    <a:pt x="26" y="1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72"/>
            <p:cNvSpPr/>
            <p:nvPr/>
          </p:nvSpPr>
          <p:spPr>
            <a:xfrm flipH="1">
              <a:off x="8243640" y="6192360"/>
              <a:ext cx="84600" cy="38880"/>
            </a:xfrm>
            <a:custGeom>
              <a:avLst/>
              <a:gdLst>
                <a:gd name="textAreaLeft" fmla="*/ -360 w 84600"/>
                <a:gd name="textAreaRight" fmla="*/ 84600 w 84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08" h="58">
                  <a:moveTo>
                    <a:pt x="57" y="57"/>
                  </a:moveTo>
                  <a:lnTo>
                    <a:pt x="48" y="58"/>
                  </a:lnTo>
                  <a:lnTo>
                    <a:pt x="40" y="58"/>
                  </a:lnTo>
                  <a:lnTo>
                    <a:pt x="31" y="57"/>
                  </a:lnTo>
                  <a:lnTo>
                    <a:pt x="24" y="55"/>
                  </a:lnTo>
                  <a:lnTo>
                    <a:pt x="16" y="52"/>
                  </a:lnTo>
                  <a:lnTo>
                    <a:pt x="10" y="48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108" y="0"/>
                  </a:lnTo>
                  <a:lnTo>
                    <a:pt x="108" y="11"/>
                  </a:lnTo>
                  <a:lnTo>
                    <a:pt x="105" y="22"/>
                  </a:lnTo>
                  <a:lnTo>
                    <a:pt x="100" y="30"/>
                  </a:lnTo>
                  <a:lnTo>
                    <a:pt x="93" y="38"/>
                  </a:lnTo>
                  <a:lnTo>
                    <a:pt x="85" y="44"/>
                  </a:lnTo>
                  <a:lnTo>
                    <a:pt x="75" y="50"/>
                  </a:lnTo>
                  <a:lnTo>
                    <a:pt x="67" y="54"/>
                  </a:lnTo>
                  <a:lnTo>
                    <a:pt x="57" y="57"/>
                  </a:lnTo>
                  <a:close/>
                </a:path>
              </a:pathLst>
            </a:custGeom>
            <a:solidFill>
              <a:srgbClr val="ff7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73"/>
            <p:cNvSpPr/>
            <p:nvPr/>
          </p:nvSpPr>
          <p:spPr>
            <a:xfrm flipH="1">
              <a:off x="8258760" y="5664960"/>
              <a:ext cx="107280" cy="6588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37" h="98">
                  <a:moveTo>
                    <a:pt x="0" y="98"/>
                  </a:moveTo>
                  <a:lnTo>
                    <a:pt x="137" y="0"/>
                  </a:lnTo>
                  <a:lnTo>
                    <a:pt x="5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74"/>
            <p:cNvSpPr/>
            <p:nvPr/>
          </p:nvSpPr>
          <p:spPr>
            <a:xfrm flipH="1">
              <a:off x="8270640" y="5403240"/>
              <a:ext cx="36000" cy="188640"/>
            </a:xfrm>
            <a:custGeom>
              <a:avLst/>
              <a:gdLst>
                <a:gd name="textAreaLeft" fmla="*/ 360 w 36000"/>
                <a:gd name="textAreaRight" fmla="*/ 36720 w 360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6" h="280">
                  <a:moveTo>
                    <a:pt x="46" y="280"/>
                  </a:moveTo>
                  <a:lnTo>
                    <a:pt x="39" y="246"/>
                  </a:lnTo>
                  <a:lnTo>
                    <a:pt x="32" y="211"/>
                  </a:lnTo>
                  <a:lnTo>
                    <a:pt x="27" y="176"/>
                  </a:lnTo>
                  <a:lnTo>
                    <a:pt x="22" y="141"/>
                  </a:lnTo>
                  <a:lnTo>
                    <a:pt x="16" y="106"/>
                  </a:lnTo>
                  <a:lnTo>
                    <a:pt x="11" y="7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6" y="35"/>
                  </a:lnTo>
                  <a:lnTo>
                    <a:pt x="13" y="69"/>
                  </a:lnTo>
                  <a:lnTo>
                    <a:pt x="20" y="104"/>
                  </a:lnTo>
                  <a:lnTo>
                    <a:pt x="27" y="139"/>
                  </a:lnTo>
                  <a:lnTo>
                    <a:pt x="33" y="173"/>
                  </a:lnTo>
                  <a:lnTo>
                    <a:pt x="40" y="209"/>
                  </a:lnTo>
                  <a:lnTo>
                    <a:pt x="44" y="244"/>
                  </a:lnTo>
                  <a:lnTo>
                    <a:pt x="46" y="28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75"/>
            <p:cNvSpPr/>
            <p:nvPr/>
          </p:nvSpPr>
          <p:spPr>
            <a:xfrm flipH="1">
              <a:off x="8269560" y="6078240"/>
              <a:ext cx="34200" cy="6732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44" h="100">
                  <a:moveTo>
                    <a:pt x="37" y="100"/>
                  </a:moveTo>
                  <a:lnTo>
                    <a:pt x="26" y="100"/>
                  </a:lnTo>
                  <a:lnTo>
                    <a:pt x="17" y="75"/>
                  </a:lnTo>
                  <a:lnTo>
                    <a:pt x="9" y="50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9" y="14"/>
                  </a:lnTo>
                  <a:lnTo>
                    <a:pt x="24" y="24"/>
                  </a:lnTo>
                  <a:lnTo>
                    <a:pt x="28" y="35"/>
                  </a:lnTo>
                  <a:lnTo>
                    <a:pt x="31" y="47"/>
                  </a:lnTo>
                  <a:lnTo>
                    <a:pt x="35" y="60"/>
                  </a:lnTo>
                  <a:lnTo>
                    <a:pt x="39" y="71"/>
                  </a:lnTo>
                  <a:lnTo>
                    <a:pt x="43" y="82"/>
                  </a:lnTo>
                  <a:lnTo>
                    <a:pt x="43" y="88"/>
                  </a:lnTo>
                  <a:lnTo>
                    <a:pt x="44" y="95"/>
                  </a:lnTo>
                  <a:lnTo>
                    <a:pt x="42" y="99"/>
                  </a:lnTo>
                  <a:lnTo>
                    <a:pt x="3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76"/>
            <p:cNvSpPr/>
            <p:nvPr/>
          </p:nvSpPr>
          <p:spPr>
            <a:xfrm flipH="1">
              <a:off x="8274960" y="6545880"/>
              <a:ext cx="83160" cy="111960"/>
            </a:xfrm>
            <a:custGeom>
              <a:avLst/>
              <a:gdLst>
                <a:gd name="textAreaLeft" fmla="*/ -360 w 83160"/>
                <a:gd name="textAreaRight" fmla="*/ 83160 w 831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06" h="166">
                  <a:moveTo>
                    <a:pt x="4" y="166"/>
                  </a:moveTo>
                  <a:lnTo>
                    <a:pt x="0" y="161"/>
                  </a:lnTo>
                  <a:lnTo>
                    <a:pt x="3" y="151"/>
                  </a:lnTo>
                  <a:lnTo>
                    <a:pt x="10" y="140"/>
                  </a:lnTo>
                  <a:lnTo>
                    <a:pt x="15" y="131"/>
                  </a:lnTo>
                  <a:lnTo>
                    <a:pt x="106" y="0"/>
                  </a:lnTo>
                  <a:lnTo>
                    <a:pt x="95" y="22"/>
                  </a:lnTo>
                  <a:lnTo>
                    <a:pt x="84" y="43"/>
                  </a:lnTo>
                  <a:lnTo>
                    <a:pt x="73" y="65"/>
                  </a:lnTo>
                  <a:lnTo>
                    <a:pt x="61" y="85"/>
                  </a:lnTo>
                  <a:lnTo>
                    <a:pt x="48" y="106"/>
                  </a:lnTo>
                  <a:lnTo>
                    <a:pt x="35" y="126"/>
                  </a:lnTo>
                  <a:lnTo>
                    <a:pt x="19" y="147"/>
                  </a:lnTo>
                  <a:lnTo>
                    <a:pt x="4" y="166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77"/>
            <p:cNvSpPr/>
            <p:nvPr/>
          </p:nvSpPr>
          <p:spPr>
            <a:xfrm flipH="1">
              <a:off x="8277480" y="5373360"/>
              <a:ext cx="206280" cy="345240"/>
            </a:xfrm>
            <a:custGeom>
              <a:avLst/>
              <a:gdLst>
                <a:gd name="textAreaLeft" fmla="*/ -360 w 206280"/>
                <a:gd name="textAreaRight" fmla="*/ 206280 w 206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263" h="512">
                  <a:moveTo>
                    <a:pt x="118" y="512"/>
                  </a:moveTo>
                  <a:lnTo>
                    <a:pt x="121" y="490"/>
                  </a:lnTo>
                  <a:lnTo>
                    <a:pt x="121" y="469"/>
                  </a:lnTo>
                  <a:lnTo>
                    <a:pt x="116" y="447"/>
                  </a:lnTo>
                  <a:lnTo>
                    <a:pt x="104" y="430"/>
                  </a:lnTo>
                  <a:lnTo>
                    <a:pt x="47" y="401"/>
                  </a:lnTo>
                  <a:lnTo>
                    <a:pt x="0" y="142"/>
                  </a:lnTo>
                  <a:lnTo>
                    <a:pt x="10" y="130"/>
                  </a:lnTo>
                  <a:lnTo>
                    <a:pt x="20" y="119"/>
                  </a:lnTo>
                  <a:lnTo>
                    <a:pt x="29" y="107"/>
                  </a:lnTo>
                  <a:lnTo>
                    <a:pt x="39" y="95"/>
                  </a:lnTo>
                  <a:lnTo>
                    <a:pt x="50" y="84"/>
                  </a:lnTo>
                  <a:lnTo>
                    <a:pt x="61" y="73"/>
                  </a:lnTo>
                  <a:lnTo>
                    <a:pt x="71" y="63"/>
                  </a:lnTo>
                  <a:lnTo>
                    <a:pt x="83" y="53"/>
                  </a:lnTo>
                  <a:lnTo>
                    <a:pt x="94" y="43"/>
                  </a:lnTo>
                  <a:lnTo>
                    <a:pt x="107" y="35"/>
                  </a:lnTo>
                  <a:lnTo>
                    <a:pt x="119" y="27"/>
                  </a:lnTo>
                  <a:lnTo>
                    <a:pt x="132" y="19"/>
                  </a:lnTo>
                  <a:lnTo>
                    <a:pt x="145" y="13"/>
                  </a:lnTo>
                  <a:lnTo>
                    <a:pt x="158" y="8"/>
                  </a:lnTo>
                  <a:lnTo>
                    <a:pt x="172" y="3"/>
                  </a:lnTo>
                  <a:lnTo>
                    <a:pt x="186" y="0"/>
                  </a:lnTo>
                  <a:lnTo>
                    <a:pt x="198" y="46"/>
                  </a:lnTo>
                  <a:lnTo>
                    <a:pt x="209" y="93"/>
                  </a:lnTo>
                  <a:lnTo>
                    <a:pt x="217" y="142"/>
                  </a:lnTo>
                  <a:lnTo>
                    <a:pt x="226" y="189"/>
                  </a:lnTo>
                  <a:lnTo>
                    <a:pt x="233" y="237"/>
                  </a:lnTo>
                  <a:lnTo>
                    <a:pt x="242" y="285"/>
                  </a:lnTo>
                  <a:lnTo>
                    <a:pt x="252" y="332"/>
                  </a:lnTo>
                  <a:lnTo>
                    <a:pt x="263" y="378"/>
                  </a:lnTo>
                  <a:lnTo>
                    <a:pt x="263" y="404"/>
                  </a:lnTo>
                  <a:lnTo>
                    <a:pt x="118" y="5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78"/>
            <p:cNvSpPr/>
            <p:nvPr/>
          </p:nvSpPr>
          <p:spPr>
            <a:xfrm flipH="1">
              <a:off x="8292600" y="6534360"/>
              <a:ext cx="78480" cy="106920"/>
            </a:xfrm>
            <a:custGeom>
              <a:avLst/>
              <a:gdLst>
                <a:gd name="textAreaLeft" fmla="*/ 360 w 78480"/>
                <a:gd name="textAreaRight" fmla="*/ 79200 w 784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00" h="159">
                  <a:moveTo>
                    <a:pt x="3" y="159"/>
                  </a:moveTo>
                  <a:lnTo>
                    <a:pt x="0" y="155"/>
                  </a:lnTo>
                  <a:lnTo>
                    <a:pt x="12" y="135"/>
                  </a:lnTo>
                  <a:lnTo>
                    <a:pt x="24" y="115"/>
                  </a:lnTo>
                  <a:lnTo>
                    <a:pt x="35" y="95"/>
                  </a:lnTo>
                  <a:lnTo>
                    <a:pt x="46" y="74"/>
                  </a:lnTo>
                  <a:lnTo>
                    <a:pt x="58" y="55"/>
                  </a:lnTo>
                  <a:lnTo>
                    <a:pt x="71" y="35"/>
                  </a:lnTo>
                  <a:lnTo>
                    <a:pt x="85" y="17"/>
                  </a:lnTo>
                  <a:lnTo>
                    <a:pt x="100" y="0"/>
                  </a:lnTo>
                  <a:lnTo>
                    <a:pt x="92" y="21"/>
                  </a:lnTo>
                  <a:lnTo>
                    <a:pt x="81" y="42"/>
                  </a:lnTo>
                  <a:lnTo>
                    <a:pt x="70" y="62"/>
                  </a:lnTo>
                  <a:lnTo>
                    <a:pt x="57" y="82"/>
                  </a:lnTo>
                  <a:lnTo>
                    <a:pt x="44" y="102"/>
                  </a:lnTo>
                  <a:lnTo>
                    <a:pt x="30" y="121"/>
                  </a:lnTo>
                  <a:lnTo>
                    <a:pt x="16" y="140"/>
                  </a:lnTo>
                  <a:lnTo>
                    <a:pt x="3" y="159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79"/>
            <p:cNvSpPr/>
            <p:nvPr/>
          </p:nvSpPr>
          <p:spPr>
            <a:xfrm flipH="1">
              <a:off x="8300880" y="6485040"/>
              <a:ext cx="319320" cy="148680"/>
            </a:xfrm>
            <a:custGeom>
              <a:avLst/>
              <a:gdLst>
                <a:gd name="textAreaLeft" fmla="*/ 0 w 319320"/>
                <a:gd name="textAreaRight" fmla="*/ 319320 w 31932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407" h="221">
                  <a:moveTo>
                    <a:pt x="303" y="213"/>
                  </a:moveTo>
                  <a:lnTo>
                    <a:pt x="287" y="200"/>
                  </a:lnTo>
                  <a:lnTo>
                    <a:pt x="269" y="190"/>
                  </a:lnTo>
                  <a:lnTo>
                    <a:pt x="252" y="183"/>
                  </a:lnTo>
                  <a:lnTo>
                    <a:pt x="233" y="178"/>
                  </a:lnTo>
                  <a:lnTo>
                    <a:pt x="213" y="174"/>
                  </a:lnTo>
                  <a:lnTo>
                    <a:pt x="194" y="173"/>
                  </a:lnTo>
                  <a:lnTo>
                    <a:pt x="173" y="173"/>
                  </a:lnTo>
                  <a:lnTo>
                    <a:pt x="153" y="174"/>
                  </a:lnTo>
                  <a:lnTo>
                    <a:pt x="132" y="178"/>
                  </a:lnTo>
                  <a:lnTo>
                    <a:pt x="112" y="182"/>
                  </a:lnTo>
                  <a:lnTo>
                    <a:pt x="92" y="186"/>
                  </a:lnTo>
                  <a:lnTo>
                    <a:pt x="72" y="193"/>
                  </a:lnTo>
                  <a:lnTo>
                    <a:pt x="53" y="199"/>
                  </a:lnTo>
                  <a:lnTo>
                    <a:pt x="35" y="206"/>
                  </a:lnTo>
                  <a:lnTo>
                    <a:pt x="16" y="213"/>
                  </a:lnTo>
                  <a:lnTo>
                    <a:pt x="0" y="221"/>
                  </a:lnTo>
                  <a:lnTo>
                    <a:pt x="15" y="192"/>
                  </a:lnTo>
                  <a:lnTo>
                    <a:pt x="29" y="160"/>
                  </a:lnTo>
                  <a:lnTo>
                    <a:pt x="45" y="128"/>
                  </a:lnTo>
                  <a:lnTo>
                    <a:pt x="61" y="97"/>
                  </a:lnTo>
                  <a:lnTo>
                    <a:pt x="79" y="67"/>
                  </a:lnTo>
                  <a:lnTo>
                    <a:pt x="101" y="44"/>
                  </a:lnTo>
                  <a:lnTo>
                    <a:pt x="129" y="26"/>
                  </a:lnTo>
                  <a:lnTo>
                    <a:pt x="162" y="18"/>
                  </a:lnTo>
                  <a:lnTo>
                    <a:pt x="177" y="15"/>
                  </a:lnTo>
                  <a:lnTo>
                    <a:pt x="194" y="12"/>
                  </a:lnTo>
                  <a:lnTo>
                    <a:pt x="211" y="10"/>
                  </a:lnTo>
                  <a:lnTo>
                    <a:pt x="227" y="7"/>
                  </a:lnTo>
                  <a:lnTo>
                    <a:pt x="243" y="5"/>
                  </a:lnTo>
                  <a:lnTo>
                    <a:pt x="261" y="3"/>
                  </a:lnTo>
                  <a:lnTo>
                    <a:pt x="277" y="1"/>
                  </a:lnTo>
                  <a:lnTo>
                    <a:pt x="294" y="0"/>
                  </a:lnTo>
                  <a:lnTo>
                    <a:pt x="310" y="0"/>
                  </a:lnTo>
                  <a:lnTo>
                    <a:pt x="325" y="3"/>
                  </a:lnTo>
                  <a:lnTo>
                    <a:pt x="342" y="6"/>
                  </a:lnTo>
                  <a:lnTo>
                    <a:pt x="356" y="10"/>
                  </a:lnTo>
                  <a:lnTo>
                    <a:pt x="371" y="17"/>
                  </a:lnTo>
                  <a:lnTo>
                    <a:pt x="384" y="25"/>
                  </a:lnTo>
                  <a:lnTo>
                    <a:pt x="396" y="35"/>
                  </a:lnTo>
                  <a:lnTo>
                    <a:pt x="407" y="48"/>
                  </a:lnTo>
                  <a:lnTo>
                    <a:pt x="396" y="68"/>
                  </a:lnTo>
                  <a:lnTo>
                    <a:pt x="383" y="89"/>
                  </a:lnTo>
                  <a:lnTo>
                    <a:pt x="369" y="109"/>
                  </a:lnTo>
                  <a:lnTo>
                    <a:pt x="356" y="130"/>
                  </a:lnTo>
                  <a:lnTo>
                    <a:pt x="342" y="151"/>
                  </a:lnTo>
                  <a:lnTo>
                    <a:pt x="328" y="171"/>
                  </a:lnTo>
                  <a:lnTo>
                    <a:pt x="315" y="192"/>
                  </a:lnTo>
                  <a:lnTo>
                    <a:pt x="303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80"/>
            <p:cNvSpPr/>
            <p:nvPr/>
          </p:nvSpPr>
          <p:spPr>
            <a:xfrm flipH="1">
              <a:off x="8304120" y="5565600"/>
              <a:ext cx="121320" cy="74880"/>
            </a:xfrm>
            <a:custGeom>
              <a:avLst/>
              <a:gdLst>
                <a:gd name="textAreaLeft" fmla="*/ -360 w 121320"/>
                <a:gd name="textAreaRight" fmla="*/ 121320 w 1213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55" h="111">
                  <a:moveTo>
                    <a:pt x="152" y="47"/>
                  </a:moveTo>
                  <a:lnTo>
                    <a:pt x="134" y="53"/>
                  </a:lnTo>
                  <a:lnTo>
                    <a:pt x="116" y="62"/>
                  </a:lnTo>
                  <a:lnTo>
                    <a:pt x="99" y="71"/>
                  </a:lnTo>
                  <a:lnTo>
                    <a:pt x="83" y="82"/>
                  </a:lnTo>
                  <a:lnTo>
                    <a:pt x="67" y="92"/>
                  </a:lnTo>
                  <a:lnTo>
                    <a:pt x="49" y="101"/>
                  </a:lnTo>
                  <a:lnTo>
                    <a:pt x="31" y="108"/>
                  </a:lnTo>
                  <a:lnTo>
                    <a:pt x="12" y="111"/>
                  </a:lnTo>
                  <a:lnTo>
                    <a:pt x="9" y="100"/>
                  </a:lnTo>
                  <a:lnTo>
                    <a:pt x="4" y="90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18" y="61"/>
                  </a:lnTo>
                  <a:lnTo>
                    <a:pt x="36" y="52"/>
                  </a:lnTo>
                  <a:lnTo>
                    <a:pt x="55" y="43"/>
                  </a:lnTo>
                  <a:lnTo>
                    <a:pt x="73" y="34"/>
                  </a:lnTo>
                  <a:lnTo>
                    <a:pt x="91" y="25"/>
                  </a:lnTo>
                  <a:lnTo>
                    <a:pt x="110" y="15"/>
                  </a:lnTo>
                  <a:lnTo>
                    <a:pt x="128" y="8"/>
                  </a:lnTo>
                  <a:lnTo>
                    <a:pt x="148" y="0"/>
                  </a:lnTo>
                  <a:lnTo>
                    <a:pt x="147" y="13"/>
                  </a:lnTo>
                  <a:lnTo>
                    <a:pt x="152" y="25"/>
                  </a:lnTo>
                  <a:lnTo>
                    <a:pt x="155" y="35"/>
                  </a:lnTo>
                  <a:lnTo>
                    <a:pt x="15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81"/>
            <p:cNvSpPr/>
            <p:nvPr/>
          </p:nvSpPr>
          <p:spPr>
            <a:xfrm flipH="1">
              <a:off x="8303760" y="6345360"/>
              <a:ext cx="47880" cy="28080"/>
            </a:xfrm>
            <a:custGeom>
              <a:avLst/>
              <a:gdLst>
                <a:gd name="textAreaLeft" fmla="*/ -360 w 47880"/>
                <a:gd name="textAreaRight" fmla="*/ 47880 w 47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1" h="42">
                  <a:moveTo>
                    <a:pt x="0" y="42"/>
                  </a:moveTo>
                  <a:lnTo>
                    <a:pt x="3" y="31"/>
                  </a:lnTo>
                  <a:lnTo>
                    <a:pt x="7" y="22"/>
                  </a:lnTo>
                  <a:lnTo>
                    <a:pt x="15" y="13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61" y="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82"/>
            <p:cNvSpPr/>
            <p:nvPr/>
          </p:nvSpPr>
          <p:spPr>
            <a:xfrm flipH="1">
              <a:off x="8312760" y="5378760"/>
              <a:ext cx="1440" cy="11880"/>
            </a:xfrm>
            <a:custGeom>
              <a:avLst/>
              <a:gdLst>
                <a:gd name="textAreaLeft" fmla="*/ 360 w 1440"/>
                <a:gd name="textAreaRight" fmla="*/ 2160 w 14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" h="18">
                  <a:moveTo>
                    <a:pt x="0" y="0"/>
                  </a:moveTo>
                  <a:lnTo>
                    <a:pt x="2" y="7"/>
                  </a:lnTo>
                  <a:lnTo>
                    <a:pt x="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83"/>
            <p:cNvSpPr/>
            <p:nvPr/>
          </p:nvSpPr>
          <p:spPr>
            <a:xfrm flipH="1">
              <a:off x="8313120" y="5621760"/>
              <a:ext cx="72720" cy="34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93" h="51">
                  <a:moveTo>
                    <a:pt x="93" y="8"/>
                  </a:moveTo>
                  <a:lnTo>
                    <a:pt x="81" y="13"/>
                  </a:lnTo>
                  <a:lnTo>
                    <a:pt x="71" y="20"/>
                  </a:lnTo>
                  <a:lnTo>
                    <a:pt x="59" y="27"/>
                  </a:lnTo>
                  <a:lnTo>
                    <a:pt x="48" y="35"/>
                  </a:lnTo>
                  <a:lnTo>
                    <a:pt x="36" y="41"/>
                  </a:lnTo>
                  <a:lnTo>
                    <a:pt x="24" y="47"/>
                  </a:lnTo>
                  <a:lnTo>
                    <a:pt x="12" y="50"/>
                  </a:lnTo>
                  <a:lnTo>
                    <a:pt x="0" y="51"/>
                  </a:lnTo>
                  <a:lnTo>
                    <a:pt x="11" y="45"/>
                  </a:lnTo>
                  <a:lnTo>
                    <a:pt x="23" y="37"/>
                  </a:lnTo>
                  <a:lnTo>
                    <a:pt x="34" y="28"/>
                  </a:lnTo>
                  <a:lnTo>
                    <a:pt x="46" y="21"/>
                  </a:lnTo>
                  <a:lnTo>
                    <a:pt x="58" y="13"/>
                  </a:lnTo>
                  <a:lnTo>
                    <a:pt x="70" y="7"/>
                  </a:lnTo>
                  <a:lnTo>
                    <a:pt x="81" y="3"/>
                  </a:lnTo>
                  <a:lnTo>
                    <a:pt x="93" y="0"/>
                  </a:lnTo>
                  <a:lnTo>
                    <a:pt x="9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84"/>
            <p:cNvSpPr/>
            <p:nvPr/>
          </p:nvSpPr>
          <p:spPr>
            <a:xfrm flipH="1">
              <a:off x="8314560" y="5650200"/>
              <a:ext cx="54000" cy="24840"/>
            </a:xfrm>
            <a:custGeom>
              <a:avLst/>
              <a:gdLst>
                <a:gd name="textAreaLeft" fmla="*/ 360 w 54000"/>
                <a:gd name="textAreaRight" fmla="*/ 54720 w 540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9" h="37">
                  <a:moveTo>
                    <a:pt x="0" y="37"/>
                  </a:moveTo>
                  <a:lnTo>
                    <a:pt x="8" y="31"/>
                  </a:lnTo>
                  <a:lnTo>
                    <a:pt x="15" y="24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41" y="6"/>
                  </a:lnTo>
                  <a:lnTo>
                    <a:pt x="50" y="3"/>
                  </a:lnTo>
                  <a:lnTo>
                    <a:pt x="59" y="0"/>
                  </a:lnTo>
                  <a:lnTo>
                    <a:pt x="69" y="2"/>
                  </a:lnTo>
                  <a:lnTo>
                    <a:pt x="61" y="6"/>
                  </a:lnTo>
                  <a:lnTo>
                    <a:pt x="53" y="12"/>
                  </a:lnTo>
                  <a:lnTo>
                    <a:pt x="44" y="18"/>
                  </a:lnTo>
                  <a:lnTo>
                    <a:pt x="36" y="24"/>
                  </a:lnTo>
                  <a:lnTo>
                    <a:pt x="27" y="30"/>
                  </a:lnTo>
                  <a:lnTo>
                    <a:pt x="17" y="34"/>
                  </a:lnTo>
                  <a:lnTo>
                    <a:pt x="9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85"/>
            <p:cNvSpPr/>
            <p:nvPr/>
          </p:nvSpPr>
          <p:spPr>
            <a:xfrm flipH="1">
              <a:off x="8319600" y="5583240"/>
              <a:ext cx="91080" cy="45000"/>
            </a:xfrm>
            <a:custGeom>
              <a:avLst/>
              <a:gdLst>
                <a:gd name="textAreaLeft" fmla="*/ -360 w 91080"/>
                <a:gd name="textAreaRight" fmla="*/ 91080 w 910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16" h="67">
                  <a:moveTo>
                    <a:pt x="11" y="67"/>
                  </a:moveTo>
                  <a:lnTo>
                    <a:pt x="0" y="57"/>
                  </a:lnTo>
                  <a:lnTo>
                    <a:pt x="14" y="50"/>
                  </a:lnTo>
                  <a:lnTo>
                    <a:pt x="29" y="41"/>
                  </a:lnTo>
                  <a:lnTo>
                    <a:pt x="43" y="33"/>
                  </a:lnTo>
                  <a:lnTo>
                    <a:pt x="57" y="24"/>
                  </a:lnTo>
                  <a:lnTo>
                    <a:pt x="71" y="15"/>
                  </a:lnTo>
                  <a:lnTo>
                    <a:pt x="85" y="9"/>
                  </a:lnTo>
                  <a:lnTo>
                    <a:pt x="101" y="3"/>
                  </a:lnTo>
                  <a:lnTo>
                    <a:pt x="116" y="0"/>
                  </a:lnTo>
                  <a:lnTo>
                    <a:pt x="116" y="11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86"/>
            <p:cNvSpPr/>
            <p:nvPr/>
          </p:nvSpPr>
          <p:spPr>
            <a:xfrm flipH="1">
              <a:off x="8331840" y="5538600"/>
              <a:ext cx="105120" cy="56520"/>
            </a:xfrm>
            <a:custGeom>
              <a:avLst/>
              <a:gdLst>
                <a:gd name="textAreaLeft" fmla="*/ 360 w 105120"/>
                <a:gd name="textAreaRight" fmla="*/ 105840 w 1051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34" h="84">
                  <a:moveTo>
                    <a:pt x="134" y="15"/>
                  </a:moveTo>
                  <a:lnTo>
                    <a:pt x="116" y="22"/>
                  </a:lnTo>
                  <a:lnTo>
                    <a:pt x="99" y="29"/>
                  </a:lnTo>
                  <a:lnTo>
                    <a:pt x="83" y="38"/>
                  </a:lnTo>
                  <a:lnTo>
                    <a:pt x="67" y="48"/>
                  </a:lnTo>
                  <a:lnTo>
                    <a:pt x="50" y="59"/>
                  </a:lnTo>
                  <a:lnTo>
                    <a:pt x="34" y="68"/>
                  </a:lnTo>
                  <a:lnTo>
                    <a:pt x="17" y="77"/>
                  </a:lnTo>
                  <a:lnTo>
                    <a:pt x="0" y="84"/>
                  </a:lnTo>
                  <a:lnTo>
                    <a:pt x="0" y="72"/>
                  </a:lnTo>
                  <a:lnTo>
                    <a:pt x="134" y="0"/>
                  </a:lnTo>
                  <a:lnTo>
                    <a:pt x="13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87"/>
            <p:cNvSpPr/>
            <p:nvPr/>
          </p:nvSpPr>
          <p:spPr>
            <a:xfrm flipH="1">
              <a:off x="8334360" y="5490000"/>
              <a:ext cx="109800" cy="54000"/>
            </a:xfrm>
            <a:custGeom>
              <a:avLst/>
              <a:gdLst>
                <a:gd name="textAreaLeft" fmla="*/ 0 w 109800"/>
                <a:gd name="textAreaRight" fmla="*/ 109800 w 109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0" h="80">
                  <a:moveTo>
                    <a:pt x="86" y="37"/>
                  </a:moveTo>
                  <a:lnTo>
                    <a:pt x="75" y="43"/>
                  </a:lnTo>
                  <a:lnTo>
                    <a:pt x="66" y="50"/>
                  </a:lnTo>
                  <a:lnTo>
                    <a:pt x="55" y="57"/>
                  </a:lnTo>
                  <a:lnTo>
                    <a:pt x="45" y="62"/>
                  </a:lnTo>
                  <a:lnTo>
                    <a:pt x="34" y="69"/>
                  </a:lnTo>
                  <a:lnTo>
                    <a:pt x="24" y="73"/>
                  </a:lnTo>
                  <a:lnTo>
                    <a:pt x="12" y="78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40" y="0"/>
                  </a:lnTo>
                  <a:lnTo>
                    <a:pt x="137" y="7"/>
                  </a:lnTo>
                  <a:lnTo>
                    <a:pt x="132" y="12"/>
                  </a:lnTo>
                  <a:lnTo>
                    <a:pt x="125" y="16"/>
                  </a:lnTo>
                  <a:lnTo>
                    <a:pt x="117" y="19"/>
                  </a:lnTo>
                  <a:lnTo>
                    <a:pt x="109" y="23"/>
                  </a:lnTo>
                  <a:lnTo>
                    <a:pt x="100" y="27"/>
                  </a:lnTo>
                  <a:lnTo>
                    <a:pt x="93" y="31"/>
                  </a:lnTo>
                  <a:lnTo>
                    <a:pt x="8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88"/>
            <p:cNvSpPr/>
            <p:nvPr/>
          </p:nvSpPr>
          <p:spPr>
            <a:xfrm flipH="1">
              <a:off x="8340480" y="5404320"/>
              <a:ext cx="72720" cy="88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93" h="131">
                  <a:moveTo>
                    <a:pt x="31" y="131"/>
                  </a:moveTo>
                  <a:lnTo>
                    <a:pt x="20" y="131"/>
                  </a:lnTo>
                  <a:lnTo>
                    <a:pt x="0" y="34"/>
                  </a:lnTo>
                  <a:lnTo>
                    <a:pt x="8" y="31"/>
                  </a:lnTo>
                  <a:lnTo>
                    <a:pt x="17" y="25"/>
                  </a:lnTo>
                  <a:lnTo>
                    <a:pt x="25" y="20"/>
                  </a:lnTo>
                  <a:lnTo>
                    <a:pt x="32" y="15"/>
                  </a:lnTo>
                  <a:lnTo>
                    <a:pt x="41" y="9"/>
                  </a:lnTo>
                  <a:lnTo>
                    <a:pt x="50" y="5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68" y="18"/>
                  </a:lnTo>
                  <a:lnTo>
                    <a:pt x="74" y="35"/>
                  </a:lnTo>
                  <a:lnTo>
                    <a:pt x="82" y="52"/>
                  </a:lnTo>
                  <a:lnTo>
                    <a:pt x="88" y="70"/>
                  </a:lnTo>
                  <a:lnTo>
                    <a:pt x="93" y="86"/>
                  </a:lnTo>
                  <a:lnTo>
                    <a:pt x="92" y="101"/>
                  </a:lnTo>
                  <a:lnTo>
                    <a:pt x="82" y="113"/>
                  </a:lnTo>
                  <a:lnTo>
                    <a:pt x="60" y="124"/>
                  </a:lnTo>
                  <a:lnTo>
                    <a:pt x="31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89"/>
            <p:cNvSpPr/>
            <p:nvPr/>
          </p:nvSpPr>
          <p:spPr>
            <a:xfrm flipH="1">
              <a:off x="8340480" y="5515200"/>
              <a:ext cx="96480" cy="47880"/>
            </a:xfrm>
            <a:custGeom>
              <a:avLst/>
              <a:gdLst>
                <a:gd name="textAreaLeft" fmla="*/ 360 w 96480"/>
                <a:gd name="textAreaRight" fmla="*/ 97200 w 964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71">
                  <a:moveTo>
                    <a:pt x="123" y="11"/>
                  </a:moveTo>
                  <a:lnTo>
                    <a:pt x="108" y="19"/>
                  </a:lnTo>
                  <a:lnTo>
                    <a:pt x="92" y="28"/>
                  </a:lnTo>
                  <a:lnTo>
                    <a:pt x="77" y="36"/>
                  </a:lnTo>
                  <a:lnTo>
                    <a:pt x="62" y="46"/>
                  </a:lnTo>
                  <a:lnTo>
                    <a:pt x="47" y="55"/>
                  </a:lnTo>
                  <a:lnTo>
                    <a:pt x="32" y="62"/>
                  </a:lnTo>
                  <a:lnTo>
                    <a:pt x="16" y="6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123" y="0"/>
                  </a:lnTo>
                  <a:lnTo>
                    <a:pt x="12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90"/>
            <p:cNvSpPr/>
            <p:nvPr/>
          </p:nvSpPr>
          <p:spPr>
            <a:xfrm flipH="1">
              <a:off x="8354520" y="5417280"/>
              <a:ext cx="44640" cy="6408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57" h="95">
                  <a:moveTo>
                    <a:pt x="28" y="95"/>
                  </a:moveTo>
                  <a:lnTo>
                    <a:pt x="14" y="84"/>
                  </a:lnTo>
                  <a:lnTo>
                    <a:pt x="9" y="66"/>
                  </a:lnTo>
                  <a:lnTo>
                    <a:pt x="6" y="45"/>
                  </a:lnTo>
                  <a:lnTo>
                    <a:pt x="0" y="26"/>
                  </a:lnTo>
                  <a:lnTo>
                    <a:pt x="32" y="0"/>
                  </a:lnTo>
                  <a:lnTo>
                    <a:pt x="35" y="11"/>
                  </a:lnTo>
                  <a:lnTo>
                    <a:pt x="41" y="24"/>
                  </a:lnTo>
                  <a:lnTo>
                    <a:pt x="49" y="39"/>
                  </a:lnTo>
                  <a:lnTo>
                    <a:pt x="54" y="53"/>
                  </a:lnTo>
                  <a:lnTo>
                    <a:pt x="57" y="67"/>
                  </a:lnTo>
                  <a:lnTo>
                    <a:pt x="55" y="79"/>
                  </a:lnTo>
                  <a:lnTo>
                    <a:pt x="46" y="88"/>
                  </a:lnTo>
                  <a:lnTo>
                    <a:pt x="28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91"/>
            <p:cNvSpPr/>
            <p:nvPr/>
          </p:nvSpPr>
          <p:spPr>
            <a:xfrm flipH="1">
              <a:off x="8366040" y="6662520"/>
              <a:ext cx="222840" cy="17280"/>
            </a:xfrm>
            <a:custGeom>
              <a:avLst/>
              <a:gdLst>
                <a:gd name="textAreaLeft" fmla="*/ -360 w 222840"/>
                <a:gd name="textAreaRight" fmla="*/ 222840 w 222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84" h="26">
                  <a:moveTo>
                    <a:pt x="212" y="19"/>
                  </a:moveTo>
                  <a:lnTo>
                    <a:pt x="199" y="18"/>
                  </a:lnTo>
                  <a:lnTo>
                    <a:pt x="186" y="18"/>
                  </a:lnTo>
                  <a:lnTo>
                    <a:pt x="172" y="17"/>
                  </a:lnTo>
                  <a:lnTo>
                    <a:pt x="159" y="17"/>
                  </a:lnTo>
                  <a:lnTo>
                    <a:pt x="145" y="16"/>
                  </a:lnTo>
                  <a:lnTo>
                    <a:pt x="131" y="16"/>
                  </a:lnTo>
                  <a:lnTo>
                    <a:pt x="118" y="15"/>
                  </a:lnTo>
                  <a:lnTo>
                    <a:pt x="104" y="14"/>
                  </a:lnTo>
                  <a:lnTo>
                    <a:pt x="90" y="13"/>
                  </a:lnTo>
                  <a:lnTo>
                    <a:pt x="76" y="12"/>
                  </a:lnTo>
                  <a:lnTo>
                    <a:pt x="63" y="11"/>
                  </a:lnTo>
                  <a:lnTo>
                    <a:pt x="50" y="10"/>
                  </a:lnTo>
                  <a:lnTo>
                    <a:pt x="37" y="7"/>
                  </a:lnTo>
                  <a:lnTo>
                    <a:pt x="24" y="6"/>
                  </a:lnTo>
                  <a:lnTo>
                    <a:pt x="12" y="3"/>
                  </a:lnTo>
                  <a:lnTo>
                    <a:pt x="0" y="1"/>
                  </a:lnTo>
                  <a:lnTo>
                    <a:pt x="15" y="1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85" y="1"/>
                  </a:lnTo>
                  <a:lnTo>
                    <a:pt x="103" y="1"/>
                  </a:lnTo>
                  <a:lnTo>
                    <a:pt x="122" y="2"/>
                  </a:lnTo>
                  <a:lnTo>
                    <a:pt x="141" y="3"/>
                  </a:lnTo>
                  <a:lnTo>
                    <a:pt x="160" y="4"/>
                  </a:lnTo>
                  <a:lnTo>
                    <a:pt x="178" y="6"/>
                  </a:lnTo>
                  <a:lnTo>
                    <a:pt x="198" y="9"/>
                  </a:lnTo>
                  <a:lnTo>
                    <a:pt x="216" y="11"/>
                  </a:lnTo>
                  <a:lnTo>
                    <a:pt x="234" y="14"/>
                  </a:lnTo>
                  <a:lnTo>
                    <a:pt x="252" y="17"/>
                  </a:lnTo>
                  <a:lnTo>
                    <a:pt x="268" y="20"/>
                  </a:lnTo>
                  <a:lnTo>
                    <a:pt x="284" y="25"/>
                  </a:lnTo>
                  <a:lnTo>
                    <a:pt x="278" y="25"/>
                  </a:lnTo>
                  <a:lnTo>
                    <a:pt x="270" y="25"/>
                  </a:lnTo>
                  <a:lnTo>
                    <a:pt x="261" y="26"/>
                  </a:lnTo>
                  <a:lnTo>
                    <a:pt x="252" y="26"/>
                  </a:lnTo>
                  <a:lnTo>
                    <a:pt x="241" y="26"/>
                  </a:lnTo>
                  <a:lnTo>
                    <a:pt x="231" y="25"/>
                  </a:lnTo>
                  <a:lnTo>
                    <a:pt x="222" y="23"/>
                  </a:lnTo>
                  <a:lnTo>
                    <a:pt x="212" y="19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92"/>
            <p:cNvSpPr/>
            <p:nvPr/>
          </p:nvSpPr>
          <p:spPr>
            <a:xfrm flipH="1">
              <a:off x="8371440" y="6090480"/>
              <a:ext cx="38160" cy="7272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9" h="108">
                  <a:moveTo>
                    <a:pt x="41" y="108"/>
                  </a:moveTo>
                  <a:lnTo>
                    <a:pt x="34" y="99"/>
                  </a:lnTo>
                  <a:lnTo>
                    <a:pt x="27" y="90"/>
                  </a:lnTo>
                  <a:lnTo>
                    <a:pt x="22" y="78"/>
                  </a:lnTo>
                  <a:lnTo>
                    <a:pt x="18" y="65"/>
                  </a:lnTo>
                  <a:lnTo>
                    <a:pt x="13" y="52"/>
                  </a:lnTo>
                  <a:lnTo>
                    <a:pt x="10" y="39"/>
                  </a:lnTo>
                  <a:lnTo>
                    <a:pt x="6" y="27"/>
                  </a:lnTo>
                  <a:lnTo>
                    <a:pt x="1" y="15"/>
                  </a:lnTo>
                  <a:lnTo>
                    <a:pt x="0" y="9"/>
                  </a:lnTo>
                  <a:lnTo>
                    <a:pt x="5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2" y="12"/>
                  </a:lnTo>
                  <a:lnTo>
                    <a:pt x="27" y="24"/>
                  </a:lnTo>
                  <a:lnTo>
                    <a:pt x="32" y="37"/>
                  </a:lnTo>
                  <a:lnTo>
                    <a:pt x="36" y="49"/>
                  </a:lnTo>
                  <a:lnTo>
                    <a:pt x="38" y="61"/>
                  </a:lnTo>
                  <a:lnTo>
                    <a:pt x="41" y="74"/>
                  </a:lnTo>
                  <a:lnTo>
                    <a:pt x="45" y="87"/>
                  </a:lnTo>
                  <a:lnTo>
                    <a:pt x="49" y="100"/>
                  </a:lnTo>
                  <a:lnTo>
                    <a:pt x="41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93"/>
            <p:cNvSpPr/>
            <p:nvPr/>
          </p:nvSpPr>
          <p:spPr>
            <a:xfrm flipH="1">
              <a:off x="8373960" y="6391440"/>
              <a:ext cx="119160" cy="2088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52" h="31">
                  <a:moveTo>
                    <a:pt x="0" y="21"/>
                  </a:moveTo>
                  <a:lnTo>
                    <a:pt x="0" y="0"/>
                  </a:lnTo>
                  <a:lnTo>
                    <a:pt x="144" y="2"/>
                  </a:lnTo>
                  <a:lnTo>
                    <a:pt x="152" y="31"/>
                  </a:lnTo>
                  <a:lnTo>
                    <a:pt x="133" y="31"/>
                  </a:lnTo>
                  <a:lnTo>
                    <a:pt x="114" y="31"/>
                  </a:lnTo>
                  <a:lnTo>
                    <a:pt x="94" y="31"/>
                  </a:lnTo>
                  <a:lnTo>
                    <a:pt x="75" y="30"/>
                  </a:lnTo>
                  <a:lnTo>
                    <a:pt x="55" y="30"/>
                  </a:lnTo>
                  <a:lnTo>
                    <a:pt x="37" y="28"/>
                  </a:lnTo>
                  <a:lnTo>
                    <a:pt x="19" y="2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e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94"/>
            <p:cNvSpPr/>
            <p:nvPr/>
          </p:nvSpPr>
          <p:spPr>
            <a:xfrm flipH="1">
              <a:off x="8389080" y="6005520"/>
              <a:ext cx="87840" cy="67320"/>
            </a:xfrm>
            <a:custGeom>
              <a:avLst/>
              <a:gdLst>
                <a:gd name="textAreaLeft" fmla="*/ 360 w 87840"/>
                <a:gd name="textAreaRight" fmla="*/ 88560 w 878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2" h="100">
                  <a:moveTo>
                    <a:pt x="62" y="15"/>
                  </a:moveTo>
                  <a:lnTo>
                    <a:pt x="55" y="14"/>
                  </a:lnTo>
                  <a:lnTo>
                    <a:pt x="47" y="15"/>
                  </a:lnTo>
                  <a:lnTo>
                    <a:pt x="41" y="17"/>
                  </a:lnTo>
                  <a:lnTo>
                    <a:pt x="34" y="21"/>
                  </a:lnTo>
                  <a:lnTo>
                    <a:pt x="29" y="25"/>
                  </a:lnTo>
                  <a:lnTo>
                    <a:pt x="24" y="32"/>
                  </a:lnTo>
                  <a:lnTo>
                    <a:pt x="19" y="37"/>
                  </a:lnTo>
                  <a:lnTo>
                    <a:pt x="15" y="43"/>
                  </a:lnTo>
                  <a:lnTo>
                    <a:pt x="12" y="100"/>
                  </a:lnTo>
                  <a:lnTo>
                    <a:pt x="2" y="85"/>
                  </a:lnTo>
                  <a:lnTo>
                    <a:pt x="0" y="65"/>
                  </a:lnTo>
                  <a:lnTo>
                    <a:pt x="2" y="46"/>
                  </a:lnTo>
                  <a:lnTo>
                    <a:pt x="8" y="29"/>
                  </a:lnTo>
                  <a:lnTo>
                    <a:pt x="14" y="21"/>
                  </a:lnTo>
                  <a:lnTo>
                    <a:pt x="21" y="15"/>
                  </a:lnTo>
                  <a:lnTo>
                    <a:pt x="29" y="8"/>
                  </a:lnTo>
                  <a:lnTo>
                    <a:pt x="38" y="4"/>
                  </a:lnTo>
                  <a:lnTo>
                    <a:pt x="47" y="1"/>
                  </a:lnTo>
                  <a:lnTo>
                    <a:pt x="56" y="0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3" y="11"/>
                  </a:lnTo>
                  <a:lnTo>
                    <a:pt x="89" y="19"/>
                  </a:lnTo>
                  <a:lnTo>
                    <a:pt x="96" y="27"/>
                  </a:lnTo>
                  <a:lnTo>
                    <a:pt x="101" y="34"/>
                  </a:lnTo>
                  <a:lnTo>
                    <a:pt x="107" y="43"/>
                  </a:lnTo>
                  <a:lnTo>
                    <a:pt x="110" y="51"/>
                  </a:lnTo>
                  <a:lnTo>
                    <a:pt x="112" y="60"/>
                  </a:lnTo>
                  <a:lnTo>
                    <a:pt x="112" y="69"/>
                  </a:lnTo>
                  <a:lnTo>
                    <a:pt x="105" y="64"/>
                  </a:lnTo>
                  <a:lnTo>
                    <a:pt x="97" y="58"/>
                  </a:lnTo>
                  <a:lnTo>
                    <a:pt x="92" y="51"/>
                  </a:lnTo>
                  <a:lnTo>
                    <a:pt x="86" y="43"/>
                  </a:lnTo>
                  <a:lnTo>
                    <a:pt x="82" y="35"/>
                  </a:lnTo>
                  <a:lnTo>
                    <a:pt x="77" y="27"/>
                  </a:lnTo>
                  <a:lnTo>
                    <a:pt x="70" y="20"/>
                  </a:lnTo>
                  <a:lnTo>
                    <a:pt x="6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95"/>
            <p:cNvSpPr/>
            <p:nvPr/>
          </p:nvSpPr>
          <p:spPr>
            <a:xfrm flipH="1">
              <a:off x="8394480" y="6639840"/>
              <a:ext cx="157680" cy="15120"/>
            </a:xfrm>
            <a:custGeom>
              <a:avLst/>
              <a:gdLst>
                <a:gd name="textAreaLeft" fmla="*/ 360 w 157680"/>
                <a:gd name="textAreaRight" fmla="*/ 158400 w 157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01" h="23">
                  <a:moveTo>
                    <a:pt x="0" y="20"/>
                  </a:moveTo>
                  <a:lnTo>
                    <a:pt x="11" y="14"/>
                  </a:lnTo>
                  <a:lnTo>
                    <a:pt x="22" y="10"/>
                  </a:lnTo>
                  <a:lnTo>
                    <a:pt x="34" y="7"/>
                  </a:lnTo>
                  <a:lnTo>
                    <a:pt x="47" y="4"/>
                  </a:lnTo>
                  <a:lnTo>
                    <a:pt x="60" y="3"/>
                  </a:lnTo>
                  <a:lnTo>
                    <a:pt x="73" y="1"/>
                  </a:lnTo>
                  <a:lnTo>
                    <a:pt x="86" y="0"/>
                  </a:lnTo>
                  <a:lnTo>
                    <a:pt x="100" y="1"/>
                  </a:lnTo>
                  <a:lnTo>
                    <a:pt x="113" y="3"/>
                  </a:lnTo>
                  <a:lnTo>
                    <a:pt x="127" y="4"/>
                  </a:lnTo>
                  <a:lnTo>
                    <a:pt x="140" y="6"/>
                  </a:lnTo>
                  <a:lnTo>
                    <a:pt x="153" y="9"/>
                  </a:lnTo>
                  <a:lnTo>
                    <a:pt x="166" y="11"/>
                  </a:lnTo>
                  <a:lnTo>
                    <a:pt x="178" y="15"/>
                  </a:lnTo>
                  <a:lnTo>
                    <a:pt x="190" y="19"/>
                  </a:lnTo>
                  <a:lnTo>
                    <a:pt x="201" y="23"/>
                  </a:lnTo>
                  <a:lnTo>
                    <a:pt x="190" y="22"/>
                  </a:lnTo>
                  <a:lnTo>
                    <a:pt x="178" y="20"/>
                  </a:lnTo>
                  <a:lnTo>
                    <a:pt x="166" y="19"/>
                  </a:lnTo>
                  <a:lnTo>
                    <a:pt x="154" y="18"/>
                  </a:lnTo>
                  <a:lnTo>
                    <a:pt x="142" y="18"/>
                  </a:lnTo>
                  <a:lnTo>
                    <a:pt x="129" y="17"/>
                  </a:lnTo>
                  <a:lnTo>
                    <a:pt x="117" y="17"/>
                  </a:lnTo>
                  <a:lnTo>
                    <a:pt x="104" y="17"/>
                  </a:lnTo>
                  <a:lnTo>
                    <a:pt x="92" y="17"/>
                  </a:lnTo>
                  <a:lnTo>
                    <a:pt x="79" y="17"/>
                  </a:lnTo>
                  <a:lnTo>
                    <a:pt x="66" y="17"/>
                  </a:lnTo>
                  <a:lnTo>
                    <a:pt x="53" y="17"/>
                  </a:lnTo>
                  <a:lnTo>
                    <a:pt x="40" y="18"/>
                  </a:lnTo>
                  <a:lnTo>
                    <a:pt x="26" y="18"/>
                  </a:lnTo>
                  <a:lnTo>
                    <a:pt x="13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96"/>
            <p:cNvSpPr/>
            <p:nvPr/>
          </p:nvSpPr>
          <p:spPr>
            <a:xfrm flipH="1">
              <a:off x="8402400" y="6616800"/>
              <a:ext cx="207000" cy="30960"/>
            </a:xfrm>
            <a:custGeom>
              <a:avLst/>
              <a:gdLst>
                <a:gd name="textAreaLeft" fmla="*/ -360 w 207000"/>
                <a:gd name="textAreaRight" fmla="*/ 207000 w 2070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4" h="46">
                  <a:moveTo>
                    <a:pt x="0" y="46"/>
                  </a:moveTo>
                  <a:lnTo>
                    <a:pt x="11" y="38"/>
                  </a:lnTo>
                  <a:lnTo>
                    <a:pt x="22" y="29"/>
                  </a:lnTo>
                  <a:lnTo>
                    <a:pt x="34" y="22"/>
                  </a:lnTo>
                  <a:lnTo>
                    <a:pt x="47" y="17"/>
                  </a:lnTo>
                  <a:lnTo>
                    <a:pt x="61" y="12"/>
                  </a:lnTo>
                  <a:lnTo>
                    <a:pt x="75" y="8"/>
                  </a:lnTo>
                  <a:lnTo>
                    <a:pt x="89" y="5"/>
                  </a:lnTo>
                  <a:lnTo>
                    <a:pt x="104" y="3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9" y="0"/>
                  </a:lnTo>
                  <a:lnTo>
                    <a:pt x="165" y="0"/>
                  </a:lnTo>
                  <a:lnTo>
                    <a:pt x="180" y="0"/>
                  </a:lnTo>
                  <a:lnTo>
                    <a:pt x="195" y="1"/>
                  </a:lnTo>
                  <a:lnTo>
                    <a:pt x="210" y="2"/>
                  </a:lnTo>
                  <a:lnTo>
                    <a:pt x="224" y="3"/>
                  </a:lnTo>
                  <a:lnTo>
                    <a:pt x="264" y="29"/>
                  </a:lnTo>
                  <a:lnTo>
                    <a:pt x="250" y="25"/>
                  </a:lnTo>
                  <a:lnTo>
                    <a:pt x="235" y="21"/>
                  </a:lnTo>
                  <a:lnTo>
                    <a:pt x="219" y="19"/>
                  </a:lnTo>
                  <a:lnTo>
                    <a:pt x="202" y="18"/>
                  </a:lnTo>
                  <a:lnTo>
                    <a:pt x="186" y="18"/>
                  </a:lnTo>
                  <a:lnTo>
                    <a:pt x="169" y="18"/>
                  </a:lnTo>
                  <a:lnTo>
                    <a:pt x="153" y="19"/>
                  </a:lnTo>
                  <a:lnTo>
                    <a:pt x="135" y="21"/>
                  </a:lnTo>
                  <a:lnTo>
                    <a:pt x="118" y="24"/>
                  </a:lnTo>
                  <a:lnTo>
                    <a:pt x="101" y="27"/>
                  </a:lnTo>
                  <a:lnTo>
                    <a:pt x="84" y="30"/>
                  </a:lnTo>
                  <a:lnTo>
                    <a:pt x="66" y="33"/>
                  </a:lnTo>
                  <a:lnTo>
                    <a:pt x="49" y="37"/>
                  </a:lnTo>
                  <a:lnTo>
                    <a:pt x="33" y="40"/>
                  </a:lnTo>
                  <a:lnTo>
                    <a:pt x="17" y="43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97"/>
            <p:cNvSpPr/>
            <p:nvPr/>
          </p:nvSpPr>
          <p:spPr>
            <a:xfrm flipH="1">
              <a:off x="8404560" y="6446520"/>
              <a:ext cx="77760" cy="363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9" h="54">
                  <a:moveTo>
                    <a:pt x="54" y="47"/>
                  </a:moveTo>
                  <a:lnTo>
                    <a:pt x="0" y="54"/>
                  </a:lnTo>
                  <a:lnTo>
                    <a:pt x="6" y="40"/>
                  </a:lnTo>
                  <a:lnTo>
                    <a:pt x="13" y="28"/>
                  </a:lnTo>
                  <a:lnTo>
                    <a:pt x="21" y="15"/>
                  </a:lnTo>
                  <a:lnTo>
                    <a:pt x="22" y="0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2" y="2"/>
                  </a:lnTo>
                  <a:lnTo>
                    <a:pt x="90" y="7"/>
                  </a:lnTo>
                  <a:lnTo>
                    <a:pt x="96" y="15"/>
                  </a:lnTo>
                  <a:lnTo>
                    <a:pt x="99" y="28"/>
                  </a:lnTo>
                  <a:lnTo>
                    <a:pt x="96" y="35"/>
                  </a:lnTo>
                  <a:lnTo>
                    <a:pt x="93" y="39"/>
                  </a:lnTo>
                  <a:lnTo>
                    <a:pt x="88" y="41"/>
                  </a:lnTo>
                  <a:lnTo>
                    <a:pt x="81" y="42"/>
                  </a:lnTo>
                  <a:lnTo>
                    <a:pt x="74" y="43"/>
                  </a:lnTo>
                  <a:lnTo>
                    <a:pt x="67" y="43"/>
                  </a:lnTo>
                  <a:lnTo>
                    <a:pt x="60" y="44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98"/>
            <p:cNvSpPr/>
            <p:nvPr/>
          </p:nvSpPr>
          <p:spPr>
            <a:xfrm flipH="1">
              <a:off x="8408880" y="5662800"/>
              <a:ext cx="165600" cy="159840"/>
            </a:xfrm>
            <a:custGeom>
              <a:avLst/>
              <a:gdLst>
                <a:gd name="textAreaLeft" fmla="*/ 360 w 165600"/>
                <a:gd name="textAreaRight" fmla="*/ 166320 w 1656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11" h="237">
                  <a:moveTo>
                    <a:pt x="211" y="152"/>
                  </a:moveTo>
                  <a:lnTo>
                    <a:pt x="57" y="237"/>
                  </a:lnTo>
                  <a:lnTo>
                    <a:pt x="48" y="233"/>
                  </a:lnTo>
                  <a:lnTo>
                    <a:pt x="40" y="227"/>
                  </a:lnTo>
                  <a:lnTo>
                    <a:pt x="32" y="221"/>
                  </a:lnTo>
                  <a:lnTo>
                    <a:pt x="26" y="214"/>
                  </a:lnTo>
                  <a:lnTo>
                    <a:pt x="19" y="207"/>
                  </a:lnTo>
                  <a:lnTo>
                    <a:pt x="14" y="200"/>
                  </a:lnTo>
                  <a:lnTo>
                    <a:pt x="6" y="191"/>
                  </a:lnTo>
                  <a:lnTo>
                    <a:pt x="0" y="183"/>
                  </a:lnTo>
                  <a:lnTo>
                    <a:pt x="14" y="180"/>
                  </a:lnTo>
                  <a:lnTo>
                    <a:pt x="30" y="178"/>
                  </a:lnTo>
                  <a:lnTo>
                    <a:pt x="45" y="176"/>
                  </a:lnTo>
                  <a:lnTo>
                    <a:pt x="62" y="173"/>
                  </a:lnTo>
                  <a:lnTo>
                    <a:pt x="77" y="171"/>
                  </a:lnTo>
                  <a:lnTo>
                    <a:pt x="94" y="167"/>
                  </a:lnTo>
                  <a:lnTo>
                    <a:pt x="108" y="163"/>
                  </a:lnTo>
                  <a:lnTo>
                    <a:pt x="121" y="158"/>
                  </a:lnTo>
                  <a:lnTo>
                    <a:pt x="115" y="145"/>
                  </a:lnTo>
                  <a:lnTo>
                    <a:pt x="113" y="128"/>
                  </a:lnTo>
                  <a:lnTo>
                    <a:pt x="115" y="112"/>
                  </a:lnTo>
                  <a:lnTo>
                    <a:pt x="121" y="98"/>
                  </a:lnTo>
                  <a:lnTo>
                    <a:pt x="128" y="90"/>
                  </a:lnTo>
                  <a:lnTo>
                    <a:pt x="138" y="84"/>
                  </a:lnTo>
                  <a:lnTo>
                    <a:pt x="144" y="77"/>
                  </a:lnTo>
                  <a:lnTo>
                    <a:pt x="143" y="65"/>
                  </a:lnTo>
                  <a:lnTo>
                    <a:pt x="137" y="58"/>
                  </a:lnTo>
                  <a:lnTo>
                    <a:pt x="130" y="52"/>
                  </a:lnTo>
                  <a:lnTo>
                    <a:pt x="124" y="45"/>
                  </a:lnTo>
                  <a:lnTo>
                    <a:pt x="117" y="40"/>
                  </a:lnTo>
                  <a:lnTo>
                    <a:pt x="112" y="33"/>
                  </a:lnTo>
                  <a:lnTo>
                    <a:pt x="108" y="27"/>
                  </a:lnTo>
                  <a:lnTo>
                    <a:pt x="103" y="19"/>
                  </a:lnTo>
                  <a:lnTo>
                    <a:pt x="100" y="11"/>
                  </a:lnTo>
                  <a:lnTo>
                    <a:pt x="107" y="5"/>
                  </a:lnTo>
                  <a:lnTo>
                    <a:pt x="114" y="2"/>
                  </a:lnTo>
                  <a:lnTo>
                    <a:pt x="123" y="0"/>
                  </a:lnTo>
                  <a:lnTo>
                    <a:pt x="132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3" y="2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2"/>
                  </a:lnTo>
                  <a:lnTo>
                    <a:pt x="196" y="16"/>
                  </a:lnTo>
                  <a:lnTo>
                    <a:pt x="201" y="21"/>
                  </a:lnTo>
                  <a:lnTo>
                    <a:pt x="205" y="27"/>
                  </a:lnTo>
                  <a:lnTo>
                    <a:pt x="208" y="33"/>
                  </a:lnTo>
                  <a:lnTo>
                    <a:pt x="211" y="40"/>
                  </a:lnTo>
                  <a:lnTo>
                    <a:pt x="211" y="55"/>
                  </a:lnTo>
                  <a:lnTo>
                    <a:pt x="210" y="69"/>
                  </a:lnTo>
                  <a:lnTo>
                    <a:pt x="207" y="83"/>
                  </a:lnTo>
                  <a:lnTo>
                    <a:pt x="204" y="97"/>
                  </a:lnTo>
                  <a:lnTo>
                    <a:pt x="201" y="111"/>
                  </a:lnTo>
                  <a:lnTo>
                    <a:pt x="201" y="125"/>
                  </a:lnTo>
                  <a:lnTo>
                    <a:pt x="204" y="139"/>
                  </a:lnTo>
                  <a:lnTo>
                    <a:pt x="211" y="15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99"/>
            <p:cNvSpPr/>
            <p:nvPr/>
          </p:nvSpPr>
          <p:spPr>
            <a:xfrm flipH="1">
              <a:off x="8416800" y="5478840"/>
              <a:ext cx="36720" cy="15840"/>
            </a:xfrm>
            <a:custGeom>
              <a:avLst/>
              <a:gdLst>
                <a:gd name="textAreaLeft" fmla="*/ 360 w 36720"/>
                <a:gd name="textAreaRight" fmla="*/ 3744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7" h="24">
                  <a:moveTo>
                    <a:pt x="3" y="24"/>
                  </a:moveTo>
                  <a:lnTo>
                    <a:pt x="0" y="21"/>
                  </a:lnTo>
                  <a:lnTo>
                    <a:pt x="4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44" y="5"/>
                  </a:lnTo>
                  <a:lnTo>
                    <a:pt x="40" y="10"/>
                  </a:lnTo>
                  <a:lnTo>
                    <a:pt x="36" y="15"/>
                  </a:lnTo>
                  <a:lnTo>
                    <a:pt x="30" y="18"/>
                  </a:lnTo>
                  <a:lnTo>
                    <a:pt x="24" y="20"/>
                  </a:lnTo>
                  <a:lnTo>
                    <a:pt x="16" y="22"/>
                  </a:lnTo>
                  <a:lnTo>
                    <a:pt x="10" y="23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00"/>
            <p:cNvSpPr/>
            <p:nvPr/>
          </p:nvSpPr>
          <p:spPr>
            <a:xfrm flipH="1">
              <a:off x="8416440" y="5499360"/>
              <a:ext cx="25200" cy="154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2" h="23">
                  <a:moveTo>
                    <a:pt x="6" y="23"/>
                  </a:move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11" y="4"/>
                  </a:lnTo>
                  <a:lnTo>
                    <a:pt x="21" y="0"/>
                  </a:lnTo>
                  <a:lnTo>
                    <a:pt x="32" y="1"/>
                  </a:lnTo>
                  <a:lnTo>
                    <a:pt x="29" y="10"/>
                  </a:lnTo>
                  <a:lnTo>
                    <a:pt x="23" y="16"/>
                  </a:lnTo>
                  <a:lnTo>
                    <a:pt x="14" y="20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01"/>
            <p:cNvSpPr/>
            <p:nvPr/>
          </p:nvSpPr>
          <p:spPr>
            <a:xfrm flipH="1">
              <a:off x="8427960" y="5456520"/>
              <a:ext cx="33480" cy="194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3" h="29">
                  <a:moveTo>
                    <a:pt x="4" y="29"/>
                  </a:moveTo>
                  <a:lnTo>
                    <a:pt x="0" y="26"/>
                  </a:lnTo>
                  <a:lnTo>
                    <a:pt x="4" y="21"/>
                  </a:lnTo>
                  <a:lnTo>
                    <a:pt x="9" y="16"/>
                  </a:lnTo>
                  <a:lnTo>
                    <a:pt x="13" y="12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3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41" y="7"/>
                  </a:lnTo>
                  <a:lnTo>
                    <a:pt x="38" y="12"/>
                  </a:lnTo>
                  <a:lnTo>
                    <a:pt x="34" y="16"/>
                  </a:lnTo>
                  <a:lnTo>
                    <a:pt x="28" y="20"/>
                  </a:lnTo>
                  <a:lnTo>
                    <a:pt x="22" y="23"/>
                  </a:lnTo>
                  <a:lnTo>
                    <a:pt x="15" y="25"/>
                  </a:lnTo>
                  <a:lnTo>
                    <a:pt x="10" y="27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2"/>
            <p:cNvSpPr/>
            <p:nvPr/>
          </p:nvSpPr>
          <p:spPr>
            <a:xfrm flipH="1">
              <a:off x="8465400" y="5417280"/>
              <a:ext cx="166320" cy="327600"/>
            </a:xfrm>
            <a:custGeom>
              <a:avLst/>
              <a:gdLst>
                <a:gd name="textAreaLeft" fmla="*/ 360 w 166320"/>
                <a:gd name="textAreaRight" fmla="*/ 167040 w 1663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12" h="486">
                  <a:moveTo>
                    <a:pt x="212" y="336"/>
                  </a:moveTo>
                  <a:lnTo>
                    <a:pt x="198" y="337"/>
                  </a:lnTo>
                  <a:lnTo>
                    <a:pt x="184" y="339"/>
                  </a:lnTo>
                  <a:lnTo>
                    <a:pt x="170" y="341"/>
                  </a:lnTo>
                  <a:lnTo>
                    <a:pt x="156" y="344"/>
                  </a:lnTo>
                  <a:lnTo>
                    <a:pt x="142" y="347"/>
                  </a:lnTo>
                  <a:lnTo>
                    <a:pt x="128" y="347"/>
                  </a:lnTo>
                  <a:lnTo>
                    <a:pt x="114" y="344"/>
                  </a:lnTo>
                  <a:lnTo>
                    <a:pt x="101" y="339"/>
                  </a:lnTo>
                  <a:lnTo>
                    <a:pt x="97" y="342"/>
                  </a:lnTo>
                  <a:lnTo>
                    <a:pt x="95" y="345"/>
                  </a:lnTo>
                  <a:lnTo>
                    <a:pt x="93" y="349"/>
                  </a:lnTo>
                  <a:lnTo>
                    <a:pt x="93" y="354"/>
                  </a:lnTo>
                  <a:lnTo>
                    <a:pt x="102" y="361"/>
                  </a:lnTo>
                  <a:lnTo>
                    <a:pt x="113" y="364"/>
                  </a:lnTo>
                  <a:lnTo>
                    <a:pt x="123" y="365"/>
                  </a:lnTo>
                  <a:lnTo>
                    <a:pt x="135" y="365"/>
                  </a:lnTo>
                  <a:lnTo>
                    <a:pt x="144" y="367"/>
                  </a:lnTo>
                  <a:lnTo>
                    <a:pt x="151" y="371"/>
                  </a:lnTo>
                  <a:lnTo>
                    <a:pt x="154" y="381"/>
                  </a:lnTo>
                  <a:lnTo>
                    <a:pt x="151" y="396"/>
                  </a:lnTo>
                  <a:lnTo>
                    <a:pt x="97" y="401"/>
                  </a:lnTo>
                  <a:lnTo>
                    <a:pt x="97" y="411"/>
                  </a:lnTo>
                  <a:lnTo>
                    <a:pt x="109" y="414"/>
                  </a:lnTo>
                  <a:lnTo>
                    <a:pt x="120" y="414"/>
                  </a:lnTo>
                  <a:lnTo>
                    <a:pt x="130" y="415"/>
                  </a:lnTo>
                  <a:lnTo>
                    <a:pt x="141" y="416"/>
                  </a:lnTo>
                  <a:lnTo>
                    <a:pt x="150" y="418"/>
                  </a:lnTo>
                  <a:lnTo>
                    <a:pt x="160" y="420"/>
                  </a:lnTo>
                  <a:lnTo>
                    <a:pt x="170" y="423"/>
                  </a:lnTo>
                  <a:lnTo>
                    <a:pt x="181" y="429"/>
                  </a:lnTo>
                  <a:lnTo>
                    <a:pt x="158" y="486"/>
                  </a:lnTo>
                  <a:lnTo>
                    <a:pt x="147" y="483"/>
                  </a:lnTo>
                  <a:lnTo>
                    <a:pt x="136" y="481"/>
                  </a:lnTo>
                  <a:lnTo>
                    <a:pt x="126" y="478"/>
                  </a:lnTo>
                  <a:lnTo>
                    <a:pt x="115" y="476"/>
                  </a:lnTo>
                  <a:lnTo>
                    <a:pt x="105" y="472"/>
                  </a:lnTo>
                  <a:lnTo>
                    <a:pt x="96" y="465"/>
                  </a:lnTo>
                  <a:lnTo>
                    <a:pt x="90" y="456"/>
                  </a:lnTo>
                  <a:lnTo>
                    <a:pt x="86" y="444"/>
                  </a:lnTo>
                  <a:lnTo>
                    <a:pt x="74" y="388"/>
                  </a:lnTo>
                  <a:lnTo>
                    <a:pt x="62" y="333"/>
                  </a:lnTo>
                  <a:lnTo>
                    <a:pt x="50" y="279"/>
                  </a:lnTo>
                  <a:lnTo>
                    <a:pt x="39" y="223"/>
                  </a:lnTo>
                  <a:lnTo>
                    <a:pt x="28" y="168"/>
                  </a:lnTo>
                  <a:lnTo>
                    <a:pt x="19" y="113"/>
                  </a:lnTo>
                  <a:lnTo>
                    <a:pt x="9" y="57"/>
                  </a:lnTo>
                  <a:lnTo>
                    <a:pt x="0" y="0"/>
                  </a:lnTo>
                  <a:lnTo>
                    <a:pt x="166" y="95"/>
                  </a:lnTo>
                  <a:lnTo>
                    <a:pt x="174" y="123"/>
                  </a:lnTo>
                  <a:lnTo>
                    <a:pt x="182" y="152"/>
                  </a:lnTo>
                  <a:lnTo>
                    <a:pt x="188" y="182"/>
                  </a:lnTo>
                  <a:lnTo>
                    <a:pt x="194" y="213"/>
                  </a:lnTo>
                  <a:lnTo>
                    <a:pt x="198" y="244"/>
                  </a:lnTo>
                  <a:lnTo>
                    <a:pt x="202" y="274"/>
                  </a:lnTo>
                  <a:lnTo>
                    <a:pt x="207" y="306"/>
                  </a:lnTo>
                  <a:lnTo>
                    <a:pt x="212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03"/>
            <p:cNvSpPr/>
            <p:nvPr/>
          </p:nvSpPr>
          <p:spPr>
            <a:xfrm flipH="1">
              <a:off x="8493840" y="5584680"/>
              <a:ext cx="83880" cy="47160"/>
            </a:xfrm>
            <a:custGeom>
              <a:avLst/>
              <a:gdLst>
                <a:gd name="textAreaLeft" fmla="*/ -360 w 83880"/>
                <a:gd name="textAreaRight" fmla="*/ 83880 w 83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07" h="70">
                  <a:moveTo>
                    <a:pt x="87" y="70"/>
                  </a:moveTo>
                  <a:lnTo>
                    <a:pt x="76" y="70"/>
                  </a:lnTo>
                  <a:lnTo>
                    <a:pt x="66" y="70"/>
                  </a:lnTo>
                  <a:lnTo>
                    <a:pt x="55" y="69"/>
                  </a:lnTo>
                  <a:lnTo>
                    <a:pt x="45" y="67"/>
                  </a:lnTo>
                  <a:lnTo>
                    <a:pt x="34" y="64"/>
                  </a:lnTo>
                  <a:lnTo>
                    <a:pt x="24" y="61"/>
                  </a:lnTo>
                  <a:lnTo>
                    <a:pt x="14" y="56"/>
                  </a:lnTo>
                  <a:lnTo>
                    <a:pt x="5" y="52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0" y="21"/>
                  </a:lnTo>
                  <a:lnTo>
                    <a:pt x="14" y="11"/>
                  </a:lnTo>
                  <a:lnTo>
                    <a:pt x="22" y="6"/>
                  </a:lnTo>
                  <a:lnTo>
                    <a:pt x="29" y="2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5" y="2"/>
                  </a:lnTo>
                  <a:lnTo>
                    <a:pt x="83" y="4"/>
                  </a:lnTo>
                  <a:lnTo>
                    <a:pt x="94" y="9"/>
                  </a:lnTo>
                  <a:lnTo>
                    <a:pt x="102" y="16"/>
                  </a:lnTo>
                  <a:lnTo>
                    <a:pt x="106" y="25"/>
                  </a:lnTo>
                  <a:lnTo>
                    <a:pt x="107" y="35"/>
                  </a:lnTo>
                  <a:lnTo>
                    <a:pt x="106" y="45"/>
                  </a:lnTo>
                  <a:lnTo>
                    <a:pt x="102" y="54"/>
                  </a:lnTo>
                  <a:lnTo>
                    <a:pt x="95" y="63"/>
                  </a:lnTo>
                  <a:lnTo>
                    <a:pt x="8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04"/>
            <p:cNvSpPr/>
            <p:nvPr/>
          </p:nvSpPr>
          <p:spPr>
            <a:xfrm flipH="1">
              <a:off x="8501760" y="5536800"/>
              <a:ext cx="90720" cy="1872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16" h="28">
                  <a:moveTo>
                    <a:pt x="0" y="11"/>
                  </a:moveTo>
                  <a:lnTo>
                    <a:pt x="0" y="0"/>
                  </a:lnTo>
                  <a:lnTo>
                    <a:pt x="116" y="21"/>
                  </a:lnTo>
                  <a:lnTo>
                    <a:pt x="105" y="26"/>
                  </a:lnTo>
                  <a:lnTo>
                    <a:pt x="92" y="28"/>
                  </a:lnTo>
                  <a:lnTo>
                    <a:pt x="77" y="28"/>
                  </a:lnTo>
                  <a:lnTo>
                    <a:pt x="62" y="26"/>
                  </a:lnTo>
                  <a:lnTo>
                    <a:pt x="45" y="23"/>
                  </a:lnTo>
                  <a:lnTo>
                    <a:pt x="29" y="18"/>
                  </a:lnTo>
                  <a:lnTo>
                    <a:pt x="14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05"/>
            <p:cNvSpPr/>
            <p:nvPr/>
          </p:nvSpPr>
          <p:spPr>
            <a:xfrm flipH="1">
              <a:off x="8501040" y="6286320"/>
              <a:ext cx="57960" cy="57240"/>
            </a:xfrm>
            <a:custGeom>
              <a:avLst/>
              <a:gdLst>
                <a:gd name="textAreaLeft" fmla="*/ -360 w 57960"/>
                <a:gd name="textAreaRight" fmla="*/ 57960 w 579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74" h="85">
                  <a:moveTo>
                    <a:pt x="38" y="85"/>
                  </a:moveTo>
                  <a:lnTo>
                    <a:pt x="32" y="83"/>
                  </a:lnTo>
                  <a:lnTo>
                    <a:pt x="27" y="81"/>
                  </a:lnTo>
                  <a:lnTo>
                    <a:pt x="22" y="79"/>
                  </a:lnTo>
                  <a:lnTo>
                    <a:pt x="16" y="78"/>
                  </a:lnTo>
                  <a:lnTo>
                    <a:pt x="12" y="76"/>
                  </a:lnTo>
                  <a:lnTo>
                    <a:pt x="9" y="73"/>
                  </a:lnTo>
                  <a:lnTo>
                    <a:pt x="7" y="69"/>
                  </a:lnTo>
                  <a:lnTo>
                    <a:pt x="5" y="62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3" y="35"/>
                  </a:lnTo>
                  <a:lnTo>
                    <a:pt x="10" y="29"/>
                  </a:lnTo>
                  <a:lnTo>
                    <a:pt x="17" y="22"/>
                  </a:lnTo>
                  <a:lnTo>
                    <a:pt x="24" y="17"/>
                  </a:lnTo>
                  <a:lnTo>
                    <a:pt x="30" y="10"/>
                  </a:lnTo>
                  <a:lnTo>
                    <a:pt x="35" y="3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4"/>
                  </a:lnTo>
                  <a:lnTo>
                    <a:pt x="61" y="8"/>
                  </a:lnTo>
                  <a:lnTo>
                    <a:pt x="65" y="13"/>
                  </a:lnTo>
                  <a:lnTo>
                    <a:pt x="68" y="19"/>
                  </a:lnTo>
                  <a:lnTo>
                    <a:pt x="71" y="25"/>
                  </a:lnTo>
                  <a:lnTo>
                    <a:pt x="74" y="31"/>
                  </a:lnTo>
                  <a:lnTo>
                    <a:pt x="74" y="39"/>
                  </a:lnTo>
                  <a:lnTo>
                    <a:pt x="72" y="48"/>
                  </a:lnTo>
                  <a:lnTo>
                    <a:pt x="69" y="57"/>
                  </a:lnTo>
                  <a:lnTo>
                    <a:pt x="65" y="64"/>
                  </a:lnTo>
                  <a:lnTo>
                    <a:pt x="59" y="71"/>
                  </a:lnTo>
                  <a:lnTo>
                    <a:pt x="53" y="76"/>
                  </a:lnTo>
                  <a:lnTo>
                    <a:pt x="45" y="81"/>
                  </a:lnTo>
                  <a:lnTo>
                    <a:pt x="38" y="8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06"/>
            <p:cNvSpPr/>
            <p:nvPr/>
          </p:nvSpPr>
          <p:spPr>
            <a:xfrm flipH="1">
              <a:off x="8507880" y="5594760"/>
              <a:ext cx="56160" cy="26640"/>
            </a:xfrm>
            <a:custGeom>
              <a:avLst/>
              <a:gdLst>
                <a:gd name="textAreaLeft" fmla="*/ 360 w 56160"/>
                <a:gd name="textAreaRight" fmla="*/ 56880 w 56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2" h="40">
                  <a:moveTo>
                    <a:pt x="61" y="40"/>
                  </a:moveTo>
                  <a:lnTo>
                    <a:pt x="55" y="38"/>
                  </a:lnTo>
                  <a:lnTo>
                    <a:pt x="48" y="37"/>
                  </a:lnTo>
                  <a:lnTo>
                    <a:pt x="41" y="37"/>
                  </a:lnTo>
                  <a:lnTo>
                    <a:pt x="32" y="37"/>
                  </a:lnTo>
                  <a:lnTo>
                    <a:pt x="24" y="36"/>
                  </a:lnTo>
                  <a:lnTo>
                    <a:pt x="16" y="35"/>
                  </a:lnTo>
                  <a:lnTo>
                    <a:pt x="8" y="33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7" y="12"/>
                  </a:lnTo>
                  <a:lnTo>
                    <a:pt x="14" y="6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50" y="4"/>
                  </a:lnTo>
                  <a:lnTo>
                    <a:pt x="56" y="6"/>
                  </a:lnTo>
                  <a:lnTo>
                    <a:pt x="61" y="10"/>
                  </a:lnTo>
                  <a:lnTo>
                    <a:pt x="67" y="14"/>
                  </a:lnTo>
                  <a:lnTo>
                    <a:pt x="72" y="19"/>
                  </a:lnTo>
                  <a:lnTo>
                    <a:pt x="69" y="23"/>
                  </a:lnTo>
                  <a:lnTo>
                    <a:pt x="69" y="30"/>
                  </a:lnTo>
                  <a:lnTo>
                    <a:pt x="67" y="36"/>
                  </a:lnTo>
                  <a:lnTo>
                    <a:pt x="6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07"/>
            <p:cNvSpPr/>
            <p:nvPr/>
          </p:nvSpPr>
          <p:spPr>
            <a:xfrm flipH="1">
              <a:off x="8510760" y="6355080"/>
              <a:ext cx="44640" cy="5292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57" h="79">
                  <a:moveTo>
                    <a:pt x="43" y="79"/>
                  </a:moveTo>
                  <a:lnTo>
                    <a:pt x="31" y="73"/>
                  </a:lnTo>
                  <a:lnTo>
                    <a:pt x="22" y="66"/>
                  </a:lnTo>
                  <a:lnTo>
                    <a:pt x="16" y="57"/>
                  </a:lnTo>
                  <a:lnTo>
                    <a:pt x="11" y="46"/>
                  </a:lnTo>
                  <a:lnTo>
                    <a:pt x="8" y="35"/>
                  </a:lnTo>
                  <a:lnTo>
                    <a:pt x="6" y="23"/>
                  </a:lnTo>
                  <a:lnTo>
                    <a:pt x="4" y="11"/>
                  </a:lnTo>
                  <a:lnTo>
                    <a:pt x="0" y="0"/>
                  </a:lnTo>
                  <a:lnTo>
                    <a:pt x="8" y="3"/>
                  </a:lnTo>
                  <a:lnTo>
                    <a:pt x="18" y="5"/>
                  </a:lnTo>
                  <a:lnTo>
                    <a:pt x="26" y="7"/>
                  </a:lnTo>
                  <a:lnTo>
                    <a:pt x="36" y="9"/>
                  </a:lnTo>
                  <a:lnTo>
                    <a:pt x="44" y="11"/>
                  </a:lnTo>
                  <a:lnTo>
                    <a:pt x="50" y="16"/>
                  </a:lnTo>
                  <a:lnTo>
                    <a:pt x="53" y="24"/>
                  </a:lnTo>
                  <a:lnTo>
                    <a:pt x="54" y="36"/>
                  </a:lnTo>
                  <a:lnTo>
                    <a:pt x="53" y="49"/>
                  </a:lnTo>
                  <a:lnTo>
                    <a:pt x="57" y="62"/>
                  </a:lnTo>
                  <a:lnTo>
                    <a:pt x="56" y="72"/>
                  </a:lnTo>
                  <a:lnTo>
                    <a:pt x="43" y="79"/>
                  </a:lnTo>
                  <a:close/>
                </a:path>
              </a:pathLst>
            </a:custGeom>
            <a:solidFill>
              <a:srgbClr val="4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08"/>
            <p:cNvSpPr/>
            <p:nvPr/>
          </p:nvSpPr>
          <p:spPr>
            <a:xfrm flipH="1">
              <a:off x="8519040" y="5471280"/>
              <a:ext cx="73440" cy="31320"/>
            </a:xfrm>
            <a:custGeom>
              <a:avLst/>
              <a:gdLst>
                <a:gd name="textAreaLeft" fmla="*/ 360 w 73440"/>
                <a:gd name="textAreaRight" fmla="*/ 74160 w 734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4" h="47">
                  <a:moveTo>
                    <a:pt x="94" y="46"/>
                  </a:moveTo>
                  <a:lnTo>
                    <a:pt x="81" y="47"/>
                  </a:lnTo>
                  <a:lnTo>
                    <a:pt x="69" y="45"/>
                  </a:lnTo>
                  <a:lnTo>
                    <a:pt x="57" y="42"/>
                  </a:lnTo>
                  <a:lnTo>
                    <a:pt x="46" y="36"/>
                  </a:lnTo>
                  <a:lnTo>
                    <a:pt x="35" y="30"/>
                  </a:lnTo>
                  <a:lnTo>
                    <a:pt x="24" y="24"/>
                  </a:lnTo>
                  <a:lnTo>
                    <a:pt x="1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16" y="3"/>
                  </a:lnTo>
                  <a:lnTo>
                    <a:pt x="27" y="7"/>
                  </a:lnTo>
                  <a:lnTo>
                    <a:pt x="38" y="14"/>
                  </a:lnTo>
                  <a:lnTo>
                    <a:pt x="49" y="20"/>
                  </a:lnTo>
                  <a:lnTo>
                    <a:pt x="58" y="27"/>
                  </a:lnTo>
                  <a:lnTo>
                    <a:pt x="69" y="32"/>
                  </a:lnTo>
                  <a:lnTo>
                    <a:pt x="81" y="35"/>
                  </a:lnTo>
                  <a:lnTo>
                    <a:pt x="94" y="35"/>
                  </a:lnTo>
                  <a:lnTo>
                    <a:pt x="9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09"/>
            <p:cNvSpPr/>
            <p:nvPr/>
          </p:nvSpPr>
          <p:spPr>
            <a:xfrm flipH="1">
              <a:off x="8518320" y="5500440"/>
              <a:ext cx="75960" cy="2628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97" h="39">
                  <a:moveTo>
                    <a:pt x="97" y="39"/>
                  </a:moveTo>
                  <a:lnTo>
                    <a:pt x="85" y="37"/>
                  </a:lnTo>
                  <a:lnTo>
                    <a:pt x="73" y="35"/>
                  </a:lnTo>
                  <a:lnTo>
                    <a:pt x="60" y="31"/>
                  </a:lnTo>
                  <a:lnTo>
                    <a:pt x="47" y="28"/>
                  </a:lnTo>
                  <a:lnTo>
                    <a:pt x="34" y="24"/>
                  </a:lnTo>
                  <a:lnTo>
                    <a:pt x="22" y="18"/>
                  </a:lnTo>
                  <a:lnTo>
                    <a:pt x="10" y="13"/>
                  </a:lnTo>
                  <a:lnTo>
                    <a:pt x="0" y="8"/>
                  </a:lnTo>
                  <a:lnTo>
                    <a:pt x="7" y="0"/>
                  </a:lnTo>
                  <a:lnTo>
                    <a:pt x="19" y="4"/>
                  </a:lnTo>
                  <a:lnTo>
                    <a:pt x="31" y="9"/>
                  </a:lnTo>
                  <a:lnTo>
                    <a:pt x="44" y="12"/>
                  </a:lnTo>
                  <a:lnTo>
                    <a:pt x="56" y="16"/>
                  </a:lnTo>
                  <a:lnTo>
                    <a:pt x="68" y="19"/>
                  </a:lnTo>
                  <a:lnTo>
                    <a:pt x="79" y="25"/>
                  </a:lnTo>
                  <a:lnTo>
                    <a:pt x="88" y="31"/>
                  </a:lnTo>
                  <a:lnTo>
                    <a:pt x="9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110"/>
            <p:cNvSpPr/>
            <p:nvPr/>
          </p:nvSpPr>
          <p:spPr>
            <a:xfrm flipH="1">
              <a:off x="8524800" y="5747760"/>
              <a:ext cx="33480" cy="1260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" h="19">
                  <a:moveTo>
                    <a:pt x="0" y="0"/>
                  </a:moveTo>
                  <a:lnTo>
                    <a:pt x="43" y="19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111"/>
            <p:cNvSpPr/>
            <p:nvPr/>
          </p:nvSpPr>
          <p:spPr>
            <a:xfrm flipH="1">
              <a:off x="8559000" y="6178320"/>
              <a:ext cx="47160" cy="109800"/>
            </a:xfrm>
            <a:custGeom>
              <a:avLst/>
              <a:gdLst>
                <a:gd name="textAreaLeft" fmla="*/ -360 w 47160"/>
                <a:gd name="textAreaRight" fmla="*/ 47160 w 47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0" h="163">
                  <a:moveTo>
                    <a:pt x="58" y="163"/>
                  </a:moveTo>
                  <a:lnTo>
                    <a:pt x="43" y="148"/>
                  </a:lnTo>
                  <a:lnTo>
                    <a:pt x="31" y="131"/>
                  </a:lnTo>
                  <a:lnTo>
                    <a:pt x="23" y="112"/>
                  </a:lnTo>
                  <a:lnTo>
                    <a:pt x="17" y="92"/>
                  </a:lnTo>
                  <a:lnTo>
                    <a:pt x="13" y="72"/>
                  </a:lnTo>
                  <a:lnTo>
                    <a:pt x="8" y="51"/>
                  </a:lnTo>
                  <a:lnTo>
                    <a:pt x="5" y="31"/>
                  </a:lnTo>
                  <a:lnTo>
                    <a:pt x="0" y="10"/>
                  </a:lnTo>
                  <a:lnTo>
                    <a:pt x="5" y="6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28" y="20"/>
                  </a:lnTo>
                  <a:lnTo>
                    <a:pt x="34" y="40"/>
                  </a:lnTo>
                  <a:lnTo>
                    <a:pt x="42" y="60"/>
                  </a:lnTo>
                  <a:lnTo>
                    <a:pt x="49" y="79"/>
                  </a:lnTo>
                  <a:lnTo>
                    <a:pt x="56" y="100"/>
                  </a:lnTo>
                  <a:lnTo>
                    <a:pt x="59" y="121"/>
                  </a:lnTo>
                  <a:lnTo>
                    <a:pt x="60" y="142"/>
                  </a:lnTo>
                  <a:lnTo>
                    <a:pt x="58" y="163"/>
                  </a:lnTo>
                  <a:close/>
                </a:path>
              </a:pathLst>
            </a:custGeom>
            <a:solidFill>
              <a:srgbClr val="4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12"/>
            <p:cNvSpPr/>
            <p:nvPr/>
          </p:nvSpPr>
          <p:spPr>
            <a:xfrm flipH="1">
              <a:off x="8560800" y="6325920"/>
              <a:ext cx="102600" cy="9432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31" h="140">
                  <a:moveTo>
                    <a:pt x="131" y="110"/>
                  </a:moveTo>
                  <a:lnTo>
                    <a:pt x="122" y="109"/>
                  </a:lnTo>
                  <a:lnTo>
                    <a:pt x="114" y="108"/>
                  </a:lnTo>
                  <a:lnTo>
                    <a:pt x="105" y="107"/>
                  </a:lnTo>
                  <a:lnTo>
                    <a:pt x="95" y="107"/>
                  </a:lnTo>
                  <a:lnTo>
                    <a:pt x="87" y="107"/>
                  </a:lnTo>
                  <a:lnTo>
                    <a:pt x="78" y="108"/>
                  </a:lnTo>
                  <a:lnTo>
                    <a:pt x="69" y="109"/>
                  </a:lnTo>
                  <a:lnTo>
                    <a:pt x="63" y="110"/>
                  </a:lnTo>
                  <a:lnTo>
                    <a:pt x="65" y="119"/>
                  </a:lnTo>
                  <a:lnTo>
                    <a:pt x="70" y="124"/>
                  </a:lnTo>
                  <a:lnTo>
                    <a:pt x="77" y="125"/>
                  </a:lnTo>
                  <a:lnTo>
                    <a:pt x="86" y="126"/>
                  </a:lnTo>
                  <a:lnTo>
                    <a:pt x="94" y="125"/>
                  </a:lnTo>
                  <a:lnTo>
                    <a:pt x="103" y="125"/>
                  </a:lnTo>
                  <a:lnTo>
                    <a:pt x="110" y="127"/>
                  </a:lnTo>
                  <a:lnTo>
                    <a:pt x="117" y="133"/>
                  </a:lnTo>
                  <a:lnTo>
                    <a:pt x="110" y="136"/>
                  </a:lnTo>
                  <a:lnTo>
                    <a:pt x="103" y="139"/>
                  </a:lnTo>
                  <a:lnTo>
                    <a:pt x="95" y="140"/>
                  </a:lnTo>
                  <a:lnTo>
                    <a:pt x="87" y="140"/>
                  </a:lnTo>
                  <a:lnTo>
                    <a:pt x="78" y="140"/>
                  </a:lnTo>
                  <a:lnTo>
                    <a:pt x="69" y="139"/>
                  </a:lnTo>
                  <a:lnTo>
                    <a:pt x="62" y="136"/>
                  </a:lnTo>
                  <a:lnTo>
                    <a:pt x="55" y="133"/>
                  </a:lnTo>
                  <a:lnTo>
                    <a:pt x="41" y="119"/>
                  </a:lnTo>
                  <a:lnTo>
                    <a:pt x="28" y="105"/>
                  </a:lnTo>
                  <a:lnTo>
                    <a:pt x="17" y="88"/>
                  </a:lnTo>
                  <a:lnTo>
                    <a:pt x="9" y="72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1" y="19"/>
                  </a:lnTo>
                  <a:lnTo>
                    <a:pt x="6" y="0"/>
                  </a:lnTo>
                  <a:lnTo>
                    <a:pt x="9" y="6"/>
                  </a:lnTo>
                  <a:lnTo>
                    <a:pt x="12" y="13"/>
                  </a:lnTo>
                  <a:lnTo>
                    <a:pt x="17" y="21"/>
                  </a:lnTo>
                  <a:lnTo>
                    <a:pt x="24" y="29"/>
                  </a:lnTo>
                  <a:lnTo>
                    <a:pt x="32" y="38"/>
                  </a:lnTo>
                  <a:lnTo>
                    <a:pt x="39" y="44"/>
                  </a:lnTo>
                  <a:lnTo>
                    <a:pt x="47" y="51"/>
                  </a:lnTo>
                  <a:lnTo>
                    <a:pt x="55" y="56"/>
                  </a:lnTo>
                  <a:lnTo>
                    <a:pt x="63" y="55"/>
                  </a:lnTo>
                  <a:lnTo>
                    <a:pt x="70" y="56"/>
                  </a:lnTo>
                  <a:lnTo>
                    <a:pt x="78" y="57"/>
                  </a:lnTo>
                  <a:lnTo>
                    <a:pt x="86" y="59"/>
                  </a:lnTo>
                  <a:lnTo>
                    <a:pt x="93" y="60"/>
                  </a:lnTo>
                  <a:lnTo>
                    <a:pt x="100" y="60"/>
                  </a:lnTo>
                  <a:lnTo>
                    <a:pt x="107" y="58"/>
                  </a:lnTo>
                  <a:lnTo>
                    <a:pt x="114" y="53"/>
                  </a:lnTo>
                  <a:lnTo>
                    <a:pt x="116" y="55"/>
                  </a:lnTo>
                  <a:lnTo>
                    <a:pt x="119" y="58"/>
                  </a:lnTo>
                  <a:lnTo>
                    <a:pt x="121" y="62"/>
                  </a:lnTo>
                  <a:lnTo>
                    <a:pt x="121" y="68"/>
                  </a:lnTo>
                  <a:lnTo>
                    <a:pt x="111" y="70"/>
                  </a:lnTo>
                  <a:lnTo>
                    <a:pt x="101" y="70"/>
                  </a:lnTo>
                  <a:lnTo>
                    <a:pt x="90" y="68"/>
                  </a:lnTo>
                  <a:lnTo>
                    <a:pt x="79" y="66"/>
                  </a:lnTo>
                  <a:lnTo>
                    <a:pt x="69" y="64"/>
                  </a:lnTo>
                  <a:lnTo>
                    <a:pt x="61" y="64"/>
                  </a:lnTo>
                  <a:lnTo>
                    <a:pt x="53" y="67"/>
                  </a:lnTo>
                  <a:lnTo>
                    <a:pt x="49" y="74"/>
                  </a:lnTo>
                  <a:lnTo>
                    <a:pt x="59" y="81"/>
                  </a:lnTo>
                  <a:lnTo>
                    <a:pt x="70" y="84"/>
                  </a:lnTo>
                  <a:lnTo>
                    <a:pt x="83" y="86"/>
                  </a:lnTo>
                  <a:lnTo>
                    <a:pt x="96" y="86"/>
                  </a:lnTo>
                  <a:lnTo>
                    <a:pt x="109" y="88"/>
                  </a:lnTo>
                  <a:lnTo>
                    <a:pt x="119" y="92"/>
                  </a:lnTo>
                  <a:lnTo>
                    <a:pt x="127" y="98"/>
                  </a:lnTo>
                  <a:lnTo>
                    <a:pt x="131" y="11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13"/>
            <p:cNvSpPr/>
            <p:nvPr/>
          </p:nvSpPr>
          <p:spPr>
            <a:xfrm flipH="1">
              <a:off x="8569080" y="6444000"/>
              <a:ext cx="306000" cy="20772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390" h="308">
                  <a:moveTo>
                    <a:pt x="288" y="308"/>
                  </a:moveTo>
                  <a:lnTo>
                    <a:pt x="281" y="290"/>
                  </a:lnTo>
                  <a:lnTo>
                    <a:pt x="274" y="273"/>
                  </a:lnTo>
                  <a:lnTo>
                    <a:pt x="266" y="256"/>
                  </a:lnTo>
                  <a:lnTo>
                    <a:pt x="256" y="240"/>
                  </a:lnTo>
                  <a:lnTo>
                    <a:pt x="245" y="224"/>
                  </a:lnTo>
                  <a:lnTo>
                    <a:pt x="232" y="210"/>
                  </a:lnTo>
                  <a:lnTo>
                    <a:pt x="218" y="199"/>
                  </a:lnTo>
                  <a:lnTo>
                    <a:pt x="202" y="188"/>
                  </a:lnTo>
                  <a:lnTo>
                    <a:pt x="190" y="183"/>
                  </a:lnTo>
                  <a:lnTo>
                    <a:pt x="178" y="179"/>
                  </a:lnTo>
                  <a:lnTo>
                    <a:pt x="167" y="175"/>
                  </a:lnTo>
                  <a:lnTo>
                    <a:pt x="154" y="172"/>
                  </a:lnTo>
                  <a:lnTo>
                    <a:pt x="142" y="167"/>
                  </a:lnTo>
                  <a:lnTo>
                    <a:pt x="129" y="164"/>
                  </a:lnTo>
                  <a:lnTo>
                    <a:pt x="116" y="161"/>
                  </a:lnTo>
                  <a:lnTo>
                    <a:pt x="103" y="159"/>
                  </a:lnTo>
                  <a:lnTo>
                    <a:pt x="90" y="158"/>
                  </a:lnTo>
                  <a:lnTo>
                    <a:pt x="77" y="156"/>
                  </a:lnTo>
                  <a:lnTo>
                    <a:pt x="64" y="155"/>
                  </a:lnTo>
                  <a:lnTo>
                    <a:pt x="51" y="156"/>
                  </a:lnTo>
                  <a:lnTo>
                    <a:pt x="38" y="158"/>
                  </a:lnTo>
                  <a:lnTo>
                    <a:pt x="25" y="161"/>
                  </a:lnTo>
                  <a:lnTo>
                    <a:pt x="13" y="164"/>
                  </a:lnTo>
                  <a:lnTo>
                    <a:pt x="0" y="169"/>
                  </a:lnTo>
                  <a:lnTo>
                    <a:pt x="141" y="12"/>
                  </a:lnTo>
                  <a:lnTo>
                    <a:pt x="151" y="8"/>
                  </a:lnTo>
                  <a:lnTo>
                    <a:pt x="163" y="6"/>
                  </a:lnTo>
                  <a:lnTo>
                    <a:pt x="175" y="4"/>
                  </a:lnTo>
                  <a:lnTo>
                    <a:pt x="188" y="2"/>
                  </a:lnTo>
                  <a:lnTo>
                    <a:pt x="201" y="1"/>
                  </a:lnTo>
                  <a:lnTo>
                    <a:pt x="214" y="0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2" y="1"/>
                  </a:lnTo>
                  <a:lnTo>
                    <a:pt x="265" y="2"/>
                  </a:lnTo>
                  <a:lnTo>
                    <a:pt x="277" y="4"/>
                  </a:lnTo>
                  <a:lnTo>
                    <a:pt x="290" y="7"/>
                  </a:lnTo>
                  <a:lnTo>
                    <a:pt x="301" y="12"/>
                  </a:lnTo>
                  <a:lnTo>
                    <a:pt x="311" y="17"/>
                  </a:lnTo>
                  <a:lnTo>
                    <a:pt x="322" y="22"/>
                  </a:lnTo>
                  <a:lnTo>
                    <a:pt x="332" y="30"/>
                  </a:lnTo>
                  <a:lnTo>
                    <a:pt x="342" y="38"/>
                  </a:lnTo>
                  <a:lnTo>
                    <a:pt x="351" y="46"/>
                  </a:lnTo>
                  <a:lnTo>
                    <a:pt x="360" y="55"/>
                  </a:lnTo>
                  <a:lnTo>
                    <a:pt x="367" y="65"/>
                  </a:lnTo>
                  <a:lnTo>
                    <a:pt x="375" y="75"/>
                  </a:lnTo>
                  <a:lnTo>
                    <a:pt x="380" y="86"/>
                  </a:lnTo>
                  <a:lnTo>
                    <a:pt x="386" y="97"/>
                  </a:lnTo>
                  <a:lnTo>
                    <a:pt x="390" y="109"/>
                  </a:lnTo>
                  <a:lnTo>
                    <a:pt x="378" y="134"/>
                  </a:lnTo>
                  <a:lnTo>
                    <a:pt x="365" y="159"/>
                  </a:lnTo>
                  <a:lnTo>
                    <a:pt x="352" y="183"/>
                  </a:lnTo>
                  <a:lnTo>
                    <a:pt x="339" y="208"/>
                  </a:lnTo>
                  <a:lnTo>
                    <a:pt x="326" y="233"/>
                  </a:lnTo>
                  <a:lnTo>
                    <a:pt x="313" y="258"/>
                  </a:lnTo>
                  <a:lnTo>
                    <a:pt x="301" y="283"/>
                  </a:lnTo>
                  <a:lnTo>
                    <a:pt x="288" y="3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14"/>
            <p:cNvSpPr/>
            <p:nvPr/>
          </p:nvSpPr>
          <p:spPr>
            <a:xfrm flipH="1">
              <a:off x="8571240" y="6279480"/>
              <a:ext cx="80640" cy="7128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03" h="106">
                  <a:moveTo>
                    <a:pt x="73" y="106"/>
                  </a:moveTo>
                  <a:lnTo>
                    <a:pt x="66" y="104"/>
                  </a:lnTo>
                  <a:lnTo>
                    <a:pt x="61" y="103"/>
                  </a:lnTo>
                  <a:lnTo>
                    <a:pt x="54" y="102"/>
                  </a:lnTo>
                  <a:lnTo>
                    <a:pt x="48" y="100"/>
                  </a:lnTo>
                  <a:lnTo>
                    <a:pt x="41" y="98"/>
                  </a:lnTo>
                  <a:lnTo>
                    <a:pt x="36" y="96"/>
                  </a:lnTo>
                  <a:lnTo>
                    <a:pt x="31" y="93"/>
                  </a:lnTo>
                  <a:lnTo>
                    <a:pt x="26" y="87"/>
                  </a:lnTo>
                  <a:lnTo>
                    <a:pt x="14" y="71"/>
                  </a:lnTo>
                  <a:lnTo>
                    <a:pt x="7" y="52"/>
                  </a:lnTo>
                  <a:lnTo>
                    <a:pt x="2" y="32"/>
                  </a:lnTo>
                  <a:lnTo>
                    <a:pt x="0" y="15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3" y="3"/>
                  </a:lnTo>
                  <a:lnTo>
                    <a:pt x="72" y="7"/>
                  </a:lnTo>
                  <a:lnTo>
                    <a:pt x="78" y="14"/>
                  </a:lnTo>
                  <a:lnTo>
                    <a:pt x="85" y="20"/>
                  </a:lnTo>
                  <a:lnTo>
                    <a:pt x="90" y="28"/>
                  </a:lnTo>
                  <a:lnTo>
                    <a:pt x="94" y="35"/>
                  </a:lnTo>
                  <a:lnTo>
                    <a:pt x="99" y="43"/>
                  </a:lnTo>
                  <a:lnTo>
                    <a:pt x="102" y="52"/>
                  </a:lnTo>
                  <a:lnTo>
                    <a:pt x="103" y="60"/>
                  </a:lnTo>
                  <a:lnTo>
                    <a:pt x="103" y="69"/>
                  </a:lnTo>
                  <a:lnTo>
                    <a:pt x="101" y="77"/>
                  </a:lnTo>
                  <a:lnTo>
                    <a:pt x="98" y="85"/>
                  </a:lnTo>
                  <a:lnTo>
                    <a:pt x="93" y="91"/>
                  </a:lnTo>
                  <a:lnTo>
                    <a:pt x="88" y="98"/>
                  </a:lnTo>
                  <a:lnTo>
                    <a:pt x="80" y="102"/>
                  </a:lnTo>
                  <a:lnTo>
                    <a:pt x="73" y="10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15"/>
            <p:cNvSpPr/>
            <p:nvPr/>
          </p:nvSpPr>
          <p:spPr>
            <a:xfrm flipH="1">
              <a:off x="8574480" y="5427360"/>
              <a:ext cx="79200" cy="310320"/>
            </a:xfrm>
            <a:custGeom>
              <a:avLst/>
              <a:gdLst>
                <a:gd name="textAreaLeft" fmla="*/ 360 w 79200"/>
                <a:gd name="textAreaRight" fmla="*/ 79920 w 7920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101" h="460">
                  <a:moveTo>
                    <a:pt x="96" y="460"/>
                  </a:moveTo>
                  <a:lnTo>
                    <a:pt x="81" y="404"/>
                  </a:lnTo>
                  <a:lnTo>
                    <a:pt x="67" y="347"/>
                  </a:lnTo>
                  <a:lnTo>
                    <a:pt x="52" y="291"/>
                  </a:lnTo>
                  <a:lnTo>
                    <a:pt x="38" y="234"/>
                  </a:lnTo>
                  <a:lnTo>
                    <a:pt x="25" y="177"/>
                  </a:lnTo>
                  <a:lnTo>
                    <a:pt x="14" y="119"/>
                  </a:lnTo>
                  <a:lnTo>
                    <a:pt x="6" y="60"/>
                  </a:lnTo>
                  <a:lnTo>
                    <a:pt x="0" y="0"/>
                  </a:lnTo>
                  <a:lnTo>
                    <a:pt x="13" y="3"/>
                  </a:lnTo>
                  <a:lnTo>
                    <a:pt x="24" y="59"/>
                  </a:lnTo>
                  <a:lnTo>
                    <a:pt x="33" y="116"/>
                  </a:lnTo>
                  <a:lnTo>
                    <a:pt x="41" y="173"/>
                  </a:lnTo>
                  <a:lnTo>
                    <a:pt x="51" y="231"/>
                  </a:lnTo>
                  <a:lnTo>
                    <a:pt x="61" y="288"/>
                  </a:lnTo>
                  <a:lnTo>
                    <a:pt x="71" y="346"/>
                  </a:lnTo>
                  <a:lnTo>
                    <a:pt x="85" y="403"/>
                  </a:lnTo>
                  <a:lnTo>
                    <a:pt x="101" y="458"/>
                  </a:lnTo>
                  <a:lnTo>
                    <a:pt x="96" y="46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16"/>
            <p:cNvSpPr/>
            <p:nvPr/>
          </p:nvSpPr>
          <p:spPr>
            <a:xfrm flipH="1">
              <a:off x="8603640" y="5619600"/>
              <a:ext cx="28080" cy="109080"/>
            </a:xfrm>
            <a:custGeom>
              <a:avLst/>
              <a:gdLst>
                <a:gd name="textAreaLeft" fmla="*/ 360 w 28080"/>
                <a:gd name="textAreaRight" fmla="*/ 28800 w 280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6" h="162">
                  <a:moveTo>
                    <a:pt x="0" y="0"/>
                  </a:moveTo>
                  <a:lnTo>
                    <a:pt x="36" y="150"/>
                  </a:lnTo>
                  <a:lnTo>
                    <a:pt x="36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17"/>
            <p:cNvSpPr/>
            <p:nvPr/>
          </p:nvSpPr>
          <p:spPr>
            <a:xfrm flipH="1">
              <a:off x="8606880" y="6226920"/>
              <a:ext cx="98640" cy="148680"/>
            </a:xfrm>
            <a:custGeom>
              <a:avLst/>
              <a:gdLst>
                <a:gd name="textAreaLeft" fmla="*/ 360 w 98640"/>
                <a:gd name="textAreaRight" fmla="*/ 99360 w 986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26" h="221">
                  <a:moveTo>
                    <a:pt x="72" y="57"/>
                  </a:moveTo>
                  <a:lnTo>
                    <a:pt x="58" y="71"/>
                  </a:lnTo>
                  <a:lnTo>
                    <a:pt x="46" y="88"/>
                  </a:lnTo>
                  <a:lnTo>
                    <a:pt x="37" y="107"/>
                  </a:lnTo>
                  <a:lnTo>
                    <a:pt x="32" y="127"/>
                  </a:lnTo>
                  <a:lnTo>
                    <a:pt x="29" y="148"/>
                  </a:lnTo>
                  <a:lnTo>
                    <a:pt x="29" y="169"/>
                  </a:lnTo>
                  <a:lnTo>
                    <a:pt x="32" y="190"/>
                  </a:lnTo>
                  <a:lnTo>
                    <a:pt x="36" y="211"/>
                  </a:lnTo>
                  <a:lnTo>
                    <a:pt x="36" y="221"/>
                  </a:lnTo>
                  <a:lnTo>
                    <a:pt x="31" y="213"/>
                  </a:lnTo>
                  <a:lnTo>
                    <a:pt x="25" y="204"/>
                  </a:lnTo>
                  <a:lnTo>
                    <a:pt x="19" y="197"/>
                  </a:lnTo>
                  <a:lnTo>
                    <a:pt x="12" y="188"/>
                  </a:lnTo>
                  <a:lnTo>
                    <a:pt x="7" y="179"/>
                  </a:lnTo>
                  <a:lnTo>
                    <a:pt x="2" y="171"/>
                  </a:lnTo>
                  <a:lnTo>
                    <a:pt x="0" y="161"/>
                  </a:lnTo>
                  <a:lnTo>
                    <a:pt x="0" y="150"/>
                  </a:lnTo>
                  <a:lnTo>
                    <a:pt x="0" y="136"/>
                  </a:lnTo>
                  <a:lnTo>
                    <a:pt x="2" y="123"/>
                  </a:lnTo>
                  <a:lnTo>
                    <a:pt x="5" y="111"/>
                  </a:lnTo>
                  <a:lnTo>
                    <a:pt x="9" y="100"/>
                  </a:lnTo>
                  <a:lnTo>
                    <a:pt x="14" y="90"/>
                  </a:lnTo>
                  <a:lnTo>
                    <a:pt x="21" y="79"/>
                  </a:lnTo>
                  <a:lnTo>
                    <a:pt x="28" y="69"/>
                  </a:lnTo>
                  <a:lnTo>
                    <a:pt x="36" y="60"/>
                  </a:lnTo>
                  <a:lnTo>
                    <a:pt x="43" y="55"/>
                  </a:lnTo>
                  <a:lnTo>
                    <a:pt x="51" y="50"/>
                  </a:lnTo>
                  <a:lnTo>
                    <a:pt x="60" y="44"/>
                  </a:lnTo>
                  <a:lnTo>
                    <a:pt x="68" y="40"/>
                  </a:lnTo>
                  <a:lnTo>
                    <a:pt x="78" y="36"/>
                  </a:lnTo>
                  <a:lnTo>
                    <a:pt x="88" y="33"/>
                  </a:lnTo>
                  <a:lnTo>
                    <a:pt x="97" y="31"/>
                  </a:lnTo>
                  <a:lnTo>
                    <a:pt x="108" y="31"/>
                  </a:lnTo>
                  <a:lnTo>
                    <a:pt x="112" y="28"/>
                  </a:lnTo>
                  <a:lnTo>
                    <a:pt x="115" y="26"/>
                  </a:lnTo>
                  <a:lnTo>
                    <a:pt x="116" y="23"/>
                  </a:lnTo>
                  <a:lnTo>
                    <a:pt x="116" y="18"/>
                  </a:lnTo>
                  <a:lnTo>
                    <a:pt x="108" y="11"/>
                  </a:lnTo>
                  <a:lnTo>
                    <a:pt x="110" y="9"/>
                  </a:lnTo>
                  <a:lnTo>
                    <a:pt x="113" y="5"/>
                  </a:lnTo>
                  <a:lnTo>
                    <a:pt x="113" y="2"/>
                  </a:lnTo>
                  <a:lnTo>
                    <a:pt x="113" y="0"/>
                  </a:lnTo>
                  <a:lnTo>
                    <a:pt x="118" y="9"/>
                  </a:lnTo>
                  <a:lnTo>
                    <a:pt x="121" y="20"/>
                  </a:lnTo>
                  <a:lnTo>
                    <a:pt x="123" y="33"/>
                  </a:lnTo>
                  <a:lnTo>
                    <a:pt x="126" y="46"/>
                  </a:lnTo>
                  <a:lnTo>
                    <a:pt x="72" y="57"/>
                  </a:lnTo>
                  <a:close/>
                </a:path>
              </a:pathLst>
            </a:custGeom>
            <a:solidFill>
              <a:srgbClr val="7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18"/>
            <p:cNvSpPr/>
            <p:nvPr/>
          </p:nvSpPr>
          <p:spPr>
            <a:xfrm flipH="1">
              <a:off x="8614440" y="5713200"/>
              <a:ext cx="10800" cy="313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47">
                  <a:moveTo>
                    <a:pt x="14" y="47"/>
                  </a:moveTo>
                  <a:lnTo>
                    <a:pt x="7" y="37"/>
                  </a:lnTo>
                  <a:lnTo>
                    <a:pt x="4" y="25"/>
                  </a:lnTo>
                  <a:lnTo>
                    <a:pt x="2" y="13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3"/>
                  </a:lnTo>
                  <a:lnTo>
                    <a:pt x="12" y="34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19"/>
            <p:cNvSpPr/>
            <p:nvPr/>
          </p:nvSpPr>
          <p:spPr>
            <a:xfrm flipH="1">
              <a:off x="8634600" y="5432760"/>
              <a:ext cx="95760" cy="320040"/>
            </a:xfrm>
            <a:custGeom>
              <a:avLst/>
              <a:gdLst>
                <a:gd name="textAreaLeft" fmla="*/ 360 w 95760"/>
                <a:gd name="textAreaRight" fmla="*/ 96480 w 9576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122" h="475">
                  <a:moveTo>
                    <a:pt x="122" y="475"/>
                  </a:moveTo>
                  <a:lnTo>
                    <a:pt x="104" y="416"/>
                  </a:lnTo>
                  <a:lnTo>
                    <a:pt x="86" y="358"/>
                  </a:lnTo>
                  <a:lnTo>
                    <a:pt x="69" y="300"/>
                  </a:lnTo>
                  <a:lnTo>
                    <a:pt x="53" y="240"/>
                  </a:lnTo>
                  <a:lnTo>
                    <a:pt x="37" y="181"/>
                  </a:lnTo>
                  <a:lnTo>
                    <a:pt x="23" y="122"/>
                  </a:lnTo>
                  <a:lnTo>
                    <a:pt x="11" y="61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4" y="61"/>
                  </a:lnTo>
                  <a:lnTo>
                    <a:pt x="51" y="119"/>
                  </a:lnTo>
                  <a:lnTo>
                    <a:pt x="66" y="180"/>
                  </a:lnTo>
                  <a:lnTo>
                    <a:pt x="80" y="240"/>
                  </a:lnTo>
                  <a:lnTo>
                    <a:pt x="93" y="301"/>
                  </a:lnTo>
                  <a:lnTo>
                    <a:pt x="105" y="360"/>
                  </a:lnTo>
                  <a:lnTo>
                    <a:pt x="114" y="419"/>
                  </a:lnTo>
                  <a:lnTo>
                    <a:pt x="122" y="4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20"/>
            <p:cNvSpPr/>
            <p:nvPr/>
          </p:nvSpPr>
          <p:spPr>
            <a:xfrm flipH="1">
              <a:off x="8642880" y="5554080"/>
              <a:ext cx="2880" cy="20880"/>
            </a:xfrm>
            <a:custGeom>
              <a:avLst/>
              <a:gdLst>
                <a:gd name="textAreaLeft" fmla="*/ 360 w 2880"/>
                <a:gd name="textAreaRight" fmla="*/ 3600 w 2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31">
                  <a:moveTo>
                    <a:pt x="3" y="31"/>
                  </a:moveTo>
                  <a:lnTo>
                    <a:pt x="1" y="24"/>
                  </a:lnTo>
                  <a:lnTo>
                    <a:pt x="0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5"/>
                  </a:lnTo>
                  <a:lnTo>
                    <a:pt x="4" y="23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21"/>
            <p:cNvSpPr/>
            <p:nvPr/>
          </p:nvSpPr>
          <p:spPr>
            <a:xfrm flipH="1">
              <a:off x="8651880" y="5432760"/>
              <a:ext cx="21960" cy="105840"/>
            </a:xfrm>
            <a:custGeom>
              <a:avLst/>
              <a:gdLst>
                <a:gd name="textAreaLeft" fmla="*/ -360 w 21960"/>
                <a:gd name="textAreaRight" fmla="*/ 21960 w 21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8" h="157">
                  <a:moveTo>
                    <a:pt x="28" y="157"/>
                  </a:moveTo>
                  <a:lnTo>
                    <a:pt x="21" y="117"/>
                  </a:lnTo>
                  <a:lnTo>
                    <a:pt x="13" y="79"/>
                  </a:lnTo>
                  <a:lnTo>
                    <a:pt x="6" y="41"/>
                  </a:lnTo>
                  <a:lnTo>
                    <a:pt x="0" y="0"/>
                  </a:lnTo>
                  <a:lnTo>
                    <a:pt x="15" y="35"/>
                  </a:lnTo>
                  <a:lnTo>
                    <a:pt x="23" y="75"/>
                  </a:lnTo>
                  <a:lnTo>
                    <a:pt x="26" y="116"/>
                  </a:lnTo>
                  <a:lnTo>
                    <a:pt x="28" y="15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22"/>
            <p:cNvSpPr/>
            <p:nvPr/>
          </p:nvSpPr>
          <p:spPr>
            <a:xfrm flipH="1">
              <a:off x="8651160" y="5595120"/>
              <a:ext cx="360" cy="864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3">
                  <a:moveTo>
                    <a:pt x="0" y="0"/>
                  </a:move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123"/>
            <p:cNvSpPr/>
            <p:nvPr/>
          </p:nvSpPr>
          <p:spPr>
            <a:xfrm flipH="1">
              <a:off x="8656920" y="5419800"/>
              <a:ext cx="44640" cy="15840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57" h="235">
                  <a:moveTo>
                    <a:pt x="57" y="235"/>
                  </a:moveTo>
                  <a:lnTo>
                    <a:pt x="49" y="205"/>
                  </a:lnTo>
                  <a:lnTo>
                    <a:pt x="42" y="176"/>
                  </a:lnTo>
                  <a:lnTo>
                    <a:pt x="34" y="147"/>
                  </a:lnTo>
                  <a:lnTo>
                    <a:pt x="27" y="118"/>
                  </a:lnTo>
                  <a:lnTo>
                    <a:pt x="19" y="89"/>
                  </a:lnTo>
                  <a:lnTo>
                    <a:pt x="13" y="60"/>
                  </a:lnTo>
                  <a:lnTo>
                    <a:pt x="6" y="29"/>
                  </a:lnTo>
                  <a:lnTo>
                    <a:pt x="0" y="0"/>
                  </a:lnTo>
                  <a:lnTo>
                    <a:pt x="8" y="6"/>
                  </a:lnTo>
                  <a:lnTo>
                    <a:pt x="15" y="14"/>
                  </a:lnTo>
                  <a:lnTo>
                    <a:pt x="18" y="25"/>
                  </a:lnTo>
                  <a:lnTo>
                    <a:pt x="20" y="37"/>
                  </a:lnTo>
                  <a:lnTo>
                    <a:pt x="23" y="62"/>
                  </a:lnTo>
                  <a:lnTo>
                    <a:pt x="28" y="87"/>
                  </a:lnTo>
                  <a:lnTo>
                    <a:pt x="33" y="110"/>
                  </a:lnTo>
                  <a:lnTo>
                    <a:pt x="38" y="135"/>
                  </a:lnTo>
                  <a:lnTo>
                    <a:pt x="44" y="159"/>
                  </a:lnTo>
                  <a:lnTo>
                    <a:pt x="49" y="184"/>
                  </a:lnTo>
                  <a:lnTo>
                    <a:pt x="54" y="209"/>
                  </a:lnTo>
                  <a:lnTo>
                    <a:pt x="57" y="2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124"/>
            <p:cNvSpPr/>
            <p:nvPr/>
          </p:nvSpPr>
          <p:spPr>
            <a:xfrm flipH="1">
              <a:off x="8672040" y="6595200"/>
              <a:ext cx="203040" cy="7200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9" h="107">
                  <a:moveTo>
                    <a:pt x="259" y="107"/>
                  </a:moveTo>
                  <a:lnTo>
                    <a:pt x="247" y="96"/>
                  </a:lnTo>
                  <a:lnTo>
                    <a:pt x="232" y="84"/>
                  </a:lnTo>
                  <a:lnTo>
                    <a:pt x="218" y="73"/>
                  </a:lnTo>
                  <a:lnTo>
                    <a:pt x="203" y="63"/>
                  </a:lnTo>
                  <a:lnTo>
                    <a:pt x="188" y="53"/>
                  </a:lnTo>
                  <a:lnTo>
                    <a:pt x="173" y="45"/>
                  </a:lnTo>
                  <a:lnTo>
                    <a:pt x="157" y="36"/>
                  </a:lnTo>
                  <a:lnTo>
                    <a:pt x="141" y="29"/>
                  </a:lnTo>
                  <a:lnTo>
                    <a:pt x="123" y="23"/>
                  </a:lnTo>
                  <a:lnTo>
                    <a:pt x="107" y="18"/>
                  </a:lnTo>
                  <a:lnTo>
                    <a:pt x="90" y="13"/>
                  </a:lnTo>
                  <a:lnTo>
                    <a:pt x="72" y="10"/>
                  </a:lnTo>
                  <a:lnTo>
                    <a:pt x="54" y="9"/>
                  </a:lnTo>
                  <a:lnTo>
                    <a:pt x="37" y="8"/>
                  </a:lnTo>
                  <a:lnTo>
                    <a:pt x="19" y="9"/>
                  </a:lnTo>
                  <a:lnTo>
                    <a:pt x="0" y="11"/>
                  </a:lnTo>
                  <a:lnTo>
                    <a:pt x="12" y="7"/>
                  </a:lnTo>
                  <a:lnTo>
                    <a:pt x="24" y="5"/>
                  </a:lnTo>
                  <a:lnTo>
                    <a:pt x="36" y="3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7" y="2"/>
                  </a:lnTo>
                  <a:lnTo>
                    <a:pt x="110" y="3"/>
                  </a:lnTo>
                  <a:lnTo>
                    <a:pt x="122" y="5"/>
                  </a:lnTo>
                  <a:lnTo>
                    <a:pt x="134" y="8"/>
                  </a:lnTo>
                  <a:lnTo>
                    <a:pt x="146" y="10"/>
                  </a:lnTo>
                  <a:lnTo>
                    <a:pt x="158" y="13"/>
                  </a:lnTo>
                  <a:lnTo>
                    <a:pt x="170" y="17"/>
                  </a:lnTo>
                  <a:lnTo>
                    <a:pt x="181" y="21"/>
                  </a:lnTo>
                  <a:lnTo>
                    <a:pt x="191" y="24"/>
                  </a:lnTo>
                  <a:lnTo>
                    <a:pt x="202" y="34"/>
                  </a:lnTo>
                  <a:lnTo>
                    <a:pt x="213" y="44"/>
                  </a:lnTo>
                  <a:lnTo>
                    <a:pt x="224" y="53"/>
                  </a:lnTo>
                  <a:lnTo>
                    <a:pt x="232" y="63"/>
                  </a:lnTo>
                  <a:lnTo>
                    <a:pt x="241" y="74"/>
                  </a:lnTo>
                  <a:lnTo>
                    <a:pt x="249" y="85"/>
                  </a:lnTo>
                  <a:lnTo>
                    <a:pt x="255" y="96"/>
                  </a:lnTo>
                  <a:lnTo>
                    <a:pt x="259" y="107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25"/>
            <p:cNvSpPr/>
            <p:nvPr/>
          </p:nvSpPr>
          <p:spPr>
            <a:xfrm flipH="1">
              <a:off x="8679600" y="6561360"/>
              <a:ext cx="191520" cy="6732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44" h="100">
                  <a:moveTo>
                    <a:pt x="244" y="100"/>
                  </a:moveTo>
                  <a:lnTo>
                    <a:pt x="232" y="88"/>
                  </a:lnTo>
                  <a:lnTo>
                    <a:pt x="220" y="76"/>
                  </a:lnTo>
                  <a:lnTo>
                    <a:pt x="207" y="67"/>
                  </a:lnTo>
                  <a:lnTo>
                    <a:pt x="193" y="58"/>
                  </a:lnTo>
                  <a:lnTo>
                    <a:pt x="179" y="50"/>
                  </a:lnTo>
                  <a:lnTo>
                    <a:pt x="164" y="44"/>
                  </a:lnTo>
                  <a:lnTo>
                    <a:pt x="149" y="39"/>
                  </a:lnTo>
                  <a:lnTo>
                    <a:pt x="134" y="34"/>
                  </a:lnTo>
                  <a:lnTo>
                    <a:pt x="117" y="31"/>
                  </a:lnTo>
                  <a:lnTo>
                    <a:pt x="100" y="29"/>
                  </a:lnTo>
                  <a:lnTo>
                    <a:pt x="84" y="28"/>
                  </a:lnTo>
                  <a:lnTo>
                    <a:pt x="67" y="28"/>
                  </a:lnTo>
                  <a:lnTo>
                    <a:pt x="50" y="28"/>
                  </a:lnTo>
                  <a:lnTo>
                    <a:pt x="33" y="30"/>
                  </a:lnTo>
                  <a:lnTo>
                    <a:pt x="16" y="32"/>
                  </a:lnTo>
                  <a:lnTo>
                    <a:pt x="0" y="35"/>
                  </a:lnTo>
                  <a:lnTo>
                    <a:pt x="6" y="25"/>
                  </a:lnTo>
                  <a:lnTo>
                    <a:pt x="15" y="17"/>
                  </a:lnTo>
                  <a:lnTo>
                    <a:pt x="24" y="11"/>
                  </a:lnTo>
                  <a:lnTo>
                    <a:pt x="34" y="6"/>
                  </a:lnTo>
                  <a:lnTo>
                    <a:pt x="46" y="4"/>
                  </a:lnTo>
                  <a:lnTo>
                    <a:pt x="58" y="2"/>
                  </a:lnTo>
                  <a:lnTo>
                    <a:pt x="70" y="1"/>
                  </a:lnTo>
                  <a:lnTo>
                    <a:pt x="82" y="0"/>
                  </a:lnTo>
                  <a:lnTo>
                    <a:pt x="107" y="3"/>
                  </a:lnTo>
                  <a:lnTo>
                    <a:pt x="131" y="9"/>
                  </a:lnTo>
                  <a:lnTo>
                    <a:pt x="155" y="17"/>
                  </a:lnTo>
                  <a:lnTo>
                    <a:pt x="178" y="28"/>
                  </a:lnTo>
                  <a:lnTo>
                    <a:pt x="198" y="42"/>
                  </a:lnTo>
                  <a:lnTo>
                    <a:pt x="217" y="58"/>
                  </a:lnTo>
                  <a:lnTo>
                    <a:pt x="232" y="77"/>
                  </a:lnTo>
                  <a:lnTo>
                    <a:pt x="244" y="100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26"/>
            <p:cNvSpPr/>
            <p:nvPr/>
          </p:nvSpPr>
          <p:spPr>
            <a:xfrm flipH="1">
              <a:off x="8710200" y="6614640"/>
              <a:ext cx="197640" cy="40320"/>
            </a:xfrm>
            <a:custGeom>
              <a:avLst/>
              <a:gdLst>
                <a:gd name="textAreaLeft" fmla="*/ -360 w 197640"/>
                <a:gd name="textAreaRight" fmla="*/ 197640 w 197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52" h="60">
                  <a:moveTo>
                    <a:pt x="0" y="14"/>
                  </a:moveTo>
                  <a:lnTo>
                    <a:pt x="15" y="5"/>
                  </a:lnTo>
                  <a:lnTo>
                    <a:pt x="30" y="1"/>
                  </a:lnTo>
                  <a:lnTo>
                    <a:pt x="48" y="0"/>
                  </a:lnTo>
                  <a:lnTo>
                    <a:pt x="66" y="1"/>
                  </a:lnTo>
                  <a:lnTo>
                    <a:pt x="84" y="3"/>
                  </a:lnTo>
                  <a:lnTo>
                    <a:pt x="102" y="4"/>
                  </a:lnTo>
                  <a:lnTo>
                    <a:pt x="119" y="5"/>
                  </a:lnTo>
                  <a:lnTo>
                    <a:pt x="136" y="3"/>
                  </a:lnTo>
                  <a:lnTo>
                    <a:pt x="252" y="60"/>
                  </a:lnTo>
                  <a:lnTo>
                    <a:pt x="238" y="52"/>
                  </a:lnTo>
                  <a:lnTo>
                    <a:pt x="224" y="46"/>
                  </a:lnTo>
                  <a:lnTo>
                    <a:pt x="209" y="41"/>
                  </a:lnTo>
                  <a:lnTo>
                    <a:pt x="192" y="36"/>
                  </a:lnTo>
                  <a:lnTo>
                    <a:pt x="177" y="33"/>
                  </a:lnTo>
                  <a:lnTo>
                    <a:pt x="161" y="30"/>
                  </a:lnTo>
                  <a:lnTo>
                    <a:pt x="145" y="28"/>
                  </a:lnTo>
                  <a:lnTo>
                    <a:pt x="129" y="25"/>
                  </a:lnTo>
                  <a:lnTo>
                    <a:pt x="112" y="23"/>
                  </a:lnTo>
                  <a:lnTo>
                    <a:pt x="96" y="22"/>
                  </a:lnTo>
                  <a:lnTo>
                    <a:pt x="80" y="21"/>
                  </a:lnTo>
                  <a:lnTo>
                    <a:pt x="63" y="19"/>
                  </a:lnTo>
                  <a:lnTo>
                    <a:pt x="48" y="18"/>
                  </a:lnTo>
                  <a:lnTo>
                    <a:pt x="31" y="17"/>
                  </a:lnTo>
                  <a:lnTo>
                    <a:pt x="15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27"/>
            <p:cNvSpPr/>
            <p:nvPr/>
          </p:nvSpPr>
          <p:spPr>
            <a:xfrm flipH="1">
              <a:off x="8096040" y="5300640"/>
              <a:ext cx="199440" cy="234720"/>
            </a:xfrm>
            <a:custGeom>
              <a:avLst/>
              <a:gdLst>
                <a:gd name="textAreaLeft" fmla="*/ 360 w 199440"/>
                <a:gd name="textAreaRight" fmla="*/ 200160 w 1994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254" h="348">
                  <a:moveTo>
                    <a:pt x="227" y="314"/>
                  </a:moveTo>
                  <a:cubicBezTo>
                    <a:pt x="252" y="240"/>
                    <a:pt x="254" y="207"/>
                    <a:pt x="227" y="129"/>
                  </a:cubicBezTo>
                  <a:cubicBezTo>
                    <a:pt x="213" y="8"/>
                    <a:pt x="237" y="46"/>
                    <a:pt x="147" y="14"/>
                  </a:cubicBezTo>
                  <a:cubicBezTo>
                    <a:pt x="4" y="29"/>
                    <a:pt x="31" y="0"/>
                    <a:pt x="9" y="118"/>
                  </a:cubicBezTo>
                  <a:cubicBezTo>
                    <a:pt x="17" y="188"/>
                    <a:pt x="0" y="235"/>
                    <a:pt x="66" y="256"/>
                  </a:cubicBezTo>
                  <a:cubicBezTo>
                    <a:pt x="87" y="317"/>
                    <a:pt x="126" y="330"/>
                    <a:pt x="181" y="348"/>
                  </a:cubicBezTo>
                  <a:cubicBezTo>
                    <a:pt x="193" y="344"/>
                    <a:pt x="206" y="345"/>
                    <a:pt x="216" y="337"/>
                  </a:cubicBezTo>
                  <a:cubicBezTo>
                    <a:pt x="227" y="328"/>
                    <a:pt x="233" y="315"/>
                    <a:pt x="239" y="302"/>
                  </a:cubicBezTo>
                  <a:cubicBezTo>
                    <a:pt x="241" y="297"/>
                    <a:pt x="231" y="310"/>
                    <a:pt x="227" y="314"/>
                  </a:cubicBezTo>
                  <a:close/>
                </a:path>
              </a:pathLst>
            </a:custGeom>
            <a:solidFill>
              <a:srgbClr val="9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Picture 128" descr="image016"/>
          <p:cNvPicPr/>
          <p:nvPr/>
        </p:nvPicPr>
        <p:blipFill>
          <a:blip r:embed="rId2"/>
          <a:stretch/>
        </p:blipFill>
        <p:spPr>
          <a:xfrm>
            <a:off x="250920" y="5157720"/>
            <a:ext cx="1974600" cy="1486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28"/>
          <p:cNvSpPr/>
          <p:nvPr/>
        </p:nvSpPr>
        <p:spPr>
          <a:xfrm>
            <a:off x="1643040" y="1500120"/>
            <a:ext cx="70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Дать представление о фольклоре материнства и детства как разновидности детского фольклор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28" descr="F:\Настёна\CA1PP3QQ.jpg"/>
          <p:cNvPicPr/>
          <p:nvPr/>
        </p:nvPicPr>
        <p:blipFill>
          <a:blip r:embed="rId3"/>
          <a:stretch/>
        </p:blipFill>
        <p:spPr>
          <a:xfrm>
            <a:off x="3929040" y="5072040"/>
            <a:ext cx="17859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216720" y="1264680"/>
            <a:ext cx="8885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ажая ребенка на колени и подбрасывая ег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апевают «Петровну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Бабушка Петро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ехала по бре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скачь погони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Бревно урони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огу излома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ак старику показ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Шубной рукав привяз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Object 5"/>
          <p:cNvGraphicFramePr/>
          <p:nvPr/>
        </p:nvGraphicFramePr>
        <p:xfrm>
          <a:off x="6804000" y="4724280"/>
          <a:ext cx="2340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4724280"/>
                    <a:ext cx="2340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1296360" y="831960"/>
            <a:ext cx="8362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лачущего ребёнка обычно успокаивал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оказывая ему «козу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. е. бодали, наставив на не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ытянутые указательный пале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 мизинец, при этом приговарива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Идёт коза рогат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Идёт коза бодата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ожками - топ-топ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Глазками – хлоп-хлоп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то кашки не ес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то молока не пьё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абодаю, забод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5" descr="cliparts03"/>
          <p:cNvPicPr/>
          <p:nvPr/>
        </p:nvPicPr>
        <p:blipFill>
          <a:blip r:embed="rId1"/>
          <a:stretch/>
        </p:blipFill>
        <p:spPr>
          <a:xfrm>
            <a:off x="826920" y="3645000"/>
            <a:ext cx="2376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611280" y="907920"/>
            <a:ext cx="815328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Потешки обычно начинают рассказывать на втором году жизни, когда ребёнок овладевает словарным запасом, произносит первые слова. Во время игры используют пальцы, руки или какие-либо другие части тела ребёнка и взрослого. Они обозначают самые разнообразные предметы и действия. Самой популярной игрой, сопровождающейся соответствующим словесным приговором, считаются </a:t>
            </a: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«Ладушки».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Обычно взрослый усаживает ребёнка на колени и, взяв его руки в свои, то сводит, то разводит их, изображая полёт птиц. Действие завершается следующим образ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Ладушки, ладуш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Где были? У бабуш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Что ели? Каш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Что пили? Бражку.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абушка добрень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Кашка вкуснень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Попили, по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Шу-у-у! полетел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На головку сели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3" descr="book9"/>
          <p:cNvPicPr/>
          <p:nvPr/>
        </p:nvPicPr>
        <p:blipFill>
          <a:blip r:embed="rId1"/>
          <a:stretch/>
        </p:blipFill>
        <p:spPr>
          <a:xfrm>
            <a:off x="6877080" y="4724280"/>
            <a:ext cx="2124000" cy="1990800"/>
          </a:xfrm>
          <a:prstGeom prst="rect">
            <a:avLst/>
          </a:prstGeom>
          <a:ln w="0">
            <a:noFill/>
          </a:ln>
        </p:spPr>
      </p:pic>
      <p:sp>
        <p:nvSpPr>
          <p:cNvPr id="347" name="WordArt 4"/>
          <p:cNvSpPr txBox="1"/>
          <p:nvPr/>
        </p:nvSpPr>
        <p:spPr>
          <a:xfrm>
            <a:off x="2484360" y="189000"/>
            <a:ext cx="5496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Потеш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1767960" y="187200"/>
            <a:ext cx="7000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Сорока-во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ашку вари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а порог скака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Гостей созыв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Гости не быва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ашки не ед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се своим детк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Отд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Этому дала (перебираются все пальцы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Этому не дала (трогают мизинец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ачем дров не пили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оду не нос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шел сам иска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десь водица холодненьк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десь тепленьк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десь горяченьк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десь кипяток, кипят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5" descr="vitya[1]"/>
          <p:cNvPicPr/>
          <p:nvPr/>
        </p:nvPicPr>
        <p:blipFill>
          <a:blip r:embed="rId1"/>
          <a:srcRect l="29012" t="0" r="0" b="30396"/>
          <a:stretch/>
        </p:blipFill>
        <p:spPr>
          <a:xfrm>
            <a:off x="1214280" y="4286160"/>
            <a:ext cx="162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2212920" y="470160"/>
            <a:ext cx="608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отешки входят как составляющ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амостоятельной иг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охлопывая ребенка по спин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между лопаток, приговарива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«Что в горбу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- Денеж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«Кто наклал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- Дедуш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«Чем он клал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- Ковшич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«Каким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- Позолочен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6" descr="alisa[1]"/>
          <p:cNvPicPr/>
          <p:nvPr/>
        </p:nvPicPr>
        <p:blipFill>
          <a:blip r:embed="rId1"/>
          <a:stretch/>
        </p:blipFill>
        <p:spPr>
          <a:xfrm>
            <a:off x="1857240" y="3929040"/>
            <a:ext cx="16686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5"/>
          <p:cNvSpPr txBox="1"/>
          <p:nvPr/>
        </p:nvSpPr>
        <p:spPr>
          <a:xfrm>
            <a:off x="2627280" y="476280"/>
            <a:ext cx="6019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Прибаут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1708560" y="1913760"/>
            <a:ext cx="663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Прибаутками называют «маленьк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элементарно построенные сказоч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доступные детям в раннем возра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В них рассказывается незамысловат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история с элементарным сюжет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7" descr="flover_0036"/>
          <p:cNvPicPr/>
          <p:nvPr/>
        </p:nvPicPr>
        <p:blipFill>
          <a:blip r:embed="rId1"/>
          <a:stretch/>
        </p:blipFill>
        <p:spPr>
          <a:xfrm>
            <a:off x="1332000" y="3933720"/>
            <a:ext cx="2009520" cy="2428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devochka[1]"/>
          <p:cNvPicPr/>
          <p:nvPr/>
        </p:nvPicPr>
        <p:blipFill>
          <a:blip r:embed="rId2"/>
          <a:stretch/>
        </p:blipFill>
        <p:spPr>
          <a:xfrm>
            <a:off x="7093080" y="4076640"/>
            <a:ext cx="1582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4"/>
          <p:cNvSpPr/>
          <p:nvPr/>
        </p:nvSpPr>
        <p:spPr>
          <a:xfrm>
            <a:off x="2481480" y="1556280"/>
            <a:ext cx="4693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- Ты коза, коза, коз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Лубяные глаз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Где, коза, был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- Жеребят па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- Где жеребя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- В гору ушли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5" descr="246"/>
          <p:cNvPicPr/>
          <p:nvPr/>
        </p:nvPicPr>
        <p:blipFill>
          <a:blip r:embed="rId1"/>
          <a:stretch/>
        </p:blipFill>
        <p:spPr>
          <a:xfrm>
            <a:off x="3419640" y="465300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1818000" y="1366920"/>
            <a:ext cx="724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Приобщение ребёнка к народной культу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начинается с детства, где закладыв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основные понятия и примеры пове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Культурное наследие передаё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из поколения в поколение, развив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и обогащая мир ребён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476720" y="3721320"/>
            <a:ext cx="721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Фольклор материнства и детства явля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уникальным средством для передач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народной мудрости детям на началь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этапе их развит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C:\Documents and Settings\User\Мои документы\документы\педработа\рефераты\РЕФЕРАТ НА НАУЧНО-ПРАКТИЧЕСКУЮ КОНФЕРЕНЦИЮ\Настёна\i[51].jpg"/>
          <p:cNvPicPr/>
          <p:nvPr/>
        </p:nvPicPr>
        <p:blipFill>
          <a:blip r:embed="rId1"/>
          <a:stretch/>
        </p:blipFill>
        <p:spPr>
          <a:xfrm>
            <a:off x="0" y="428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Documents and Settings\User\Мои документы\Мои рисунки\света\logo_14.gif"/>
          <p:cNvPicPr/>
          <p:nvPr/>
        </p:nvPicPr>
        <p:blipFill>
          <a:blip r:embed="rId2"/>
          <a:stretch/>
        </p:blipFill>
        <p:spPr>
          <a:xfrm>
            <a:off x="6858000" y="142920"/>
            <a:ext cx="17146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3635280" y="476280"/>
            <a:ext cx="360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Picture 26" descr="MCj0435841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2365200" cy="5286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16"/>
          <p:cNvSpPr/>
          <p:nvPr/>
        </p:nvSpPr>
        <p:spPr>
          <a:xfrm>
            <a:off x="934920" y="102348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cc"/>
              </a:buClr>
              <a:buFont typeface="Georgia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Рассмотреть происхожд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содержание, сюжет, образную систе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колыбельных песен и прибаут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2.Проследить за механизм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действия пестуш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3.Представить структуру потешек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2556000" y="333360"/>
            <a:ext cx="63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ский фолькл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0" name="Group 118"/>
          <p:cNvGrpSpPr/>
          <p:nvPr/>
        </p:nvGrpSpPr>
        <p:grpSpPr>
          <a:xfrm>
            <a:off x="1042920" y="1413000"/>
            <a:ext cx="7822800" cy="4392000"/>
            <a:chOff x="1042920" y="1413000"/>
            <a:chExt cx="7822800" cy="4392000"/>
          </a:xfrm>
        </p:grpSpPr>
        <p:pic>
          <p:nvPicPr>
            <p:cNvPr id="231" name="Picture 119" descr="Окно"/>
            <p:cNvPicPr/>
            <p:nvPr/>
          </p:nvPicPr>
          <p:blipFill>
            <a:blip r:embed="rId1"/>
            <a:stretch/>
          </p:blipFill>
          <p:spPr>
            <a:xfrm>
              <a:off x="3177360" y="1413000"/>
              <a:ext cx="3707280" cy="27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20" descr=""/>
            <p:cNvPicPr/>
            <p:nvPr/>
          </p:nvPicPr>
          <p:blipFill>
            <a:blip r:embed="rId2"/>
            <a:stretch/>
          </p:blipFill>
          <p:spPr>
            <a:xfrm>
              <a:off x="1042920" y="4188960"/>
              <a:ext cx="782280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21" descr="Дед"/>
            <p:cNvPicPr/>
            <p:nvPr/>
          </p:nvPicPr>
          <p:blipFill>
            <a:blip r:embed="rId3"/>
            <a:stretch/>
          </p:blipFill>
          <p:spPr>
            <a:xfrm>
              <a:off x="7107480" y="3410280"/>
              <a:ext cx="1693440" cy="215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22" descr="Баба"/>
            <p:cNvPicPr/>
            <p:nvPr/>
          </p:nvPicPr>
          <p:blipFill>
            <a:blip r:embed="rId4"/>
            <a:stretch/>
          </p:blipFill>
          <p:spPr>
            <a:xfrm>
              <a:off x="1042920" y="3520440"/>
              <a:ext cx="1599840" cy="207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" name="Picture 8" descr="j0085410"/>
          <p:cNvPicPr/>
          <p:nvPr/>
        </p:nvPicPr>
        <p:blipFill>
          <a:blip r:embed="rId5"/>
          <a:stretch/>
        </p:blipFill>
        <p:spPr>
          <a:xfrm>
            <a:off x="4140360" y="4076640"/>
            <a:ext cx="1618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1797840" y="1268640"/>
            <a:ext cx="7151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лавянские названия колыбель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песен восходят к глагол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колыбать, кохать, колеба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качать, зыбать.</a:t>
            </a: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В северных губерниях Росс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колыбельные песни называлис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«байками»</a:t>
            </a: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от байкать, убаюкивать.</a:t>
            </a:r>
            <a:r>
              <a:rPr b="1" lang="ru-RU" sz="3200" spc="-1" strike="noStrike">
                <a:solidFill>
                  <a:srgbClr val="0033cc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5"/>
          <p:cNvGrpSpPr/>
          <p:nvPr/>
        </p:nvGrpSpPr>
        <p:grpSpPr>
          <a:xfrm>
            <a:off x="360" y="4149720"/>
            <a:ext cx="1907640" cy="2707920"/>
            <a:chOff x="360" y="4149720"/>
            <a:chExt cx="1907640" cy="2707920"/>
          </a:xfrm>
        </p:grpSpPr>
        <p:sp>
          <p:nvSpPr>
            <p:cNvPr id="238" name="Freeform 6"/>
            <p:cNvSpPr/>
            <p:nvPr/>
          </p:nvSpPr>
          <p:spPr>
            <a:xfrm flipH="1">
              <a:off x="0" y="4149720"/>
              <a:ext cx="1907640" cy="2707920"/>
            </a:xfrm>
            <a:custGeom>
              <a:avLst/>
              <a:gdLst>
                <a:gd name="textAreaLeft" fmla="*/ -360 w 1907640"/>
                <a:gd name="textAreaRight" fmla="*/ 1907640 w 1907640"/>
                <a:gd name="textAreaTop" fmla="*/ 0 h 2707920"/>
                <a:gd name="textAreaBottom" fmla="*/ 2708280 h 2707920"/>
              </a:gdLst>
              <a:ahLst/>
              <a:rect l="textAreaLeft" t="textAreaTop" r="textAreaRight" b="textAreaBottom"/>
              <a:pathLst>
                <a:path w="3574" h="6079">
                  <a:moveTo>
                    <a:pt x="2410" y="271"/>
                  </a:moveTo>
                  <a:lnTo>
                    <a:pt x="2432" y="289"/>
                  </a:lnTo>
                  <a:lnTo>
                    <a:pt x="2454" y="307"/>
                  </a:lnTo>
                  <a:lnTo>
                    <a:pt x="2476" y="326"/>
                  </a:lnTo>
                  <a:lnTo>
                    <a:pt x="2499" y="347"/>
                  </a:lnTo>
                  <a:lnTo>
                    <a:pt x="2519" y="366"/>
                  </a:lnTo>
                  <a:lnTo>
                    <a:pt x="2541" y="386"/>
                  </a:lnTo>
                  <a:lnTo>
                    <a:pt x="2560" y="407"/>
                  </a:lnTo>
                  <a:lnTo>
                    <a:pt x="2579" y="429"/>
                  </a:lnTo>
                  <a:lnTo>
                    <a:pt x="2619" y="409"/>
                  </a:lnTo>
                  <a:lnTo>
                    <a:pt x="2662" y="391"/>
                  </a:lnTo>
                  <a:lnTo>
                    <a:pt x="2705" y="372"/>
                  </a:lnTo>
                  <a:lnTo>
                    <a:pt x="2749" y="358"/>
                  </a:lnTo>
                  <a:lnTo>
                    <a:pt x="2792" y="344"/>
                  </a:lnTo>
                  <a:lnTo>
                    <a:pt x="2839" y="336"/>
                  </a:lnTo>
                  <a:lnTo>
                    <a:pt x="2887" y="332"/>
                  </a:lnTo>
                  <a:lnTo>
                    <a:pt x="2938" y="337"/>
                  </a:lnTo>
                  <a:lnTo>
                    <a:pt x="3024" y="341"/>
                  </a:lnTo>
                  <a:lnTo>
                    <a:pt x="3109" y="364"/>
                  </a:lnTo>
                  <a:lnTo>
                    <a:pt x="3187" y="400"/>
                  </a:lnTo>
                  <a:lnTo>
                    <a:pt x="3263" y="449"/>
                  </a:lnTo>
                  <a:lnTo>
                    <a:pt x="3330" y="508"/>
                  </a:lnTo>
                  <a:lnTo>
                    <a:pt x="3390" y="575"/>
                  </a:lnTo>
                  <a:lnTo>
                    <a:pt x="3441" y="649"/>
                  </a:lnTo>
                  <a:lnTo>
                    <a:pt x="3484" y="725"/>
                  </a:lnTo>
                  <a:lnTo>
                    <a:pt x="3512" y="801"/>
                  </a:lnTo>
                  <a:lnTo>
                    <a:pt x="3537" y="881"/>
                  </a:lnTo>
                  <a:lnTo>
                    <a:pt x="3555" y="961"/>
                  </a:lnTo>
                  <a:lnTo>
                    <a:pt x="3568" y="1045"/>
                  </a:lnTo>
                  <a:lnTo>
                    <a:pt x="3574" y="1128"/>
                  </a:lnTo>
                  <a:lnTo>
                    <a:pt x="3573" y="1214"/>
                  </a:lnTo>
                  <a:lnTo>
                    <a:pt x="3564" y="1297"/>
                  </a:lnTo>
                  <a:lnTo>
                    <a:pt x="3550" y="1381"/>
                  </a:lnTo>
                  <a:lnTo>
                    <a:pt x="3550" y="1387"/>
                  </a:lnTo>
                  <a:lnTo>
                    <a:pt x="3554" y="1394"/>
                  </a:lnTo>
                  <a:lnTo>
                    <a:pt x="3556" y="1401"/>
                  </a:lnTo>
                  <a:lnTo>
                    <a:pt x="3560" y="1408"/>
                  </a:lnTo>
                  <a:lnTo>
                    <a:pt x="3561" y="1414"/>
                  </a:lnTo>
                  <a:lnTo>
                    <a:pt x="3560" y="1420"/>
                  </a:lnTo>
                  <a:lnTo>
                    <a:pt x="3554" y="1424"/>
                  </a:lnTo>
                  <a:lnTo>
                    <a:pt x="3544" y="1429"/>
                  </a:lnTo>
                  <a:lnTo>
                    <a:pt x="3530" y="1422"/>
                  </a:lnTo>
                  <a:lnTo>
                    <a:pt x="3519" y="1412"/>
                  </a:lnTo>
                  <a:lnTo>
                    <a:pt x="3512" y="1400"/>
                  </a:lnTo>
                  <a:lnTo>
                    <a:pt x="3506" y="1388"/>
                  </a:lnTo>
                  <a:lnTo>
                    <a:pt x="3498" y="1373"/>
                  </a:lnTo>
                  <a:lnTo>
                    <a:pt x="3492" y="1360"/>
                  </a:lnTo>
                  <a:lnTo>
                    <a:pt x="3483" y="1347"/>
                  </a:lnTo>
                  <a:lnTo>
                    <a:pt x="3472" y="1337"/>
                  </a:lnTo>
                  <a:lnTo>
                    <a:pt x="3466" y="1329"/>
                  </a:lnTo>
                  <a:lnTo>
                    <a:pt x="3461" y="1322"/>
                  </a:lnTo>
                  <a:lnTo>
                    <a:pt x="3456" y="1315"/>
                  </a:lnTo>
                  <a:lnTo>
                    <a:pt x="3451" y="1307"/>
                  </a:lnTo>
                  <a:lnTo>
                    <a:pt x="3445" y="1300"/>
                  </a:lnTo>
                  <a:lnTo>
                    <a:pt x="3439" y="1293"/>
                  </a:lnTo>
                  <a:lnTo>
                    <a:pt x="3433" y="1287"/>
                  </a:lnTo>
                  <a:lnTo>
                    <a:pt x="3429" y="1283"/>
                  </a:lnTo>
                  <a:lnTo>
                    <a:pt x="3429" y="1289"/>
                  </a:lnTo>
                  <a:lnTo>
                    <a:pt x="3438" y="1323"/>
                  </a:lnTo>
                  <a:lnTo>
                    <a:pt x="3448" y="1359"/>
                  </a:lnTo>
                  <a:lnTo>
                    <a:pt x="3456" y="1395"/>
                  </a:lnTo>
                  <a:lnTo>
                    <a:pt x="3462" y="1431"/>
                  </a:lnTo>
                  <a:lnTo>
                    <a:pt x="3463" y="1467"/>
                  </a:lnTo>
                  <a:lnTo>
                    <a:pt x="3460" y="1503"/>
                  </a:lnTo>
                  <a:lnTo>
                    <a:pt x="3448" y="1538"/>
                  </a:lnTo>
                  <a:lnTo>
                    <a:pt x="3429" y="1574"/>
                  </a:lnTo>
                  <a:lnTo>
                    <a:pt x="3418" y="1579"/>
                  </a:lnTo>
                  <a:lnTo>
                    <a:pt x="3406" y="1581"/>
                  </a:lnTo>
                  <a:lnTo>
                    <a:pt x="3398" y="1580"/>
                  </a:lnTo>
                  <a:lnTo>
                    <a:pt x="3392" y="1580"/>
                  </a:lnTo>
                  <a:lnTo>
                    <a:pt x="3386" y="1580"/>
                  </a:lnTo>
                  <a:lnTo>
                    <a:pt x="3380" y="1580"/>
                  </a:lnTo>
                  <a:lnTo>
                    <a:pt x="3372" y="1563"/>
                  </a:lnTo>
                  <a:lnTo>
                    <a:pt x="3368" y="1547"/>
                  </a:lnTo>
                  <a:lnTo>
                    <a:pt x="3365" y="1530"/>
                  </a:lnTo>
                  <a:lnTo>
                    <a:pt x="3364" y="1514"/>
                  </a:lnTo>
                  <a:lnTo>
                    <a:pt x="3361" y="1496"/>
                  </a:lnTo>
                  <a:lnTo>
                    <a:pt x="3359" y="1482"/>
                  </a:lnTo>
                  <a:lnTo>
                    <a:pt x="3353" y="1466"/>
                  </a:lnTo>
                  <a:lnTo>
                    <a:pt x="3344" y="1453"/>
                  </a:lnTo>
                  <a:lnTo>
                    <a:pt x="3337" y="1493"/>
                  </a:lnTo>
                  <a:lnTo>
                    <a:pt x="3330" y="1535"/>
                  </a:lnTo>
                  <a:lnTo>
                    <a:pt x="3320" y="1575"/>
                  </a:lnTo>
                  <a:lnTo>
                    <a:pt x="3309" y="1615"/>
                  </a:lnTo>
                  <a:lnTo>
                    <a:pt x="3291" y="1650"/>
                  </a:lnTo>
                  <a:lnTo>
                    <a:pt x="3269" y="1682"/>
                  </a:lnTo>
                  <a:lnTo>
                    <a:pt x="3239" y="1710"/>
                  </a:lnTo>
                  <a:lnTo>
                    <a:pt x="3199" y="1732"/>
                  </a:lnTo>
                  <a:lnTo>
                    <a:pt x="3150" y="1759"/>
                  </a:lnTo>
                  <a:lnTo>
                    <a:pt x="3100" y="1787"/>
                  </a:lnTo>
                  <a:lnTo>
                    <a:pt x="3051" y="1814"/>
                  </a:lnTo>
                  <a:lnTo>
                    <a:pt x="3005" y="1844"/>
                  </a:lnTo>
                  <a:lnTo>
                    <a:pt x="2961" y="1876"/>
                  </a:lnTo>
                  <a:lnTo>
                    <a:pt x="2921" y="1913"/>
                  </a:lnTo>
                  <a:lnTo>
                    <a:pt x="2886" y="1958"/>
                  </a:lnTo>
                  <a:lnTo>
                    <a:pt x="2859" y="2011"/>
                  </a:lnTo>
                  <a:lnTo>
                    <a:pt x="2898" y="2002"/>
                  </a:lnTo>
                  <a:lnTo>
                    <a:pt x="2940" y="2001"/>
                  </a:lnTo>
                  <a:lnTo>
                    <a:pt x="2982" y="2007"/>
                  </a:lnTo>
                  <a:lnTo>
                    <a:pt x="3023" y="2019"/>
                  </a:lnTo>
                  <a:lnTo>
                    <a:pt x="3061" y="2036"/>
                  </a:lnTo>
                  <a:lnTo>
                    <a:pt x="3095" y="2060"/>
                  </a:lnTo>
                  <a:lnTo>
                    <a:pt x="3127" y="2088"/>
                  </a:lnTo>
                  <a:lnTo>
                    <a:pt x="3156" y="2120"/>
                  </a:lnTo>
                  <a:lnTo>
                    <a:pt x="3171" y="2185"/>
                  </a:lnTo>
                  <a:lnTo>
                    <a:pt x="3177" y="2251"/>
                  </a:lnTo>
                  <a:lnTo>
                    <a:pt x="3172" y="2316"/>
                  </a:lnTo>
                  <a:lnTo>
                    <a:pt x="3158" y="2380"/>
                  </a:lnTo>
                  <a:lnTo>
                    <a:pt x="3133" y="2439"/>
                  </a:lnTo>
                  <a:lnTo>
                    <a:pt x="3101" y="2494"/>
                  </a:lnTo>
                  <a:lnTo>
                    <a:pt x="3062" y="2543"/>
                  </a:lnTo>
                  <a:lnTo>
                    <a:pt x="3016" y="2587"/>
                  </a:lnTo>
                  <a:lnTo>
                    <a:pt x="2979" y="2611"/>
                  </a:lnTo>
                  <a:lnTo>
                    <a:pt x="2939" y="2630"/>
                  </a:lnTo>
                  <a:lnTo>
                    <a:pt x="2896" y="2643"/>
                  </a:lnTo>
                  <a:lnTo>
                    <a:pt x="2854" y="2653"/>
                  </a:lnTo>
                  <a:lnTo>
                    <a:pt x="2808" y="2654"/>
                  </a:lnTo>
                  <a:lnTo>
                    <a:pt x="2765" y="2650"/>
                  </a:lnTo>
                  <a:lnTo>
                    <a:pt x="2721" y="2639"/>
                  </a:lnTo>
                  <a:lnTo>
                    <a:pt x="2683" y="2623"/>
                  </a:lnTo>
                  <a:lnTo>
                    <a:pt x="2677" y="2614"/>
                  </a:lnTo>
                  <a:lnTo>
                    <a:pt x="2671" y="2608"/>
                  </a:lnTo>
                  <a:lnTo>
                    <a:pt x="2664" y="2602"/>
                  </a:lnTo>
                  <a:lnTo>
                    <a:pt x="2659" y="2599"/>
                  </a:lnTo>
                  <a:lnTo>
                    <a:pt x="2618" y="2701"/>
                  </a:lnTo>
                  <a:lnTo>
                    <a:pt x="2590" y="2809"/>
                  </a:lnTo>
                  <a:lnTo>
                    <a:pt x="2573" y="2920"/>
                  </a:lnTo>
                  <a:lnTo>
                    <a:pt x="2567" y="3033"/>
                  </a:lnTo>
                  <a:lnTo>
                    <a:pt x="2570" y="3146"/>
                  </a:lnTo>
                  <a:lnTo>
                    <a:pt x="2582" y="3257"/>
                  </a:lnTo>
                  <a:lnTo>
                    <a:pt x="2601" y="3367"/>
                  </a:lnTo>
                  <a:lnTo>
                    <a:pt x="2629" y="3473"/>
                  </a:lnTo>
                  <a:lnTo>
                    <a:pt x="2635" y="3485"/>
                  </a:lnTo>
                  <a:lnTo>
                    <a:pt x="2653" y="3473"/>
                  </a:lnTo>
                  <a:lnTo>
                    <a:pt x="2672" y="3464"/>
                  </a:lnTo>
                  <a:lnTo>
                    <a:pt x="2691" y="3457"/>
                  </a:lnTo>
                  <a:lnTo>
                    <a:pt x="2713" y="3453"/>
                  </a:lnTo>
                  <a:lnTo>
                    <a:pt x="2733" y="3451"/>
                  </a:lnTo>
                  <a:lnTo>
                    <a:pt x="2755" y="3453"/>
                  </a:lnTo>
                  <a:lnTo>
                    <a:pt x="2777" y="3457"/>
                  </a:lnTo>
                  <a:lnTo>
                    <a:pt x="2798" y="3465"/>
                  </a:lnTo>
                  <a:lnTo>
                    <a:pt x="2802" y="3468"/>
                  </a:lnTo>
                  <a:lnTo>
                    <a:pt x="2809" y="3471"/>
                  </a:lnTo>
                  <a:lnTo>
                    <a:pt x="2815" y="3475"/>
                  </a:lnTo>
                  <a:lnTo>
                    <a:pt x="2822" y="3480"/>
                  </a:lnTo>
                  <a:lnTo>
                    <a:pt x="2827" y="3485"/>
                  </a:lnTo>
                  <a:lnTo>
                    <a:pt x="2832" y="3492"/>
                  </a:lnTo>
                  <a:lnTo>
                    <a:pt x="2834" y="3499"/>
                  </a:lnTo>
                  <a:lnTo>
                    <a:pt x="2834" y="3509"/>
                  </a:lnTo>
                  <a:lnTo>
                    <a:pt x="2830" y="3526"/>
                  </a:lnTo>
                  <a:lnTo>
                    <a:pt x="2826" y="3542"/>
                  </a:lnTo>
                  <a:lnTo>
                    <a:pt x="2822" y="3558"/>
                  </a:lnTo>
                  <a:lnTo>
                    <a:pt x="2820" y="3574"/>
                  </a:lnTo>
                  <a:lnTo>
                    <a:pt x="2814" y="3588"/>
                  </a:lnTo>
                  <a:lnTo>
                    <a:pt x="2809" y="3604"/>
                  </a:lnTo>
                  <a:lnTo>
                    <a:pt x="2801" y="3619"/>
                  </a:lnTo>
                  <a:lnTo>
                    <a:pt x="2792" y="3636"/>
                  </a:lnTo>
                  <a:lnTo>
                    <a:pt x="2798" y="3663"/>
                  </a:lnTo>
                  <a:lnTo>
                    <a:pt x="2807" y="3689"/>
                  </a:lnTo>
                  <a:lnTo>
                    <a:pt x="2814" y="3716"/>
                  </a:lnTo>
                  <a:lnTo>
                    <a:pt x="2821" y="3742"/>
                  </a:lnTo>
                  <a:lnTo>
                    <a:pt x="2826" y="3768"/>
                  </a:lnTo>
                  <a:lnTo>
                    <a:pt x="2830" y="3796"/>
                  </a:lnTo>
                  <a:lnTo>
                    <a:pt x="2830" y="3824"/>
                  </a:lnTo>
                  <a:lnTo>
                    <a:pt x="2828" y="3854"/>
                  </a:lnTo>
                  <a:lnTo>
                    <a:pt x="2872" y="3921"/>
                  </a:lnTo>
                  <a:lnTo>
                    <a:pt x="2908" y="3996"/>
                  </a:lnTo>
                  <a:lnTo>
                    <a:pt x="2938" y="4073"/>
                  </a:lnTo>
                  <a:lnTo>
                    <a:pt x="2966" y="4153"/>
                  </a:lnTo>
                  <a:lnTo>
                    <a:pt x="2990" y="4232"/>
                  </a:lnTo>
                  <a:lnTo>
                    <a:pt x="3018" y="4313"/>
                  </a:lnTo>
                  <a:lnTo>
                    <a:pt x="3050" y="4391"/>
                  </a:lnTo>
                  <a:lnTo>
                    <a:pt x="3089" y="4467"/>
                  </a:lnTo>
                  <a:lnTo>
                    <a:pt x="3107" y="4502"/>
                  </a:lnTo>
                  <a:lnTo>
                    <a:pt x="3125" y="4535"/>
                  </a:lnTo>
                  <a:lnTo>
                    <a:pt x="3144" y="4569"/>
                  </a:lnTo>
                  <a:lnTo>
                    <a:pt x="3163" y="4603"/>
                  </a:lnTo>
                  <a:lnTo>
                    <a:pt x="3180" y="4635"/>
                  </a:lnTo>
                  <a:lnTo>
                    <a:pt x="3198" y="4669"/>
                  </a:lnTo>
                  <a:lnTo>
                    <a:pt x="3213" y="4703"/>
                  </a:lnTo>
                  <a:lnTo>
                    <a:pt x="3229" y="4739"/>
                  </a:lnTo>
                  <a:lnTo>
                    <a:pt x="3225" y="4754"/>
                  </a:lnTo>
                  <a:lnTo>
                    <a:pt x="3218" y="4770"/>
                  </a:lnTo>
                  <a:lnTo>
                    <a:pt x="3207" y="4782"/>
                  </a:lnTo>
                  <a:lnTo>
                    <a:pt x="3195" y="4795"/>
                  </a:lnTo>
                  <a:lnTo>
                    <a:pt x="3182" y="4806"/>
                  </a:lnTo>
                  <a:lnTo>
                    <a:pt x="3169" y="4817"/>
                  </a:lnTo>
                  <a:lnTo>
                    <a:pt x="3157" y="4828"/>
                  </a:lnTo>
                  <a:lnTo>
                    <a:pt x="3150" y="4842"/>
                  </a:lnTo>
                  <a:lnTo>
                    <a:pt x="3140" y="4883"/>
                  </a:lnTo>
                  <a:lnTo>
                    <a:pt x="3139" y="4927"/>
                  </a:lnTo>
                  <a:lnTo>
                    <a:pt x="3140" y="4971"/>
                  </a:lnTo>
                  <a:lnTo>
                    <a:pt x="3146" y="5016"/>
                  </a:lnTo>
                  <a:lnTo>
                    <a:pt x="3148" y="5061"/>
                  </a:lnTo>
                  <a:lnTo>
                    <a:pt x="3148" y="5105"/>
                  </a:lnTo>
                  <a:lnTo>
                    <a:pt x="3141" y="5147"/>
                  </a:lnTo>
                  <a:lnTo>
                    <a:pt x="3125" y="5188"/>
                  </a:lnTo>
                  <a:lnTo>
                    <a:pt x="3106" y="5230"/>
                  </a:lnTo>
                  <a:lnTo>
                    <a:pt x="3085" y="5272"/>
                  </a:lnTo>
                  <a:lnTo>
                    <a:pt x="3058" y="5313"/>
                  </a:lnTo>
                  <a:lnTo>
                    <a:pt x="3029" y="5352"/>
                  </a:lnTo>
                  <a:lnTo>
                    <a:pt x="2994" y="5385"/>
                  </a:lnTo>
                  <a:lnTo>
                    <a:pt x="2957" y="5416"/>
                  </a:lnTo>
                  <a:lnTo>
                    <a:pt x="2915" y="5438"/>
                  </a:lnTo>
                  <a:lnTo>
                    <a:pt x="2871" y="5455"/>
                  </a:lnTo>
                  <a:lnTo>
                    <a:pt x="2798" y="5455"/>
                  </a:lnTo>
                  <a:lnTo>
                    <a:pt x="2730" y="5446"/>
                  </a:lnTo>
                  <a:lnTo>
                    <a:pt x="2664" y="5428"/>
                  </a:lnTo>
                  <a:lnTo>
                    <a:pt x="2601" y="5405"/>
                  </a:lnTo>
                  <a:lnTo>
                    <a:pt x="2536" y="5377"/>
                  </a:lnTo>
                  <a:lnTo>
                    <a:pt x="2475" y="5348"/>
                  </a:lnTo>
                  <a:lnTo>
                    <a:pt x="2412" y="5321"/>
                  </a:lnTo>
                  <a:lnTo>
                    <a:pt x="2350" y="5297"/>
                  </a:lnTo>
                  <a:lnTo>
                    <a:pt x="2339" y="5295"/>
                  </a:lnTo>
                  <a:lnTo>
                    <a:pt x="2331" y="5290"/>
                  </a:lnTo>
                  <a:lnTo>
                    <a:pt x="2321" y="5284"/>
                  </a:lnTo>
                  <a:lnTo>
                    <a:pt x="2313" y="5278"/>
                  </a:lnTo>
                  <a:lnTo>
                    <a:pt x="2304" y="5272"/>
                  </a:lnTo>
                  <a:lnTo>
                    <a:pt x="2296" y="5271"/>
                  </a:lnTo>
                  <a:lnTo>
                    <a:pt x="2288" y="5274"/>
                  </a:lnTo>
                  <a:lnTo>
                    <a:pt x="2282" y="5284"/>
                  </a:lnTo>
                  <a:lnTo>
                    <a:pt x="2279" y="5290"/>
                  </a:lnTo>
                  <a:lnTo>
                    <a:pt x="2275" y="5297"/>
                  </a:lnTo>
                  <a:lnTo>
                    <a:pt x="2272" y="5303"/>
                  </a:lnTo>
                  <a:lnTo>
                    <a:pt x="2268" y="5310"/>
                  </a:lnTo>
                  <a:lnTo>
                    <a:pt x="2257" y="5321"/>
                  </a:lnTo>
                  <a:lnTo>
                    <a:pt x="2246" y="5328"/>
                  </a:lnTo>
                  <a:lnTo>
                    <a:pt x="2237" y="5327"/>
                  </a:lnTo>
                  <a:lnTo>
                    <a:pt x="2227" y="5325"/>
                  </a:lnTo>
                  <a:lnTo>
                    <a:pt x="2217" y="5324"/>
                  </a:lnTo>
                  <a:lnTo>
                    <a:pt x="2210" y="5324"/>
                  </a:lnTo>
                  <a:lnTo>
                    <a:pt x="2201" y="5324"/>
                  </a:lnTo>
                  <a:lnTo>
                    <a:pt x="2192" y="5327"/>
                  </a:lnTo>
                  <a:lnTo>
                    <a:pt x="2185" y="5331"/>
                  </a:lnTo>
                  <a:lnTo>
                    <a:pt x="2179" y="5340"/>
                  </a:lnTo>
                  <a:lnTo>
                    <a:pt x="2190" y="5348"/>
                  </a:lnTo>
                  <a:lnTo>
                    <a:pt x="2202" y="5357"/>
                  </a:lnTo>
                  <a:lnTo>
                    <a:pt x="2213" y="5365"/>
                  </a:lnTo>
                  <a:lnTo>
                    <a:pt x="2225" y="5376"/>
                  </a:lnTo>
                  <a:lnTo>
                    <a:pt x="2233" y="5385"/>
                  </a:lnTo>
                  <a:lnTo>
                    <a:pt x="2242" y="5399"/>
                  </a:lnTo>
                  <a:lnTo>
                    <a:pt x="2248" y="5412"/>
                  </a:lnTo>
                  <a:lnTo>
                    <a:pt x="2252" y="5430"/>
                  </a:lnTo>
                  <a:lnTo>
                    <a:pt x="2252" y="5438"/>
                  </a:lnTo>
                  <a:lnTo>
                    <a:pt x="2254" y="5449"/>
                  </a:lnTo>
                  <a:lnTo>
                    <a:pt x="2252" y="5459"/>
                  </a:lnTo>
                  <a:lnTo>
                    <a:pt x="2252" y="5470"/>
                  </a:lnTo>
                  <a:lnTo>
                    <a:pt x="2250" y="5479"/>
                  </a:lnTo>
                  <a:lnTo>
                    <a:pt x="2248" y="5489"/>
                  </a:lnTo>
                  <a:lnTo>
                    <a:pt x="2244" y="5498"/>
                  </a:lnTo>
                  <a:lnTo>
                    <a:pt x="2240" y="5509"/>
                  </a:lnTo>
                  <a:lnTo>
                    <a:pt x="2225" y="5519"/>
                  </a:lnTo>
                  <a:lnTo>
                    <a:pt x="2210" y="5530"/>
                  </a:lnTo>
                  <a:lnTo>
                    <a:pt x="2195" y="5539"/>
                  </a:lnTo>
                  <a:lnTo>
                    <a:pt x="2180" y="5551"/>
                  </a:lnTo>
                  <a:lnTo>
                    <a:pt x="2167" y="5562"/>
                  </a:lnTo>
                  <a:lnTo>
                    <a:pt x="2157" y="5577"/>
                  </a:lnTo>
                  <a:lnTo>
                    <a:pt x="2150" y="5592"/>
                  </a:lnTo>
                  <a:lnTo>
                    <a:pt x="2149" y="5613"/>
                  </a:lnTo>
                  <a:lnTo>
                    <a:pt x="2163" y="5627"/>
                  </a:lnTo>
                  <a:lnTo>
                    <a:pt x="2172" y="5645"/>
                  </a:lnTo>
                  <a:lnTo>
                    <a:pt x="2175" y="5663"/>
                  </a:lnTo>
                  <a:lnTo>
                    <a:pt x="2177" y="5685"/>
                  </a:lnTo>
                  <a:lnTo>
                    <a:pt x="2173" y="5705"/>
                  </a:lnTo>
                  <a:lnTo>
                    <a:pt x="2171" y="5727"/>
                  </a:lnTo>
                  <a:lnTo>
                    <a:pt x="2165" y="5746"/>
                  </a:lnTo>
                  <a:lnTo>
                    <a:pt x="2161" y="5764"/>
                  </a:lnTo>
                  <a:lnTo>
                    <a:pt x="2138" y="5788"/>
                  </a:lnTo>
                  <a:lnTo>
                    <a:pt x="2113" y="5810"/>
                  </a:lnTo>
                  <a:lnTo>
                    <a:pt x="2086" y="5828"/>
                  </a:lnTo>
                  <a:lnTo>
                    <a:pt x="2059" y="5845"/>
                  </a:lnTo>
                  <a:lnTo>
                    <a:pt x="2029" y="5859"/>
                  </a:lnTo>
                  <a:lnTo>
                    <a:pt x="2000" y="5874"/>
                  </a:lnTo>
                  <a:lnTo>
                    <a:pt x="1971" y="5888"/>
                  </a:lnTo>
                  <a:lnTo>
                    <a:pt x="1943" y="5904"/>
                  </a:lnTo>
                  <a:lnTo>
                    <a:pt x="1884" y="5912"/>
                  </a:lnTo>
                  <a:lnTo>
                    <a:pt x="1829" y="5926"/>
                  </a:lnTo>
                  <a:lnTo>
                    <a:pt x="1775" y="5943"/>
                  </a:lnTo>
                  <a:lnTo>
                    <a:pt x="1722" y="5963"/>
                  </a:lnTo>
                  <a:lnTo>
                    <a:pt x="1669" y="5979"/>
                  </a:lnTo>
                  <a:lnTo>
                    <a:pt x="1616" y="5997"/>
                  </a:lnTo>
                  <a:lnTo>
                    <a:pt x="1561" y="6009"/>
                  </a:lnTo>
                  <a:lnTo>
                    <a:pt x="1507" y="6019"/>
                  </a:lnTo>
                  <a:lnTo>
                    <a:pt x="1427" y="6036"/>
                  </a:lnTo>
                  <a:lnTo>
                    <a:pt x="1349" y="6050"/>
                  </a:lnTo>
                  <a:lnTo>
                    <a:pt x="1269" y="6061"/>
                  </a:lnTo>
                  <a:lnTo>
                    <a:pt x="1189" y="6068"/>
                  </a:lnTo>
                  <a:lnTo>
                    <a:pt x="1107" y="6072"/>
                  </a:lnTo>
                  <a:lnTo>
                    <a:pt x="1026" y="6077"/>
                  </a:lnTo>
                  <a:lnTo>
                    <a:pt x="944" y="6078"/>
                  </a:lnTo>
                  <a:lnTo>
                    <a:pt x="863" y="6079"/>
                  </a:lnTo>
                  <a:lnTo>
                    <a:pt x="813" y="6065"/>
                  </a:lnTo>
                  <a:lnTo>
                    <a:pt x="761" y="6053"/>
                  </a:lnTo>
                  <a:lnTo>
                    <a:pt x="708" y="6037"/>
                  </a:lnTo>
                  <a:lnTo>
                    <a:pt x="660" y="6019"/>
                  </a:lnTo>
                  <a:lnTo>
                    <a:pt x="614" y="5995"/>
                  </a:lnTo>
                  <a:lnTo>
                    <a:pt x="576" y="5964"/>
                  </a:lnTo>
                  <a:lnTo>
                    <a:pt x="547" y="5924"/>
                  </a:lnTo>
                  <a:lnTo>
                    <a:pt x="530" y="5874"/>
                  </a:lnTo>
                  <a:lnTo>
                    <a:pt x="524" y="5830"/>
                  </a:lnTo>
                  <a:lnTo>
                    <a:pt x="454" y="5830"/>
                  </a:lnTo>
                  <a:lnTo>
                    <a:pt x="386" y="5827"/>
                  </a:lnTo>
                  <a:lnTo>
                    <a:pt x="316" y="5818"/>
                  </a:lnTo>
                  <a:lnTo>
                    <a:pt x="251" y="5805"/>
                  </a:lnTo>
                  <a:lnTo>
                    <a:pt x="186" y="5785"/>
                  </a:lnTo>
                  <a:lnTo>
                    <a:pt x="126" y="5757"/>
                  </a:lnTo>
                  <a:lnTo>
                    <a:pt x="70" y="5720"/>
                  </a:lnTo>
                  <a:lnTo>
                    <a:pt x="20" y="5673"/>
                  </a:lnTo>
                  <a:lnTo>
                    <a:pt x="11" y="5654"/>
                  </a:lnTo>
                  <a:lnTo>
                    <a:pt x="5" y="5634"/>
                  </a:lnTo>
                  <a:lnTo>
                    <a:pt x="0" y="5614"/>
                  </a:lnTo>
                  <a:lnTo>
                    <a:pt x="0" y="5593"/>
                  </a:lnTo>
                  <a:lnTo>
                    <a:pt x="0" y="5572"/>
                  </a:lnTo>
                  <a:lnTo>
                    <a:pt x="3" y="5553"/>
                  </a:lnTo>
                  <a:lnTo>
                    <a:pt x="9" y="5533"/>
                  </a:lnTo>
                  <a:lnTo>
                    <a:pt x="20" y="5515"/>
                  </a:lnTo>
                  <a:lnTo>
                    <a:pt x="14" y="5494"/>
                  </a:lnTo>
                  <a:lnTo>
                    <a:pt x="14" y="5473"/>
                  </a:lnTo>
                  <a:lnTo>
                    <a:pt x="17" y="5453"/>
                  </a:lnTo>
                  <a:lnTo>
                    <a:pt x="24" y="5435"/>
                  </a:lnTo>
                  <a:lnTo>
                    <a:pt x="31" y="5414"/>
                  </a:lnTo>
                  <a:lnTo>
                    <a:pt x="42" y="5396"/>
                  </a:lnTo>
                  <a:lnTo>
                    <a:pt x="54" y="5378"/>
                  </a:lnTo>
                  <a:lnTo>
                    <a:pt x="68" y="5364"/>
                  </a:lnTo>
                  <a:lnTo>
                    <a:pt x="100" y="5345"/>
                  </a:lnTo>
                  <a:lnTo>
                    <a:pt x="132" y="5327"/>
                  </a:lnTo>
                  <a:lnTo>
                    <a:pt x="165" y="5309"/>
                  </a:lnTo>
                  <a:lnTo>
                    <a:pt x="198" y="5293"/>
                  </a:lnTo>
                  <a:lnTo>
                    <a:pt x="231" y="5277"/>
                  </a:lnTo>
                  <a:lnTo>
                    <a:pt x="267" y="5266"/>
                  </a:lnTo>
                  <a:lnTo>
                    <a:pt x="303" y="5258"/>
                  </a:lnTo>
                  <a:lnTo>
                    <a:pt x="341" y="5254"/>
                  </a:lnTo>
                  <a:lnTo>
                    <a:pt x="341" y="5245"/>
                  </a:lnTo>
                  <a:lnTo>
                    <a:pt x="346" y="5235"/>
                  </a:lnTo>
                  <a:lnTo>
                    <a:pt x="353" y="5224"/>
                  </a:lnTo>
                  <a:lnTo>
                    <a:pt x="363" y="5216"/>
                  </a:lnTo>
                  <a:lnTo>
                    <a:pt x="371" y="5205"/>
                  </a:lnTo>
                  <a:lnTo>
                    <a:pt x="382" y="5197"/>
                  </a:lnTo>
                  <a:lnTo>
                    <a:pt x="392" y="5188"/>
                  </a:lnTo>
                  <a:lnTo>
                    <a:pt x="403" y="5182"/>
                  </a:lnTo>
                  <a:lnTo>
                    <a:pt x="421" y="5181"/>
                  </a:lnTo>
                  <a:lnTo>
                    <a:pt x="440" y="5180"/>
                  </a:lnTo>
                  <a:lnTo>
                    <a:pt x="460" y="5179"/>
                  </a:lnTo>
                  <a:lnTo>
                    <a:pt x="482" y="5179"/>
                  </a:lnTo>
                  <a:lnTo>
                    <a:pt x="503" y="5179"/>
                  </a:lnTo>
                  <a:lnTo>
                    <a:pt x="524" y="5181"/>
                  </a:lnTo>
                  <a:lnTo>
                    <a:pt x="545" y="5186"/>
                  </a:lnTo>
                  <a:lnTo>
                    <a:pt x="566" y="5194"/>
                  </a:lnTo>
                  <a:lnTo>
                    <a:pt x="570" y="5182"/>
                  </a:lnTo>
                  <a:lnTo>
                    <a:pt x="573" y="5170"/>
                  </a:lnTo>
                  <a:lnTo>
                    <a:pt x="577" y="5159"/>
                  </a:lnTo>
                  <a:lnTo>
                    <a:pt x="583" y="5150"/>
                  </a:lnTo>
                  <a:lnTo>
                    <a:pt x="588" y="5139"/>
                  </a:lnTo>
                  <a:lnTo>
                    <a:pt x="595" y="5132"/>
                  </a:lnTo>
                  <a:lnTo>
                    <a:pt x="602" y="5125"/>
                  </a:lnTo>
                  <a:lnTo>
                    <a:pt x="614" y="5121"/>
                  </a:lnTo>
                  <a:lnTo>
                    <a:pt x="624" y="5117"/>
                  </a:lnTo>
                  <a:lnTo>
                    <a:pt x="635" y="5114"/>
                  </a:lnTo>
                  <a:lnTo>
                    <a:pt x="644" y="5109"/>
                  </a:lnTo>
                  <a:lnTo>
                    <a:pt x="654" y="5105"/>
                  </a:lnTo>
                  <a:lnTo>
                    <a:pt x="660" y="5098"/>
                  </a:lnTo>
                  <a:lnTo>
                    <a:pt x="667" y="5091"/>
                  </a:lnTo>
                  <a:lnTo>
                    <a:pt x="671" y="5082"/>
                  </a:lnTo>
                  <a:lnTo>
                    <a:pt x="676" y="5073"/>
                  </a:lnTo>
                  <a:lnTo>
                    <a:pt x="676" y="5061"/>
                  </a:lnTo>
                  <a:lnTo>
                    <a:pt x="679" y="5051"/>
                  </a:lnTo>
                  <a:lnTo>
                    <a:pt x="683" y="5043"/>
                  </a:lnTo>
                  <a:lnTo>
                    <a:pt x="690" y="5036"/>
                  </a:lnTo>
                  <a:lnTo>
                    <a:pt x="697" y="5028"/>
                  </a:lnTo>
                  <a:lnTo>
                    <a:pt x="706" y="5021"/>
                  </a:lnTo>
                  <a:lnTo>
                    <a:pt x="714" y="5015"/>
                  </a:lnTo>
                  <a:lnTo>
                    <a:pt x="724" y="5012"/>
                  </a:lnTo>
                  <a:lnTo>
                    <a:pt x="744" y="5014"/>
                  </a:lnTo>
                  <a:lnTo>
                    <a:pt x="761" y="5009"/>
                  </a:lnTo>
                  <a:lnTo>
                    <a:pt x="772" y="4997"/>
                  </a:lnTo>
                  <a:lnTo>
                    <a:pt x="782" y="4982"/>
                  </a:lnTo>
                  <a:lnTo>
                    <a:pt x="788" y="4962"/>
                  </a:lnTo>
                  <a:lnTo>
                    <a:pt x="796" y="4943"/>
                  </a:lnTo>
                  <a:lnTo>
                    <a:pt x="807" y="4926"/>
                  </a:lnTo>
                  <a:lnTo>
                    <a:pt x="821" y="4915"/>
                  </a:lnTo>
                  <a:lnTo>
                    <a:pt x="796" y="4807"/>
                  </a:lnTo>
                  <a:lnTo>
                    <a:pt x="771" y="4703"/>
                  </a:lnTo>
                  <a:lnTo>
                    <a:pt x="743" y="4598"/>
                  </a:lnTo>
                  <a:lnTo>
                    <a:pt x="715" y="4496"/>
                  </a:lnTo>
                  <a:lnTo>
                    <a:pt x="684" y="4392"/>
                  </a:lnTo>
                  <a:lnTo>
                    <a:pt x="653" y="4291"/>
                  </a:lnTo>
                  <a:lnTo>
                    <a:pt x="619" y="4190"/>
                  </a:lnTo>
                  <a:lnTo>
                    <a:pt x="584" y="4091"/>
                  </a:lnTo>
                  <a:lnTo>
                    <a:pt x="587" y="4040"/>
                  </a:lnTo>
                  <a:lnTo>
                    <a:pt x="587" y="3990"/>
                  </a:lnTo>
                  <a:lnTo>
                    <a:pt x="583" y="3939"/>
                  </a:lnTo>
                  <a:lnTo>
                    <a:pt x="578" y="3889"/>
                  </a:lnTo>
                  <a:lnTo>
                    <a:pt x="570" y="3836"/>
                  </a:lnTo>
                  <a:lnTo>
                    <a:pt x="563" y="3784"/>
                  </a:lnTo>
                  <a:lnTo>
                    <a:pt x="557" y="3731"/>
                  </a:lnTo>
                  <a:lnTo>
                    <a:pt x="554" y="3678"/>
                  </a:lnTo>
                  <a:lnTo>
                    <a:pt x="547" y="3665"/>
                  </a:lnTo>
                  <a:lnTo>
                    <a:pt x="545" y="3653"/>
                  </a:lnTo>
                  <a:lnTo>
                    <a:pt x="542" y="3641"/>
                  </a:lnTo>
                  <a:lnTo>
                    <a:pt x="542" y="3629"/>
                  </a:lnTo>
                  <a:lnTo>
                    <a:pt x="541" y="3616"/>
                  </a:lnTo>
                  <a:lnTo>
                    <a:pt x="541" y="3604"/>
                  </a:lnTo>
                  <a:lnTo>
                    <a:pt x="539" y="3592"/>
                  </a:lnTo>
                  <a:lnTo>
                    <a:pt x="536" y="3581"/>
                  </a:lnTo>
                  <a:lnTo>
                    <a:pt x="527" y="3545"/>
                  </a:lnTo>
                  <a:lnTo>
                    <a:pt x="518" y="3509"/>
                  </a:lnTo>
                  <a:lnTo>
                    <a:pt x="511" y="3473"/>
                  </a:lnTo>
                  <a:lnTo>
                    <a:pt x="504" y="3438"/>
                  </a:lnTo>
                  <a:lnTo>
                    <a:pt x="497" y="3401"/>
                  </a:lnTo>
                  <a:lnTo>
                    <a:pt x="493" y="3364"/>
                  </a:lnTo>
                  <a:lnTo>
                    <a:pt x="488" y="3327"/>
                  </a:lnTo>
                  <a:lnTo>
                    <a:pt x="487" y="3290"/>
                  </a:lnTo>
                  <a:lnTo>
                    <a:pt x="491" y="3285"/>
                  </a:lnTo>
                  <a:lnTo>
                    <a:pt x="497" y="3281"/>
                  </a:lnTo>
                  <a:lnTo>
                    <a:pt x="500" y="3279"/>
                  </a:lnTo>
                  <a:lnTo>
                    <a:pt x="505" y="3278"/>
                  </a:lnTo>
                  <a:lnTo>
                    <a:pt x="511" y="3278"/>
                  </a:lnTo>
                  <a:lnTo>
                    <a:pt x="518" y="3278"/>
                  </a:lnTo>
                  <a:lnTo>
                    <a:pt x="527" y="3295"/>
                  </a:lnTo>
                  <a:lnTo>
                    <a:pt x="536" y="3313"/>
                  </a:lnTo>
                  <a:lnTo>
                    <a:pt x="546" y="3331"/>
                  </a:lnTo>
                  <a:lnTo>
                    <a:pt x="557" y="3349"/>
                  </a:lnTo>
                  <a:lnTo>
                    <a:pt x="566" y="3366"/>
                  </a:lnTo>
                  <a:lnTo>
                    <a:pt x="576" y="3384"/>
                  </a:lnTo>
                  <a:lnTo>
                    <a:pt x="586" y="3401"/>
                  </a:lnTo>
                  <a:lnTo>
                    <a:pt x="596" y="3417"/>
                  </a:lnTo>
                  <a:lnTo>
                    <a:pt x="596" y="3398"/>
                  </a:lnTo>
                  <a:lnTo>
                    <a:pt x="593" y="3379"/>
                  </a:lnTo>
                  <a:lnTo>
                    <a:pt x="584" y="3358"/>
                  </a:lnTo>
                  <a:lnTo>
                    <a:pt x="578" y="3339"/>
                  </a:lnTo>
                  <a:lnTo>
                    <a:pt x="572" y="3320"/>
                  </a:lnTo>
                  <a:lnTo>
                    <a:pt x="573" y="3302"/>
                  </a:lnTo>
                  <a:lnTo>
                    <a:pt x="582" y="3285"/>
                  </a:lnTo>
                  <a:lnTo>
                    <a:pt x="602" y="3272"/>
                  </a:lnTo>
                  <a:lnTo>
                    <a:pt x="620" y="3272"/>
                  </a:lnTo>
                  <a:lnTo>
                    <a:pt x="641" y="3267"/>
                  </a:lnTo>
                  <a:lnTo>
                    <a:pt x="661" y="3259"/>
                  </a:lnTo>
                  <a:lnTo>
                    <a:pt x="683" y="3251"/>
                  </a:lnTo>
                  <a:lnTo>
                    <a:pt x="700" y="3247"/>
                  </a:lnTo>
                  <a:lnTo>
                    <a:pt x="717" y="3250"/>
                  </a:lnTo>
                  <a:lnTo>
                    <a:pt x="727" y="3262"/>
                  </a:lnTo>
                  <a:lnTo>
                    <a:pt x="736" y="3290"/>
                  </a:lnTo>
                  <a:lnTo>
                    <a:pt x="743" y="3312"/>
                  </a:lnTo>
                  <a:lnTo>
                    <a:pt x="748" y="3336"/>
                  </a:lnTo>
                  <a:lnTo>
                    <a:pt x="750" y="3360"/>
                  </a:lnTo>
                  <a:lnTo>
                    <a:pt x="754" y="3385"/>
                  </a:lnTo>
                  <a:lnTo>
                    <a:pt x="755" y="3409"/>
                  </a:lnTo>
                  <a:lnTo>
                    <a:pt x="759" y="3434"/>
                  </a:lnTo>
                  <a:lnTo>
                    <a:pt x="764" y="3459"/>
                  </a:lnTo>
                  <a:lnTo>
                    <a:pt x="772" y="3485"/>
                  </a:lnTo>
                  <a:lnTo>
                    <a:pt x="774" y="3473"/>
                  </a:lnTo>
                  <a:lnTo>
                    <a:pt x="777" y="3459"/>
                  </a:lnTo>
                  <a:lnTo>
                    <a:pt x="776" y="3443"/>
                  </a:lnTo>
                  <a:lnTo>
                    <a:pt x="776" y="3427"/>
                  </a:lnTo>
                  <a:lnTo>
                    <a:pt x="773" y="3410"/>
                  </a:lnTo>
                  <a:lnTo>
                    <a:pt x="771" y="3393"/>
                  </a:lnTo>
                  <a:lnTo>
                    <a:pt x="767" y="3376"/>
                  </a:lnTo>
                  <a:lnTo>
                    <a:pt x="766" y="3363"/>
                  </a:lnTo>
                  <a:lnTo>
                    <a:pt x="768" y="3348"/>
                  </a:lnTo>
                  <a:lnTo>
                    <a:pt x="770" y="3332"/>
                  </a:lnTo>
                  <a:lnTo>
                    <a:pt x="768" y="3316"/>
                  </a:lnTo>
                  <a:lnTo>
                    <a:pt x="767" y="3301"/>
                  </a:lnTo>
                  <a:lnTo>
                    <a:pt x="765" y="3284"/>
                  </a:lnTo>
                  <a:lnTo>
                    <a:pt x="765" y="3267"/>
                  </a:lnTo>
                  <a:lnTo>
                    <a:pt x="764" y="3250"/>
                  </a:lnTo>
                  <a:lnTo>
                    <a:pt x="766" y="3236"/>
                  </a:lnTo>
                  <a:lnTo>
                    <a:pt x="777" y="3239"/>
                  </a:lnTo>
                  <a:lnTo>
                    <a:pt x="788" y="3247"/>
                  </a:lnTo>
                  <a:lnTo>
                    <a:pt x="795" y="3255"/>
                  </a:lnTo>
                  <a:lnTo>
                    <a:pt x="803" y="3268"/>
                  </a:lnTo>
                  <a:lnTo>
                    <a:pt x="808" y="3280"/>
                  </a:lnTo>
                  <a:lnTo>
                    <a:pt x="814" y="3294"/>
                  </a:lnTo>
                  <a:lnTo>
                    <a:pt x="820" y="3307"/>
                  </a:lnTo>
                  <a:lnTo>
                    <a:pt x="827" y="3320"/>
                  </a:lnTo>
                  <a:lnTo>
                    <a:pt x="831" y="3331"/>
                  </a:lnTo>
                  <a:lnTo>
                    <a:pt x="836" y="3344"/>
                  </a:lnTo>
                  <a:lnTo>
                    <a:pt x="840" y="3355"/>
                  </a:lnTo>
                  <a:lnTo>
                    <a:pt x="845" y="3368"/>
                  </a:lnTo>
                  <a:lnTo>
                    <a:pt x="850" y="3379"/>
                  </a:lnTo>
                  <a:lnTo>
                    <a:pt x="856" y="3391"/>
                  </a:lnTo>
                  <a:lnTo>
                    <a:pt x="862" y="3401"/>
                  </a:lnTo>
                  <a:lnTo>
                    <a:pt x="869" y="3411"/>
                  </a:lnTo>
                  <a:lnTo>
                    <a:pt x="875" y="3441"/>
                  </a:lnTo>
                  <a:lnTo>
                    <a:pt x="883" y="3473"/>
                  </a:lnTo>
                  <a:lnTo>
                    <a:pt x="891" y="3502"/>
                  </a:lnTo>
                  <a:lnTo>
                    <a:pt x="899" y="3532"/>
                  </a:lnTo>
                  <a:lnTo>
                    <a:pt x="908" y="3560"/>
                  </a:lnTo>
                  <a:lnTo>
                    <a:pt x="917" y="3589"/>
                  </a:lnTo>
                  <a:lnTo>
                    <a:pt x="926" y="3618"/>
                  </a:lnTo>
                  <a:lnTo>
                    <a:pt x="937" y="3648"/>
                  </a:lnTo>
                  <a:lnTo>
                    <a:pt x="948" y="3681"/>
                  </a:lnTo>
                  <a:lnTo>
                    <a:pt x="958" y="3716"/>
                  </a:lnTo>
                  <a:lnTo>
                    <a:pt x="967" y="3750"/>
                  </a:lnTo>
                  <a:lnTo>
                    <a:pt x="976" y="3786"/>
                  </a:lnTo>
                  <a:lnTo>
                    <a:pt x="984" y="3820"/>
                  </a:lnTo>
                  <a:lnTo>
                    <a:pt x="994" y="3854"/>
                  </a:lnTo>
                  <a:lnTo>
                    <a:pt x="1005" y="3887"/>
                  </a:lnTo>
                  <a:lnTo>
                    <a:pt x="1021" y="3921"/>
                  </a:lnTo>
                  <a:lnTo>
                    <a:pt x="1027" y="3921"/>
                  </a:lnTo>
                  <a:lnTo>
                    <a:pt x="1033" y="3921"/>
                  </a:lnTo>
                  <a:lnTo>
                    <a:pt x="1039" y="3919"/>
                  </a:lnTo>
                  <a:lnTo>
                    <a:pt x="1046" y="3916"/>
                  </a:lnTo>
                  <a:lnTo>
                    <a:pt x="1058" y="3908"/>
                  </a:lnTo>
                  <a:lnTo>
                    <a:pt x="1069" y="3903"/>
                  </a:lnTo>
                  <a:lnTo>
                    <a:pt x="1144" y="3866"/>
                  </a:lnTo>
                  <a:lnTo>
                    <a:pt x="1219" y="3832"/>
                  </a:lnTo>
                  <a:lnTo>
                    <a:pt x="1296" y="3798"/>
                  </a:lnTo>
                  <a:lnTo>
                    <a:pt x="1374" y="3770"/>
                  </a:lnTo>
                  <a:lnTo>
                    <a:pt x="1451" y="3742"/>
                  </a:lnTo>
                  <a:lnTo>
                    <a:pt x="1532" y="3719"/>
                  </a:lnTo>
                  <a:lnTo>
                    <a:pt x="1611" y="3699"/>
                  </a:lnTo>
                  <a:lnTo>
                    <a:pt x="1694" y="3684"/>
                  </a:lnTo>
                  <a:lnTo>
                    <a:pt x="1705" y="3691"/>
                  </a:lnTo>
                  <a:lnTo>
                    <a:pt x="1718" y="3700"/>
                  </a:lnTo>
                  <a:lnTo>
                    <a:pt x="1733" y="3708"/>
                  </a:lnTo>
                  <a:lnTo>
                    <a:pt x="1747" y="3717"/>
                  </a:lnTo>
                  <a:lnTo>
                    <a:pt x="1760" y="3724"/>
                  </a:lnTo>
                  <a:lnTo>
                    <a:pt x="1774" y="3732"/>
                  </a:lnTo>
                  <a:lnTo>
                    <a:pt x="1786" y="3741"/>
                  </a:lnTo>
                  <a:lnTo>
                    <a:pt x="1798" y="3750"/>
                  </a:lnTo>
                  <a:lnTo>
                    <a:pt x="1811" y="3746"/>
                  </a:lnTo>
                  <a:lnTo>
                    <a:pt x="1824" y="3740"/>
                  </a:lnTo>
                  <a:lnTo>
                    <a:pt x="1836" y="3734"/>
                  </a:lnTo>
                  <a:lnTo>
                    <a:pt x="1849" y="3728"/>
                  </a:lnTo>
                  <a:lnTo>
                    <a:pt x="1862" y="3724"/>
                  </a:lnTo>
                  <a:lnTo>
                    <a:pt x="1874" y="3724"/>
                  </a:lnTo>
                  <a:lnTo>
                    <a:pt x="1883" y="3728"/>
                  </a:lnTo>
                  <a:lnTo>
                    <a:pt x="1894" y="3738"/>
                  </a:lnTo>
                  <a:lnTo>
                    <a:pt x="1896" y="3749"/>
                  </a:lnTo>
                  <a:lnTo>
                    <a:pt x="1899" y="3764"/>
                  </a:lnTo>
                  <a:lnTo>
                    <a:pt x="1898" y="3778"/>
                  </a:lnTo>
                  <a:lnTo>
                    <a:pt x="1898" y="3792"/>
                  </a:lnTo>
                  <a:lnTo>
                    <a:pt x="1895" y="3807"/>
                  </a:lnTo>
                  <a:lnTo>
                    <a:pt x="1895" y="3821"/>
                  </a:lnTo>
                  <a:lnTo>
                    <a:pt x="1894" y="3835"/>
                  </a:lnTo>
                  <a:lnTo>
                    <a:pt x="1894" y="3848"/>
                  </a:lnTo>
                  <a:lnTo>
                    <a:pt x="1894" y="3885"/>
                  </a:lnTo>
                  <a:lnTo>
                    <a:pt x="1898" y="3924"/>
                  </a:lnTo>
                  <a:lnTo>
                    <a:pt x="1901" y="3961"/>
                  </a:lnTo>
                  <a:lnTo>
                    <a:pt x="1907" y="3999"/>
                  </a:lnTo>
                  <a:lnTo>
                    <a:pt x="1913" y="4037"/>
                  </a:lnTo>
                  <a:lnTo>
                    <a:pt x="1919" y="4074"/>
                  </a:lnTo>
                  <a:lnTo>
                    <a:pt x="1925" y="4111"/>
                  </a:lnTo>
                  <a:lnTo>
                    <a:pt x="1931" y="4151"/>
                  </a:lnTo>
                  <a:lnTo>
                    <a:pt x="1942" y="4146"/>
                  </a:lnTo>
                  <a:lnTo>
                    <a:pt x="1954" y="4144"/>
                  </a:lnTo>
                  <a:lnTo>
                    <a:pt x="1966" y="4144"/>
                  </a:lnTo>
                  <a:lnTo>
                    <a:pt x="1979" y="4145"/>
                  </a:lnTo>
                  <a:lnTo>
                    <a:pt x="1990" y="4145"/>
                  </a:lnTo>
                  <a:lnTo>
                    <a:pt x="2003" y="4148"/>
                  </a:lnTo>
                  <a:lnTo>
                    <a:pt x="2014" y="4152"/>
                  </a:lnTo>
                  <a:lnTo>
                    <a:pt x="2027" y="4157"/>
                  </a:lnTo>
                  <a:lnTo>
                    <a:pt x="2044" y="4174"/>
                  </a:lnTo>
                  <a:lnTo>
                    <a:pt x="2059" y="4195"/>
                  </a:lnTo>
                  <a:lnTo>
                    <a:pt x="2071" y="4218"/>
                  </a:lnTo>
                  <a:lnTo>
                    <a:pt x="2080" y="4245"/>
                  </a:lnTo>
                  <a:lnTo>
                    <a:pt x="2084" y="4270"/>
                  </a:lnTo>
                  <a:lnTo>
                    <a:pt x="2085" y="4297"/>
                  </a:lnTo>
                  <a:lnTo>
                    <a:pt x="2080" y="4325"/>
                  </a:lnTo>
                  <a:lnTo>
                    <a:pt x="2071" y="4352"/>
                  </a:lnTo>
                  <a:lnTo>
                    <a:pt x="2076" y="4360"/>
                  </a:lnTo>
                  <a:lnTo>
                    <a:pt x="2083" y="4366"/>
                  </a:lnTo>
                  <a:lnTo>
                    <a:pt x="2091" y="4368"/>
                  </a:lnTo>
                  <a:lnTo>
                    <a:pt x="2101" y="4364"/>
                  </a:lnTo>
                  <a:lnTo>
                    <a:pt x="2135" y="4323"/>
                  </a:lnTo>
                  <a:lnTo>
                    <a:pt x="2172" y="4282"/>
                  </a:lnTo>
                  <a:lnTo>
                    <a:pt x="2211" y="4239"/>
                  </a:lnTo>
                  <a:lnTo>
                    <a:pt x="2251" y="4196"/>
                  </a:lnTo>
                  <a:lnTo>
                    <a:pt x="2288" y="4152"/>
                  </a:lnTo>
                  <a:lnTo>
                    <a:pt x="2327" y="4107"/>
                  </a:lnTo>
                  <a:lnTo>
                    <a:pt x="2363" y="4062"/>
                  </a:lnTo>
                  <a:lnTo>
                    <a:pt x="2398" y="4017"/>
                  </a:lnTo>
                  <a:lnTo>
                    <a:pt x="2392" y="3939"/>
                  </a:lnTo>
                  <a:lnTo>
                    <a:pt x="2379" y="3930"/>
                  </a:lnTo>
                  <a:lnTo>
                    <a:pt x="2367" y="3922"/>
                  </a:lnTo>
                  <a:lnTo>
                    <a:pt x="2353" y="3914"/>
                  </a:lnTo>
                  <a:lnTo>
                    <a:pt x="2341" y="3907"/>
                  </a:lnTo>
                  <a:lnTo>
                    <a:pt x="2329" y="3897"/>
                  </a:lnTo>
                  <a:lnTo>
                    <a:pt x="2320" y="3889"/>
                  </a:lnTo>
                  <a:lnTo>
                    <a:pt x="2311" y="3877"/>
                  </a:lnTo>
                  <a:lnTo>
                    <a:pt x="2306" y="3866"/>
                  </a:lnTo>
                  <a:lnTo>
                    <a:pt x="2305" y="3836"/>
                  </a:lnTo>
                  <a:lnTo>
                    <a:pt x="2311" y="3810"/>
                  </a:lnTo>
                  <a:lnTo>
                    <a:pt x="2321" y="3785"/>
                  </a:lnTo>
                  <a:lnTo>
                    <a:pt x="2335" y="3764"/>
                  </a:lnTo>
                  <a:lnTo>
                    <a:pt x="2350" y="3741"/>
                  </a:lnTo>
                  <a:lnTo>
                    <a:pt x="2369" y="3722"/>
                  </a:lnTo>
                  <a:lnTo>
                    <a:pt x="2388" y="3702"/>
                  </a:lnTo>
                  <a:lnTo>
                    <a:pt x="2410" y="3684"/>
                  </a:lnTo>
                  <a:lnTo>
                    <a:pt x="2389" y="3659"/>
                  </a:lnTo>
                  <a:lnTo>
                    <a:pt x="2374" y="3630"/>
                  </a:lnTo>
                  <a:lnTo>
                    <a:pt x="2358" y="3598"/>
                  </a:lnTo>
                  <a:lnTo>
                    <a:pt x="2343" y="3568"/>
                  </a:lnTo>
                  <a:lnTo>
                    <a:pt x="2322" y="3541"/>
                  </a:lnTo>
                  <a:lnTo>
                    <a:pt x="2299" y="3522"/>
                  </a:lnTo>
                  <a:lnTo>
                    <a:pt x="2270" y="3514"/>
                  </a:lnTo>
                  <a:lnTo>
                    <a:pt x="2234" y="3521"/>
                  </a:lnTo>
                  <a:lnTo>
                    <a:pt x="2138" y="3547"/>
                  </a:lnTo>
                  <a:lnTo>
                    <a:pt x="2038" y="3574"/>
                  </a:lnTo>
                  <a:lnTo>
                    <a:pt x="1935" y="3595"/>
                  </a:lnTo>
                  <a:lnTo>
                    <a:pt x="1829" y="3610"/>
                  </a:lnTo>
                  <a:lnTo>
                    <a:pt x="1722" y="3612"/>
                  </a:lnTo>
                  <a:lnTo>
                    <a:pt x="1619" y="3601"/>
                  </a:lnTo>
                  <a:lnTo>
                    <a:pt x="1516" y="3574"/>
                  </a:lnTo>
                  <a:lnTo>
                    <a:pt x="1421" y="3527"/>
                  </a:lnTo>
                  <a:lnTo>
                    <a:pt x="1405" y="3515"/>
                  </a:lnTo>
                  <a:lnTo>
                    <a:pt x="1390" y="3504"/>
                  </a:lnTo>
                  <a:lnTo>
                    <a:pt x="1376" y="3493"/>
                  </a:lnTo>
                  <a:lnTo>
                    <a:pt x="1361" y="3483"/>
                  </a:lnTo>
                  <a:lnTo>
                    <a:pt x="1347" y="3471"/>
                  </a:lnTo>
                  <a:lnTo>
                    <a:pt x="1332" y="3461"/>
                  </a:lnTo>
                  <a:lnTo>
                    <a:pt x="1319" y="3447"/>
                  </a:lnTo>
                  <a:lnTo>
                    <a:pt x="1306" y="3435"/>
                  </a:lnTo>
                  <a:lnTo>
                    <a:pt x="1282" y="3432"/>
                  </a:lnTo>
                  <a:lnTo>
                    <a:pt x="1258" y="3429"/>
                  </a:lnTo>
                  <a:lnTo>
                    <a:pt x="1233" y="3426"/>
                  </a:lnTo>
                  <a:lnTo>
                    <a:pt x="1210" y="3421"/>
                  </a:lnTo>
                  <a:lnTo>
                    <a:pt x="1187" y="3413"/>
                  </a:lnTo>
                  <a:lnTo>
                    <a:pt x="1169" y="3401"/>
                  </a:lnTo>
                  <a:lnTo>
                    <a:pt x="1153" y="3384"/>
                  </a:lnTo>
                  <a:lnTo>
                    <a:pt x="1142" y="3363"/>
                  </a:lnTo>
                  <a:lnTo>
                    <a:pt x="1148" y="3318"/>
                  </a:lnTo>
                  <a:lnTo>
                    <a:pt x="1163" y="3274"/>
                  </a:lnTo>
                  <a:lnTo>
                    <a:pt x="1181" y="3231"/>
                  </a:lnTo>
                  <a:lnTo>
                    <a:pt x="1202" y="3191"/>
                  </a:lnTo>
                  <a:lnTo>
                    <a:pt x="1225" y="3152"/>
                  </a:lnTo>
                  <a:lnTo>
                    <a:pt x="1251" y="3112"/>
                  </a:lnTo>
                  <a:lnTo>
                    <a:pt x="1275" y="3074"/>
                  </a:lnTo>
                  <a:lnTo>
                    <a:pt x="1300" y="3035"/>
                  </a:lnTo>
                  <a:lnTo>
                    <a:pt x="1276" y="3043"/>
                  </a:lnTo>
                  <a:lnTo>
                    <a:pt x="1252" y="3052"/>
                  </a:lnTo>
                  <a:lnTo>
                    <a:pt x="1225" y="3060"/>
                  </a:lnTo>
                  <a:lnTo>
                    <a:pt x="1200" y="3070"/>
                  </a:lnTo>
                  <a:lnTo>
                    <a:pt x="1172" y="3076"/>
                  </a:lnTo>
                  <a:lnTo>
                    <a:pt x="1145" y="3082"/>
                  </a:lnTo>
                  <a:lnTo>
                    <a:pt x="1116" y="3086"/>
                  </a:lnTo>
                  <a:lnTo>
                    <a:pt x="1088" y="3090"/>
                  </a:lnTo>
                  <a:lnTo>
                    <a:pt x="1044" y="3094"/>
                  </a:lnTo>
                  <a:lnTo>
                    <a:pt x="1000" y="3096"/>
                  </a:lnTo>
                  <a:lnTo>
                    <a:pt x="956" y="3094"/>
                  </a:lnTo>
                  <a:lnTo>
                    <a:pt x="914" y="3089"/>
                  </a:lnTo>
                  <a:lnTo>
                    <a:pt x="871" y="3081"/>
                  </a:lnTo>
                  <a:lnTo>
                    <a:pt x="830" y="3069"/>
                  </a:lnTo>
                  <a:lnTo>
                    <a:pt x="790" y="3053"/>
                  </a:lnTo>
                  <a:lnTo>
                    <a:pt x="754" y="3035"/>
                  </a:lnTo>
                  <a:lnTo>
                    <a:pt x="714" y="3022"/>
                  </a:lnTo>
                  <a:lnTo>
                    <a:pt x="679" y="3005"/>
                  </a:lnTo>
                  <a:lnTo>
                    <a:pt x="646" y="2983"/>
                  </a:lnTo>
                  <a:lnTo>
                    <a:pt x="616" y="2958"/>
                  </a:lnTo>
                  <a:lnTo>
                    <a:pt x="589" y="2928"/>
                  </a:lnTo>
                  <a:lnTo>
                    <a:pt x="567" y="2896"/>
                  </a:lnTo>
                  <a:lnTo>
                    <a:pt x="551" y="2861"/>
                  </a:lnTo>
                  <a:lnTo>
                    <a:pt x="542" y="2823"/>
                  </a:lnTo>
                  <a:lnTo>
                    <a:pt x="537" y="2768"/>
                  </a:lnTo>
                  <a:lnTo>
                    <a:pt x="539" y="2714"/>
                  </a:lnTo>
                  <a:lnTo>
                    <a:pt x="545" y="2662"/>
                  </a:lnTo>
                  <a:lnTo>
                    <a:pt x="559" y="2613"/>
                  </a:lnTo>
                  <a:lnTo>
                    <a:pt x="578" y="2566"/>
                  </a:lnTo>
                  <a:lnTo>
                    <a:pt x="605" y="2523"/>
                  </a:lnTo>
                  <a:lnTo>
                    <a:pt x="638" y="2484"/>
                  </a:lnTo>
                  <a:lnTo>
                    <a:pt x="682" y="2453"/>
                  </a:lnTo>
                  <a:lnTo>
                    <a:pt x="743" y="2440"/>
                  </a:lnTo>
                  <a:lnTo>
                    <a:pt x="802" y="2442"/>
                  </a:lnTo>
                  <a:lnTo>
                    <a:pt x="859" y="2453"/>
                  </a:lnTo>
                  <a:lnTo>
                    <a:pt x="916" y="2472"/>
                  </a:lnTo>
                  <a:lnTo>
                    <a:pt x="972" y="2493"/>
                  </a:lnTo>
                  <a:lnTo>
                    <a:pt x="1027" y="2514"/>
                  </a:lnTo>
                  <a:lnTo>
                    <a:pt x="1083" y="2530"/>
                  </a:lnTo>
                  <a:lnTo>
                    <a:pt x="1142" y="2538"/>
                  </a:lnTo>
                  <a:lnTo>
                    <a:pt x="1118" y="2490"/>
                  </a:lnTo>
                  <a:lnTo>
                    <a:pt x="1103" y="2441"/>
                  </a:lnTo>
                  <a:lnTo>
                    <a:pt x="1093" y="2389"/>
                  </a:lnTo>
                  <a:lnTo>
                    <a:pt x="1091" y="2339"/>
                  </a:lnTo>
                  <a:lnTo>
                    <a:pt x="1092" y="2285"/>
                  </a:lnTo>
                  <a:lnTo>
                    <a:pt x="1098" y="2232"/>
                  </a:lnTo>
                  <a:lnTo>
                    <a:pt x="1106" y="2178"/>
                  </a:lnTo>
                  <a:lnTo>
                    <a:pt x="1118" y="2126"/>
                  </a:lnTo>
                  <a:lnTo>
                    <a:pt x="1127" y="2096"/>
                  </a:lnTo>
                  <a:lnTo>
                    <a:pt x="1139" y="2067"/>
                  </a:lnTo>
                  <a:lnTo>
                    <a:pt x="1152" y="2038"/>
                  </a:lnTo>
                  <a:lnTo>
                    <a:pt x="1170" y="2013"/>
                  </a:lnTo>
                  <a:lnTo>
                    <a:pt x="1188" y="1988"/>
                  </a:lnTo>
                  <a:lnTo>
                    <a:pt x="1210" y="1966"/>
                  </a:lnTo>
                  <a:lnTo>
                    <a:pt x="1235" y="1947"/>
                  </a:lnTo>
                  <a:lnTo>
                    <a:pt x="1264" y="1933"/>
                  </a:lnTo>
                  <a:lnTo>
                    <a:pt x="1270" y="1931"/>
                  </a:lnTo>
                  <a:lnTo>
                    <a:pt x="1278" y="1931"/>
                  </a:lnTo>
                  <a:lnTo>
                    <a:pt x="1287" y="1930"/>
                  </a:lnTo>
                  <a:lnTo>
                    <a:pt x="1297" y="1930"/>
                  </a:lnTo>
                  <a:lnTo>
                    <a:pt x="1306" y="1930"/>
                  </a:lnTo>
                  <a:lnTo>
                    <a:pt x="1317" y="1931"/>
                  </a:lnTo>
                  <a:lnTo>
                    <a:pt x="1326" y="1934"/>
                  </a:lnTo>
                  <a:lnTo>
                    <a:pt x="1336" y="1939"/>
                  </a:lnTo>
                  <a:lnTo>
                    <a:pt x="1342" y="1933"/>
                  </a:lnTo>
                  <a:lnTo>
                    <a:pt x="1334" y="1886"/>
                  </a:lnTo>
                  <a:lnTo>
                    <a:pt x="1326" y="1841"/>
                  </a:lnTo>
                  <a:lnTo>
                    <a:pt x="1317" y="1795"/>
                  </a:lnTo>
                  <a:lnTo>
                    <a:pt x="1307" y="1751"/>
                  </a:lnTo>
                  <a:lnTo>
                    <a:pt x="1295" y="1707"/>
                  </a:lnTo>
                  <a:lnTo>
                    <a:pt x="1283" y="1663"/>
                  </a:lnTo>
                  <a:lnTo>
                    <a:pt x="1267" y="1620"/>
                  </a:lnTo>
                  <a:lnTo>
                    <a:pt x="1252" y="1580"/>
                  </a:lnTo>
                  <a:lnTo>
                    <a:pt x="1196" y="1572"/>
                  </a:lnTo>
                  <a:lnTo>
                    <a:pt x="1146" y="1561"/>
                  </a:lnTo>
                  <a:lnTo>
                    <a:pt x="1097" y="1547"/>
                  </a:lnTo>
                  <a:lnTo>
                    <a:pt x="1050" y="1530"/>
                  </a:lnTo>
                  <a:lnTo>
                    <a:pt x="1004" y="1508"/>
                  </a:lnTo>
                  <a:lnTo>
                    <a:pt x="962" y="1483"/>
                  </a:lnTo>
                  <a:lnTo>
                    <a:pt x="920" y="1452"/>
                  </a:lnTo>
                  <a:lnTo>
                    <a:pt x="881" y="1417"/>
                  </a:lnTo>
                  <a:lnTo>
                    <a:pt x="886" y="1435"/>
                  </a:lnTo>
                  <a:lnTo>
                    <a:pt x="893" y="1454"/>
                  </a:lnTo>
                  <a:lnTo>
                    <a:pt x="899" y="1473"/>
                  </a:lnTo>
                  <a:lnTo>
                    <a:pt x="908" y="1494"/>
                  </a:lnTo>
                  <a:lnTo>
                    <a:pt x="915" y="1512"/>
                  </a:lnTo>
                  <a:lnTo>
                    <a:pt x="927" y="1530"/>
                  </a:lnTo>
                  <a:lnTo>
                    <a:pt x="939" y="1547"/>
                  </a:lnTo>
                  <a:lnTo>
                    <a:pt x="955" y="1562"/>
                  </a:lnTo>
                  <a:lnTo>
                    <a:pt x="951" y="1572"/>
                  </a:lnTo>
                  <a:lnTo>
                    <a:pt x="952" y="1585"/>
                  </a:lnTo>
                  <a:lnTo>
                    <a:pt x="950" y="1590"/>
                  </a:lnTo>
                  <a:lnTo>
                    <a:pt x="948" y="1596"/>
                  </a:lnTo>
                  <a:lnTo>
                    <a:pt x="944" y="1600"/>
                  </a:lnTo>
                  <a:lnTo>
                    <a:pt x="937" y="1604"/>
                  </a:lnTo>
                  <a:lnTo>
                    <a:pt x="922" y="1606"/>
                  </a:lnTo>
                  <a:lnTo>
                    <a:pt x="909" y="1603"/>
                  </a:lnTo>
                  <a:lnTo>
                    <a:pt x="896" y="1598"/>
                  </a:lnTo>
                  <a:lnTo>
                    <a:pt x="884" y="1592"/>
                  </a:lnTo>
                  <a:lnTo>
                    <a:pt x="871" y="1584"/>
                  </a:lnTo>
                  <a:lnTo>
                    <a:pt x="859" y="1577"/>
                  </a:lnTo>
                  <a:lnTo>
                    <a:pt x="845" y="1571"/>
                  </a:lnTo>
                  <a:lnTo>
                    <a:pt x="833" y="1568"/>
                  </a:lnTo>
                  <a:lnTo>
                    <a:pt x="818" y="1548"/>
                  </a:lnTo>
                  <a:lnTo>
                    <a:pt x="800" y="1529"/>
                  </a:lnTo>
                  <a:lnTo>
                    <a:pt x="782" y="1511"/>
                  </a:lnTo>
                  <a:lnTo>
                    <a:pt x="764" y="1494"/>
                  </a:lnTo>
                  <a:lnTo>
                    <a:pt x="745" y="1474"/>
                  </a:lnTo>
                  <a:lnTo>
                    <a:pt x="732" y="1455"/>
                  </a:lnTo>
                  <a:lnTo>
                    <a:pt x="721" y="1432"/>
                  </a:lnTo>
                  <a:lnTo>
                    <a:pt x="718" y="1411"/>
                  </a:lnTo>
                  <a:lnTo>
                    <a:pt x="709" y="1402"/>
                  </a:lnTo>
                  <a:lnTo>
                    <a:pt x="706" y="1399"/>
                  </a:lnTo>
                  <a:lnTo>
                    <a:pt x="702" y="1406"/>
                  </a:lnTo>
                  <a:lnTo>
                    <a:pt x="702" y="1414"/>
                  </a:lnTo>
                  <a:lnTo>
                    <a:pt x="703" y="1423"/>
                  </a:lnTo>
                  <a:lnTo>
                    <a:pt x="707" y="1431"/>
                  </a:lnTo>
                  <a:lnTo>
                    <a:pt x="711" y="1438"/>
                  </a:lnTo>
                  <a:lnTo>
                    <a:pt x="714" y="1447"/>
                  </a:lnTo>
                  <a:lnTo>
                    <a:pt x="715" y="1455"/>
                  </a:lnTo>
                  <a:lnTo>
                    <a:pt x="718" y="1465"/>
                  </a:lnTo>
                  <a:lnTo>
                    <a:pt x="718" y="1478"/>
                  </a:lnTo>
                  <a:lnTo>
                    <a:pt x="721" y="1493"/>
                  </a:lnTo>
                  <a:lnTo>
                    <a:pt x="725" y="1508"/>
                  </a:lnTo>
                  <a:lnTo>
                    <a:pt x="730" y="1524"/>
                  </a:lnTo>
                  <a:lnTo>
                    <a:pt x="733" y="1538"/>
                  </a:lnTo>
                  <a:lnTo>
                    <a:pt x="737" y="1554"/>
                  </a:lnTo>
                  <a:lnTo>
                    <a:pt x="739" y="1569"/>
                  </a:lnTo>
                  <a:lnTo>
                    <a:pt x="742" y="1586"/>
                  </a:lnTo>
                  <a:lnTo>
                    <a:pt x="725" y="1597"/>
                  </a:lnTo>
                  <a:lnTo>
                    <a:pt x="711" y="1603"/>
                  </a:lnTo>
                  <a:lnTo>
                    <a:pt x="695" y="1603"/>
                  </a:lnTo>
                  <a:lnTo>
                    <a:pt x="681" y="1600"/>
                  </a:lnTo>
                  <a:lnTo>
                    <a:pt x="665" y="1592"/>
                  </a:lnTo>
                  <a:lnTo>
                    <a:pt x="650" y="1586"/>
                  </a:lnTo>
                  <a:lnTo>
                    <a:pt x="635" y="1579"/>
                  </a:lnTo>
                  <a:lnTo>
                    <a:pt x="620" y="1574"/>
                  </a:lnTo>
                  <a:lnTo>
                    <a:pt x="611" y="1567"/>
                  </a:lnTo>
                  <a:lnTo>
                    <a:pt x="602" y="1560"/>
                  </a:lnTo>
                  <a:lnTo>
                    <a:pt x="593" y="1553"/>
                  </a:lnTo>
                  <a:lnTo>
                    <a:pt x="584" y="1545"/>
                  </a:lnTo>
                  <a:lnTo>
                    <a:pt x="575" y="1537"/>
                  </a:lnTo>
                  <a:lnTo>
                    <a:pt x="566" y="1530"/>
                  </a:lnTo>
                  <a:lnTo>
                    <a:pt x="557" y="1521"/>
                  </a:lnTo>
                  <a:lnTo>
                    <a:pt x="548" y="1514"/>
                  </a:lnTo>
                  <a:lnTo>
                    <a:pt x="498" y="1467"/>
                  </a:lnTo>
                  <a:lnTo>
                    <a:pt x="454" y="1416"/>
                  </a:lnTo>
                  <a:lnTo>
                    <a:pt x="417" y="1359"/>
                  </a:lnTo>
                  <a:lnTo>
                    <a:pt x="387" y="1300"/>
                  </a:lnTo>
                  <a:lnTo>
                    <a:pt x="363" y="1236"/>
                  </a:lnTo>
                  <a:lnTo>
                    <a:pt x="349" y="1172"/>
                  </a:lnTo>
                  <a:lnTo>
                    <a:pt x="340" y="1105"/>
                  </a:lnTo>
                  <a:lnTo>
                    <a:pt x="341" y="1040"/>
                  </a:lnTo>
                  <a:lnTo>
                    <a:pt x="344" y="1027"/>
                  </a:lnTo>
                  <a:lnTo>
                    <a:pt x="345" y="1013"/>
                  </a:lnTo>
                  <a:lnTo>
                    <a:pt x="345" y="997"/>
                  </a:lnTo>
                  <a:lnTo>
                    <a:pt x="345" y="983"/>
                  </a:lnTo>
                  <a:lnTo>
                    <a:pt x="345" y="966"/>
                  </a:lnTo>
                  <a:lnTo>
                    <a:pt x="347" y="951"/>
                  </a:lnTo>
                  <a:lnTo>
                    <a:pt x="351" y="937"/>
                  </a:lnTo>
                  <a:lnTo>
                    <a:pt x="359" y="925"/>
                  </a:lnTo>
                  <a:lnTo>
                    <a:pt x="358" y="897"/>
                  </a:lnTo>
                  <a:lnTo>
                    <a:pt x="363" y="872"/>
                  </a:lnTo>
                  <a:lnTo>
                    <a:pt x="370" y="847"/>
                  </a:lnTo>
                  <a:lnTo>
                    <a:pt x="381" y="824"/>
                  </a:lnTo>
                  <a:lnTo>
                    <a:pt x="391" y="799"/>
                  </a:lnTo>
                  <a:lnTo>
                    <a:pt x="402" y="776"/>
                  </a:lnTo>
                  <a:lnTo>
                    <a:pt x="411" y="753"/>
                  </a:lnTo>
                  <a:lnTo>
                    <a:pt x="421" y="731"/>
                  </a:lnTo>
                  <a:lnTo>
                    <a:pt x="448" y="662"/>
                  </a:lnTo>
                  <a:lnTo>
                    <a:pt x="482" y="593"/>
                  </a:lnTo>
                  <a:lnTo>
                    <a:pt x="518" y="526"/>
                  </a:lnTo>
                  <a:lnTo>
                    <a:pt x="561" y="462"/>
                  </a:lnTo>
                  <a:lnTo>
                    <a:pt x="608" y="401"/>
                  </a:lnTo>
                  <a:lnTo>
                    <a:pt x="662" y="347"/>
                  </a:lnTo>
                  <a:lnTo>
                    <a:pt x="723" y="299"/>
                  </a:lnTo>
                  <a:lnTo>
                    <a:pt x="791" y="259"/>
                  </a:lnTo>
                  <a:lnTo>
                    <a:pt x="892" y="188"/>
                  </a:lnTo>
                  <a:lnTo>
                    <a:pt x="1000" y="130"/>
                  </a:lnTo>
                  <a:lnTo>
                    <a:pt x="1113" y="83"/>
                  </a:lnTo>
                  <a:lnTo>
                    <a:pt x="1231" y="49"/>
                  </a:lnTo>
                  <a:lnTo>
                    <a:pt x="1352" y="22"/>
                  </a:lnTo>
                  <a:lnTo>
                    <a:pt x="1477" y="7"/>
                  </a:lnTo>
                  <a:lnTo>
                    <a:pt x="1605" y="0"/>
                  </a:lnTo>
                  <a:lnTo>
                    <a:pt x="1736" y="4"/>
                  </a:lnTo>
                  <a:lnTo>
                    <a:pt x="1828" y="17"/>
                  </a:lnTo>
                  <a:lnTo>
                    <a:pt x="1919" y="34"/>
                  </a:lnTo>
                  <a:lnTo>
                    <a:pt x="2008" y="55"/>
                  </a:lnTo>
                  <a:lnTo>
                    <a:pt x="2096" y="82"/>
                  </a:lnTo>
                  <a:lnTo>
                    <a:pt x="2179" y="115"/>
                  </a:lnTo>
                  <a:lnTo>
                    <a:pt x="2260" y="157"/>
                  </a:lnTo>
                  <a:lnTo>
                    <a:pt x="2337" y="208"/>
                  </a:lnTo>
                  <a:lnTo>
                    <a:pt x="2410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 flipH="1">
              <a:off x="22320" y="4169880"/>
              <a:ext cx="1677600" cy="984240"/>
            </a:xfrm>
            <a:custGeom>
              <a:avLst/>
              <a:gdLst>
                <a:gd name="textAreaLeft" fmla="*/ 360 w 1677600"/>
                <a:gd name="textAreaRight" fmla="*/ 1678320 w 1677600"/>
                <a:gd name="textAreaTop" fmla="*/ 0 h 984240"/>
                <a:gd name="textAreaBottom" fmla="*/ 984240 h 984240"/>
              </a:gdLst>
              <a:ahLst/>
              <a:rect l="textAreaLeft" t="textAreaTop" r="textAreaRight" b="textAreaBottom"/>
              <a:pathLst>
                <a:path w="3143" h="2209">
                  <a:moveTo>
                    <a:pt x="1887" y="171"/>
                  </a:moveTo>
                  <a:lnTo>
                    <a:pt x="1921" y="196"/>
                  </a:lnTo>
                  <a:lnTo>
                    <a:pt x="1955" y="224"/>
                  </a:lnTo>
                  <a:lnTo>
                    <a:pt x="1988" y="251"/>
                  </a:lnTo>
                  <a:lnTo>
                    <a:pt x="2025" y="281"/>
                  </a:lnTo>
                  <a:lnTo>
                    <a:pt x="2058" y="310"/>
                  </a:lnTo>
                  <a:lnTo>
                    <a:pt x="2093" y="339"/>
                  </a:lnTo>
                  <a:lnTo>
                    <a:pt x="2129" y="367"/>
                  </a:lnTo>
                  <a:lnTo>
                    <a:pt x="2166" y="396"/>
                  </a:lnTo>
                  <a:lnTo>
                    <a:pt x="2168" y="406"/>
                  </a:lnTo>
                  <a:lnTo>
                    <a:pt x="2174" y="415"/>
                  </a:lnTo>
                  <a:lnTo>
                    <a:pt x="2178" y="423"/>
                  </a:lnTo>
                  <a:lnTo>
                    <a:pt x="2178" y="432"/>
                  </a:lnTo>
                  <a:lnTo>
                    <a:pt x="2203" y="450"/>
                  </a:lnTo>
                  <a:lnTo>
                    <a:pt x="2215" y="432"/>
                  </a:lnTo>
                  <a:lnTo>
                    <a:pt x="2221" y="438"/>
                  </a:lnTo>
                  <a:lnTo>
                    <a:pt x="2287" y="394"/>
                  </a:lnTo>
                  <a:lnTo>
                    <a:pt x="2358" y="364"/>
                  </a:lnTo>
                  <a:lnTo>
                    <a:pt x="2431" y="346"/>
                  </a:lnTo>
                  <a:lnTo>
                    <a:pt x="2507" y="339"/>
                  </a:lnTo>
                  <a:lnTo>
                    <a:pt x="2583" y="343"/>
                  </a:lnTo>
                  <a:lnTo>
                    <a:pt x="2658" y="357"/>
                  </a:lnTo>
                  <a:lnTo>
                    <a:pt x="2733" y="382"/>
                  </a:lnTo>
                  <a:lnTo>
                    <a:pt x="2804" y="420"/>
                  </a:lnTo>
                  <a:lnTo>
                    <a:pt x="2840" y="445"/>
                  </a:lnTo>
                  <a:lnTo>
                    <a:pt x="2876" y="475"/>
                  </a:lnTo>
                  <a:lnTo>
                    <a:pt x="2911" y="506"/>
                  </a:lnTo>
                  <a:lnTo>
                    <a:pt x="2947" y="541"/>
                  </a:lnTo>
                  <a:lnTo>
                    <a:pt x="2977" y="576"/>
                  </a:lnTo>
                  <a:lnTo>
                    <a:pt x="3005" y="616"/>
                  </a:lnTo>
                  <a:lnTo>
                    <a:pt x="3028" y="655"/>
                  </a:lnTo>
                  <a:lnTo>
                    <a:pt x="3046" y="698"/>
                  </a:lnTo>
                  <a:lnTo>
                    <a:pt x="3070" y="753"/>
                  </a:lnTo>
                  <a:lnTo>
                    <a:pt x="3089" y="809"/>
                  </a:lnTo>
                  <a:lnTo>
                    <a:pt x="3104" y="867"/>
                  </a:lnTo>
                  <a:lnTo>
                    <a:pt x="3117" y="928"/>
                  </a:lnTo>
                  <a:lnTo>
                    <a:pt x="3125" y="987"/>
                  </a:lnTo>
                  <a:lnTo>
                    <a:pt x="3132" y="1048"/>
                  </a:lnTo>
                  <a:lnTo>
                    <a:pt x="3137" y="1110"/>
                  </a:lnTo>
                  <a:lnTo>
                    <a:pt x="3143" y="1172"/>
                  </a:lnTo>
                  <a:lnTo>
                    <a:pt x="3137" y="1183"/>
                  </a:lnTo>
                  <a:lnTo>
                    <a:pt x="3133" y="1196"/>
                  </a:lnTo>
                  <a:lnTo>
                    <a:pt x="3132" y="1211"/>
                  </a:lnTo>
                  <a:lnTo>
                    <a:pt x="3132" y="1226"/>
                  </a:lnTo>
                  <a:lnTo>
                    <a:pt x="3131" y="1240"/>
                  </a:lnTo>
                  <a:lnTo>
                    <a:pt x="3130" y="1254"/>
                  </a:lnTo>
                  <a:lnTo>
                    <a:pt x="3125" y="1267"/>
                  </a:lnTo>
                  <a:lnTo>
                    <a:pt x="3119" y="1280"/>
                  </a:lnTo>
                  <a:lnTo>
                    <a:pt x="3100" y="1256"/>
                  </a:lnTo>
                  <a:lnTo>
                    <a:pt x="3082" y="1234"/>
                  </a:lnTo>
                  <a:lnTo>
                    <a:pt x="3064" y="1208"/>
                  </a:lnTo>
                  <a:lnTo>
                    <a:pt x="3046" y="1187"/>
                  </a:lnTo>
                  <a:lnTo>
                    <a:pt x="3026" y="1165"/>
                  </a:lnTo>
                  <a:lnTo>
                    <a:pt x="3006" y="1146"/>
                  </a:lnTo>
                  <a:lnTo>
                    <a:pt x="2984" y="1129"/>
                  </a:lnTo>
                  <a:lnTo>
                    <a:pt x="2961" y="1117"/>
                  </a:lnTo>
                  <a:lnTo>
                    <a:pt x="2955" y="1111"/>
                  </a:lnTo>
                  <a:lnTo>
                    <a:pt x="2949" y="1111"/>
                  </a:lnTo>
                  <a:lnTo>
                    <a:pt x="2949" y="1124"/>
                  </a:lnTo>
                  <a:lnTo>
                    <a:pt x="2954" y="1139"/>
                  </a:lnTo>
                  <a:lnTo>
                    <a:pt x="2960" y="1153"/>
                  </a:lnTo>
                  <a:lnTo>
                    <a:pt x="2969" y="1169"/>
                  </a:lnTo>
                  <a:lnTo>
                    <a:pt x="2976" y="1183"/>
                  </a:lnTo>
                  <a:lnTo>
                    <a:pt x="2984" y="1200"/>
                  </a:lnTo>
                  <a:lnTo>
                    <a:pt x="2990" y="1215"/>
                  </a:lnTo>
                  <a:lnTo>
                    <a:pt x="2997" y="1232"/>
                  </a:lnTo>
                  <a:lnTo>
                    <a:pt x="3003" y="1262"/>
                  </a:lnTo>
                  <a:lnTo>
                    <a:pt x="3014" y="1295"/>
                  </a:lnTo>
                  <a:lnTo>
                    <a:pt x="3023" y="1325"/>
                  </a:lnTo>
                  <a:lnTo>
                    <a:pt x="3031" y="1357"/>
                  </a:lnTo>
                  <a:lnTo>
                    <a:pt x="3036" y="1387"/>
                  </a:lnTo>
                  <a:lnTo>
                    <a:pt x="3037" y="1420"/>
                  </a:lnTo>
                  <a:lnTo>
                    <a:pt x="3032" y="1452"/>
                  </a:lnTo>
                  <a:lnTo>
                    <a:pt x="3022" y="1487"/>
                  </a:lnTo>
                  <a:lnTo>
                    <a:pt x="3015" y="1487"/>
                  </a:lnTo>
                  <a:lnTo>
                    <a:pt x="3007" y="1454"/>
                  </a:lnTo>
                  <a:lnTo>
                    <a:pt x="2999" y="1420"/>
                  </a:lnTo>
                  <a:lnTo>
                    <a:pt x="2989" y="1386"/>
                  </a:lnTo>
                  <a:lnTo>
                    <a:pt x="2979" y="1354"/>
                  </a:lnTo>
                  <a:lnTo>
                    <a:pt x="2965" y="1321"/>
                  </a:lnTo>
                  <a:lnTo>
                    <a:pt x="2951" y="1290"/>
                  </a:lnTo>
                  <a:lnTo>
                    <a:pt x="2933" y="1260"/>
                  </a:lnTo>
                  <a:lnTo>
                    <a:pt x="2912" y="1232"/>
                  </a:lnTo>
                  <a:lnTo>
                    <a:pt x="2901" y="1241"/>
                  </a:lnTo>
                  <a:lnTo>
                    <a:pt x="2899" y="1250"/>
                  </a:lnTo>
                  <a:lnTo>
                    <a:pt x="2900" y="1261"/>
                  </a:lnTo>
                  <a:lnTo>
                    <a:pt x="2905" y="1272"/>
                  </a:lnTo>
                  <a:lnTo>
                    <a:pt x="2910" y="1283"/>
                  </a:lnTo>
                  <a:lnTo>
                    <a:pt x="2913" y="1294"/>
                  </a:lnTo>
                  <a:lnTo>
                    <a:pt x="2914" y="1306"/>
                  </a:lnTo>
                  <a:lnTo>
                    <a:pt x="2912" y="1318"/>
                  </a:lnTo>
                  <a:lnTo>
                    <a:pt x="2912" y="1359"/>
                  </a:lnTo>
                  <a:lnTo>
                    <a:pt x="2912" y="1402"/>
                  </a:lnTo>
                  <a:lnTo>
                    <a:pt x="2908" y="1445"/>
                  </a:lnTo>
                  <a:lnTo>
                    <a:pt x="2901" y="1490"/>
                  </a:lnTo>
                  <a:lnTo>
                    <a:pt x="2888" y="1529"/>
                  </a:lnTo>
                  <a:lnTo>
                    <a:pt x="2869" y="1567"/>
                  </a:lnTo>
                  <a:lnTo>
                    <a:pt x="2842" y="1599"/>
                  </a:lnTo>
                  <a:lnTo>
                    <a:pt x="2810" y="1627"/>
                  </a:lnTo>
                  <a:lnTo>
                    <a:pt x="2755" y="1659"/>
                  </a:lnTo>
                  <a:lnTo>
                    <a:pt x="2698" y="1692"/>
                  </a:lnTo>
                  <a:lnTo>
                    <a:pt x="2640" y="1725"/>
                  </a:lnTo>
                  <a:lnTo>
                    <a:pt x="2585" y="1764"/>
                  </a:lnTo>
                  <a:lnTo>
                    <a:pt x="2531" y="1803"/>
                  </a:lnTo>
                  <a:lnTo>
                    <a:pt x="2484" y="1850"/>
                  </a:lnTo>
                  <a:lnTo>
                    <a:pt x="2444" y="1903"/>
                  </a:lnTo>
                  <a:lnTo>
                    <a:pt x="2415" y="1966"/>
                  </a:lnTo>
                  <a:lnTo>
                    <a:pt x="2397" y="1996"/>
                  </a:lnTo>
                  <a:lnTo>
                    <a:pt x="2362" y="2014"/>
                  </a:lnTo>
                  <a:lnTo>
                    <a:pt x="2328" y="2035"/>
                  </a:lnTo>
                  <a:lnTo>
                    <a:pt x="2293" y="2057"/>
                  </a:lnTo>
                  <a:lnTo>
                    <a:pt x="2261" y="2084"/>
                  </a:lnTo>
                  <a:lnTo>
                    <a:pt x="2229" y="2110"/>
                  </a:lnTo>
                  <a:lnTo>
                    <a:pt x="2201" y="2140"/>
                  </a:lnTo>
                  <a:lnTo>
                    <a:pt x="2176" y="2172"/>
                  </a:lnTo>
                  <a:lnTo>
                    <a:pt x="2154" y="2209"/>
                  </a:lnTo>
                  <a:lnTo>
                    <a:pt x="2126" y="2195"/>
                  </a:lnTo>
                  <a:lnTo>
                    <a:pt x="2103" y="2180"/>
                  </a:lnTo>
                  <a:lnTo>
                    <a:pt x="2083" y="2159"/>
                  </a:lnTo>
                  <a:lnTo>
                    <a:pt x="2067" y="2136"/>
                  </a:lnTo>
                  <a:lnTo>
                    <a:pt x="2050" y="2111"/>
                  </a:lnTo>
                  <a:lnTo>
                    <a:pt x="2035" y="2087"/>
                  </a:lnTo>
                  <a:lnTo>
                    <a:pt x="2019" y="2062"/>
                  </a:lnTo>
                  <a:lnTo>
                    <a:pt x="2003" y="2039"/>
                  </a:lnTo>
                  <a:lnTo>
                    <a:pt x="1994" y="2005"/>
                  </a:lnTo>
                  <a:lnTo>
                    <a:pt x="1990" y="1973"/>
                  </a:lnTo>
                  <a:lnTo>
                    <a:pt x="1985" y="1942"/>
                  </a:lnTo>
                  <a:lnTo>
                    <a:pt x="1985" y="1912"/>
                  </a:lnTo>
                  <a:lnTo>
                    <a:pt x="1985" y="1880"/>
                  </a:lnTo>
                  <a:lnTo>
                    <a:pt x="1986" y="1849"/>
                  </a:lnTo>
                  <a:lnTo>
                    <a:pt x="1987" y="1817"/>
                  </a:lnTo>
                  <a:lnTo>
                    <a:pt x="1991" y="1784"/>
                  </a:lnTo>
                  <a:lnTo>
                    <a:pt x="1992" y="1767"/>
                  </a:lnTo>
                  <a:lnTo>
                    <a:pt x="1996" y="1750"/>
                  </a:lnTo>
                  <a:lnTo>
                    <a:pt x="2000" y="1732"/>
                  </a:lnTo>
                  <a:lnTo>
                    <a:pt x="2005" y="1717"/>
                  </a:lnTo>
                  <a:lnTo>
                    <a:pt x="2006" y="1700"/>
                  </a:lnTo>
                  <a:lnTo>
                    <a:pt x="2005" y="1687"/>
                  </a:lnTo>
                  <a:lnTo>
                    <a:pt x="1998" y="1676"/>
                  </a:lnTo>
                  <a:lnTo>
                    <a:pt x="1985" y="1669"/>
                  </a:lnTo>
                  <a:lnTo>
                    <a:pt x="1967" y="1669"/>
                  </a:lnTo>
                  <a:lnTo>
                    <a:pt x="1905" y="1742"/>
                  </a:lnTo>
                  <a:lnTo>
                    <a:pt x="1891" y="1720"/>
                  </a:lnTo>
                  <a:lnTo>
                    <a:pt x="1881" y="1698"/>
                  </a:lnTo>
                  <a:lnTo>
                    <a:pt x="1875" y="1671"/>
                  </a:lnTo>
                  <a:lnTo>
                    <a:pt x="1873" y="1645"/>
                  </a:lnTo>
                  <a:lnTo>
                    <a:pt x="1872" y="1615"/>
                  </a:lnTo>
                  <a:lnTo>
                    <a:pt x="1873" y="1586"/>
                  </a:lnTo>
                  <a:lnTo>
                    <a:pt x="1877" y="1557"/>
                  </a:lnTo>
                  <a:lnTo>
                    <a:pt x="1881" y="1529"/>
                  </a:lnTo>
                  <a:lnTo>
                    <a:pt x="1883" y="1520"/>
                  </a:lnTo>
                  <a:lnTo>
                    <a:pt x="1889" y="1511"/>
                  </a:lnTo>
                  <a:lnTo>
                    <a:pt x="1891" y="1502"/>
                  </a:lnTo>
                  <a:lnTo>
                    <a:pt x="1887" y="1493"/>
                  </a:lnTo>
                  <a:lnTo>
                    <a:pt x="1849" y="1478"/>
                  </a:lnTo>
                  <a:lnTo>
                    <a:pt x="1812" y="1463"/>
                  </a:lnTo>
                  <a:lnTo>
                    <a:pt x="1772" y="1449"/>
                  </a:lnTo>
                  <a:lnTo>
                    <a:pt x="1736" y="1434"/>
                  </a:lnTo>
                  <a:lnTo>
                    <a:pt x="1699" y="1415"/>
                  </a:lnTo>
                  <a:lnTo>
                    <a:pt x="1666" y="1393"/>
                  </a:lnTo>
                  <a:lnTo>
                    <a:pt x="1635" y="1367"/>
                  </a:lnTo>
                  <a:lnTo>
                    <a:pt x="1608" y="1336"/>
                  </a:lnTo>
                  <a:lnTo>
                    <a:pt x="1600" y="1331"/>
                  </a:lnTo>
                  <a:lnTo>
                    <a:pt x="1592" y="1327"/>
                  </a:lnTo>
                  <a:lnTo>
                    <a:pt x="1583" y="1324"/>
                  </a:lnTo>
                  <a:lnTo>
                    <a:pt x="1572" y="1324"/>
                  </a:lnTo>
                  <a:lnTo>
                    <a:pt x="1568" y="1332"/>
                  </a:lnTo>
                  <a:lnTo>
                    <a:pt x="1564" y="1342"/>
                  </a:lnTo>
                  <a:lnTo>
                    <a:pt x="1560" y="1353"/>
                  </a:lnTo>
                  <a:lnTo>
                    <a:pt x="1558" y="1363"/>
                  </a:lnTo>
                  <a:lnTo>
                    <a:pt x="1555" y="1374"/>
                  </a:lnTo>
                  <a:lnTo>
                    <a:pt x="1554" y="1387"/>
                  </a:lnTo>
                  <a:lnTo>
                    <a:pt x="1554" y="1399"/>
                  </a:lnTo>
                  <a:lnTo>
                    <a:pt x="1554" y="1414"/>
                  </a:lnTo>
                  <a:lnTo>
                    <a:pt x="1531" y="1402"/>
                  </a:lnTo>
                  <a:lnTo>
                    <a:pt x="1513" y="1387"/>
                  </a:lnTo>
                  <a:lnTo>
                    <a:pt x="1497" y="1369"/>
                  </a:lnTo>
                  <a:lnTo>
                    <a:pt x="1482" y="1351"/>
                  </a:lnTo>
                  <a:lnTo>
                    <a:pt x="1468" y="1331"/>
                  </a:lnTo>
                  <a:lnTo>
                    <a:pt x="1453" y="1313"/>
                  </a:lnTo>
                  <a:lnTo>
                    <a:pt x="1436" y="1295"/>
                  </a:lnTo>
                  <a:lnTo>
                    <a:pt x="1421" y="1280"/>
                  </a:lnTo>
                  <a:lnTo>
                    <a:pt x="1415" y="1268"/>
                  </a:lnTo>
                  <a:lnTo>
                    <a:pt x="1409" y="1260"/>
                  </a:lnTo>
                  <a:lnTo>
                    <a:pt x="1402" y="1252"/>
                  </a:lnTo>
                  <a:lnTo>
                    <a:pt x="1396" y="1244"/>
                  </a:lnTo>
                  <a:lnTo>
                    <a:pt x="1388" y="1237"/>
                  </a:lnTo>
                  <a:lnTo>
                    <a:pt x="1381" y="1230"/>
                  </a:lnTo>
                  <a:lnTo>
                    <a:pt x="1375" y="1221"/>
                  </a:lnTo>
                  <a:lnTo>
                    <a:pt x="1371" y="1214"/>
                  </a:lnTo>
                  <a:lnTo>
                    <a:pt x="1356" y="1215"/>
                  </a:lnTo>
                  <a:lnTo>
                    <a:pt x="1345" y="1213"/>
                  </a:lnTo>
                  <a:lnTo>
                    <a:pt x="1334" y="1205"/>
                  </a:lnTo>
                  <a:lnTo>
                    <a:pt x="1326" y="1195"/>
                  </a:lnTo>
                  <a:lnTo>
                    <a:pt x="1316" y="1184"/>
                  </a:lnTo>
                  <a:lnTo>
                    <a:pt x="1307" y="1177"/>
                  </a:lnTo>
                  <a:lnTo>
                    <a:pt x="1295" y="1173"/>
                  </a:lnTo>
                  <a:lnTo>
                    <a:pt x="1281" y="1178"/>
                  </a:lnTo>
                  <a:lnTo>
                    <a:pt x="1274" y="1202"/>
                  </a:lnTo>
                  <a:lnTo>
                    <a:pt x="1270" y="1227"/>
                  </a:lnTo>
                  <a:lnTo>
                    <a:pt x="1267" y="1254"/>
                  </a:lnTo>
                  <a:lnTo>
                    <a:pt x="1267" y="1280"/>
                  </a:lnTo>
                  <a:lnTo>
                    <a:pt x="1267" y="1306"/>
                  </a:lnTo>
                  <a:lnTo>
                    <a:pt x="1270" y="1332"/>
                  </a:lnTo>
                  <a:lnTo>
                    <a:pt x="1274" y="1357"/>
                  </a:lnTo>
                  <a:lnTo>
                    <a:pt x="1281" y="1384"/>
                  </a:lnTo>
                  <a:lnTo>
                    <a:pt x="1251" y="1384"/>
                  </a:lnTo>
                  <a:lnTo>
                    <a:pt x="1191" y="1402"/>
                  </a:lnTo>
                  <a:lnTo>
                    <a:pt x="1132" y="1421"/>
                  </a:lnTo>
                  <a:lnTo>
                    <a:pt x="1073" y="1438"/>
                  </a:lnTo>
                  <a:lnTo>
                    <a:pt x="1014" y="1454"/>
                  </a:lnTo>
                  <a:lnTo>
                    <a:pt x="953" y="1463"/>
                  </a:lnTo>
                  <a:lnTo>
                    <a:pt x="893" y="1469"/>
                  </a:lnTo>
                  <a:lnTo>
                    <a:pt x="829" y="1467"/>
                  </a:lnTo>
                  <a:lnTo>
                    <a:pt x="765" y="1457"/>
                  </a:lnTo>
                  <a:lnTo>
                    <a:pt x="710" y="1449"/>
                  </a:lnTo>
                  <a:lnTo>
                    <a:pt x="658" y="1432"/>
                  </a:lnTo>
                  <a:lnTo>
                    <a:pt x="609" y="1407"/>
                  </a:lnTo>
                  <a:lnTo>
                    <a:pt x="565" y="1375"/>
                  </a:lnTo>
                  <a:lnTo>
                    <a:pt x="521" y="1337"/>
                  </a:lnTo>
                  <a:lnTo>
                    <a:pt x="485" y="1296"/>
                  </a:lnTo>
                  <a:lnTo>
                    <a:pt x="455" y="1253"/>
                  </a:lnTo>
                  <a:lnTo>
                    <a:pt x="432" y="1208"/>
                  </a:lnTo>
                  <a:lnTo>
                    <a:pt x="426" y="1199"/>
                  </a:lnTo>
                  <a:lnTo>
                    <a:pt x="420" y="1191"/>
                  </a:lnTo>
                  <a:lnTo>
                    <a:pt x="413" y="1184"/>
                  </a:lnTo>
                  <a:lnTo>
                    <a:pt x="406" y="1179"/>
                  </a:lnTo>
                  <a:lnTo>
                    <a:pt x="397" y="1172"/>
                  </a:lnTo>
                  <a:lnTo>
                    <a:pt x="390" y="1167"/>
                  </a:lnTo>
                  <a:lnTo>
                    <a:pt x="383" y="1163"/>
                  </a:lnTo>
                  <a:lnTo>
                    <a:pt x="377" y="1159"/>
                  </a:lnTo>
                  <a:lnTo>
                    <a:pt x="365" y="1166"/>
                  </a:lnTo>
                  <a:lnTo>
                    <a:pt x="360" y="1175"/>
                  </a:lnTo>
                  <a:lnTo>
                    <a:pt x="361" y="1183"/>
                  </a:lnTo>
                  <a:lnTo>
                    <a:pt x="366" y="1194"/>
                  </a:lnTo>
                  <a:lnTo>
                    <a:pt x="372" y="1205"/>
                  </a:lnTo>
                  <a:lnTo>
                    <a:pt x="381" y="1215"/>
                  </a:lnTo>
                  <a:lnTo>
                    <a:pt x="387" y="1226"/>
                  </a:lnTo>
                  <a:lnTo>
                    <a:pt x="389" y="1238"/>
                  </a:lnTo>
                  <a:lnTo>
                    <a:pt x="400" y="1267"/>
                  </a:lnTo>
                  <a:lnTo>
                    <a:pt x="413" y="1296"/>
                  </a:lnTo>
                  <a:lnTo>
                    <a:pt x="424" y="1325"/>
                  </a:lnTo>
                  <a:lnTo>
                    <a:pt x="437" y="1354"/>
                  </a:lnTo>
                  <a:lnTo>
                    <a:pt x="448" y="1381"/>
                  </a:lnTo>
                  <a:lnTo>
                    <a:pt x="460" y="1410"/>
                  </a:lnTo>
                  <a:lnTo>
                    <a:pt x="470" y="1439"/>
                  </a:lnTo>
                  <a:lnTo>
                    <a:pt x="480" y="1469"/>
                  </a:lnTo>
                  <a:lnTo>
                    <a:pt x="459" y="1457"/>
                  </a:lnTo>
                  <a:lnTo>
                    <a:pt x="441" y="1443"/>
                  </a:lnTo>
                  <a:lnTo>
                    <a:pt x="421" y="1426"/>
                  </a:lnTo>
                  <a:lnTo>
                    <a:pt x="405" y="1409"/>
                  </a:lnTo>
                  <a:lnTo>
                    <a:pt x="388" y="1389"/>
                  </a:lnTo>
                  <a:lnTo>
                    <a:pt x="375" y="1368"/>
                  </a:lnTo>
                  <a:lnTo>
                    <a:pt x="362" y="1345"/>
                  </a:lnTo>
                  <a:lnTo>
                    <a:pt x="353" y="1324"/>
                  </a:lnTo>
                  <a:lnTo>
                    <a:pt x="348" y="1315"/>
                  </a:lnTo>
                  <a:lnTo>
                    <a:pt x="344" y="1308"/>
                  </a:lnTo>
                  <a:lnTo>
                    <a:pt x="342" y="1300"/>
                  </a:lnTo>
                  <a:lnTo>
                    <a:pt x="340" y="1292"/>
                  </a:lnTo>
                  <a:lnTo>
                    <a:pt x="336" y="1285"/>
                  </a:lnTo>
                  <a:lnTo>
                    <a:pt x="332" y="1278"/>
                  </a:lnTo>
                  <a:lnTo>
                    <a:pt x="328" y="1272"/>
                  </a:lnTo>
                  <a:lnTo>
                    <a:pt x="323" y="1268"/>
                  </a:lnTo>
                  <a:lnTo>
                    <a:pt x="324" y="1260"/>
                  </a:lnTo>
                  <a:lnTo>
                    <a:pt x="324" y="1254"/>
                  </a:lnTo>
                  <a:lnTo>
                    <a:pt x="320" y="1249"/>
                  </a:lnTo>
                  <a:lnTo>
                    <a:pt x="318" y="1246"/>
                  </a:lnTo>
                  <a:lnTo>
                    <a:pt x="308" y="1238"/>
                  </a:lnTo>
                  <a:lnTo>
                    <a:pt x="305" y="1232"/>
                  </a:lnTo>
                  <a:lnTo>
                    <a:pt x="282" y="1258"/>
                  </a:lnTo>
                  <a:lnTo>
                    <a:pt x="272" y="1289"/>
                  </a:lnTo>
                  <a:lnTo>
                    <a:pt x="270" y="1322"/>
                  </a:lnTo>
                  <a:lnTo>
                    <a:pt x="276" y="1359"/>
                  </a:lnTo>
                  <a:lnTo>
                    <a:pt x="282" y="1393"/>
                  </a:lnTo>
                  <a:lnTo>
                    <a:pt x="290" y="1429"/>
                  </a:lnTo>
                  <a:lnTo>
                    <a:pt x="296" y="1464"/>
                  </a:lnTo>
                  <a:lnTo>
                    <a:pt x="299" y="1499"/>
                  </a:lnTo>
                  <a:lnTo>
                    <a:pt x="289" y="1497"/>
                  </a:lnTo>
                  <a:lnTo>
                    <a:pt x="282" y="1492"/>
                  </a:lnTo>
                  <a:lnTo>
                    <a:pt x="275" y="1485"/>
                  </a:lnTo>
                  <a:lnTo>
                    <a:pt x="267" y="1479"/>
                  </a:lnTo>
                  <a:lnTo>
                    <a:pt x="259" y="1472"/>
                  </a:lnTo>
                  <a:lnTo>
                    <a:pt x="251" y="1466"/>
                  </a:lnTo>
                  <a:lnTo>
                    <a:pt x="241" y="1462"/>
                  </a:lnTo>
                  <a:lnTo>
                    <a:pt x="231" y="1463"/>
                  </a:lnTo>
                  <a:lnTo>
                    <a:pt x="170" y="1409"/>
                  </a:lnTo>
                  <a:lnTo>
                    <a:pt x="118" y="1349"/>
                  </a:lnTo>
                  <a:lnTo>
                    <a:pt x="74" y="1284"/>
                  </a:lnTo>
                  <a:lnTo>
                    <a:pt x="40" y="1215"/>
                  </a:lnTo>
                  <a:lnTo>
                    <a:pt x="15" y="1142"/>
                  </a:lnTo>
                  <a:lnTo>
                    <a:pt x="2" y="1068"/>
                  </a:lnTo>
                  <a:lnTo>
                    <a:pt x="0" y="989"/>
                  </a:lnTo>
                  <a:lnTo>
                    <a:pt x="14" y="911"/>
                  </a:lnTo>
                  <a:lnTo>
                    <a:pt x="37" y="821"/>
                  </a:lnTo>
                  <a:lnTo>
                    <a:pt x="65" y="732"/>
                  </a:lnTo>
                  <a:lnTo>
                    <a:pt x="99" y="644"/>
                  </a:lnTo>
                  <a:lnTo>
                    <a:pt x="140" y="560"/>
                  </a:lnTo>
                  <a:lnTo>
                    <a:pt x="187" y="478"/>
                  </a:lnTo>
                  <a:lnTo>
                    <a:pt x="243" y="404"/>
                  </a:lnTo>
                  <a:lnTo>
                    <a:pt x="310" y="334"/>
                  </a:lnTo>
                  <a:lnTo>
                    <a:pt x="389" y="274"/>
                  </a:lnTo>
                  <a:lnTo>
                    <a:pt x="491" y="202"/>
                  </a:lnTo>
                  <a:lnTo>
                    <a:pt x="601" y="141"/>
                  </a:lnTo>
                  <a:lnTo>
                    <a:pt x="714" y="90"/>
                  </a:lnTo>
                  <a:lnTo>
                    <a:pt x="833" y="52"/>
                  </a:lnTo>
                  <a:lnTo>
                    <a:pt x="955" y="23"/>
                  </a:lnTo>
                  <a:lnTo>
                    <a:pt x="1082" y="6"/>
                  </a:lnTo>
                  <a:lnTo>
                    <a:pt x="1209" y="0"/>
                  </a:lnTo>
                  <a:lnTo>
                    <a:pt x="1341" y="7"/>
                  </a:lnTo>
                  <a:lnTo>
                    <a:pt x="1411" y="16"/>
                  </a:lnTo>
                  <a:lnTo>
                    <a:pt x="1482" y="26"/>
                  </a:lnTo>
                  <a:lnTo>
                    <a:pt x="1553" y="40"/>
                  </a:lnTo>
                  <a:lnTo>
                    <a:pt x="1623" y="56"/>
                  </a:lnTo>
                  <a:lnTo>
                    <a:pt x="1690" y="77"/>
                  </a:lnTo>
                  <a:lnTo>
                    <a:pt x="1759" y="102"/>
                  </a:lnTo>
                  <a:lnTo>
                    <a:pt x="1824" y="132"/>
                  </a:lnTo>
                  <a:lnTo>
                    <a:pt x="1887" y="171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 flipH="1">
              <a:off x="153000" y="4628160"/>
              <a:ext cx="18720" cy="1548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6" h="31">
                  <a:moveTo>
                    <a:pt x="36" y="13"/>
                  </a:moveTo>
                  <a:lnTo>
                    <a:pt x="34" y="19"/>
                  </a:lnTo>
                  <a:lnTo>
                    <a:pt x="31" y="24"/>
                  </a:lnTo>
                  <a:lnTo>
                    <a:pt x="28" y="26"/>
                  </a:lnTo>
                  <a:lnTo>
                    <a:pt x="24" y="31"/>
                  </a:lnTo>
                  <a:lnTo>
                    <a:pt x="16" y="28"/>
                  </a:lnTo>
                  <a:lnTo>
                    <a:pt x="12" y="25"/>
                  </a:lnTo>
                  <a:lnTo>
                    <a:pt x="6" y="20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4" y="7"/>
                  </a:lnTo>
                  <a:lnTo>
                    <a:pt x="8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1" y="6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 flipH="1">
              <a:off x="136440" y="4646160"/>
              <a:ext cx="16200" cy="13320"/>
            </a:xfrm>
            <a:custGeom>
              <a:avLst/>
              <a:gdLst>
                <a:gd name="textAreaLeft" fmla="*/ -360 w 16200"/>
                <a:gd name="textAreaRight" fmla="*/ 16200 w 162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30" h="29">
                  <a:moveTo>
                    <a:pt x="30" y="11"/>
                  </a:moveTo>
                  <a:lnTo>
                    <a:pt x="29" y="19"/>
                  </a:lnTo>
                  <a:lnTo>
                    <a:pt x="24" y="29"/>
                  </a:lnTo>
                  <a:lnTo>
                    <a:pt x="14" y="26"/>
                  </a:lnTo>
                  <a:lnTo>
                    <a:pt x="7" y="24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4" y="1"/>
                  </a:lnTo>
                  <a:lnTo>
                    <a:pt x="7" y="0"/>
                  </a:lnTo>
                  <a:lnTo>
                    <a:pt x="12" y="1"/>
                  </a:lnTo>
                  <a:lnTo>
                    <a:pt x="22" y="5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 flipH="1">
              <a:off x="1510920" y="4655160"/>
              <a:ext cx="21600" cy="1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9" h="28">
                  <a:moveTo>
                    <a:pt x="39" y="10"/>
                  </a:moveTo>
                  <a:lnTo>
                    <a:pt x="34" y="17"/>
                  </a:lnTo>
                  <a:lnTo>
                    <a:pt x="29" y="23"/>
                  </a:lnTo>
                  <a:lnTo>
                    <a:pt x="24" y="25"/>
                  </a:lnTo>
                  <a:lnTo>
                    <a:pt x="21" y="28"/>
                  </a:lnTo>
                  <a:lnTo>
                    <a:pt x="15" y="27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0" y="13"/>
                  </a:lnTo>
                  <a:lnTo>
                    <a:pt x="3" y="7"/>
                  </a:lnTo>
                  <a:lnTo>
                    <a:pt x="6" y="3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3" y="5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 flipH="1">
              <a:off x="237960" y="4728960"/>
              <a:ext cx="1357560" cy="1106280"/>
            </a:xfrm>
            <a:custGeom>
              <a:avLst/>
              <a:gdLst>
                <a:gd name="textAreaLeft" fmla="*/ -360 w 1357560"/>
                <a:gd name="textAreaRight" fmla="*/ 1357560 w 135756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544" h="2483">
                  <a:moveTo>
                    <a:pt x="1365" y="213"/>
                  </a:moveTo>
                  <a:lnTo>
                    <a:pt x="1371" y="214"/>
                  </a:lnTo>
                  <a:lnTo>
                    <a:pt x="1381" y="217"/>
                  </a:lnTo>
                  <a:lnTo>
                    <a:pt x="1389" y="217"/>
                  </a:lnTo>
                  <a:lnTo>
                    <a:pt x="1400" y="218"/>
                  </a:lnTo>
                  <a:lnTo>
                    <a:pt x="1409" y="216"/>
                  </a:lnTo>
                  <a:lnTo>
                    <a:pt x="1418" y="213"/>
                  </a:lnTo>
                  <a:lnTo>
                    <a:pt x="1424" y="208"/>
                  </a:lnTo>
                  <a:lnTo>
                    <a:pt x="1431" y="201"/>
                  </a:lnTo>
                  <a:lnTo>
                    <a:pt x="1431" y="194"/>
                  </a:lnTo>
                  <a:lnTo>
                    <a:pt x="1431" y="188"/>
                  </a:lnTo>
                  <a:lnTo>
                    <a:pt x="1431" y="181"/>
                  </a:lnTo>
                  <a:lnTo>
                    <a:pt x="1431" y="176"/>
                  </a:lnTo>
                  <a:lnTo>
                    <a:pt x="1457" y="192"/>
                  </a:lnTo>
                  <a:lnTo>
                    <a:pt x="1484" y="206"/>
                  </a:lnTo>
                  <a:lnTo>
                    <a:pt x="1512" y="218"/>
                  </a:lnTo>
                  <a:lnTo>
                    <a:pt x="1541" y="230"/>
                  </a:lnTo>
                  <a:lnTo>
                    <a:pt x="1569" y="240"/>
                  </a:lnTo>
                  <a:lnTo>
                    <a:pt x="1596" y="252"/>
                  </a:lnTo>
                  <a:lnTo>
                    <a:pt x="1624" y="264"/>
                  </a:lnTo>
                  <a:lnTo>
                    <a:pt x="1650" y="279"/>
                  </a:lnTo>
                  <a:lnTo>
                    <a:pt x="1644" y="312"/>
                  </a:lnTo>
                  <a:lnTo>
                    <a:pt x="1640" y="348"/>
                  </a:lnTo>
                  <a:lnTo>
                    <a:pt x="1636" y="384"/>
                  </a:lnTo>
                  <a:lnTo>
                    <a:pt x="1637" y="421"/>
                  </a:lnTo>
                  <a:lnTo>
                    <a:pt x="1640" y="456"/>
                  </a:lnTo>
                  <a:lnTo>
                    <a:pt x="1650" y="491"/>
                  </a:lnTo>
                  <a:lnTo>
                    <a:pt x="1666" y="520"/>
                  </a:lnTo>
                  <a:lnTo>
                    <a:pt x="1692" y="546"/>
                  </a:lnTo>
                  <a:lnTo>
                    <a:pt x="1698" y="547"/>
                  </a:lnTo>
                  <a:lnTo>
                    <a:pt x="1706" y="549"/>
                  </a:lnTo>
                  <a:lnTo>
                    <a:pt x="1713" y="549"/>
                  </a:lnTo>
                  <a:lnTo>
                    <a:pt x="1721" y="550"/>
                  </a:lnTo>
                  <a:lnTo>
                    <a:pt x="1727" y="547"/>
                  </a:lnTo>
                  <a:lnTo>
                    <a:pt x="1735" y="546"/>
                  </a:lnTo>
                  <a:lnTo>
                    <a:pt x="1741" y="543"/>
                  </a:lnTo>
                  <a:lnTo>
                    <a:pt x="1747" y="540"/>
                  </a:lnTo>
                  <a:lnTo>
                    <a:pt x="1738" y="580"/>
                  </a:lnTo>
                  <a:lnTo>
                    <a:pt x="1733" y="620"/>
                  </a:lnTo>
                  <a:lnTo>
                    <a:pt x="1732" y="659"/>
                  </a:lnTo>
                  <a:lnTo>
                    <a:pt x="1735" y="699"/>
                  </a:lnTo>
                  <a:lnTo>
                    <a:pt x="1739" y="736"/>
                  </a:lnTo>
                  <a:lnTo>
                    <a:pt x="1748" y="775"/>
                  </a:lnTo>
                  <a:lnTo>
                    <a:pt x="1760" y="812"/>
                  </a:lnTo>
                  <a:lnTo>
                    <a:pt x="1778" y="849"/>
                  </a:lnTo>
                  <a:lnTo>
                    <a:pt x="1792" y="874"/>
                  </a:lnTo>
                  <a:lnTo>
                    <a:pt x="1811" y="901"/>
                  </a:lnTo>
                  <a:lnTo>
                    <a:pt x="1830" y="927"/>
                  </a:lnTo>
                  <a:lnTo>
                    <a:pt x="1852" y="953"/>
                  </a:lnTo>
                  <a:lnTo>
                    <a:pt x="1875" y="973"/>
                  </a:lnTo>
                  <a:lnTo>
                    <a:pt x="1903" y="991"/>
                  </a:lnTo>
                  <a:lnTo>
                    <a:pt x="1932" y="1002"/>
                  </a:lnTo>
                  <a:lnTo>
                    <a:pt x="1965" y="1007"/>
                  </a:lnTo>
                  <a:lnTo>
                    <a:pt x="1981" y="1003"/>
                  </a:lnTo>
                  <a:lnTo>
                    <a:pt x="1994" y="996"/>
                  </a:lnTo>
                  <a:lnTo>
                    <a:pt x="2003" y="985"/>
                  </a:lnTo>
                  <a:lnTo>
                    <a:pt x="2010" y="973"/>
                  </a:lnTo>
                  <a:lnTo>
                    <a:pt x="2015" y="959"/>
                  </a:lnTo>
                  <a:lnTo>
                    <a:pt x="2020" y="945"/>
                  </a:lnTo>
                  <a:lnTo>
                    <a:pt x="2027" y="932"/>
                  </a:lnTo>
                  <a:lnTo>
                    <a:pt x="2038" y="922"/>
                  </a:lnTo>
                  <a:lnTo>
                    <a:pt x="2065" y="894"/>
                  </a:lnTo>
                  <a:lnTo>
                    <a:pt x="2095" y="867"/>
                  </a:lnTo>
                  <a:lnTo>
                    <a:pt x="2127" y="842"/>
                  </a:lnTo>
                  <a:lnTo>
                    <a:pt x="2160" y="819"/>
                  </a:lnTo>
                  <a:lnTo>
                    <a:pt x="2193" y="796"/>
                  </a:lnTo>
                  <a:lnTo>
                    <a:pt x="2229" y="778"/>
                  </a:lnTo>
                  <a:lnTo>
                    <a:pt x="2265" y="763"/>
                  </a:lnTo>
                  <a:lnTo>
                    <a:pt x="2305" y="752"/>
                  </a:lnTo>
                  <a:lnTo>
                    <a:pt x="2333" y="748"/>
                  </a:lnTo>
                  <a:lnTo>
                    <a:pt x="2366" y="749"/>
                  </a:lnTo>
                  <a:lnTo>
                    <a:pt x="2396" y="753"/>
                  </a:lnTo>
                  <a:lnTo>
                    <a:pt x="2427" y="763"/>
                  </a:lnTo>
                  <a:lnTo>
                    <a:pt x="2455" y="773"/>
                  </a:lnTo>
                  <a:lnTo>
                    <a:pt x="2481" y="790"/>
                  </a:lnTo>
                  <a:lnTo>
                    <a:pt x="2504" y="812"/>
                  </a:lnTo>
                  <a:lnTo>
                    <a:pt x="2523" y="837"/>
                  </a:lnTo>
                  <a:lnTo>
                    <a:pt x="2539" y="885"/>
                  </a:lnTo>
                  <a:lnTo>
                    <a:pt x="2544" y="935"/>
                  </a:lnTo>
                  <a:lnTo>
                    <a:pt x="2538" y="981"/>
                  </a:lnTo>
                  <a:lnTo>
                    <a:pt x="2526" y="1028"/>
                  </a:lnTo>
                  <a:lnTo>
                    <a:pt x="2507" y="1072"/>
                  </a:lnTo>
                  <a:lnTo>
                    <a:pt x="2485" y="1116"/>
                  </a:lnTo>
                  <a:lnTo>
                    <a:pt x="2461" y="1158"/>
                  </a:lnTo>
                  <a:lnTo>
                    <a:pt x="2438" y="1201"/>
                  </a:lnTo>
                  <a:lnTo>
                    <a:pt x="2418" y="1223"/>
                  </a:lnTo>
                  <a:lnTo>
                    <a:pt x="2395" y="1244"/>
                  </a:lnTo>
                  <a:lnTo>
                    <a:pt x="2370" y="1262"/>
                  </a:lnTo>
                  <a:lnTo>
                    <a:pt x="2342" y="1276"/>
                  </a:lnTo>
                  <a:lnTo>
                    <a:pt x="2311" y="1287"/>
                  </a:lnTo>
                  <a:lnTo>
                    <a:pt x="2279" y="1294"/>
                  </a:lnTo>
                  <a:lnTo>
                    <a:pt x="2247" y="1298"/>
                  </a:lnTo>
                  <a:lnTo>
                    <a:pt x="2214" y="1298"/>
                  </a:lnTo>
                  <a:lnTo>
                    <a:pt x="2198" y="1290"/>
                  </a:lnTo>
                  <a:lnTo>
                    <a:pt x="2181" y="1287"/>
                  </a:lnTo>
                  <a:lnTo>
                    <a:pt x="2164" y="1283"/>
                  </a:lnTo>
                  <a:lnTo>
                    <a:pt x="2147" y="1281"/>
                  </a:lnTo>
                  <a:lnTo>
                    <a:pt x="2129" y="1277"/>
                  </a:lnTo>
                  <a:lnTo>
                    <a:pt x="2112" y="1274"/>
                  </a:lnTo>
                  <a:lnTo>
                    <a:pt x="2095" y="1269"/>
                  </a:lnTo>
                  <a:lnTo>
                    <a:pt x="2081" y="1262"/>
                  </a:lnTo>
                  <a:lnTo>
                    <a:pt x="2075" y="1259"/>
                  </a:lnTo>
                  <a:lnTo>
                    <a:pt x="2069" y="1262"/>
                  </a:lnTo>
                  <a:lnTo>
                    <a:pt x="2060" y="1265"/>
                  </a:lnTo>
                  <a:lnTo>
                    <a:pt x="2053" y="1271"/>
                  </a:lnTo>
                  <a:lnTo>
                    <a:pt x="2046" y="1277"/>
                  </a:lnTo>
                  <a:lnTo>
                    <a:pt x="2039" y="1283"/>
                  </a:lnTo>
                  <a:lnTo>
                    <a:pt x="2034" y="1287"/>
                  </a:lnTo>
                  <a:lnTo>
                    <a:pt x="2032" y="1292"/>
                  </a:lnTo>
                  <a:lnTo>
                    <a:pt x="1987" y="1401"/>
                  </a:lnTo>
                  <a:lnTo>
                    <a:pt x="1957" y="1518"/>
                  </a:lnTo>
                  <a:lnTo>
                    <a:pt x="1939" y="1638"/>
                  </a:lnTo>
                  <a:lnTo>
                    <a:pt x="1934" y="1762"/>
                  </a:lnTo>
                  <a:lnTo>
                    <a:pt x="1939" y="1883"/>
                  </a:lnTo>
                  <a:lnTo>
                    <a:pt x="1956" y="2003"/>
                  </a:lnTo>
                  <a:lnTo>
                    <a:pt x="1982" y="2120"/>
                  </a:lnTo>
                  <a:lnTo>
                    <a:pt x="2020" y="2232"/>
                  </a:lnTo>
                  <a:lnTo>
                    <a:pt x="2023" y="2244"/>
                  </a:lnTo>
                  <a:lnTo>
                    <a:pt x="2027" y="2257"/>
                  </a:lnTo>
                  <a:lnTo>
                    <a:pt x="2030" y="2269"/>
                  </a:lnTo>
                  <a:lnTo>
                    <a:pt x="2036" y="2282"/>
                  </a:lnTo>
                  <a:lnTo>
                    <a:pt x="2041" y="2293"/>
                  </a:lnTo>
                  <a:lnTo>
                    <a:pt x="2048" y="2305"/>
                  </a:lnTo>
                  <a:lnTo>
                    <a:pt x="2057" y="2317"/>
                  </a:lnTo>
                  <a:lnTo>
                    <a:pt x="2069" y="2329"/>
                  </a:lnTo>
                  <a:lnTo>
                    <a:pt x="2062" y="2347"/>
                  </a:lnTo>
                  <a:lnTo>
                    <a:pt x="2053" y="2366"/>
                  </a:lnTo>
                  <a:lnTo>
                    <a:pt x="2041" y="2384"/>
                  </a:lnTo>
                  <a:lnTo>
                    <a:pt x="2028" y="2404"/>
                  </a:lnTo>
                  <a:lnTo>
                    <a:pt x="2012" y="2422"/>
                  </a:lnTo>
                  <a:lnTo>
                    <a:pt x="1997" y="2440"/>
                  </a:lnTo>
                  <a:lnTo>
                    <a:pt x="1980" y="2459"/>
                  </a:lnTo>
                  <a:lnTo>
                    <a:pt x="1965" y="2481"/>
                  </a:lnTo>
                  <a:lnTo>
                    <a:pt x="1956" y="2483"/>
                  </a:lnTo>
                  <a:lnTo>
                    <a:pt x="1949" y="2483"/>
                  </a:lnTo>
                  <a:lnTo>
                    <a:pt x="1943" y="2478"/>
                  </a:lnTo>
                  <a:lnTo>
                    <a:pt x="1941" y="2469"/>
                  </a:lnTo>
                  <a:lnTo>
                    <a:pt x="1934" y="2457"/>
                  </a:lnTo>
                  <a:lnTo>
                    <a:pt x="1928" y="2447"/>
                  </a:lnTo>
                  <a:lnTo>
                    <a:pt x="1923" y="2436"/>
                  </a:lnTo>
                  <a:lnTo>
                    <a:pt x="1919" y="2429"/>
                  </a:lnTo>
                  <a:lnTo>
                    <a:pt x="1911" y="2422"/>
                  </a:lnTo>
                  <a:lnTo>
                    <a:pt x="1904" y="2415"/>
                  </a:lnTo>
                  <a:lnTo>
                    <a:pt x="1896" y="2407"/>
                  </a:lnTo>
                  <a:lnTo>
                    <a:pt x="1886" y="2401"/>
                  </a:lnTo>
                  <a:lnTo>
                    <a:pt x="1861" y="2365"/>
                  </a:lnTo>
                  <a:lnTo>
                    <a:pt x="1840" y="2327"/>
                  </a:lnTo>
                  <a:lnTo>
                    <a:pt x="1821" y="2286"/>
                  </a:lnTo>
                  <a:lnTo>
                    <a:pt x="1802" y="2247"/>
                  </a:lnTo>
                  <a:lnTo>
                    <a:pt x="1778" y="2211"/>
                  </a:lnTo>
                  <a:lnTo>
                    <a:pt x="1750" y="2184"/>
                  </a:lnTo>
                  <a:lnTo>
                    <a:pt x="1714" y="2164"/>
                  </a:lnTo>
                  <a:lnTo>
                    <a:pt x="1668" y="2158"/>
                  </a:lnTo>
                  <a:lnTo>
                    <a:pt x="1565" y="2190"/>
                  </a:lnTo>
                  <a:lnTo>
                    <a:pt x="1456" y="2221"/>
                  </a:lnTo>
                  <a:lnTo>
                    <a:pt x="1340" y="2245"/>
                  </a:lnTo>
                  <a:lnTo>
                    <a:pt x="1225" y="2261"/>
                  </a:lnTo>
                  <a:lnTo>
                    <a:pt x="1109" y="2261"/>
                  </a:lnTo>
                  <a:lnTo>
                    <a:pt x="999" y="2244"/>
                  </a:lnTo>
                  <a:lnTo>
                    <a:pt x="895" y="2204"/>
                  </a:lnTo>
                  <a:lnTo>
                    <a:pt x="801" y="2140"/>
                  </a:lnTo>
                  <a:lnTo>
                    <a:pt x="839" y="2133"/>
                  </a:lnTo>
                  <a:lnTo>
                    <a:pt x="878" y="2130"/>
                  </a:lnTo>
                  <a:lnTo>
                    <a:pt x="919" y="2128"/>
                  </a:lnTo>
                  <a:lnTo>
                    <a:pt x="960" y="2127"/>
                  </a:lnTo>
                  <a:lnTo>
                    <a:pt x="1000" y="2124"/>
                  </a:lnTo>
                  <a:lnTo>
                    <a:pt x="1039" y="2119"/>
                  </a:lnTo>
                  <a:lnTo>
                    <a:pt x="1078" y="2108"/>
                  </a:lnTo>
                  <a:lnTo>
                    <a:pt x="1116" y="2092"/>
                  </a:lnTo>
                  <a:lnTo>
                    <a:pt x="1162" y="2069"/>
                  </a:lnTo>
                  <a:lnTo>
                    <a:pt x="1208" y="2044"/>
                  </a:lnTo>
                  <a:lnTo>
                    <a:pt x="1253" y="2015"/>
                  </a:lnTo>
                  <a:lnTo>
                    <a:pt x="1299" y="1983"/>
                  </a:lnTo>
                  <a:lnTo>
                    <a:pt x="1339" y="1947"/>
                  </a:lnTo>
                  <a:lnTo>
                    <a:pt x="1376" y="1907"/>
                  </a:lnTo>
                  <a:lnTo>
                    <a:pt x="1406" y="1865"/>
                  </a:lnTo>
                  <a:lnTo>
                    <a:pt x="1431" y="1819"/>
                  </a:lnTo>
                  <a:lnTo>
                    <a:pt x="1445" y="1793"/>
                  </a:lnTo>
                  <a:lnTo>
                    <a:pt x="1459" y="1768"/>
                  </a:lnTo>
                  <a:lnTo>
                    <a:pt x="1472" y="1741"/>
                  </a:lnTo>
                  <a:lnTo>
                    <a:pt x="1487" y="1715"/>
                  </a:lnTo>
                  <a:lnTo>
                    <a:pt x="1498" y="1687"/>
                  </a:lnTo>
                  <a:lnTo>
                    <a:pt x="1510" y="1661"/>
                  </a:lnTo>
                  <a:lnTo>
                    <a:pt x="1519" y="1634"/>
                  </a:lnTo>
                  <a:lnTo>
                    <a:pt x="1529" y="1608"/>
                  </a:lnTo>
                  <a:lnTo>
                    <a:pt x="1534" y="1567"/>
                  </a:lnTo>
                  <a:lnTo>
                    <a:pt x="1541" y="1527"/>
                  </a:lnTo>
                  <a:lnTo>
                    <a:pt x="1548" y="1486"/>
                  </a:lnTo>
                  <a:lnTo>
                    <a:pt x="1557" y="1447"/>
                  </a:lnTo>
                  <a:lnTo>
                    <a:pt x="1560" y="1405"/>
                  </a:lnTo>
                  <a:lnTo>
                    <a:pt x="1563" y="1364"/>
                  </a:lnTo>
                  <a:lnTo>
                    <a:pt x="1560" y="1324"/>
                  </a:lnTo>
                  <a:lnTo>
                    <a:pt x="1553" y="1286"/>
                  </a:lnTo>
                  <a:lnTo>
                    <a:pt x="1554" y="1284"/>
                  </a:lnTo>
                  <a:lnTo>
                    <a:pt x="1561" y="1283"/>
                  </a:lnTo>
                  <a:lnTo>
                    <a:pt x="1572" y="1283"/>
                  </a:lnTo>
                  <a:lnTo>
                    <a:pt x="1588" y="1288"/>
                  </a:lnTo>
                  <a:lnTo>
                    <a:pt x="1605" y="1294"/>
                  </a:lnTo>
                  <a:lnTo>
                    <a:pt x="1626" y="1308"/>
                  </a:lnTo>
                  <a:lnTo>
                    <a:pt x="1649" y="1329"/>
                  </a:lnTo>
                  <a:lnTo>
                    <a:pt x="1674" y="1359"/>
                  </a:lnTo>
                  <a:lnTo>
                    <a:pt x="1677" y="1351"/>
                  </a:lnTo>
                  <a:lnTo>
                    <a:pt x="1679" y="1342"/>
                  </a:lnTo>
                  <a:lnTo>
                    <a:pt x="1679" y="1334"/>
                  </a:lnTo>
                  <a:lnTo>
                    <a:pt x="1680" y="1325"/>
                  </a:lnTo>
                  <a:lnTo>
                    <a:pt x="1678" y="1314"/>
                  </a:lnTo>
                  <a:lnTo>
                    <a:pt x="1676" y="1306"/>
                  </a:lnTo>
                  <a:lnTo>
                    <a:pt x="1672" y="1298"/>
                  </a:lnTo>
                  <a:lnTo>
                    <a:pt x="1668" y="1292"/>
                  </a:lnTo>
                  <a:lnTo>
                    <a:pt x="1648" y="1269"/>
                  </a:lnTo>
                  <a:lnTo>
                    <a:pt x="1624" y="1254"/>
                  </a:lnTo>
                  <a:lnTo>
                    <a:pt x="1596" y="1245"/>
                  </a:lnTo>
                  <a:lnTo>
                    <a:pt x="1569" y="1241"/>
                  </a:lnTo>
                  <a:lnTo>
                    <a:pt x="1538" y="1240"/>
                  </a:lnTo>
                  <a:lnTo>
                    <a:pt x="1510" y="1244"/>
                  </a:lnTo>
                  <a:lnTo>
                    <a:pt x="1481" y="1248"/>
                  </a:lnTo>
                  <a:lnTo>
                    <a:pt x="1456" y="1256"/>
                  </a:lnTo>
                  <a:lnTo>
                    <a:pt x="1442" y="1262"/>
                  </a:lnTo>
                  <a:lnTo>
                    <a:pt x="1430" y="1271"/>
                  </a:lnTo>
                  <a:lnTo>
                    <a:pt x="1418" y="1281"/>
                  </a:lnTo>
                  <a:lnTo>
                    <a:pt x="1407" y="1294"/>
                  </a:lnTo>
                  <a:lnTo>
                    <a:pt x="1397" y="1305"/>
                  </a:lnTo>
                  <a:lnTo>
                    <a:pt x="1389" y="1318"/>
                  </a:lnTo>
                  <a:lnTo>
                    <a:pt x="1385" y="1332"/>
                  </a:lnTo>
                  <a:lnTo>
                    <a:pt x="1383" y="1347"/>
                  </a:lnTo>
                  <a:lnTo>
                    <a:pt x="1395" y="1352"/>
                  </a:lnTo>
                  <a:lnTo>
                    <a:pt x="1407" y="1349"/>
                  </a:lnTo>
                  <a:lnTo>
                    <a:pt x="1418" y="1342"/>
                  </a:lnTo>
                  <a:lnTo>
                    <a:pt x="1430" y="1332"/>
                  </a:lnTo>
                  <a:lnTo>
                    <a:pt x="1440" y="1319"/>
                  </a:lnTo>
                  <a:lnTo>
                    <a:pt x="1451" y="1308"/>
                  </a:lnTo>
                  <a:lnTo>
                    <a:pt x="1462" y="1298"/>
                  </a:lnTo>
                  <a:lnTo>
                    <a:pt x="1474" y="1292"/>
                  </a:lnTo>
                  <a:lnTo>
                    <a:pt x="1482" y="1289"/>
                  </a:lnTo>
                  <a:lnTo>
                    <a:pt x="1492" y="1288"/>
                  </a:lnTo>
                  <a:lnTo>
                    <a:pt x="1501" y="1286"/>
                  </a:lnTo>
                  <a:lnTo>
                    <a:pt x="1511" y="1286"/>
                  </a:lnTo>
                  <a:lnTo>
                    <a:pt x="1506" y="1347"/>
                  </a:lnTo>
                  <a:lnTo>
                    <a:pt x="1502" y="1411"/>
                  </a:lnTo>
                  <a:lnTo>
                    <a:pt x="1496" y="1473"/>
                  </a:lnTo>
                  <a:lnTo>
                    <a:pt x="1488" y="1537"/>
                  </a:lnTo>
                  <a:lnTo>
                    <a:pt x="1474" y="1598"/>
                  </a:lnTo>
                  <a:lnTo>
                    <a:pt x="1456" y="1659"/>
                  </a:lnTo>
                  <a:lnTo>
                    <a:pt x="1431" y="1716"/>
                  </a:lnTo>
                  <a:lnTo>
                    <a:pt x="1401" y="1771"/>
                  </a:lnTo>
                  <a:lnTo>
                    <a:pt x="1368" y="1824"/>
                  </a:lnTo>
                  <a:lnTo>
                    <a:pt x="1329" y="1873"/>
                  </a:lnTo>
                  <a:lnTo>
                    <a:pt x="1286" y="1919"/>
                  </a:lnTo>
                  <a:lnTo>
                    <a:pt x="1239" y="1962"/>
                  </a:lnTo>
                  <a:lnTo>
                    <a:pt x="1187" y="1999"/>
                  </a:lnTo>
                  <a:lnTo>
                    <a:pt x="1133" y="2029"/>
                  </a:lnTo>
                  <a:lnTo>
                    <a:pt x="1075" y="2051"/>
                  </a:lnTo>
                  <a:lnTo>
                    <a:pt x="1019" y="2068"/>
                  </a:lnTo>
                  <a:lnTo>
                    <a:pt x="967" y="2071"/>
                  </a:lnTo>
                  <a:lnTo>
                    <a:pt x="916" y="2075"/>
                  </a:lnTo>
                  <a:lnTo>
                    <a:pt x="863" y="2079"/>
                  </a:lnTo>
                  <a:lnTo>
                    <a:pt x="810" y="2083"/>
                  </a:lnTo>
                  <a:lnTo>
                    <a:pt x="757" y="2083"/>
                  </a:lnTo>
                  <a:lnTo>
                    <a:pt x="705" y="2081"/>
                  </a:lnTo>
                  <a:lnTo>
                    <a:pt x="655" y="2073"/>
                  </a:lnTo>
                  <a:lnTo>
                    <a:pt x="606" y="2062"/>
                  </a:lnTo>
                  <a:lnTo>
                    <a:pt x="606" y="2019"/>
                  </a:lnTo>
                  <a:lnTo>
                    <a:pt x="639" y="1954"/>
                  </a:lnTo>
                  <a:lnTo>
                    <a:pt x="675" y="1890"/>
                  </a:lnTo>
                  <a:lnTo>
                    <a:pt x="715" y="1828"/>
                  </a:lnTo>
                  <a:lnTo>
                    <a:pt x="758" y="1768"/>
                  </a:lnTo>
                  <a:lnTo>
                    <a:pt x="804" y="1708"/>
                  </a:lnTo>
                  <a:lnTo>
                    <a:pt x="853" y="1652"/>
                  </a:lnTo>
                  <a:lnTo>
                    <a:pt x="907" y="1599"/>
                  </a:lnTo>
                  <a:lnTo>
                    <a:pt x="965" y="1552"/>
                  </a:lnTo>
                  <a:lnTo>
                    <a:pt x="965" y="1534"/>
                  </a:lnTo>
                  <a:lnTo>
                    <a:pt x="953" y="1537"/>
                  </a:lnTo>
                  <a:lnTo>
                    <a:pt x="942" y="1542"/>
                  </a:lnTo>
                  <a:lnTo>
                    <a:pt x="931" y="1548"/>
                  </a:lnTo>
                  <a:lnTo>
                    <a:pt x="920" y="1555"/>
                  </a:lnTo>
                  <a:lnTo>
                    <a:pt x="908" y="1561"/>
                  </a:lnTo>
                  <a:lnTo>
                    <a:pt x="897" y="1567"/>
                  </a:lnTo>
                  <a:lnTo>
                    <a:pt x="885" y="1572"/>
                  </a:lnTo>
                  <a:lnTo>
                    <a:pt x="873" y="1577"/>
                  </a:lnTo>
                  <a:lnTo>
                    <a:pt x="807" y="1615"/>
                  </a:lnTo>
                  <a:lnTo>
                    <a:pt x="739" y="1653"/>
                  </a:lnTo>
                  <a:lnTo>
                    <a:pt x="667" y="1687"/>
                  </a:lnTo>
                  <a:lnTo>
                    <a:pt x="594" y="1715"/>
                  </a:lnTo>
                  <a:lnTo>
                    <a:pt x="517" y="1733"/>
                  </a:lnTo>
                  <a:lnTo>
                    <a:pt x="440" y="1742"/>
                  </a:lnTo>
                  <a:lnTo>
                    <a:pt x="360" y="1739"/>
                  </a:lnTo>
                  <a:lnTo>
                    <a:pt x="279" y="1722"/>
                  </a:lnTo>
                  <a:lnTo>
                    <a:pt x="252" y="1711"/>
                  </a:lnTo>
                  <a:lnTo>
                    <a:pt x="224" y="1702"/>
                  </a:lnTo>
                  <a:lnTo>
                    <a:pt x="196" y="1691"/>
                  </a:lnTo>
                  <a:lnTo>
                    <a:pt x="171" y="1680"/>
                  </a:lnTo>
                  <a:lnTo>
                    <a:pt x="143" y="1667"/>
                  </a:lnTo>
                  <a:lnTo>
                    <a:pt x="117" y="1655"/>
                  </a:lnTo>
                  <a:lnTo>
                    <a:pt x="92" y="1640"/>
                  </a:lnTo>
                  <a:lnTo>
                    <a:pt x="68" y="1626"/>
                  </a:lnTo>
                  <a:lnTo>
                    <a:pt x="41" y="1595"/>
                  </a:lnTo>
                  <a:lnTo>
                    <a:pt x="22" y="1560"/>
                  </a:lnTo>
                  <a:lnTo>
                    <a:pt x="9" y="1521"/>
                  </a:lnTo>
                  <a:lnTo>
                    <a:pt x="3" y="1483"/>
                  </a:lnTo>
                  <a:lnTo>
                    <a:pt x="0" y="1442"/>
                  </a:lnTo>
                  <a:lnTo>
                    <a:pt x="4" y="1402"/>
                  </a:lnTo>
                  <a:lnTo>
                    <a:pt x="11" y="1364"/>
                  </a:lnTo>
                  <a:lnTo>
                    <a:pt x="24" y="1329"/>
                  </a:lnTo>
                  <a:lnTo>
                    <a:pt x="33" y="1311"/>
                  </a:lnTo>
                  <a:lnTo>
                    <a:pt x="42" y="1293"/>
                  </a:lnTo>
                  <a:lnTo>
                    <a:pt x="52" y="1275"/>
                  </a:lnTo>
                  <a:lnTo>
                    <a:pt x="64" y="1258"/>
                  </a:lnTo>
                  <a:lnTo>
                    <a:pt x="76" y="1240"/>
                  </a:lnTo>
                  <a:lnTo>
                    <a:pt x="92" y="1227"/>
                  </a:lnTo>
                  <a:lnTo>
                    <a:pt x="107" y="1215"/>
                  </a:lnTo>
                  <a:lnTo>
                    <a:pt x="128" y="1207"/>
                  </a:lnTo>
                  <a:lnTo>
                    <a:pt x="195" y="1195"/>
                  </a:lnTo>
                  <a:lnTo>
                    <a:pt x="259" y="1200"/>
                  </a:lnTo>
                  <a:lnTo>
                    <a:pt x="320" y="1216"/>
                  </a:lnTo>
                  <a:lnTo>
                    <a:pt x="382" y="1240"/>
                  </a:lnTo>
                  <a:lnTo>
                    <a:pt x="442" y="1264"/>
                  </a:lnTo>
                  <a:lnTo>
                    <a:pt x="504" y="1284"/>
                  </a:lnTo>
                  <a:lnTo>
                    <a:pt x="568" y="1298"/>
                  </a:lnTo>
                  <a:lnTo>
                    <a:pt x="638" y="1298"/>
                  </a:lnTo>
                  <a:lnTo>
                    <a:pt x="698" y="1314"/>
                  </a:lnTo>
                  <a:lnTo>
                    <a:pt x="752" y="1314"/>
                  </a:lnTo>
                  <a:lnTo>
                    <a:pt x="796" y="1301"/>
                  </a:lnTo>
                  <a:lnTo>
                    <a:pt x="835" y="1280"/>
                  </a:lnTo>
                  <a:lnTo>
                    <a:pt x="864" y="1252"/>
                  </a:lnTo>
                  <a:lnTo>
                    <a:pt x="887" y="1223"/>
                  </a:lnTo>
                  <a:lnTo>
                    <a:pt x="901" y="1195"/>
                  </a:lnTo>
                  <a:lnTo>
                    <a:pt x="910" y="1176"/>
                  </a:lnTo>
                  <a:lnTo>
                    <a:pt x="935" y="1205"/>
                  </a:lnTo>
                  <a:lnTo>
                    <a:pt x="962" y="1237"/>
                  </a:lnTo>
                  <a:lnTo>
                    <a:pt x="992" y="1270"/>
                  </a:lnTo>
                  <a:lnTo>
                    <a:pt x="1027" y="1300"/>
                  </a:lnTo>
                  <a:lnTo>
                    <a:pt x="1063" y="1323"/>
                  </a:lnTo>
                  <a:lnTo>
                    <a:pt x="1103" y="1340"/>
                  </a:lnTo>
                  <a:lnTo>
                    <a:pt x="1146" y="1344"/>
                  </a:lnTo>
                  <a:lnTo>
                    <a:pt x="1196" y="1335"/>
                  </a:lnTo>
                  <a:lnTo>
                    <a:pt x="1221" y="1323"/>
                  </a:lnTo>
                  <a:lnTo>
                    <a:pt x="1245" y="1311"/>
                  </a:lnTo>
                  <a:lnTo>
                    <a:pt x="1267" y="1295"/>
                  </a:lnTo>
                  <a:lnTo>
                    <a:pt x="1288" y="1276"/>
                  </a:lnTo>
                  <a:lnTo>
                    <a:pt x="1306" y="1251"/>
                  </a:lnTo>
                  <a:lnTo>
                    <a:pt x="1322" y="1222"/>
                  </a:lnTo>
                  <a:lnTo>
                    <a:pt x="1335" y="1187"/>
                  </a:lnTo>
                  <a:lnTo>
                    <a:pt x="1347" y="1146"/>
                  </a:lnTo>
                  <a:lnTo>
                    <a:pt x="1347" y="1124"/>
                  </a:lnTo>
                  <a:lnTo>
                    <a:pt x="1348" y="1069"/>
                  </a:lnTo>
                  <a:lnTo>
                    <a:pt x="1344" y="989"/>
                  </a:lnTo>
                  <a:lnTo>
                    <a:pt x="1330" y="894"/>
                  </a:lnTo>
                  <a:lnTo>
                    <a:pt x="1302" y="793"/>
                  </a:lnTo>
                  <a:lnTo>
                    <a:pt x="1256" y="695"/>
                  </a:lnTo>
                  <a:lnTo>
                    <a:pt x="1187" y="611"/>
                  </a:lnTo>
                  <a:lnTo>
                    <a:pt x="1092" y="552"/>
                  </a:lnTo>
                  <a:lnTo>
                    <a:pt x="1078" y="545"/>
                  </a:lnTo>
                  <a:lnTo>
                    <a:pt x="1065" y="539"/>
                  </a:lnTo>
                  <a:lnTo>
                    <a:pt x="1050" y="533"/>
                  </a:lnTo>
                  <a:lnTo>
                    <a:pt x="1037" y="529"/>
                  </a:lnTo>
                  <a:lnTo>
                    <a:pt x="1023" y="526"/>
                  </a:lnTo>
                  <a:lnTo>
                    <a:pt x="1009" y="523"/>
                  </a:lnTo>
                  <a:lnTo>
                    <a:pt x="996" y="522"/>
                  </a:lnTo>
                  <a:lnTo>
                    <a:pt x="983" y="522"/>
                  </a:lnTo>
                  <a:lnTo>
                    <a:pt x="952" y="533"/>
                  </a:lnTo>
                  <a:lnTo>
                    <a:pt x="926" y="550"/>
                  </a:lnTo>
                  <a:lnTo>
                    <a:pt x="905" y="570"/>
                  </a:lnTo>
                  <a:lnTo>
                    <a:pt x="888" y="594"/>
                  </a:lnTo>
                  <a:lnTo>
                    <a:pt x="872" y="620"/>
                  </a:lnTo>
                  <a:lnTo>
                    <a:pt x="860" y="647"/>
                  </a:lnTo>
                  <a:lnTo>
                    <a:pt x="849" y="675"/>
                  </a:lnTo>
                  <a:lnTo>
                    <a:pt x="843" y="704"/>
                  </a:lnTo>
                  <a:lnTo>
                    <a:pt x="840" y="696"/>
                  </a:lnTo>
                  <a:lnTo>
                    <a:pt x="837" y="690"/>
                  </a:lnTo>
                  <a:lnTo>
                    <a:pt x="834" y="684"/>
                  </a:lnTo>
                  <a:lnTo>
                    <a:pt x="831" y="680"/>
                  </a:lnTo>
                  <a:lnTo>
                    <a:pt x="827" y="675"/>
                  </a:lnTo>
                  <a:lnTo>
                    <a:pt x="822" y="670"/>
                  </a:lnTo>
                  <a:lnTo>
                    <a:pt x="815" y="665"/>
                  </a:lnTo>
                  <a:lnTo>
                    <a:pt x="807" y="662"/>
                  </a:lnTo>
                  <a:lnTo>
                    <a:pt x="805" y="614"/>
                  </a:lnTo>
                  <a:lnTo>
                    <a:pt x="800" y="564"/>
                  </a:lnTo>
                  <a:lnTo>
                    <a:pt x="792" y="514"/>
                  </a:lnTo>
                  <a:lnTo>
                    <a:pt x="781" y="464"/>
                  </a:lnTo>
                  <a:lnTo>
                    <a:pt x="765" y="415"/>
                  </a:lnTo>
                  <a:lnTo>
                    <a:pt x="747" y="369"/>
                  </a:lnTo>
                  <a:lnTo>
                    <a:pt x="727" y="327"/>
                  </a:lnTo>
                  <a:lnTo>
                    <a:pt x="704" y="291"/>
                  </a:lnTo>
                  <a:lnTo>
                    <a:pt x="704" y="273"/>
                  </a:lnTo>
                  <a:lnTo>
                    <a:pt x="760" y="266"/>
                  </a:lnTo>
                  <a:lnTo>
                    <a:pt x="817" y="256"/>
                  </a:lnTo>
                  <a:lnTo>
                    <a:pt x="871" y="243"/>
                  </a:lnTo>
                  <a:lnTo>
                    <a:pt x="925" y="226"/>
                  </a:lnTo>
                  <a:lnTo>
                    <a:pt x="977" y="207"/>
                  </a:lnTo>
                  <a:lnTo>
                    <a:pt x="1030" y="189"/>
                  </a:lnTo>
                  <a:lnTo>
                    <a:pt x="1081" y="171"/>
                  </a:lnTo>
                  <a:lnTo>
                    <a:pt x="1134" y="158"/>
                  </a:lnTo>
                  <a:lnTo>
                    <a:pt x="1146" y="146"/>
                  </a:lnTo>
                  <a:lnTo>
                    <a:pt x="1142" y="127"/>
                  </a:lnTo>
                  <a:lnTo>
                    <a:pt x="1136" y="109"/>
                  </a:lnTo>
                  <a:lnTo>
                    <a:pt x="1128" y="91"/>
                  </a:lnTo>
                  <a:lnTo>
                    <a:pt x="1122" y="72"/>
                  </a:lnTo>
                  <a:lnTo>
                    <a:pt x="1116" y="54"/>
                  </a:lnTo>
                  <a:lnTo>
                    <a:pt x="1114" y="36"/>
                  </a:lnTo>
                  <a:lnTo>
                    <a:pt x="1115" y="18"/>
                  </a:lnTo>
                  <a:lnTo>
                    <a:pt x="1122" y="0"/>
                  </a:lnTo>
                  <a:lnTo>
                    <a:pt x="1156" y="21"/>
                  </a:lnTo>
                  <a:lnTo>
                    <a:pt x="1186" y="47"/>
                  </a:lnTo>
                  <a:lnTo>
                    <a:pt x="1214" y="76"/>
                  </a:lnTo>
                  <a:lnTo>
                    <a:pt x="1241" y="109"/>
                  </a:lnTo>
                  <a:lnTo>
                    <a:pt x="1267" y="139"/>
                  </a:lnTo>
                  <a:lnTo>
                    <a:pt x="1297" y="167"/>
                  </a:lnTo>
                  <a:lnTo>
                    <a:pt x="1328" y="193"/>
                  </a:lnTo>
                  <a:lnTo>
                    <a:pt x="1365" y="213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 flipH="1">
              <a:off x="982080" y="4888800"/>
              <a:ext cx="141480" cy="66600"/>
            </a:xfrm>
            <a:custGeom>
              <a:avLst/>
              <a:gdLst>
                <a:gd name="textAreaLeft" fmla="*/ -360 w 141480"/>
                <a:gd name="textAreaRight" fmla="*/ 141480 w 141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6" h="150">
                  <a:moveTo>
                    <a:pt x="258" y="104"/>
                  </a:moveTo>
                  <a:lnTo>
                    <a:pt x="260" y="111"/>
                  </a:lnTo>
                  <a:lnTo>
                    <a:pt x="263" y="119"/>
                  </a:lnTo>
                  <a:lnTo>
                    <a:pt x="266" y="127"/>
                  </a:lnTo>
                  <a:lnTo>
                    <a:pt x="264" y="135"/>
                  </a:lnTo>
                  <a:lnTo>
                    <a:pt x="256" y="145"/>
                  </a:lnTo>
                  <a:lnTo>
                    <a:pt x="245" y="150"/>
                  </a:lnTo>
                  <a:lnTo>
                    <a:pt x="232" y="150"/>
                  </a:lnTo>
                  <a:lnTo>
                    <a:pt x="222" y="147"/>
                  </a:lnTo>
                  <a:lnTo>
                    <a:pt x="215" y="133"/>
                  </a:lnTo>
                  <a:lnTo>
                    <a:pt x="209" y="119"/>
                  </a:lnTo>
                  <a:lnTo>
                    <a:pt x="199" y="106"/>
                  </a:lnTo>
                  <a:lnTo>
                    <a:pt x="190" y="95"/>
                  </a:lnTo>
                  <a:lnTo>
                    <a:pt x="178" y="85"/>
                  </a:lnTo>
                  <a:lnTo>
                    <a:pt x="166" y="74"/>
                  </a:lnTo>
                  <a:lnTo>
                    <a:pt x="154" y="64"/>
                  </a:lnTo>
                  <a:lnTo>
                    <a:pt x="143" y="56"/>
                  </a:lnTo>
                  <a:lnTo>
                    <a:pt x="127" y="47"/>
                  </a:lnTo>
                  <a:lnTo>
                    <a:pt x="112" y="40"/>
                  </a:lnTo>
                  <a:lnTo>
                    <a:pt x="95" y="33"/>
                  </a:lnTo>
                  <a:lnTo>
                    <a:pt x="78" y="27"/>
                  </a:lnTo>
                  <a:lnTo>
                    <a:pt x="59" y="22"/>
                  </a:lnTo>
                  <a:lnTo>
                    <a:pt x="41" y="22"/>
                  </a:lnTo>
                  <a:lnTo>
                    <a:pt x="21" y="24"/>
                  </a:lnTo>
                  <a:lnTo>
                    <a:pt x="3" y="32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7" y="5"/>
                  </a:lnTo>
                  <a:lnTo>
                    <a:pt x="25" y="3"/>
                  </a:lnTo>
                  <a:lnTo>
                    <a:pt x="35" y="3"/>
                  </a:lnTo>
                  <a:lnTo>
                    <a:pt x="43" y="2"/>
                  </a:lnTo>
                  <a:lnTo>
                    <a:pt x="53" y="2"/>
                  </a:lnTo>
                  <a:lnTo>
                    <a:pt x="82" y="0"/>
                  </a:lnTo>
                  <a:lnTo>
                    <a:pt x="112" y="8"/>
                  </a:lnTo>
                  <a:lnTo>
                    <a:pt x="138" y="17"/>
                  </a:lnTo>
                  <a:lnTo>
                    <a:pt x="165" y="32"/>
                  </a:lnTo>
                  <a:lnTo>
                    <a:pt x="187" y="47"/>
                  </a:lnTo>
                  <a:lnTo>
                    <a:pt x="212" y="65"/>
                  </a:lnTo>
                  <a:lnTo>
                    <a:pt x="234" y="85"/>
                  </a:lnTo>
                  <a:lnTo>
                    <a:pt x="25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 flipH="1">
              <a:off x="1265400" y="4924800"/>
              <a:ext cx="77400" cy="53280"/>
            </a:xfrm>
            <a:custGeom>
              <a:avLst/>
              <a:gdLst>
                <a:gd name="textAreaLeft" fmla="*/ -360 w 77400"/>
                <a:gd name="textAreaRight" fmla="*/ 77400 w 77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45" h="124">
                  <a:moveTo>
                    <a:pt x="145" y="18"/>
                  </a:moveTo>
                  <a:lnTo>
                    <a:pt x="145" y="27"/>
                  </a:lnTo>
                  <a:lnTo>
                    <a:pt x="142" y="35"/>
                  </a:lnTo>
                  <a:lnTo>
                    <a:pt x="137" y="39"/>
                  </a:lnTo>
                  <a:lnTo>
                    <a:pt x="131" y="44"/>
                  </a:lnTo>
                  <a:lnTo>
                    <a:pt x="123" y="47"/>
                  </a:lnTo>
                  <a:lnTo>
                    <a:pt x="115" y="50"/>
                  </a:lnTo>
                  <a:lnTo>
                    <a:pt x="108" y="54"/>
                  </a:lnTo>
                  <a:lnTo>
                    <a:pt x="103" y="61"/>
                  </a:lnTo>
                  <a:lnTo>
                    <a:pt x="89" y="71"/>
                  </a:lnTo>
                  <a:lnTo>
                    <a:pt x="78" y="83"/>
                  </a:lnTo>
                  <a:lnTo>
                    <a:pt x="67" y="95"/>
                  </a:lnTo>
                  <a:lnTo>
                    <a:pt x="56" y="107"/>
                  </a:lnTo>
                  <a:lnTo>
                    <a:pt x="43" y="115"/>
                  </a:lnTo>
                  <a:lnTo>
                    <a:pt x="31" y="122"/>
                  </a:lnTo>
                  <a:lnTo>
                    <a:pt x="16" y="124"/>
                  </a:lnTo>
                  <a:lnTo>
                    <a:pt x="0" y="121"/>
                  </a:lnTo>
                  <a:lnTo>
                    <a:pt x="11" y="102"/>
                  </a:lnTo>
                  <a:lnTo>
                    <a:pt x="25" y="84"/>
                  </a:lnTo>
                  <a:lnTo>
                    <a:pt x="38" y="67"/>
                  </a:lnTo>
                  <a:lnTo>
                    <a:pt x="54" y="51"/>
                  </a:lnTo>
                  <a:lnTo>
                    <a:pt x="69" y="35"/>
                  </a:lnTo>
                  <a:lnTo>
                    <a:pt x="85" y="21"/>
                  </a:lnTo>
                  <a:lnTo>
                    <a:pt x="103" y="9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7" y="3"/>
                  </a:lnTo>
                  <a:lnTo>
                    <a:pt x="143" y="9"/>
                  </a:lnTo>
                  <a:lnTo>
                    <a:pt x="14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 flipH="1">
              <a:off x="910440" y="4987080"/>
              <a:ext cx="216000" cy="316080"/>
            </a:xfrm>
            <a:custGeom>
              <a:avLst/>
              <a:gdLst>
                <a:gd name="textAreaLeft" fmla="*/ 360 w 216000"/>
                <a:gd name="textAreaRight" fmla="*/ 216720 w 2160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409" h="708">
                  <a:moveTo>
                    <a:pt x="227" y="40"/>
                  </a:moveTo>
                  <a:lnTo>
                    <a:pt x="244" y="59"/>
                  </a:lnTo>
                  <a:lnTo>
                    <a:pt x="262" y="79"/>
                  </a:lnTo>
                  <a:lnTo>
                    <a:pt x="279" y="101"/>
                  </a:lnTo>
                  <a:lnTo>
                    <a:pt x="295" y="122"/>
                  </a:lnTo>
                  <a:lnTo>
                    <a:pt x="308" y="144"/>
                  </a:lnTo>
                  <a:lnTo>
                    <a:pt x="321" y="168"/>
                  </a:lnTo>
                  <a:lnTo>
                    <a:pt x="330" y="193"/>
                  </a:lnTo>
                  <a:lnTo>
                    <a:pt x="337" y="221"/>
                  </a:lnTo>
                  <a:lnTo>
                    <a:pt x="352" y="249"/>
                  </a:lnTo>
                  <a:lnTo>
                    <a:pt x="366" y="279"/>
                  </a:lnTo>
                  <a:lnTo>
                    <a:pt x="376" y="310"/>
                  </a:lnTo>
                  <a:lnTo>
                    <a:pt x="386" y="342"/>
                  </a:lnTo>
                  <a:lnTo>
                    <a:pt x="392" y="375"/>
                  </a:lnTo>
                  <a:lnTo>
                    <a:pt x="399" y="409"/>
                  </a:lnTo>
                  <a:lnTo>
                    <a:pt x="404" y="442"/>
                  </a:lnTo>
                  <a:lnTo>
                    <a:pt x="409" y="476"/>
                  </a:lnTo>
                  <a:lnTo>
                    <a:pt x="405" y="504"/>
                  </a:lnTo>
                  <a:lnTo>
                    <a:pt x="403" y="532"/>
                  </a:lnTo>
                  <a:lnTo>
                    <a:pt x="398" y="563"/>
                  </a:lnTo>
                  <a:lnTo>
                    <a:pt x="391" y="593"/>
                  </a:lnTo>
                  <a:lnTo>
                    <a:pt x="379" y="620"/>
                  </a:lnTo>
                  <a:lnTo>
                    <a:pt x="364" y="645"/>
                  </a:lnTo>
                  <a:lnTo>
                    <a:pt x="344" y="668"/>
                  </a:lnTo>
                  <a:lnTo>
                    <a:pt x="319" y="688"/>
                  </a:lnTo>
                  <a:lnTo>
                    <a:pt x="303" y="695"/>
                  </a:lnTo>
                  <a:lnTo>
                    <a:pt x="289" y="701"/>
                  </a:lnTo>
                  <a:lnTo>
                    <a:pt x="274" y="704"/>
                  </a:lnTo>
                  <a:lnTo>
                    <a:pt x="260" y="708"/>
                  </a:lnTo>
                  <a:lnTo>
                    <a:pt x="245" y="707"/>
                  </a:lnTo>
                  <a:lnTo>
                    <a:pt x="231" y="706"/>
                  </a:lnTo>
                  <a:lnTo>
                    <a:pt x="217" y="701"/>
                  </a:lnTo>
                  <a:lnTo>
                    <a:pt x="203" y="694"/>
                  </a:lnTo>
                  <a:lnTo>
                    <a:pt x="148" y="650"/>
                  </a:lnTo>
                  <a:lnTo>
                    <a:pt x="102" y="600"/>
                  </a:lnTo>
                  <a:lnTo>
                    <a:pt x="66" y="543"/>
                  </a:lnTo>
                  <a:lnTo>
                    <a:pt x="39" y="483"/>
                  </a:lnTo>
                  <a:lnTo>
                    <a:pt x="18" y="418"/>
                  </a:lnTo>
                  <a:lnTo>
                    <a:pt x="6" y="351"/>
                  </a:lnTo>
                  <a:lnTo>
                    <a:pt x="0" y="282"/>
                  </a:lnTo>
                  <a:lnTo>
                    <a:pt x="2" y="215"/>
                  </a:lnTo>
                  <a:lnTo>
                    <a:pt x="6" y="184"/>
                  </a:lnTo>
                  <a:lnTo>
                    <a:pt x="11" y="153"/>
                  </a:lnTo>
                  <a:lnTo>
                    <a:pt x="17" y="121"/>
                  </a:lnTo>
                  <a:lnTo>
                    <a:pt x="26" y="92"/>
                  </a:lnTo>
                  <a:lnTo>
                    <a:pt x="37" y="64"/>
                  </a:lnTo>
                  <a:lnTo>
                    <a:pt x="54" y="40"/>
                  </a:lnTo>
                  <a:lnTo>
                    <a:pt x="76" y="18"/>
                  </a:lnTo>
                  <a:lnTo>
                    <a:pt x="106" y="2"/>
                  </a:lnTo>
                  <a:lnTo>
                    <a:pt x="123" y="0"/>
                  </a:lnTo>
                  <a:lnTo>
                    <a:pt x="140" y="2"/>
                  </a:lnTo>
                  <a:lnTo>
                    <a:pt x="155" y="5"/>
                  </a:lnTo>
                  <a:lnTo>
                    <a:pt x="171" y="11"/>
                  </a:lnTo>
                  <a:lnTo>
                    <a:pt x="184" y="17"/>
                  </a:lnTo>
                  <a:lnTo>
                    <a:pt x="198" y="24"/>
                  </a:lnTo>
                  <a:lnTo>
                    <a:pt x="213" y="31"/>
                  </a:lnTo>
                  <a:lnTo>
                    <a:pt x="22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 flipH="1">
              <a:off x="1124280" y="5031360"/>
              <a:ext cx="173520" cy="260280"/>
            </a:xfrm>
            <a:custGeom>
              <a:avLst/>
              <a:gdLst>
                <a:gd name="textAreaLeft" fmla="*/ 360 w 173520"/>
                <a:gd name="textAreaRight" fmla="*/ 174240 w 1735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27" h="585">
                  <a:moveTo>
                    <a:pt x="261" y="85"/>
                  </a:moveTo>
                  <a:lnTo>
                    <a:pt x="263" y="129"/>
                  </a:lnTo>
                  <a:lnTo>
                    <a:pt x="266" y="174"/>
                  </a:lnTo>
                  <a:lnTo>
                    <a:pt x="270" y="218"/>
                  </a:lnTo>
                  <a:lnTo>
                    <a:pt x="276" y="264"/>
                  </a:lnTo>
                  <a:lnTo>
                    <a:pt x="283" y="307"/>
                  </a:lnTo>
                  <a:lnTo>
                    <a:pt x="294" y="351"/>
                  </a:lnTo>
                  <a:lnTo>
                    <a:pt x="308" y="393"/>
                  </a:lnTo>
                  <a:lnTo>
                    <a:pt x="327" y="436"/>
                  </a:lnTo>
                  <a:lnTo>
                    <a:pt x="320" y="458"/>
                  </a:lnTo>
                  <a:lnTo>
                    <a:pt x="311" y="481"/>
                  </a:lnTo>
                  <a:lnTo>
                    <a:pt x="299" y="501"/>
                  </a:lnTo>
                  <a:lnTo>
                    <a:pt x="284" y="521"/>
                  </a:lnTo>
                  <a:lnTo>
                    <a:pt x="266" y="539"/>
                  </a:lnTo>
                  <a:lnTo>
                    <a:pt x="248" y="556"/>
                  </a:lnTo>
                  <a:lnTo>
                    <a:pt x="226" y="571"/>
                  </a:lnTo>
                  <a:lnTo>
                    <a:pt x="206" y="582"/>
                  </a:lnTo>
                  <a:lnTo>
                    <a:pt x="188" y="584"/>
                  </a:lnTo>
                  <a:lnTo>
                    <a:pt x="171" y="585"/>
                  </a:lnTo>
                  <a:lnTo>
                    <a:pt x="155" y="583"/>
                  </a:lnTo>
                  <a:lnTo>
                    <a:pt x="141" y="582"/>
                  </a:lnTo>
                  <a:lnTo>
                    <a:pt x="127" y="577"/>
                  </a:lnTo>
                  <a:lnTo>
                    <a:pt x="112" y="572"/>
                  </a:lnTo>
                  <a:lnTo>
                    <a:pt x="99" y="567"/>
                  </a:lnTo>
                  <a:lnTo>
                    <a:pt x="86" y="564"/>
                  </a:lnTo>
                  <a:lnTo>
                    <a:pt x="46" y="520"/>
                  </a:lnTo>
                  <a:lnTo>
                    <a:pt x="21" y="472"/>
                  </a:lnTo>
                  <a:lnTo>
                    <a:pt x="5" y="419"/>
                  </a:lnTo>
                  <a:lnTo>
                    <a:pt x="0" y="365"/>
                  </a:lnTo>
                  <a:lnTo>
                    <a:pt x="0" y="307"/>
                  </a:lnTo>
                  <a:lnTo>
                    <a:pt x="6" y="251"/>
                  </a:lnTo>
                  <a:lnTo>
                    <a:pt x="15" y="196"/>
                  </a:lnTo>
                  <a:lnTo>
                    <a:pt x="24" y="145"/>
                  </a:lnTo>
                  <a:lnTo>
                    <a:pt x="33" y="123"/>
                  </a:lnTo>
                  <a:lnTo>
                    <a:pt x="44" y="102"/>
                  </a:lnTo>
                  <a:lnTo>
                    <a:pt x="56" y="80"/>
                  </a:lnTo>
                  <a:lnTo>
                    <a:pt x="71" y="61"/>
                  </a:lnTo>
                  <a:lnTo>
                    <a:pt x="86" y="41"/>
                  </a:lnTo>
                  <a:lnTo>
                    <a:pt x="104" y="25"/>
                  </a:lnTo>
                  <a:lnTo>
                    <a:pt x="123" y="10"/>
                  </a:lnTo>
                  <a:lnTo>
                    <a:pt x="146" y="0"/>
                  </a:lnTo>
                  <a:lnTo>
                    <a:pt x="165" y="1"/>
                  </a:lnTo>
                  <a:lnTo>
                    <a:pt x="183" y="8"/>
                  </a:lnTo>
                  <a:lnTo>
                    <a:pt x="198" y="16"/>
                  </a:lnTo>
                  <a:lnTo>
                    <a:pt x="212" y="30"/>
                  </a:lnTo>
                  <a:lnTo>
                    <a:pt x="224" y="43"/>
                  </a:lnTo>
                  <a:lnTo>
                    <a:pt x="236" y="57"/>
                  </a:lnTo>
                  <a:lnTo>
                    <a:pt x="247" y="71"/>
                  </a:lnTo>
                  <a:lnTo>
                    <a:pt x="26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 flipH="1">
              <a:off x="296640" y="5109840"/>
              <a:ext cx="194760" cy="106560"/>
            </a:xfrm>
            <a:custGeom>
              <a:avLst/>
              <a:gdLst>
                <a:gd name="textAreaLeft" fmla="*/ -360 w 194760"/>
                <a:gd name="textAreaRight" fmla="*/ 194760 w 1947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63" h="241">
                  <a:moveTo>
                    <a:pt x="337" y="32"/>
                  </a:moveTo>
                  <a:lnTo>
                    <a:pt x="341" y="45"/>
                  </a:lnTo>
                  <a:lnTo>
                    <a:pt x="347" y="60"/>
                  </a:lnTo>
                  <a:lnTo>
                    <a:pt x="351" y="74"/>
                  </a:lnTo>
                  <a:lnTo>
                    <a:pt x="357" y="90"/>
                  </a:lnTo>
                  <a:lnTo>
                    <a:pt x="360" y="104"/>
                  </a:lnTo>
                  <a:lnTo>
                    <a:pt x="363" y="119"/>
                  </a:lnTo>
                  <a:lnTo>
                    <a:pt x="363" y="133"/>
                  </a:lnTo>
                  <a:lnTo>
                    <a:pt x="361" y="148"/>
                  </a:lnTo>
                  <a:lnTo>
                    <a:pt x="354" y="143"/>
                  </a:lnTo>
                  <a:lnTo>
                    <a:pt x="349" y="139"/>
                  </a:lnTo>
                  <a:lnTo>
                    <a:pt x="344" y="133"/>
                  </a:lnTo>
                  <a:lnTo>
                    <a:pt x="341" y="127"/>
                  </a:lnTo>
                  <a:lnTo>
                    <a:pt x="337" y="119"/>
                  </a:lnTo>
                  <a:lnTo>
                    <a:pt x="335" y="110"/>
                  </a:lnTo>
                  <a:lnTo>
                    <a:pt x="332" y="102"/>
                  </a:lnTo>
                  <a:lnTo>
                    <a:pt x="331" y="94"/>
                  </a:lnTo>
                  <a:lnTo>
                    <a:pt x="302" y="114"/>
                  </a:lnTo>
                  <a:lnTo>
                    <a:pt x="273" y="131"/>
                  </a:lnTo>
                  <a:lnTo>
                    <a:pt x="243" y="145"/>
                  </a:lnTo>
                  <a:lnTo>
                    <a:pt x="212" y="157"/>
                  </a:lnTo>
                  <a:lnTo>
                    <a:pt x="178" y="166"/>
                  </a:lnTo>
                  <a:lnTo>
                    <a:pt x="146" y="173"/>
                  </a:lnTo>
                  <a:lnTo>
                    <a:pt x="111" y="175"/>
                  </a:lnTo>
                  <a:lnTo>
                    <a:pt x="76" y="178"/>
                  </a:lnTo>
                  <a:lnTo>
                    <a:pt x="65" y="186"/>
                  </a:lnTo>
                  <a:lnTo>
                    <a:pt x="58" y="197"/>
                  </a:lnTo>
                  <a:lnTo>
                    <a:pt x="53" y="209"/>
                  </a:lnTo>
                  <a:lnTo>
                    <a:pt x="48" y="222"/>
                  </a:lnTo>
                  <a:lnTo>
                    <a:pt x="41" y="232"/>
                  </a:lnTo>
                  <a:lnTo>
                    <a:pt x="33" y="239"/>
                  </a:lnTo>
                  <a:lnTo>
                    <a:pt x="19" y="241"/>
                  </a:lnTo>
                  <a:lnTo>
                    <a:pt x="4" y="239"/>
                  </a:lnTo>
                  <a:lnTo>
                    <a:pt x="0" y="227"/>
                  </a:lnTo>
                  <a:lnTo>
                    <a:pt x="3" y="216"/>
                  </a:lnTo>
                  <a:lnTo>
                    <a:pt x="6" y="205"/>
                  </a:lnTo>
                  <a:lnTo>
                    <a:pt x="13" y="196"/>
                  </a:lnTo>
                  <a:lnTo>
                    <a:pt x="18" y="185"/>
                  </a:lnTo>
                  <a:lnTo>
                    <a:pt x="24" y="174"/>
                  </a:lnTo>
                  <a:lnTo>
                    <a:pt x="27" y="163"/>
                  </a:lnTo>
                  <a:lnTo>
                    <a:pt x="28" y="154"/>
                  </a:lnTo>
                  <a:lnTo>
                    <a:pt x="56" y="126"/>
                  </a:lnTo>
                  <a:lnTo>
                    <a:pt x="86" y="98"/>
                  </a:lnTo>
                  <a:lnTo>
                    <a:pt x="117" y="71"/>
                  </a:lnTo>
                  <a:lnTo>
                    <a:pt x="151" y="45"/>
                  </a:lnTo>
                  <a:lnTo>
                    <a:pt x="185" y="24"/>
                  </a:lnTo>
                  <a:lnTo>
                    <a:pt x="224" y="8"/>
                  </a:lnTo>
                  <a:lnTo>
                    <a:pt x="264" y="0"/>
                  </a:lnTo>
                  <a:lnTo>
                    <a:pt x="307" y="2"/>
                  </a:lnTo>
                  <a:lnTo>
                    <a:pt x="33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 flipH="1">
              <a:off x="323280" y="5129280"/>
              <a:ext cx="104040" cy="42120"/>
            </a:xfrm>
            <a:custGeom>
              <a:avLst/>
              <a:gdLst>
                <a:gd name="textAreaLeft" fmla="*/ -360 w 104040"/>
                <a:gd name="textAreaRight" fmla="*/ 104040 w 104040"/>
                <a:gd name="textAreaTop" fmla="*/ 0 h 42120"/>
                <a:gd name="textAreaBottom" fmla="*/ 42120 h 42120"/>
              </a:gdLst>
              <a:ahLst/>
              <a:rect l="textAreaLeft" t="textAreaTop" r="textAreaRight" b="textAreaBottom"/>
              <a:pathLst>
                <a:path w="194" h="97">
                  <a:moveTo>
                    <a:pt x="194" y="24"/>
                  </a:moveTo>
                  <a:lnTo>
                    <a:pt x="171" y="37"/>
                  </a:lnTo>
                  <a:lnTo>
                    <a:pt x="149" y="49"/>
                  </a:lnTo>
                  <a:lnTo>
                    <a:pt x="125" y="58"/>
                  </a:lnTo>
                  <a:lnTo>
                    <a:pt x="101" y="69"/>
                  </a:lnTo>
                  <a:lnTo>
                    <a:pt x="75" y="76"/>
                  </a:lnTo>
                  <a:lnTo>
                    <a:pt x="50" y="85"/>
                  </a:lnTo>
                  <a:lnTo>
                    <a:pt x="24" y="91"/>
                  </a:lnTo>
                  <a:lnTo>
                    <a:pt x="0" y="97"/>
                  </a:lnTo>
                  <a:lnTo>
                    <a:pt x="0" y="85"/>
                  </a:lnTo>
                  <a:lnTo>
                    <a:pt x="22" y="69"/>
                  </a:lnTo>
                  <a:lnTo>
                    <a:pt x="46" y="52"/>
                  </a:lnTo>
                  <a:lnTo>
                    <a:pt x="69" y="33"/>
                  </a:lnTo>
                  <a:lnTo>
                    <a:pt x="94" y="17"/>
                  </a:lnTo>
                  <a:lnTo>
                    <a:pt x="118" y="5"/>
                  </a:lnTo>
                  <a:lnTo>
                    <a:pt x="143" y="0"/>
                  </a:lnTo>
                  <a:lnTo>
                    <a:pt x="169" y="5"/>
                  </a:lnTo>
                  <a:lnTo>
                    <a:pt x="194" y="24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18"/>
            <p:cNvSpPr/>
            <p:nvPr/>
          </p:nvSpPr>
          <p:spPr>
            <a:xfrm flipH="1">
              <a:off x="1136880" y="5229720"/>
              <a:ext cx="24120" cy="20160"/>
            </a:xfrm>
            <a:custGeom>
              <a:avLst/>
              <a:gdLst>
                <a:gd name="textAreaLeft" fmla="*/ -360 w 24120"/>
                <a:gd name="textAreaRight" fmla="*/ 24120 w 241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8" h="44">
                  <a:moveTo>
                    <a:pt x="48" y="14"/>
                  </a:moveTo>
                  <a:lnTo>
                    <a:pt x="47" y="24"/>
                  </a:lnTo>
                  <a:lnTo>
                    <a:pt x="46" y="36"/>
                  </a:lnTo>
                  <a:lnTo>
                    <a:pt x="40" y="43"/>
                  </a:lnTo>
                  <a:lnTo>
                    <a:pt x="30" y="44"/>
                  </a:lnTo>
                  <a:lnTo>
                    <a:pt x="21" y="42"/>
                  </a:lnTo>
                  <a:lnTo>
                    <a:pt x="12" y="39"/>
                  </a:lnTo>
                  <a:lnTo>
                    <a:pt x="5" y="33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8" y="9"/>
                  </a:lnTo>
                  <a:lnTo>
                    <a:pt x="15" y="3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3"/>
                  </a:lnTo>
                  <a:lnTo>
                    <a:pt x="40" y="8"/>
                  </a:lnTo>
                  <a:lnTo>
                    <a:pt x="4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19"/>
            <p:cNvSpPr/>
            <p:nvPr/>
          </p:nvSpPr>
          <p:spPr>
            <a:xfrm flipH="1">
              <a:off x="1040760" y="5231880"/>
              <a:ext cx="32040" cy="1800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18000"/>
                <a:gd name="textAreaBottom" fmla="*/ 18000 h 18000"/>
              </a:gdLst>
              <a:ahLst/>
              <a:rect l="textAreaLeft" t="textAreaTop" r="textAreaRight" b="textAreaBottom"/>
              <a:pathLst>
                <a:path w="57" h="42">
                  <a:moveTo>
                    <a:pt x="57" y="18"/>
                  </a:moveTo>
                  <a:lnTo>
                    <a:pt x="55" y="28"/>
                  </a:lnTo>
                  <a:lnTo>
                    <a:pt x="52" y="34"/>
                  </a:lnTo>
                  <a:lnTo>
                    <a:pt x="46" y="37"/>
                  </a:lnTo>
                  <a:lnTo>
                    <a:pt x="39" y="42"/>
                  </a:lnTo>
                  <a:lnTo>
                    <a:pt x="33" y="40"/>
                  </a:lnTo>
                  <a:lnTo>
                    <a:pt x="27" y="39"/>
                  </a:lnTo>
                  <a:lnTo>
                    <a:pt x="20" y="39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0" y="27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5" y="6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3" y="4"/>
                  </a:lnTo>
                  <a:lnTo>
                    <a:pt x="50" y="10"/>
                  </a:lnTo>
                  <a:lnTo>
                    <a:pt x="5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20"/>
            <p:cNvSpPr/>
            <p:nvPr/>
          </p:nvSpPr>
          <p:spPr>
            <a:xfrm flipH="1">
              <a:off x="1510560" y="5619600"/>
              <a:ext cx="61560" cy="35388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17" h="797">
                  <a:moveTo>
                    <a:pt x="110" y="263"/>
                  </a:moveTo>
                  <a:lnTo>
                    <a:pt x="113" y="313"/>
                  </a:lnTo>
                  <a:lnTo>
                    <a:pt x="117" y="365"/>
                  </a:lnTo>
                  <a:lnTo>
                    <a:pt x="117" y="416"/>
                  </a:lnTo>
                  <a:lnTo>
                    <a:pt x="117" y="467"/>
                  </a:lnTo>
                  <a:lnTo>
                    <a:pt x="112" y="518"/>
                  </a:lnTo>
                  <a:lnTo>
                    <a:pt x="109" y="568"/>
                  </a:lnTo>
                  <a:lnTo>
                    <a:pt x="103" y="619"/>
                  </a:lnTo>
                  <a:lnTo>
                    <a:pt x="98" y="669"/>
                  </a:lnTo>
                  <a:lnTo>
                    <a:pt x="56" y="797"/>
                  </a:lnTo>
                  <a:lnTo>
                    <a:pt x="53" y="789"/>
                  </a:lnTo>
                  <a:lnTo>
                    <a:pt x="47" y="782"/>
                  </a:lnTo>
                  <a:lnTo>
                    <a:pt x="40" y="775"/>
                  </a:lnTo>
                  <a:lnTo>
                    <a:pt x="34" y="769"/>
                  </a:lnTo>
                  <a:lnTo>
                    <a:pt x="28" y="762"/>
                  </a:lnTo>
                  <a:lnTo>
                    <a:pt x="27" y="756"/>
                  </a:lnTo>
                  <a:lnTo>
                    <a:pt x="28" y="749"/>
                  </a:lnTo>
                  <a:lnTo>
                    <a:pt x="38" y="743"/>
                  </a:lnTo>
                  <a:lnTo>
                    <a:pt x="45" y="651"/>
                  </a:lnTo>
                  <a:lnTo>
                    <a:pt x="50" y="560"/>
                  </a:lnTo>
                  <a:lnTo>
                    <a:pt x="52" y="470"/>
                  </a:lnTo>
                  <a:lnTo>
                    <a:pt x="51" y="379"/>
                  </a:lnTo>
                  <a:lnTo>
                    <a:pt x="44" y="289"/>
                  </a:lnTo>
                  <a:lnTo>
                    <a:pt x="34" y="200"/>
                  </a:lnTo>
                  <a:lnTo>
                    <a:pt x="20" y="113"/>
                  </a:lnTo>
                  <a:lnTo>
                    <a:pt x="0" y="26"/>
                  </a:lnTo>
                  <a:lnTo>
                    <a:pt x="9" y="24"/>
                  </a:lnTo>
                  <a:lnTo>
                    <a:pt x="20" y="18"/>
                  </a:lnTo>
                  <a:lnTo>
                    <a:pt x="30" y="10"/>
                  </a:lnTo>
                  <a:lnTo>
                    <a:pt x="41" y="4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6"/>
                  </a:lnTo>
                  <a:lnTo>
                    <a:pt x="68" y="20"/>
                  </a:lnTo>
                  <a:lnTo>
                    <a:pt x="75" y="49"/>
                  </a:lnTo>
                  <a:lnTo>
                    <a:pt x="82" y="80"/>
                  </a:lnTo>
                  <a:lnTo>
                    <a:pt x="87" y="110"/>
                  </a:lnTo>
                  <a:lnTo>
                    <a:pt x="93" y="141"/>
                  </a:lnTo>
                  <a:lnTo>
                    <a:pt x="97" y="171"/>
                  </a:lnTo>
                  <a:lnTo>
                    <a:pt x="101" y="202"/>
                  </a:lnTo>
                  <a:lnTo>
                    <a:pt x="105" y="232"/>
                  </a:lnTo>
                  <a:lnTo>
                    <a:pt x="11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21"/>
            <p:cNvSpPr/>
            <p:nvPr/>
          </p:nvSpPr>
          <p:spPr>
            <a:xfrm flipH="1">
              <a:off x="1569240" y="5675400"/>
              <a:ext cx="42840" cy="20448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80" h="461">
                  <a:moveTo>
                    <a:pt x="66" y="461"/>
                  </a:moveTo>
                  <a:lnTo>
                    <a:pt x="59" y="407"/>
                  </a:lnTo>
                  <a:lnTo>
                    <a:pt x="53" y="350"/>
                  </a:lnTo>
                  <a:lnTo>
                    <a:pt x="44" y="293"/>
                  </a:lnTo>
                  <a:lnTo>
                    <a:pt x="35" y="235"/>
                  </a:lnTo>
                  <a:lnTo>
                    <a:pt x="24" y="175"/>
                  </a:lnTo>
                  <a:lnTo>
                    <a:pt x="16" y="116"/>
                  </a:lnTo>
                  <a:lnTo>
                    <a:pt x="6" y="57"/>
                  </a:lnTo>
                  <a:lnTo>
                    <a:pt x="0" y="0"/>
                  </a:lnTo>
                  <a:lnTo>
                    <a:pt x="26" y="51"/>
                  </a:lnTo>
                  <a:lnTo>
                    <a:pt x="47" y="105"/>
                  </a:lnTo>
                  <a:lnTo>
                    <a:pt x="62" y="161"/>
                  </a:lnTo>
                  <a:lnTo>
                    <a:pt x="74" y="222"/>
                  </a:lnTo>
                  <a:lnTo>
                    <a:pt x="78" y="279"/>
                  </a:lnTo>
                  <a:lnTo>
                    <a:pt x="80" y="341"/>
                  </a:lnTo>
                  <a:lnTo>
                    <a:pt x="75" y="401"/>
                  </a:lnTo>
                  <a:lnTo>
                    <a:pt x="66" y="461"/>
                  </a:lnTo>
                  <a:close/>
                </a:path>
              </a:pathLst>
            </a:custGeom>
            <a:solidFill>
              <a:srgbClr val="00f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22"/>
            <p:cNvSpPr/>
            <p:nvPr/>
          </p:nvSpPr>
          <p:spPr>
            <a:xfrm flipH="1">
              <a:off x="1391040" y="5697720"/>
              <a:ext cx="111600" cy="25380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07" h="570">
                  <a:moveTo>
                    <a:pt x="115" y="126"/>
                  </a:moveTo>
                  <a:lnTo>
                    <a:pt x="126" y="162"/>
                  </a:lnTo>
                  <a:lnTo>
                    <a:pt x="138" y="199"/>
                  </a:lnTo>
                  <a:lnTo>
                    <a:pt x="148" y="238"/>
                  </a:lnTo>
                  <a:lnTo>
                    <a:pt x="157" y="277"/>
                  </a:lnTo>
                  <a:lnTo>
                    <a:pt x="167" y="316"/>
                  </a:lnTo>
                  <a:lnTo>
                    <a:pt x="178" y="354"/>
                  </a:lnTo>
                  <a:lnTo>
                    <a:pt x="191" y="392"/>
                  </a:lnTo>
                  <a:lnTo>
                    <a:pt x="207" y="430"/>
                  </a:lnTo>
                  <a:lnTo>
                    <a:pt x="207" y="484"/>
                  </a:lnTo>
                  <a:lnTo>
                    <a:pt x="180" y="493"/>
                  </a:lnTo>
                  <a:lnTo>
                    <a:pt x="155" y="502"/>
                  </a:lnTo>
                  <a:lnTo>
                    <a:pt x="129" y="513"/>
                  </a:lnTo>
                  <a:lnTo>
                    <a:pt x="103" y="524"/>
                  </a:lnTo>
                  <a:lnTo>
                    <a:pt x="77" y="535"/>
                  </a:lnTo>
                  <a:lnTo>
                    <a:pt x="50" y="545"/>
                  </a:lnTo>
                  <a:lnTo>
                    <a:pt x="25" y="558"/>
                  </a:lnTo>
                  <a:lnTo>
                    <a:pt x="0" y="570"/>
                  </a:lnTo>
                  <a:lnTo>
                    <a:pt x="24" y="502"/>
                  </a:lnTo>
                  <a:lnTo>
                    <a:pt x="41" y="434"/>
                  </a:lnTo>
                  <a:lnTo>
                    <a:pt x="50" y="362"/>
                  </a:lnTo>
                  <a:lnTo>
                    <a:pt x="56" y="291"/>
                  </a:lnTo>
                  <a:lnTo>
                    <a:pt x="59" y="216"/>
                  </a:lnTo>
                  <a:lnTo>
                    <a:pt x="62" y="143"/>
                  </a:lnTo>
                  <a:lnTo>
                    <a:pt x="66" y="71"/>
                  </a:lnTo>
                  <a:lnTo>
                    <a:pt x="73" y="0"/>
                  </a:lnTo>
                  <a:lnTo>
                    <a:pt x="74" y="16"/>
                  </a:lnTo>
                  <a:lnTo>
                    <a:pt x="79" y="33"/>
                  </a:lnTo>
                  <a:lnTo>
                    <a:pt x="85" y="49"/>
                  </a:lnTo>
                  <a:lnTo>
                    <a:pt x="94" y="65"/>
                  </a:lnTo>
                  <a:lnTo>
                    <a:pt x="101" y="79"/>
                  </a:lnTo>
                  <a:lnTo>
                    <a:pt x="108" y="95"/>
                  </a:lnTo>
                  <a:lnTo>
                    <a:pt x="113" y="109"/>
                  </a:lnTo>
                  <a:lnTo>
                    <a:pt x="115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23"/>
            <p:cNvSpPr/>
            <p:nvPr/>
          </p:nvSpPr>
          <p:spPr>
            <a:xfrm flipH="1">
              <a:off x="419760" y="5708520"/>
              <a:ext cx="226800" cy="235800"/>
            </a:xfrm>
            <a:custGeom>
              <a:avLst/>
              <a:gdLst>
                <a:gd name="textAreaLeft" fmla="*/ 360 w 226800"/>
                <a:gd name="textAreaRight" fmla="*/ 227520 w 22680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425" h="533">
                  <a:moveTo>
                    <a:pt x="425" y="35"/>
                  </a:moveTo>
                  <a:lnTo>
                    <a:pt x="418" y="60"/>
                  </a:lnTo>
                  <a:lnTo>
                    <a:pt x="411" y="86"/>
                  </a:lnTo>
                  <a:lnTo>
                    <a:pt x="401" y="111"/>
                  </a:lnTo>
                  <a:lnTo>
                    <a:pt x="392" y="135"/>
                  </a:lnTo>
                  <a:lnTo>
                    <a:pt x="378" y="156"/>
                  </a:lnTo>
                  <a:lnTo>
                    <a:pt x="366" y="179"/>
                  </a:lnTo>
                  <a:lnTo>
                    <a:pt x="353" y="201"/>
                  </a:lnTo>
                  <a:lnTo>
                    <a:pt x="340" y="222"/>
                  </a:lnTo>
                  <a:lnTo>
                    <a:pt x="340" y="230"/>
                  </a:lnTo>
                  <a:lnTo>
                    <a:pt x="344" y="236"/>
                  </a:lnTo>
                  <a:lnTo>
                    <a:pt x="347" y="240"/>
                  </a:lnTo>
                  <a:lnTo>
                    <a:pt x="352" y="246"/>
                  </a:lnTo>
                  <a:lnTo>
                    <a:pt x="394" y="210"/>
                  </a:lnTo>
                  <a:lnTo>
                    <a:pt x="400" y="224"/>
                  </a:lnTo>
                  <a:lnTo>
                    <a:pt x="405" y="238"/>
                  </a:lnTo>
                  <a:lnTo>
                    <a:pt x="409" y="252"/>
                  </a:lnTo>
                  <a:lnTo>
                    <a:pt x="413" y="268"/>
                  </a:lnTo>
                  <a:lnTo>
                    <a:pt x="415" y="282"/>
                  </a:lnTo>
                  <a:lnTo>
                    <a:pt x="417" y="299"/>
                  </a:lnTo>
                  <a:lnTo>
                    <a:pt x="418" y="315"/>
                  </a:lnTo>
                  <a:lnTo>
                    <a:pt x="419" y="332"/>
                  </a:lnTo>
                  <a:lnTo>
                    <a:pt x="401" y="367"/>
                  </a:lnTo>
                  <a:lnTo>
                    <a:pt x="381" y="400"/>
                  </a:lnTo>
                  <a:lnTo>
                    <a:pt x="356" y="432"/>
                  </a:lnTo>
                  <a:lnTo>
                    <a:pt x="328" y="460"/>
                  </a:lnTo>
                  <a:lnTo>
                    <a:pt x="295" y="484"/>
                  </a:lnTo>
                  <a:lnTo>
                    <a:pt x="262" y="505"/>
                  </a:lnTo>
                  <a:lnTo>
                    <a:pt x="226" y="520"/>
                  </a:lnTo>
                  <a:lnTo>
                    <a:pt x="188" y="531"/>
                  </a:lnTo>
                  <a:lnTo>
                    <a:pt x="175" y="529"/>
                  </a:lnTo>
                  <a:lnTo>
                    <a:pt x="163" y="530"/>
                  </a:lnTo>
                  <a:lnTo>
                    <a:pt x="150" y="530"/>
                  </a:lnTo>
                  <a:lnTo>
                    <a:pt x="137" y="533"/>
                  </a:lnTo>
                  <a:lnTo>
                    <a:pt x="123" y="531"/>
                  </a:lnTo>
                  <a:lnTo>
                    <a:pt x="111" y="530"/>
                  </a:lnTo>
                  <a:lnTo>
                    <a:pt x="101" y="525"/>
                  </a:lnTo>
                  <a:lnTo>
                    <a:pt x="91" y="519"/>
                  </a:lnTo>
                  <a:lnTo>
                    <a:pt x="84" y="508"/>
                  </a:lnTo>
                  <a:lnTo>
                    <a:pt x="80" y="499"/>
                  </a:lnTo>
                  <a:lnTo>
                    <a:pt x="78" y="488"/>
                  </a:lnTo>
                  <a:lnTo>
                    <a:pt x="77" y="477"/>
                  </a:lnTo>
                  <a:lnTo>
                    <a:pt x="74" y="465"/>
                  </a:lnTo>
                  <a:lnTo>
                    <a:pt x="73" y="454"/>
                  </a:lnTo>
                  <a:lnTo>
                    <a:pt x="69" y="444"/>
                  </a:lnTo>
                  <a:lnTo>
                    <a:pt x="67" y="435"/>
                  </a:lnTo>
                  <a:lnTo>
                    <a:pt x="74" y="430"/>
                  </a:lnTo>
                  <a:lnTo>
                    <a:pt x="83" y="426"/>
                  </a:lnTo>
                  <a:lnTo>
                    <a:pt x="90" y="419"/>
                  </a:lnTo>
                  <a:lnTo>
                    <a:pt x="98" y="415"/>
                  </a:lnTo>
                  <a:lnTo>
                    <a:pt x="104" y="407"/>
                  </a:lnTo>
                  <a:lnTo>
                    <a:pt x="110" y="401"/>
                  </a:lnTo>
                  <a:lnTo>
                    <a:pt x="115" y="393"/>
                  </a:lnTo>
                  <a:lnTo>
                    <a:pt x="121" y="386"/>
                  </a:lnTo>
                  <a:lnTo>
                    <a:pt x="104" y="382"/>
                  </a:lnTo>
                  <a:lnTo>
                    <a:pt x="87" y="382"/>
                  </a:lnTo>
                  <a:lnTo>
                    <a:pt x="71" y="383"/>
                  </a:lnTo>
                  <a:lnTo>
                    <a:pt x="56" y="385"/>
                  </a:lnTo>
                  <a:lnTo>
                    <a:pt x="39" y="383"/>
                  </a:lnTo>
                  <a:lnTo>
                    <a:pt x="25" y="379"/>
                  </a:lnTo>
                  <a:lnTo>
                    <a:pt x="12" y="370"/>
                  </a:lnTo>
                  <a:lnTo>
                    <a:pt x="1" y="356"/>
                  </a:lnTo>
                  <a:lnTo>
                    <a:pt x="0" y="335"/>
                  </a:lnTo>
                  <a:lnTo>
                    <a:pt x="4" y="317"/>
                  </a:lnTo>
                  <a:lnTo>
                    <a:pt x="12" y="299"/>
                  </a:lnTo>
                  <a:lnTo>
                    <a:pt x="24" y="285"/>
                  </a:lnTo>
                  <a:lnTo>
                    <a:pt x="36" y="269"/>
                  </a:lnTo>
                  <a:lnTo>
                    <a:pt x="50" y="255"/>
                  </a:lnTo>
                  <a:lnTo>
                    <a:pt x="65" y="242"/>
                  </a:lnTo>
                  <a:lnTo>
                    <a:pt x="79" y="228"/>
                  </a:lnTo>
                  <a:lnTo>
                    <a:pt x="89" y="237"/>
                  </a:lnTo>
                  <a:lnTo>
                    <a:pt x="97" y="246"/>
                  </a:lnTo>
                  <a:lnTo>
                    <a:pt x="103" y="257"/>
                  </a:lnTo>
                  <a:lnTo>
                    <a:pt x="110" y="268"/>
                  </a:lnTo>
                  <a:lnTo>
                    <a:pt x="115" y="279"/>
                  </a:lnTo>
                  <a:lnTo>
                    <a:pt x="121" y="290"/>
                  </a:lnTo>
                  <a:lnTo>
                    <a:pt x="127" y="302"/>
                  </a:lnTo>
                  <a:lnTo>
                    <a:pt x="134" y="314"/>
                  </a:lnTo>
                  <a:lnTo>
                    <a:pt x="122" y="315"/>
                  </a:lnTo>
                  <a:lnTo>
                    <a:pt x="110" y="315"/>
                  </a:lnTo>
                  <a:lnTo>
                    <a:pt x="98" y="311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5" y="297"/>
                  </a:lnTo>
                  <a:lnTo>
                    <a:pt x="54" y="292"/>
                  </a:lnTo>
                  <a:lnTo>
                    <a:pt x="43" y="290"/>
                  </a:lnTo>
                  <a:lnTo>
                    <a:pt x="38" y="299"/>
                  </a:lnTo>
                  <a:lnTo>
                    <a:pt x="38" y="310"/>
                  </a:lnTo>
                  <a:lnTo>
                    <a:pt x="38" y="321"/>
                  </a:lnTo>
                  <a:lnTo>
                    <a:pt x="43" y="332"/>
                  </a:lnTo>
                  <a:lnTo>
                    <a:pt x="56" y="343"/>
                  </a:lnTo>
                  <a:lnTo>
                    <a:pt x="73" y="353"/>
                  </a:lnTo>
                  <a:lnTo>
                    <a:pt x="90" y="361"/>
                  </a:lnTo>
                  <a:lnTo>
                    <a:pt x="108" y="365"/>
                  </a:lnTo>
                  <a:lnTo>
                    <a:pt x="126" y="367"/>
                  </a:lnTo>
                  <a:lnTo>
                    <a:pt x="145" y="367"/>
                  </a:lnTo>
                  <a:lnTo>
                    <a:pt x="163" y="363"/>
                  </a:lnTo>
                  <a:lnTo>
                    <a:pt x="182" y="356"/>
                  </a:lnTo>
                  <a:lnTo>
                    <a:pt x="191" y="347"/>
                  </a:lnTo>
                  <a:lnTo>
                    <a:pt x="200" y="340"/>
                  </a:lnTo>
                  <a:lnTo>
                    <a:pt x="210" y="333"/>
                  </a:lnTo>
                  <a:lnTo>
                    <a:pt x="220" y="326"/>
                  </a:lnTo>
                  <a:lnTo>
                    <a:pt x="228" y="317"/>
                  </a:lnTo>
                  <a:lnTo>
                    <a:pt x="238" y="309"/>
                  </a:lnTo>
                  <a:lnTo>
                    <a:pt x="246" y="302"/>
                  </a:lnTo>
                  <a:lnTo>
                    <a:pt x="255" y="296"/>
                  </a:lnTo>
                  <a:lnTo>
                    <a:pt x="265" y="293"/>
                  </a:lnTo>
                  <a:lnTo>
                    <a:pt x="276" y="288"/>
                  </a:lnTo>
                  <a:lnTo>
                    <a:pt x="283" y="279"/>
                  </a:lnTo>
                  <a:lnTo>
                    <a:pt x="291" y="267"/>
                  </a:lnTo>
                  <a:lnTo>
                    <a:pt x="295" y="252"/>
                  </a:lnTo>
                  <a:lnTo>
                    <a:pt x="303" y="239"/>
                  </a:lnTo>
                  <a:lnTo>
                    <a:pt x="310" y="226"/>
                  </a:lnTo>
                  <a:lnTo>
                    <a:pt x="322" y="216"/>
                  </a:lnTo>
                  <a:lnTo>
                    <a:pt x="328" y="195"/>
                  </a:lnTo>
                  <a:lnTo>
                    <a:pt x="338" y="174"/>
                  </a:lnTo>
                  <a:lnTo>
                    <a:pt x="347" y="153"/>
                  </a:lnTo>
                  <a:lnTo>
                    <a:pt x="357" y="132"/>
                  </a:lnTo>
                  <a:lnTo>
                    <a:pt x="363" y="109"/>
                  </a:lnTo>
                  <a:lnTo>
                    <a:pt x="369" y="88"/>
                  </a:lnTo>
                  <a:lnTo>
                    <a:pt x="371" y="64"/>
                  </a:lnTo>
                  <a:lnTo>
                    <a:pt x="370" y="41"/>
                  </a:lnTo>
                  <a:lnTo>
                    <a:pt x="360" y="36"/>
                  </a:lnTo>
                  <a:lnTo>
                    <a:pt x="352" y="32"/>
                  </a:lnTo>
                  <a:lnTo>
                    <a:pt x="342" y="31"/>
                  </a:lnTo>
                  <a:lnTo>
                    <a:pt x="334" y="35"/>
                  </a:lnTo>
                  <a:lnTo>
                    <a:pt x="310" y="83"/>
                  </a:lnTo>
                  <a:lnTo>
                    <a:pt x="306" y="78"/>
                  </a:lnTo>
                  <a:lnTo>
                    <a:pt x="304" y="74"/>
                  </a:lnTo>
                  <a:lnTo>
                    <a:pt x="300" y="68"/>
                  </a:lnTo>
                  <a:lnTo>
                    <a:pt x="298" y="62"/>
                  </a:lnTo>
                  <a:lnTo>
                    <a:pt x="294" y="55"/>
                  </a:lnTo>
                  <a:lnTo>
                    <a:pt x="293" y="48"/>
                  </a:lnTo>
                  <a:lnTo>
                    <a:pt x="292" y="41"/>
                  </a:lnTo>
                  <a:lnTo>
                    <a:pt x="292" y="35"/>
                  </a:lnTo>
                  <a:lnTo>
                    <a:pt x="305" y="25"/>
                  </a:lnTo>
                  <a:lnTo>
                    <a:pt x="320" y="17"/>
                  </a:lnTo>
                  <a:lnTo>
                    <a:pt x="334" y="10"/>
                  </a:lnTo>
                  <a:lnTo>
                    <a:pt x="350" y="5"/>
                  </a:lnTo>
                  <a:lnTo>
                    <a:pt x="365" y="0"/>
                  </a:lnTo>
                  <a:lnTo>
                    <a:pt x="382" y="0"/>
                  </a:lnTo>
                  <a:lnTo>
                    <a:pt x="400" y="4"/>
                  </a:lnTo>
                  <a:lnTo>
                    <a:pt x="419" y="11"/>
                  </a:lnTo>
                  <a:lnTo>
                    <a:pt x="425" y="35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24"/>
            <p:cNvSpPr/>
            <p:nvPr/>
          </p:nvSpPr>
          <p:spPr>
            <a:xfrm flipH="1">
              <a:off x="987840" y="5815800"/>
              <a:ext cx="531000" cy="168840"/>
            </a:xfrm>
            <a:custGeom>
              <a:avLst/>
              <a:gdLst>
                <a:gd name="textAreaLeft" fmla="*/ -360 w 531000"/>
                <a:gd name="textAreaRight" fmla="*/ 531000 w 53100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994" h="383">
                  <a:moveTo>
                    <a:pt x="994" y="32"/>
                  </a:moveTo>
                  <a:lnTo>
                    <a:pt x="980" y="38"/>
                  </a:lnTo>
                  <a:lnTo>
                    <a:pt x="968" y="45"/>
                  </a:lnTo>
                  <a:lnTo>
                    <a:pt x="955" y="52"/>
                  </a:lnTo>
                  <a:lnTo>
                    <a:pt x="943" y="59"/>
                  </a:lnTo>
                  <a:lnTo>
                    <a:pt x="929" y="64"/>
                  </a:lnTo>
                  <a:lnTo>
                    <a:pt x="916" y="69"/>
                  </a:lnTo>
                  <a:lnTo>
                    <a:pt x="903" y="71"/>
                  </a:lnTo>
                  <a:lnTo>
                    <a:pt x="891" y="74"/>
                  </a:lnTo>
                  <a:lnTo>
                    <a:pt x="826" y="93"/>
                  </a:lnTo>
                  <a:lnTo>
                    <a:pt x="764" y="115"/>
                  </a:lnTo>
                  <a:lnTo>
                    <a:pt x="700" y="136"/>
                  </a:lnTo>
                  <a:lnTo>
                    <a:pt x="637" y="159"/>
                  </a:lnTo>
                  <a:lnTo>
                    <a:pt x="573" y="182"/>
                  </a:lnTo>
                  <a:lnTo>
                    <a:pt x="511" y="206"/>
                  </a:lnTo>
                  <a:lnTo>
                    <a:pt x="450" y="230"/>
                  </a:lnTo>
                  <a:lnTo>
                    <a:pt x="388" y="255"/>
                  </a:lnTo>
                  <a:lnTo>
                    <a:pt x="340" y="268"/>
                  </a:lnTo>
                  <a:lnTo>
                    <a:pt x="292" y="284"/>
                  </a:lnTo>
                  <a:lnTo>
                    <a:pt x="244" y="299"/>
                  </a:lnTo>
                  <a:lnTo>
                    <a:pt x="196" y="317"/>
                  </a:lnTo>
                  <a:lnTo>
                    <a:pt x="147" y="332"/>
                  </a:lnTo>
                  <a:lnTo>
                    <a:pt x="97" y="349"/>
                  </a:lnTo>
                  <a:lnTo>
                    <a:pt x="48" y="366"/>
                  </a:lnTo>
                  <a:lnTo>
                    <a:pt x="0" y="383"/>
                  </a:lnTo>
                  <a:lnTo>
                    <a:pt x="6" y="371"/>
                  </a:lnTo>
                  <a:lnTo>
                    <a:pt x="124" y="324"/>
                  </a:lnTo>
                  <a:lnTo>
                    <a:pt x="239" y="272"/>
                  </a:lnTo>
                  <a:lnTo>
                    <a:pt x="353" y="217"/>
                  </a:lnTo>
                  <a:lnTo>
                    <a:pt x="469" y="163"/>
                  </a:lnTo>
                  <a:lnTo>
                    <a:pt x="584" y="109"/>
                  </a:lnTo>
                  <a:lnTo>
                    <a:pt x="703" y="63"/>
                  </a:lnTo>
                  <a:lnTo>
                    <a:pt x="825" y="24"/>
                  </a:lnTo>
                  <a:lnTo>
                    <a:pt x="952" y="0"/>
                  </a:lnTo>
                  <a:lnTo>
                    <a:pt x="99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25"/>
            <p:cNvSpPr/>
            <p:nvPr/>
          </p:nvSpPr>
          <p:spPr>
            <a:xfrm flipH="1">
              <a:off x="462240" y="5830920"/>
              <a:ext cx="18720" cy="1548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6" h="35">
                  <a:moveTo>
                    <a:pt x="36" y="17"/>
                  </a:moveTo>
                  <a:lnTo>
                    <a:pt x="34" y="21"/>
                  </a:lnTo>
                  <a:lnTo>
                    <a:pt x="31" y="27"/>
                  </a:lnTo>
                  <a:lnTo>
                    <a:pt x="25" y="32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3" y="5"/>
                  </a:lnTo>
                  <a:lnTo>
                    <a:pt x="8" y="1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3"/>
                  </a:lnTo>
                  <a:lnTo>
                    <a:pt x="31" y="8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26"/>
            <p:cNvSpPr/>
            <p:nvPr/>
          </p:nvSpPr>
          <p:spPr>
            <a:xfrm flipH="1">
              <a:off x="806400" y="5842080"/>
              <a:ext cx="747000" cy="762120"/>
            </a:xfrm>
            <a:custGeom>
              <a:avLst/>
              <a:gdLst>
                <a:gd name="textAreaLeft" fmla="*/ -360 w 747000"/>
                <a:gd name="textAreaRight" fmla="*/ 747000 w 74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401" h="1709">
                  <a:moveTo>
                    <a:pt x="1176" y="0"/>
                  </a:moveTo>
                  <a:lnTo>
                    <a:pt x="1172" y="44"/>
                  </a:lnTo>
                  <a:lnTo>
                    <a:pt x="1173" y="91"/>
                  </a:lnTo>
                  <a:lnTo>
                    <a:pt x="1177" y="137"/>
                  </a:lnTo>
                  <a:lnTo>
                    <a:pt x="1183" y="184"/>
                  </a:lnTo>
                  <a:lnTo>
                    <a:pt x="1189" y="228"/>
                  </a:lnTo>
                  <a:lnTo>
                    <a:pt x="1196" y="274"/>
                  </a:lnTo>
                  <a:lnTo>
                    <a:pt x="1201" y="318"/>
                  </a:lnTo>
                  <a:lnTo>
                    <a:pt x="1206" y="363"/>
                  </a:lnTo>
                  <a:lnTo>
                    <a:pt x="1182" y="374"/>
                  </a:lnTo>
                  <a:lnTo>
                    <a:pt x="1149" y="390"/>
                  </a:lnTo>
                  <a:lnTo>
                    <a:pt x="1112" y="412"/>
                  </a:lnTo>
                  <a:lnTo>
                    <a:pt x="1076" y="440"/>
                  </a:lnTo>
                  <a:lnTo>
                    <a:pt x="1042" y="470"/>
                  </a:lnTo>
                  <a:lnTo>
                    <a:pt x="1017" y="507"/>
                  </a:lnTo>
                  <a:lnTo>
                    <a:pt x="1003" y="547"/>
                  </a:lnTo>
                  <a:lnTo>
                    <a:pt x="1006" y="594"/>
                  </a:lnTo>
                  <a:lnTo>
                    <a:pt x="1008" y="607"/>
                  </a:lnTo>
                  <a:lnTo>
                    <a:pt x="1010" y="621"/>
                  </a:lnTo>
                  <a:lnTo>
                    <a:pt x="1014" y="633"/>
                  </a:lnTo>
                  <a:lnTo>
                    <a:pt x="1017" y="645"/>
                  </a:lnTo>
                  <a:lnTo>
                    <a:pt x="1021" y="655"/>
                  </a:lnTo>
                  <a:lnTo>
                    <a:pt x="1027" y="666"/>
                  </a:lnTo>
                  <a:lnTo>
                    <a:pt x="1033" y="675"/>
                  </a:lnTo>
                  <a:lnTo>
                    <a:pt x="1042" y="685"/>
                  </a:lnTo>
                  <a:lnTo>
                    <a:pt x="1028" y="699"/>
                  </a:lnTo>
                  <a:lnTo>
                    <a:pt x="1018" y="719"/>
                  </a:lnTo>
                  <a:lnTo>
                    <a:pt x="1012" y="740"/>
                  </a:lnTo>
                  <a:lnTo>
                    <a:pt x="1012" y="766"/>
                  </a:lnTo>
                  <a:lnTo>
                    <a:pt x="1016" y="792"/>
                  </a:lnTo>
                  <a:lnTo>
                    <a:pt x="1026" y="821"/>
                  </a:lnTo>
                  <a:lnTo>
                    <a:pt x="1040" y="852"/>
                  </a:lnTo>
                  <a:lnTo>
                    <a:pt x="1060" y="885"/>
                  </a:lnTo>
                  <a:lnTo>
                    <a:pt x="1057" y="899"/>
                  </a:lnTo>
                  <a:lnTo>
                    <a:pt x="1057" y="915"/>
                  </a:lnTo>
                  <a:lnTo>
                    <a:pt x="1056" y="930"/>
                  </a:lnTo>
                  <a:lnTo>
                    <a:pt x="1058" y="946"/>
                  </a:lnTo>
                  <a:lnTo>
                    <a:pt x="1060" y="960"/>
                  </a:lnTo>
                  <a:lnTo>
                    <a:pt x="1066" y="975"/>
                  </a:lnTo>
                  <a:lnTo>
                    <a:pt x="1074" y="987"/>
                  </a:lnTo>
                  <a:lnTo>
                    <a:pt x="1084" y="1000"/>
                  </a:lnTo>
                  <a:lnTo>
                    <a:pt x="1104" y="1022"/>
                  </a:lnTo>
                  <a:lnTo>
                    <a:pt x="1128" y="1037"/>
                  </a:lnTo>
                  <a:lnTo>
                    <a:pt x="1154" y="1044"/>
                  </a:lnTo>
                  <a:lnTo>
                    <a:pt x="1184" y="1049"/>
                  </a:lnTo>
                  <a:lnTo>
                    <a:pt x="1213" y="1049"/>
                  </a:lnTo>
                  <a:lnTo>
                    <a:pt x="1244" y="1047"/>
                  </a:lnTo>
                  <a:lnTo>
                    <a:pt x="1273" y="1044"/>
                  </a:lnTo>
                  <a:lnTo>
                    <a:pt x="1303" y="1042"/>
                  </a:lnTo>
                  <a:lnTo>
                    <a:pt x="1314" y="1078"/>
                  </a:lnTo>
                  <a:lnTo>
                    <a:pt x="1325" y="1114"/>
                  </a:lnTo>
                  <a:lnTo>
                    <a:pt x="1337" y="1150"/>
                  </a:lnTo>
                  <a:lnTo>
                    <a:pt x="1349" y="1188"/>
                  </a:lnTo>
                  <a:lnTo>
                    <a:pt x="1360" y="1224"/>
                  </a:lnTo>
                  <a:lnTo>
                    <a:pt x="1373" y="1260"/>
                  </a:lnTo>
                  <a:lnTo>
                    <a:pt x="1386" y="1296"/>
                  </a:lnTo>
                  <a:lnTo>
                    <a:pt x="1401" y="1333"/>
                  </a:lnTo>
                  <a:lnTo>
                    <a:pt x="1382" y="1345"/>
                  </a:lnTo>
                  <a:lnTo>
                    <a:pt x="1351" y="1351"/>
                  </a:lnTo>
                  <a:lnTo>
                    <a:pt x="1323" y="1359"/>
                  </a:lnTo>
                  <a:lnTo>
                    <a:pt x="1295" y="1369"/>
                  </a:lnTo>
                  <a:lnTo>
                    <a:pt x="1267" y="1380"/>
                  </a:lnTo>
                  <a:lnTo>
                    <a:pt x="1238" y="1391"/>
                  </a:lnTo>
                  <a:lnTo>
                    <a:pt x="1212" y="1404"/>
                  </a:lnTo>
                  <a:lnTo>
                    <a:pt x="1184" y="1416"/>
                  </a:lnTo>
                  <a:lnTo>
                    <a:pt x="1158" y="1430"/>
                  </a:lnTo>
                  <a:lnTo>
                    <a:pt x="1088" y="1450"/>
                  </a:lnTo>
                  <a:lnTo>
                    <a:pt x="1020" y="1470"/>
                  </a:lnTo>
                  <a:lnTo>
                    <a:pt x="951" y="1492"/>
                  </a:lnTo>
                  <a:lnTo>
                    <a:pt x="882" y="1513"/>
                  </a:lnTo>
                  <a:lnTo>
                    <a:pt x="813" y="1535"/>
                  </a:lnTo>
                  <a:lnTo>
                    <a:pt x="745" y="1560"/>
                  </a:lnTo>
                  <a:lnTo>
                    <a:pt x="677" y="1584"/>
                  </a:lnTo>
                  <a:lnTo>
                    <a:pt x="612" y="1612"/>
                  </a:lnTo>
                  <a:lnTo>
                    <a:pt x="581" y="1624"/>
                  </a:lnTo>
                  <a:lnTo>
                    <a:pt x="550" y="1636"/>
                  </a:lnTo>
                  <a:lnTo>
                    <a:pt x="520" y="1647"/>
                  </a:lnTo>
                  <a:lnTo>
                    <a:pt x="490" y="1659"/>
                  </a:lnTo>
                  <a:lnTo>
                    <a:pt x="460" y="1670"/>
                  </a:lnTo>
                  <a:lnTo>
                    <a:pt x="430" y="1680"/>
                  </a:lnTo>
                  <a:lnTo>
                    <a:pt x="401" y="1694"/>
                  </a:lnTo>
                  <a:lnTo>
                    <a:pt x="375" y="1709"/>
                  </a:lnTo>
                  <a:lnTo>
                    <a:pt x="360" y="1709"/>
                  </a:lnTo>
                  <a:lnTo>
                    <a:pt x="348" y="1709"/>
                  </a:lnTo>
                  <a:lnTo>
                    <a:pt x="335" y="1708"/>
                  </a:lnTo>
                  <a:lnTo>
                    <a:pt x="324" y="1707"/>
                  </a:lnTo>
                  <a:lnTo>
                    <a:pt x="312" y="1703"/>
                  </a:lnTo>
                  <a:lnTo>
                    <a:pt x="300" y="1698"/>
                  </a:lnTo>
                  <a:lnTo>
                    <a:pt x="290" y="1690"/>
                  </a:lnTo>
                  <a:lnTo>
                    <a:pt x="279" y="1679"/>
                  </a:lnTo>
                  <a:lnTo>
                    <a:pt x="282" y="1647"/>
                  </a:lnTo>
                  <a:lnTo>
                    <a:pt x="285" y="1616"/>
                  </a:lnTo>
                  <a:lnTo>
                    <a:pt x="284" y="1584"/>
                  </a:lnTo>
                  <a:lnTo>
                    <a:pt x="282" y="1555"/>
                  </a:lnTo>
                  <a:lnTo>
                    <a:pt x="279" y="1524"/>
                  </a:lnTo>
                  <a:lnTo>
                    <a:pt x="275" y="1495"/>
                  </a:lnTo>
                  <a:lnTo>
                    <a:pt x="273" y="1465"/>
                  </a:lnTo>
                  <a:lnTo>
                    <a:pt x="273" y="1436"/>
                  </a:lnTo>
                  <a:lnTo>
                    <a:pt x="264" y="1373"/>
                  </a:lnTo>
                  <a:lnTo>
                    <a:pt x="255" y="1311"/>
                  </a:lnTo>
                  <a:lnTo>
                    <a:pt x="240" y="1250"/>
                  </a:lnTo>
                  <a:lnTo>
                    <a:pt x="227" y="1191"/>
                  </a:lnTo>
                  <a:lnTo>
                    <a:pt x="211" y="1131"/>
                  </a:lnTo>
                  <a:lnTo>
                    <a:pt x="198" y="1072"/>
                  </a:lnTo>
                  <a:lnTo>
                    <a:pt x="185" y="1012"/>
                  </a:lnTo>
                  <a:lnTo>
                    <a:pt x="175" y="952"/>
                  </a:lnTo>
                  <a:lnTo>
                    <a:pt x="154" y="876"/>
                  </a:lnTo>
                  <a:lnTo>
                    <a:pt x="133" y="802"/>
                  </a:lnTo>
                  <a:lnTo>
                    <a:pt x="112" y="727"/>
                  </a:lnTo>
                  <a:lnTo>
                    <a:pt x="91" y="654"/>
                  </a:lnTo>
                  <a:lnTo>
                    <a:pt x="68" y="579"/>
                  </a:lnTo>
                  <a:lnTo>
                    <a:pt x="47" y="505"/>
                  </a:lnTo>
                  <a:lnTo>
                    <a:pt x="23" y="430"/>
                  </a:lnTo>
                  <a:lnTo>
                    <a:pt x="0" y="357"/>
                  </a:lnTo>
                  <a:lnTo>
                    <a:pt x="21" y="360"/>
                  </a:lnTo>
                  <a:lnTo>
                    <a:pt x="39" y="370"/>
                  </a:lnTo>
                  <a:lnTo>
                    <a:pt x="54" y="382"/>
                  </a:lnTo>
                  <a:lnTo>
                    <a:pt x="66" y="398"/>
                  </a:lnTo>
                  <a:lnTo>
                    <a:pt x="73" y="413"/>
                  </a:lnTo>
                  <a:lnTo>
                    <a:pt x="81" y="431"/>
                  </a:lnTo>
                  <a:lnTo>
                    <a:pt x="89" y="448"/>
                  </a:lnTo>
                  <a:lnTo>
                    <a:pt x="96" y="466"/>
                  </a:lnTo>
                  <a:lnTo>
                    <a:pt x="114" y="531"/>
                  </a:lnTo>
                  <a:lnTo>
                    <a:pt x="136" y="596"/>
                  </a:lnTo>
                  <a:lnTo>
                    <a:pt x="156" y="661"/>
                  </a:lnTo>
                  <a:lnTo>
                    <a:pt x="179" y="727"/>
                  </a:lnTo>
                  <a:lnTo>
                    <a:pt x="198" y="792"/>
                  </a:lnTo>
                  <a:lnTo>
                    <a:pt x="217" y="858"/>
                  </a:lnTo>
                  <a:lnTo>
                    <a:pt x="233" y="925"/>
                  </a:lnTo>
                  <a:lnTo>
                    <a:pt x="247" y="994"/>
                  </a:lnTo>
                  <a:lnTo>
                    <a:pt x="261" y="1076"/>
                  </a:lnTo>
                  <a:lnTo>
                    <a:pt x="278" y="1159"/>
                  </a:lnTo>
                  <a:lnTo>
                    <a:pt x="294" y="1240"/>
                  </a:lnTo>
                  <a:lnTo>
                    <a:pt x="312" y="1323"/>
                  </a:lnTo>
                  <a:lnTo>
                    <a:pt x="328" y="1405"/>
                  </a:lnTo>
                  <a:lnTo>
                    <a:pt x="344" y="1487"/>
                  </a:lnTo>
                  <a:lnTo>
                    <a:pt x="358" y="1570"/>
                  </a:lnTo>
                  <a:lnTo>
                    <a:pt x="369" y="1655"/>
                  </a:lnTo>
                  <a:lnTo>
                    <a:pt x="376" y="1656"/>
                  </a:lnTo>
                  <a:lnTo>
                    <a:pt x="385" y="1661"/>
                  </a:lnTo>
                  <a:lnTo>
                    <a:pt x="388" y="1662"/>
                  </a:lnTo>
                  <a:lnTo>
                    <a:pt x="393" y="1665"/>
                  </a:lnTo>
                  <a:lnTo>
                    <a:pt x="398" y="1666"/>
                  </a:lnTo>
                  <a:lnTo>
                    <a:pt x="405" y="1667"/>
                  </a:lnTo>
                  <a:lnTo>
                    <a:pt x="405" y="1656"/>
                  </a:lnTo>
                  <a:lnTo>
                    <a:pt x="407" y="1647"/>
                  </a:lnTo>
                  <a:lnTo>
                    <a:pt x="410" y="1636"/>
                  </a:lnTo>
                  <a:lnTo>
                    <a:pt x="412" y="1626"/>
                  </a:lnTo>
                  <a:lnTo>
                    <a:pt x="412" y="1616"/>
                  </a:lnTo>
                  <a:lnTo>
                    <a:pt x="412" y="1606"/>
                  </a:lnTo>
                  <a:lnTo>
                    <a:pt x="410" y="1596"/>
                  </a:lnTo>
                  <a:lnTo>
                    <a:pt x="405" y="1588"/>
                  </a:lnTo>
                  <a:lnTo>
                    <a:pt x="398" y="1537"/>
                  </a:lnTo>
                  <a:lnTo>
                    <a:pt x="392" y="1488"/>
                  </a:lnTo>
                  <a:lnTo>
                    <a:pt x="382" y="1439"/>
                  </a:lnTo>
                  <a:lnTo>
                    <a:pt x="373" y="1391"/>
                  </a:lnTo>
                  <a:lnTo>
                    <a:pt x="360" y="1343"/>
                  </a:lnTo>
                  <a:lnTo>
                    <a:pt x="350" y="1295"/>
                  </a:lnTo>
                  <a:lnTo>
                    <a:pt x="338" y="1246"/>
                  </a:lnTo>
                  <a:lnTo>
                    <a:pt x="327" y="1200"/>
                  </a:lnTo>
                  <a:lnTo>
                    <a:pt x="309" y="1095"/>
                  </a:lnTo>
                  <a:lnTo>
                    <a:pt x="288" y="992"/>
                  </a:lnTo>
                  <a:lnTo>
                    <a:pt x="265" y="886"/>
                  </a:lnTo>
                  <a:lnTo>
                    <a:pt x="240" y="781"/>
                  </a:lnTo>
                  <a:lnTo>
                    <a:pt x="211" y="677"/>
                  </a:lnTo>
                  <a:lnTo>
                    <a:pt x="181" y="572"/>
                  </a:lnTo>
                  <a:lnTo>
                    <a:pt x="149" y="469"/>
                  </a:lnTo>
                  <a:lnTo>
                    <a:pt x="114" y="369"/>
                  </a:lnTo>
                  <a:lnTo>
                    <a:pt x="244" y="319"/>
                  </a:lnTo>
                  <a:lnTo>
                    <a:pt x="375" y="273"/>
                  </a:lnTo>
                  <a:lnTo>
                    <a:pt x="505" y="224"/>
                  </a:lnTo>
                  <a:lnTo>
                    <a:pt x="636" y="178"/>
                  </a:lnTo>
                  <a:lnTo>
                    <a:pt x="766" y="131"/>
                  </a:lnTo>
                  <a:lnTo>
                    <a:pt x="898" y="85"/>
                  </a:lnTo>
                  <a:lnTo>
                    <a:pt x="1029" y="41"/>
                  </a:lnTo>
                  <a:lnTo>
                    <a:pt x="1164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00f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7"/>
            <p:cNvSpPr/>
            <p:nvPr/>
          </p:nvSpPr>
          <p:spPr>
            <a:xfrm flipH="1">
              <a:off x="486000" y="5857560"/>
              <a:ext cx="16200" cy="15480"/>
            </a:xfrm>
            <a:custGeom>
              <a:avLst/>
              <a:gdLst>
                <a:gd name="textAreaLeft" fmla="*/ -360 w 16200"/>
                <a:gd name="textAreaRight" fmla="*/ 16200 w 162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2"/>
                  </a:moveTo>
                  <a:lnTo>
                    <a:pt x="27" y="19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8" y="36"/>
                  </a:lnTo>
                  <a:lnTo>
                    <a:pt x="9" y="33"/>
                  </a:lnTo>
                  <a:lnTo>
                    <a:pt x="6" y="29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3" y="6"/>
                  </a:lnTo>
                  <a:lnTo>
                    <a:pt x="8" y="2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27" y="5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8"/>
            <p:cNvSpPr/>
            <p:nvPr/>
          </p:nvSpPr>
          <p:spPr>
            <a:xfrm flipH="1">
              <a:off x="216720" y="5893560"/>
              <a:ext cx="581400" cy="518400"/>
            </a:xfrm>
            <a:custGeom>
              <a:avLst/>
              <a:gdLst>
                <a:gd name="textAreaLeft" fmla="*/ -360 w 581400"/>
                <a:gd name="textAreaRight" fmla="*/ 581400 w 58140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1091" h="1164">
                  <a:moveTo>
                    <a:pt x="739" y="6"/>
                  </a:moveTo>
                  <a:lnTo>
                    <a:pt x="778" y="81"/>
                  </a:lnTo>
                  <a:lnTo>
                    <a:pt x="810" y="160"/>
                  </a:lnTo>
                  <a:lnTo>
                    <a:pt x="836" y="242"/>
                  </a:lnTo>
                  <a:lnTo>
                    <a:pt x="861" y="327"/>
                  </a:lnTo>
                  <a:lnTo>
                    <a:pt x="885" y="410"/>
                  </a:lnTo>
                  <a:lnTo>
                    <a:pt x="914" y="493"/>
                  </a:lnTo>
                  <a:lnTo>
                    <a:pt x="951" y="572"/>
                  </a:lnTo>
                  <a:lnTo>
                    <a:pt x="1000" y="648"/>
                  </a:lnTo>
                  <a:lnTo>
                    <a:pt x="1010" y="670"/>
                  </a:lnTo>
                  <a:lnTo>
                    <a:pt x="1023" y="691"/>
                  </a:lnTo>
                  <a:lnTo>
                    <a:pt x="1036" y="713"/>
                  </a:lnTo>
                  <a:lnTo>
                    <a:pt x="1052" y="735"/>
                  </a:lnTo>
                  <a:lnTo>
                    <a:pt x="1064" y="756"/>
                  </a:lnTo>
                  <a:lnTo>
                    <a:pt x="1076" y="779"/>
                  </a:lnTo>
                  <a:lnTo>
                    <a:pt x="1085" y="803"/>
                  </a:lnTo>
                  <a:lnTo>
                    <a:pt x="1091" y="831"/>
                  </a:lnTo>
                  <a:lnTo>
                    <a:pt x="1086" y="837"/>
                  </a:lnTo>
                  <a:lnTo>
                    <a:pt x="1081" y="845"/>
                  </a:lnTo>
                  <a:lnTo>
                    <a:pt x="1075" y="853"/>
                  </a:lnTo>
                  <a:lnTo>
                    <a:pt x="1070" y="861"/>
                  </a:lnTo>
                  <a:lnTo>
                    <a:pt x="1064" y="867"/>
                  </a:lnTo>
                  <a:lnTo>
                    <a:pt x="1058" y="873"/>
                  </a:lnTo>
                  <a:lnTo>
                    <a:pt x="1050" y="877"/>
                  </a:lnTo>
                  <a:lnTo>
                    <a:pt x="1042" y="879"/>
                  </a:lnTo>
                  <a:lnTo>
                    <a:pt x="1030" y="873"/>
                  </a:lnTo>
                  <a:lnTo>
                    <a:pt x="1021" y="873"/>
                  </a:lnTo>
                  <a:lnTo>
                    <a:pt x="1011" y="874"/>
                  </a:lnTo>
                  <a:lnTo>
                    <a:pt x="1004" y="878"/>
                  </a:lnTo>
                  <a:lnTo>
                    <a:pt x="994" y="881"/>
                  </a:lnTo>
                  <a:lnTo>
                    <a:pt x="986" y="886"/>
                  </a:lnTo>
                  <a:lnTo>
                    <a:pt x="978" y="889"/>
                  </a:lnTo>
                  <a:lnTo>
                    <a:pt x="969" y="891"/>
                  </a:lnTo>
                  <a:lnTo>
                    <a:pt x="933" y="893"/>
                  </a:lnTo>
                  <a:lnTo>
                    <a:pt x="897" y="896"/>
                  </a:lnTo>
                  <a:lnTo>
                    <a:pt x="862" y="896"/>
                  </a:lnTo>
                  <a:lnTo>
                    <a:pt x="827" y="895"/>
                  </a:lnTo>
                  <a:lnTo>
                    <a:pt x="792" y="890"/>
                  </a:lnTo>
                  <a:lnTo>
                    <a:pt x="759" y="884"/>
                  </a:lnTo>
                  <a:lnTo>
                    <a:pt x="724" y="877"/>
                  </a:lnTo>
                  <a:lnTo>
                    <a:pt x="691" y="867"/>
                  </a:lnTo>
                  <a:lnTo>
                    <a:pt x="696" y="836"/>
                  </a:lnTo>
                  <a:lnTo>
                    <a:pt x="702" y="806"/>
                  </a:lnTo>
                  <a:lnTo>
                    <a:pt x="707" y="776"/>
                  </a:lnTo>
                  <a:lnTo>
                    <a:pt x="713" y="745"/>
                  </a:lnTo>
                  <a:lnTo>
                    <a:pt x="717" y="715"/>
                  </a:lnTo>
                  <a:lnTo>
                    <a:pt x="724" y="685"/>
                  </a:lnTo>
                  <a:lnTo>
                    <a:pt x="730" y="657"/>
                  </a:lnTo>
                  <a:lnTo>
                    <a:pt x="739" y="630"/>
                  </a:lnTo>
                  <a:lnTo>
                    <a:pt x="753" y="625"/>
                  </a:lnTo>
                  <a:lnTo>
                    <a:pt x="767" y="622"/>
                  </a:lnTo>
                  <a:lnTo>
                    <a:pt x="782" y="614"/>
                  </a:lnTo>
                  <a:lnTo>
                    <a:pt x="796" y="607"/>
                  </a:lnTo>
                  <a:lnTo>
                    <a:pt x="808" y="598"/>
                  </a:lnTo>
                  <a:lnTo>
                    <a:pt x="820" y="588"/>
                  </a:lnTo>
                  <a:lnTo>
                    <a:pt x="830" y="576"/>
                  </a:lnTo>
                  <a:lnTo>
                    <a:pt x="837" y="564"/>
                  </a:lnTo>
                  <a:lnTo>
                    <a:pt x="830" y="559"/>
                  </a:lnTo>
                  <a:lnTo>
                    <a:pt x="824" y="557"/>
                  </a:lnTo>
                  <a:lnTo>
                    <a:pt x="818" y="554"/>
                  </a:lnTo>
                  <a:lnTo>
                    <a:pt x="812" y="554"/>
                  </a:lnTo>
                  <a:lnTo>
                    <a:pt x="804" y="554"/>
                  </a:lnTo>
                  <a:lnTo>
                    <a:pt x="797" y="557"/>
                  </a:lnTo>
                  <a:lnTo>
                    <a:pt x="791" y="559"/>
                  </a:lnTo>
                  <a:lnTo>
                    <a:pt x="788" y="564"/>
                  </a:lnTo>
                  <a:lnTo>
                    <a:pt x="779" y="570"/>
                  </a:lnTo>
                  <a:lnTo>
                    <a:pt x="772" y="574"/>
                  </a:lnTo>
                  <a:lnTo>
                    <a:pt x="765" y="575"/>
                  </a:lnTo>
                  <a:lnTo>
                    <a:pt x="757" y="576"/>
                  </a:lnTo>
                  <a:lnTo>
                    <a:pt x="759" y="557"/>
                  </a:lnTo>
                  <a:lnTo>
                    <a:pt x="762" y="539"/>
                  </a:lnTo>
                  <a:lnTo>
                    <a:pt x="766" y="521"/>
                  </a:lnTo>
                  <a:lnTo>
                    <a:pt x="771" y="503"/>
                  </a:lnTo>
                  <a:lnTo>
                    <a:pt x="774" y="485"/>
                  </a:lnTo>
                  <a:lnTo>
                    <a:pt x="780" y="468"/>
                  </a:lnTo>
                  <a:lnTo>
                    <a:pt x="786" y="451"/>
                  </a:lnTo>
                  <a:lnTo>
                    <a:pt x="794" y="437"/>
                  </a:lnTo>
                  <a:lnTo>
                    <a:pt x="790" y="429"/>
                  </a:lnTo>
                  <a:lnTo>
                    <a:pt x="786" y="423"/>
                  </a:lnTo>
                  <a:lnTo>
                    <a:pt x="782" y="418"/>
                  </a:lnTo>
                  <a:lnTo>
                    <a:pt x="777" y="416"/>
                  </a:lnTo>
                  <a:lnTo>
                    <a:pt x="769" y="412"/>
                  </a:lnTo>
                  <a:lnTo>
                    <a:pt x="763" y="414"/>
                  </a:lnTo>
                  <a:lnTo>
                    <a:pt x="757" y="414"/>
                  </a:lnTo>
                  <a:lnTo>
                    <a:pt x="751" y="418"/>
                  </a:lnTo>
                  <a:lnTo>
                    <a:pt x="737" y="441"/>
                  </a:lnTo>
                  <a:lnTo>
                    <a:pt x="727" y="467"/>
                  </a:lnTo>
                  <a:lnTo>
                    <a:pt x="720" y="492"/>
                  </a:lnTo>
                  <a:lnTo>
                    <a:pt x="717" y="518"/>
                  </a:lnTo>
                  <a:lnTo>
                    <a:pt x="712" y="545"/>
                  </a:lnTo>
                  <a:lnTo>
                    <a:pt x="707" y="571"/>
                  </a:lnTo>
                  <a:lnTo>
                    <a:pt x="700" y="598"/>
                  </a:lnTo>
                  <a:lnTo>
                    <a:pt x="691" y="624"/>
                  </a:lnTo>
                  <a:lnTo>
                    <a:pt x="680" y="646"/>
                  </a:lnTo>
                  <a:lnTo>
                    <a:pt x="674" y="669"/>
                  </a:lnTo>
                  <a:lnTo>
                    <a:pt x="670" y="690"/>
                  </a:lnTo>
                  <a:lnTo>
                    <a:pt x="666" y="713"/>
                  </a:lnTo>
                  <a:lnTo>
                    <a:pt x="662" y="735"/>
                  </a:lnTo>
                  <a:lnTo>
                    <a:pt x="660" y="756"/>
                  </a:lnTo>
                  <a:lnTo>
                    <a:pt x="655" y="778"/>
                  </a:lnTo>
                  <a:lnTo>
                    <a:pt x="648" y="800"/>
                  </a:lnTo>
                  <a:lnTo>
                    <a:pt x="643" y="833"/>
                  </a:lnTo>
                  <a:lnTo>
                    <a:pt x="640" y="868"/>
                  </a:lnTo>
                  <a:lnTo>
                    <a:pt x="635" y="902"/>
                  </a:lnTo>
                  <a:lnTo>
                    <a:pt x="630" y="937"/>
                  </a:lnTo>
                  <a:lnTo>
                    <a:pt x="622" y="969"/>
                  </a:lnTo>
                  <a:lnTo>
                    <a:pt x="610" y="1002"/>
                  </a:lnTo>
                  <a:lnTo>
                    <a:pt x="594" y="1032"/>
                  </a:lnTo>
                  <a:lnTo>
                    <a:pt x="576" y="1060"/>
                  </a:lnTo>
                  <a:lnTo>
                    <a:pt x="518" y="1081"/>
                  </a:lnTo>
                  <a:lnTo>
                    <a:pt x="462" y="1094"/>
                  </a:lnTo>
                  <a:lnTo>
                    <a:pt x="403" y="1100"/>
                  </a:lnTo>
                  <a:lnTo>
                    <a:pt x="345" y="1104"/>
                  </a:lnTo>
                  <a:lnTo>
                    <a:pt x="285" y="1107"/>
                  </a:lnTo>
                  <a:lnTo>
                    <a:pt x="226" y="1116"/>
                  </a:lnTo>
                  <a:lnTo>
                    <a:pt x="168" y="1131"/>
                  </a:lnTo>
                  <a:lnTo>
                    <a:pt x="114" y="1158"/>
                  </a:lnTo>
                  <a:lnTo>
                    <a:pt x="104" y="1158"/>
                  </a:lnTo>
                  <a:lnTo>
                    <a:pt x="95" y="1159"/>
                  </a:lnTo>
                  <a:lnTo>
                    <a:pt x="84" y="1161"/>
                  </a:lnTo>
                  <a:lnTo>
                    <a:pt x="76" y="1164"/>
                  </a:lnTo>
                  <a:lnTo>
                    <a:pt x="65" y="1164"/>
                  </a:lnTo>
                  <a:lnTo>
                    <a:pt x="56" y="1164"/>
                  </a:lnTo>
                  <a:lnTo>
                    <a:pt x="48" y="1161"/>
                  </a:lnTo>
                  <a:lnTo>
                    <a:pt x="42" y="1158"/>
                  </a:lnTo>
                  <a:lnTo>
                    <a:pt x="35" y="1148"/>
                  </a:lnTo>
                  <a:lnTo>
                    <a:pt x="29" y="1139"/>
                  </a:lnTo>
                  <a:lnTo>
                    <a:pt x="24" y="1129"/>
                  </a:lnTo>
                  <a:lnTo>
                    <a:pt x="20" y="1121"/>
                  </a:lnTo>
                  <a:lnTo>
                    <a:pt x="15" y="1111"/>
                  </a:lnTo>
                  <a:lnTo>
                    <a:pt x="11" y="1103"/>
                  </a:lnTo>
                  <a:lnTo>
                    <a:pt x="5" y="1093"/>
                  </a:lnTo>
                  <a:lnTo>
                    <a:pt x="0" y="1085"/>
                  </a:lnTo>
                  <a:lnTo>
                    <a:pt x="13" y="1085"/>
                  </a:lnTo>
                  <a:lnTo>
                    <a:pt x="27" y="1089"/>
                  </a:lnTo>
                  <a:lnTo>
                    <a:pt x="41" y="1093"/>
                  </a:lnTo>
                  <a:lnTo>
                    <a:pt x="55" y="1099"/>
                  </a:lnTo>
                  <a:lnTo>
                    <a:pt x="68" y="1101"/>
                  </a:lnTo>
                  <a:lnTo>
                    <a:pt x="83" y="1101"/>
                  </a:lnTo>
                  <a:lnTo>
                    <a:pt x="95" y="1098"/>
                  </a:lnTo>
                  <a:lnTo>
                    <a:pt x="108" y="1091"/>
                  </a:lnTo>
                  <a:lnTo>
                    <a:pt x="133" y="1080"/>
                  </a:lnTo>
                  <a:lnTo>
                    <a:pt x="154" y="1065"/>
                  </a:lnTo>
                  <a:lnTo>
                    <a:pt x="167" y="1045"/>
                  </a:lnTo>
                  <a:lnTo>
                    <a:pt x="178" y="1023"/>
                  </a:lnTo>
                  <a:lnTo>
                    <a:pt x="184" y="997"/>
                  </a:lnTo>
                  <a:lnTo>
                    <a:pt x="187" y="970"/>
                  </a:lnTo>
                  <a:lnTo>
                    <a:pt x="190" y="941"/>
                  </a:lnTo>
                  <a:lnTo>
                    <a:pt x="193" y="915"/>
                  </a:lnTo>
                  <a:lnTo>
                    <a:pt x="189" y="905"/>
                  </a:lnTo>
                  <a:lnTo>
                    <a:pt x="183" y="898"/>
                  </a:lnTo>
                  <a:lnTo>
                    <a:pt x="175" y="891"/>
                  </a:lnTo>
                  <a:lnTo>
                    <a:pt x="169" y="885"/>
                  </a:lnTo>
                  <a:lnTo>
                    <a:pt x="161" y="878"/>
                  </a:lnTo>
                  <a:lnTo>
                    <a:pt x="154" y="871"/>
                  </a:lnTo>
                  <a:lnTo>
                    <a:pt x="148" y="862"/>
                  </a:lnTo>
                  <a:lnTo>
                    <a:pt x="145" y="855"/>
                  </a:lnTo>
                  <a:lnTo>
                    <a:pt x="154" y="850"/>
                  </a:lnTo>
                  <a:lnTo>
                    <a:pt x="163" y="845"/>
                  </a:lnTo>
                  <a:lnTo>
                    <a:pt x="172" y="839"/>
                  </a:lnTo>
                  <a:lnTo>
                    <a:pt x="181" y="836"/>
                  </a:lnTo>
                  <a:lnTo>
                    <a:pt x="191" y="830"/>
                  </a:lnTo>
                  <a:lnTo>
                    <a:pt x="201" y="827"/>
                  </a:lnTo>
                  <a:lnTo>
                    <a:pt x="211" y="827"/>
                  </a:lnTo>
                  <a:lnTo>
                    <a:pt x="223" y="831"/>
                  </a:lnTo>
                  <a:lnTo>
                    <a:pt x="231" y="849"/>
                  </a:lnTo>
                  <a:lnTo>
                    <a:pt x="238" y="867"/>
                  </a:lnTo>
                  <a:lnTo>
                    <a:pt x="243" y="885"/>
                  </a:lnTo>
                  <a:lnTo>
                    <a:pt x="248" y="903"/>
                  </a:lnTo>
                  <a:lnTo>
                    <a:pt x="249" y="921"/>
                  </a:lnTo>
                  <a:lnTo>
                    <a:pt x="251" y="941"/>
                  </a:lnTo>
                  <a:lnTo>
                    <a:pt x="252" y="961"/>
                  </a:lnTo>
                  <a:lnTo>
                    <a:pt x="254" y="982"/>
                  </a:lnTo>
                  <a:lnTo>
                    <a:pt x="260" y="987"/>
                  </a:lnTo>
                  <a:lnTo>
                    <a:pt x="269" y="992"/>
                  </a:lnTo>
                  <a:lnTo>
                    <a:pt x="278" y="993"/>
                  </a:lnTo>
                  <a:lnTo>
                    <a:pt x="285" y="988"/>
                  </a:lnTo>
                  <a:lnTo>
                    <a:pt x="286" y="974"/>
                  </a:lnTo>
                  <a:lnTo>
                    <a:pt x="288" y="961"/>
                  </a:lnTo>
                  <a:lnTo>
                    <a:pt x="290" y="947"/>
                  </a:lnTo>
                  <a:lnTo>
                    <a:pt x="292" y="937"/>
                  </a:lnTo>
                  <a:lnTo>
                    <a:pt x="292" y="925"/>
                  </a:lnTo>
                  <a:lnTo>
                    <a:pt x="292" y="913"/>
                  </a:lnTo>
                  <a:lnTo>
                    <a:pt x="291" y="902"/>
                  </a:lnTo>
                  <a:lnTo>
                    <a:pt x="291" y="891"/>
                  </a:lnTo>
                  <a:lnTo>
                    <a:pt x="300" y="881"/>
                  </a:lnTo>
                  <a:lnTo>
                    <a:pt x="312" y="874"/>
                  </a:lnTo>
                  <a:lnTo>
                    <a:pt x="326" y="868"/>
                  </a:lnTo>
                  <a:lnTo>
                    <a:pt x="340" y="866"/>
                  </a:lnTo>
                  <a:lnTo>
                    <a:pt x="355" y="863"/>
                  </a:lnTo>
                  <a:lnTo>
                    <a:pt x="369" y="863"/>
                  </a:lnTo>
                  <a:lnTo>
                    <a:pt x="383" y="866"/>
                  </a:lnTo>
                  <a:lnTo>
                    <a:pt x="399" y="873"/>
                  </a:lnTo>
                  <a:lnTo>
                    <a:pt x="415" y="886"/>
                  </a:lnTo>
                  <a:lnTo>
                    <a:pt x="427" y="903"/>
                  </a:lnTo>
                  <a:lnTo>
                    <a:pt x="438" y="921"/>
                  </a:lnTo>
                  <a:lnTo>
                    <a:pt x="447" y="940"/>
                  </a:lnTo>
                  <a:lnTo>
                    <a:pt x="454" y="958"/>
                  </a:lnTo>
                  <a:lnTo>
                    <a:pt x="464" y="978"/>
                  </a:lnTo>
                  <a:lnTo>
                    <a:pt x="475" y="994"/>
                  </a:lnTo>
                  <a:lnTo>
                    <a:pt x="490" y="1012"/>
                  </a:lnTo>
                  <a:lnTo>
                    <a:pt x="499" y="1012"/>
                  </a:lnTo>
                  <a:lnTo>
                    <a:pt x="509" y="1012"/>
                  </a:lnTo>
                  <a:lnTo>
                    <a:pt x="509" y="1002"/>
                  </a:lnTo>
                  <a:lnTo>
                    <a:pt x="509" y="992"/>
                  </a:lnTo>
                  <a:lnTo>
                    <a:pt x="507" y="981"/>
                  </a:lnTo>
                  <a:lnTo>
                    <a:pt x="506" y="972"/>
                  </a:lnTo>
                  <a:lnTo>
                    <a:pt x="502" y="960"/>
                  </a:lnTo>
                  <a:lnTo>
                    <a:pt x="499" y="949"/>
                  </a:lnTo>
                  <a:lnTo>
                    <a:pt x="494" y="938"/>
                  </a:lnTo>
                  <a:lnTo>
                    <a:pt x="490" y="927"/>
                  </a:lnTo>
                  <a:lnTo>
                    <a:pt x="483" y="909"/>
                  </a:lnTo>
                  <a:lnTo>
                    <a:pt x="475" y="891"/>
                  </a:lnTo>
                  <a:lnTo>
                    <a:pt x="464" y="873"/>
                  </a:lnTo>
                  <a:lnTo>
                    <a:pt x="452" y="859"/>
                  </a:lnTo>
                  <a:lnTo>
                    <a:pt x="436" y="843"/>
                  </a:lnTo>
                  <a:lnTo>
                    <a:pt x="421" y="831"/>
                  </a:lnTo>
                  <a:lnTo>
                    <a:pt x="404" y="819"/>
                  </a:lnTo>
                  <a:lnTo>
                    <a:pt x="387" y="812"/>
                  </a:lnTo>
                  <a:lnTo>
                    <a:pt x="351" y="812"/>
                  </a:lnTo>
                  <a:lnTo>
                    <a:pt x="349" y="801"/>
                  </a:lnTo>
                  <a:lnTo>
                    <a:pt x="351" y="795"/>
                  </a:lnTo>
                  <a:lnTo>
                    <a:pt x="355" y="790"/>
                  </a:lnTo>
                  <a:lnTo>
                    <a:pt x="362" y="789"/>
                  </a:lnTo>
                  <a:lnTo>
                    <a:pt x="368" y="788"/>
                  </a:lnTo>
                  <a:lnTo>
                    <a:pt x="375" y="786"/>
                  </a:lnTo>
                  <a:lnTo>
                    <a:pt x="381" y="784"/>
                  </a:lnTo>
                  <a:lnTo>
                    <a:pt x="387" y="782"/>
                  </a:lnTo>
                  <a:lnTo>
                    <a:pt x="400" y="779"/>
                  </a:lnTo>
                  <a:lnTo>
                    <a:pt x="415" y="780"/>
                  </a:lnTo>
                  <a:lnTo>
                    <a:pt x="429" y="783"/>
                  </a:lnTo>
                  <a:lnTo>
                    <a:pt x="445" y="785"/>
                  </a:lnTo>
                  <a:lnTo>
                    <a:pt x="459" y="786"/>
                  </a:lnTo>
                  <a:lnTo>
                    <a:pt x="474" y="788"/>
                  </a:lnTo>
                  <a:lnTo>
                    <a:pt x="488" y="785"/>
                  </a:lnTo>
                  <a:lnTo>
                    <a:pt x="502" y="782"/>
                  </a:lnTo>
                  <a:lnTo>
                    <a:pt x="490" y="773"/>
                  </a:lnTo>
                  <a:lnTo>
                    <a:pt x="482" y="764"/>
                  </a:lnTo>
                  <a:lnTo>
                    <a:pt x="476" y="752"/>
                  </a:lnTo>
                  <a:lnTo>
                    <a:pt x="475" y="741"/>
                  </a:lnTo>
                  <a:lnTo>
                    <a:pt x="474" y="729"/>
                  </a:lnTo>
                  <a:lnTo>
                    <a:pt x="476" y="717"/>
                  </a:lnTo>
                  <a:lnTo>
                    <a:pt x="480" y="706"/>
                  </a:lnTo>
                  <a:lnTo>
                    <a:pt x="484" y="697"/>
                  </a:lnTo>
                  <a:lnTo>
                    <a:pt x="493" y="657"/>
                  </a:lnTo>
                  <a:lnTo>
                    <a:pt x="501" y="617"/>
                  </a:lnTo>
                  <a:lnTo>
                    <a:pt x="509" y="577"/>
                  </a:lnTo>
                  <a:lnTo>
                    <a:pt x="517" y="538"/>
                  </a:lnTo>
                  <a:lnTo>
                    <a:pt x="524" y="498"/>
                  </a:lnTo>
                  <a:lnTo>
                    <a:pt x="534" y="459"/>
                  </a:lnTo>
                  <a:lnTo>
                    <a:pt x="546" y="422"/>
                  </a:lnTo>
                  <a:lnTo>
                    <a:pt x="564" y="387"/>
                  </a:lnTo>
                  <a:lnTo>
                    <a:pt x="560" y="381"/>
                  </a:lnTo>
                  <a:lnTo>
                    <a:pt x="560" y="375"/>
                  </a:lnTo>
                  <a:lnTo>
                    <a:pt x="561" y="368"/>
                  </a:lnTo>
                  <a:lnTo>
                    <a:pt x="564" y="361"/>
                  </a:lnTo>
                  <a:lnTo>
                    <a:pt x="564" y="354"/>
                  </a:lnTo>
                  <a:lnTo>
                    <a:pt x="564" y="349"/>
                  </a:lnTo>
                  <a:lnTo>
                    <a:pt x="559" y="345"/>
                  </a:lnTo>
                  <a:lnTo>
                    <a:pt x="552" y="345"/>
                  </a:lnTo>
                  <a:lnTo>
                    <a:pt x="529" y="391"/>
                  </a:lnTo>
                  <a:lnTo>
                    <a:pt x="510" y="439"/>
                  </a:lnTo>
                  <a:lnTo>
                    <a:pt x="494" y="488"/>
                  </a:lnTo>
                  <a:lnTo>
                    <a:pt x="482" y="538"/>
                  </a:lnTo>
                  <a:lnTo>
                    <a:pt x="468" y="586"/>
                  </a:lnTo>
                  <a:lnTo>
                    <a:pt x="454" y="635"/>
                  </a:lnTo>
                  <a:lnTo>
                    <a:pt x="438" y="682"/>
                  </a:lnTo>
                  <a:lnTo>
                    <a:pt x="418" y="727"/>
                  </a:lnTo>
                  <a:lnTo>
                    <a:pt x="403" y="729"/>
                  </a:lnTo>
                  <a:lnTo>
                    <a:pt x="387" y="730"/>
                  </a:lnTo>
                  <a:lnTo>
                    <a:pt x="371" y="731"/>
                  </a:lnTo>
                  <a:lnTo>
                    <a:pt x="357" y="735"/>
                  </a:lnTo>
                  <a:lnTo>
                    <a:pt x="341" y="738"/>
                  </a:lnTo>
                  <a:lnTo>
                    <a:pt x="331" y="745"/>
                  </a:lnTo>
                  <a:lnTo>
                    <a:pt x="321" y="755"/>
                  </a:lnTo>
                  <a:lnTo>
                    <a:pt x="315" y="770"/>
                  </a:lnTo>
                  <a:lnTo>
                    <a:pt x="308" y="776"/>
                  </a:lnTo>
                  <a:lnTo>
                    <a:pt x="305" y="784"/>
                  </a:lnTo>
                  <a:lnTo>
                    <a:pt x="302" y="794"/>
                  </a:lnTo>
                  <a:lnTo>
                    <a:pt x="300" y="803"/>
                  </a:lnTo>
                  <a:lnTo>
                    <a:pt x="297" y="809"/>
                  </a:lnTo>
                  <a:lnTo>
                    <a:pt x="293" y="816"/>
                  </a:lnTo>
                  <a:lnTo>
                    <a:pt x="287" y="821"/>
                  </a:lnTo>
                  <a:lnTo>
                    <a:pt x="279" y="824"/>
                  </a:lnTo>
                  <a:lnTo>
                    <a:pt x="272" y="813"/>
                  </a:lnTo>
                  <a:lnTo>
                    <a:pt x="264" y="803"/>
                  </a:lnTo>
                  <a:lnTo>
                    <a:pt x="254" y="792"/>
                  </a:lnTo>
                  <a:lnTo>
                    <a:pt x="244" y="784"/>
                  </a:lnTo>
                  <a:lnTo>
                    <a:pt x="231" y="777"/>
                  </a:lnTo>
                  <a:lnTo>
                    <a:pt x="217" y="773"/>
                  </a:lnTo>
                  <a:lnTo>
                    <a:pt x="202" y="774"/>
                  </a:lnTo>
                  <a:lnTo>
                    <a:pt x="187" y="782"/>
                  </a:lnTo>
                  <a:lnTo>
                    <a:pt x="179" y="782"/>
                  </a:lnTo>
                  <a:lnTo>
                    <a:pt x="172" y="784"/>
                  </a:lnTo>
                  <a:lnTo>
                    <a:pt x="165" y="785"/>
                  </a:lnTo>
                  <a:lnTo>
                    <a:pt x="157" y="788"/>
                  </a:lnTo>
                  <a:lnTo>
                    <a:pt x="159" y="764"/>
                  </a:lnTo>
                  <a:lnTo>
                    <a:pt x="161" y="739"/>
                  </a:lnTo>
                  <a:lnTo>
                    <a:pt x="161" y="714"/>
                  </a:lnTo>
                  <a:lnTo>
                    <a:pt x="160" y="689"/>
                  </a:lnTo>
                  <a:lnTo>
                    <a:pt x="154" y="664"/>
                  </a:lnTo>
                  <a:lnTo>
                    <a:pt x="144" y="642"/>
                  </a:lnTo>
                  <a:lnTo>
                    <a:pt x="128" y="622"/>
                  </a:lnTo>
                  <a:lnTo>
                    <a:pt x="108" y="606"/>
                  </a:lnTo>
                  <a:lnTo>
                    <a:pt x="144" y="550"/>
                  </a:lnTo>
                  <a:lnTo>
                    <a:pt x="184" y="498"/>
                  </a:lnTo>
                  <a:lnTo>
                    <a:pt x="223" y="446"/>
                  </a:lnTo>
                  <a:lnTo>
                    <a:pt x="264" y="397"/>
                  </a:lnTo>
                  <a:lnTo>
                    <a:pt x="302" y="344"/>
                  </a:lnTo>
                  <a:lnTo>
                    <a:pt x="335" y="290"/>
                  </a:lnTo>
                  <a:lnTo>
                    <a:pt x="362" y="231"/>
                  </a:lnTo>
                  <a:lnTo>
                    <a:pt x="381" y="170"/>
                  </a:lnTo>
                  <a:lnTo>
                    <a:pt x="432" y="173"/>
                  </a:lnTo>
                  <a:lnTo>
                    <a:pt x="481" y="168"/>
                  </a:lnTo>
                  <a:lnTo>
                    <a:pt x="528" y="155"/>
                  </a:lnTo>
                  <a:lnTo>
                    <a:pt x="573" y="136"/>
                  </a:lnTo>
                  <a:lnTo>
                    <a:pt x="616" y="108"/>
                  </a:lnTo>
                  <a:lnTo>
                    <a:pt x="655" y="77"/>
                  </a:lnTo>
                  <a:lnTo>
                    <a:pt x="693" y="40"/>
                  </a:lnTo>
                  <a:lnTo>
                    <a:pt x="727" y="0"/>
                  </a:lnTo>
                  <a:lnTo>
                    <a:pt x="739" y="6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9"/>
            <p:cNvSpPr/>
            <p:nvPr/>
          </p:nvSpPr>
          <p:spPr>
            <a:xfrm flipH="1">
              <a:off x="638280" y="5982480"/>
              <a:ext cx="128160" cy="151200"/>
            </a:xfrm>
            <a:custGeom>
              <a:avLst/>
              <a:gdLst>
                <a:gd name="textAreaLeft" fmla="*/ 360 w 128160"/>
                <a:gd name="textAreaRight" fmla="*/ 128880 w 12816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41" h="339">
                  <a:moveTo>
                    <a:pt x="34" y="339"/>
                  </a:moveTo>
                  <a:lnTo>
                    <a:pt x="29" y="328"/>
                  </a:lnTo>
                  <a:lnTo>
                    <a:pt x="22" y="316"/>
                  </a:lnTo>
                  <a:lnTo>
                    <a:pt x="17" y="309"/>
                  </a:lnTo>
                  <a:lnTo>
                    <a:pt x="14" y="303"/>
                  </a:lnTo>
                  <a:lnTo>
                    <a:pt x="10" y="297"/>
                  </a:lnTo>
                  <a:lnTo>
                    <a:pt x="10" y="291"/>
                  </a:lnTo>
                  <a:lnTo>
                    <a:pt x="4" y="285"/>
                  </a:lnTo>
                  <a:lnTo>
                    <a:pt x="2" y="280"/>
                  </a:lnTo>
                  <a:lnTo>
                    <a:pt x="0" y="274"/>
                  </a:lnTo>
                  <a:lnTo>
                    <a:pt x="4" y="269"/>
                  </a:lnTo>
                  <a:lnTo>
                    <a:pt x="11" y="258"/>
                  </a:lnTo>
                  <a:lnTo>
                    <a:pt x="22" y="249"/>
                  </a:lnTo>
                  <a:lnTo>
                    <a:pt x="51" y="216"/>
                  </a:lnTo>
                  <a:lnTo>
                    <a:pt x="80" y="185"/>
                  </a:lnTo>
                  <a:lnTo>
                    <a:pt x="109" y="154"/>
                  </a:lnTo>
                  <a:lnTo>
                    <a:pt x="137" y="124"/>
                  </a:lnTo>
                  <a:lnTo>
                    <a:pt x="164" y="92"/>
                  </a:lnTo>
                  <a:lnTo>
                    <a:pt x="190" y="61"/>
                  </a:lnTo>
                  <a:lnTo>
                    <a:pt x="216" y="30"/>
                  </a:lnTo>
                  <a:lnTo>
                    <a:pt x="241" y="0"/>
                  </a:lnTo>
                  <a:lnTo>
                    <a:pt x="228" y="45"/>
                  </a:lnTo>
                  <a:lnTo>
                    <a:pt x="207" y="89"/>
                  </a:lnTo>
                  <a:lnTo>
                    <a:pt x="180" y="130"/>
                  </a:lnTo>
                  <a:lnTo>
                    <a:pt x="148" y="172"/>
                  </a:lnTo>
                  <a:lnTo>
                    <a:pt x="115" y="211"/>
                  </a:lnTo>
                  <a:lnTo>
                    <a:pt x="83" y="252"/>
                  </a:lnTo>
                  <a:lnTo>
                    <a:pt x="54" y="294"/>
                  </a:lnTo>
                  <a:lnTo>
                    <a:pt x="34" y="339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30"/>
            <p:cNvSpPr/>
            <p:nvPr/>
          </p:nvSpPr>
          <p:spPr>
            <a:xfrm flipH="1">
              <a:off x="824760" y="6018120"/>
              <a:ext cx="168120" cy="109080"/>
            </a:xfrm>
            <a:custGeom>
              <a:avLst/>
              <a:gdLst>
                <a:gd name="textAreaLeft" fmla="*/ 0 w 168120"/>
                <a:gd name="textAreaRight" fmla="*/ 168120 w 1681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18" h="248">
                  <a:moveTo>
                    <a:pt x="309" y="42"/>
                  </a:moveTo>
                  <a:lnTo>
                    <a:pt x="311" y="53"/>
                  </a:lnTo>
                  <a:lnTo>
                    <a:pt x="313" y="65"/>
                  </a:lnTo>
                  <a:lnTo>
                    <a:pt x="315" y="78"/>
                  </a:lnTo>
                  <a:lnTo>
                    <a:pt x="318" y="93"/>
                  </a:lnTo>
                  <a:lnTo>
                    <a:pt x="317" y="106"/>
                  </a:lnTo>
                  <a:lnTo>
                    <a:pt x="317" y="119"/>
                  </a:lnTo>
                  <a:lnTo>
                    <a:pt x="313" y="132"/>
                  </a:lnTo>
                  <a:lnTo>
                    <a:pt x="309" y="145"/>
                  </a:lnTo>
                  <a:lnTo>
                    <a:pt x="276" y="147"/>
                  </a:lnTo>
                  <a:lnTo>
                    <a:pt x="245" y="152"/>
                  </a:lnTo>
                  <a:lnTo>
                    <a:pt x="214" y="159"/>
                  </a:lnTo>
                  <a:lnTo>
                    <a:pt x="187" y="170"/>
                  </a:lnTo>
                  <a:lnTo>
                    <a:pt x="158" y="179"/>
                  </a:lnTo>
                  <a:lnTo>
                    <a:pt x="130" y="190"/>
                  </a:lnTo>
                  <a:lnTo>
                    <a:pt x="101" y="201"/>
                  </a:lnTo>
                  <a:lnTo>
                    <a:pt x="74" y="212"/>
                  </a:lnTo>
                  <a:lnTo>
                    <a:pt x="62" y="221"/>
                  </a:lnTo>
                  <a:lnTo>
                    <a:pt x="51" y="231"/>
                  </a:lnTo>
                  <a:lnTo>
                    <a:pt x="44" y="236"/>
                  </a:lnTo>
                  <a:lnTo>
                    <a:pt x="38" y="240"/>
                  </a:lnTo>
                  <a:lnTo>
                    <a:pt x="30" y="244"/>
                  </a:lnTo>
                  <a:lnTo>
                    <a:pt x="24" y="248"/>
                  </a:lnTo>
                  <a:lnTo>
                    <a:pt x="20" y="240"/>
                  </a:lnTo>
                  <a:lnTo>
                    <a:pt x="16" y="234"/>
                  </a:lnTo>
                  <a:lnTo>
                    <a:pt x="12" y="225"/>
                  </a:lnTo>
                  <a:lnTo>
                    <a:pt x="10" y="215"/>
                  </a:lnTo>
                  <a:lnTo>
                    <a:pt x="6" y="204"/>
                  </a:lnTo>
                  <a:lnTo>
                    <a:pt x="4" y="195"/>
                  </a:lnTo>
                  <a:lnTo>
                    <a:pt x="2" y="184"/>
                  </a:lnTo>
                  <a:lnTo>
                    <a:pt x="0" y="176"/>
                  </a:lnTo>
                  <a:lnTo>
                    <a:pt x="24" y="139"/>
                  </a:lnTo>
                  <a:lnTo>
                    <a:pt x="52" y="111"/>
                  </a:lnTo>
                  <a:lnTo>
                    <a:pt x="82" y="84"/>
                  </a:lnTo>
                  <a:lnTo>
                    <a:pt x="116" y="63"/>
                  </a:lnTo>
                  <a:lnTo>
                    <a:pt x="151" y="42"/>
                  </a:lnTo>
                  <a:lnTo>
                    <a:pt x="187" y="25"/>
                  </a:lnTo>
                  <a:lnTo>
                    <a:pt x="223" y="11"/>
                  </a:lnTo>
                  <a:lnTo>
                    <a:pt x="261" y="0"/>
                  </a:lnTo>
                  <a:lnTo>
                    <a:pt x="269" y="1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3"/>
                  </a:lnTo>
                  <a:lnTo>
                    <a:pt x="296" y="18"/>
                  </a:lnTo>
                  <a:lnTo>
                    <a:pt x="302" y="25"/>
                  </a:lnTo>
                  <a:lnTo>
                    <a:pt x="306" y="32"/>
                  </a:lnTo>
                  <a:lnTo>
                    <a:pt x="309" y="42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31"/>
            <p:cNvSpPr/>
            <p:nvPr/>
          </p:nvSpPr>
          <p:spPr>
            <a:xfrm flipH="1">
              <a:off x="782640" y="6111720"/>
              <a:ext cx="196920" cy="10440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70" h="239">
                  <a:moveTo>
                    <a:pt x="361" y="39"/>
                  </a:moveTo>
                  <a:lnTo>
                    <a:pt x="367" y="48"/>
                  </a:lnTo>
                  <a:lnTo>
                    <a:pt x="370" y="60"/>
                  </a:lnTo>
                  <a:lnTo>
                    <a:pt x="369" y="71"/>
                  </a:lnTo>
                  <a:lnTo>
                    <a:pt x="367" y="82"/>
                  </a:lnTo>
                  <a:lnTo>
                    <a:pt x="319" y="90"/>
                  </a:lnTo>
                  <a:lnTo>
                    <a:pt x="273" y="105"/>
                  </a:lnTo>
                  <a:lnTo>
                    <a:pt x="229" y="123"/>
                  </a:lnTo>
                  <a:lnTo>
                    <a:pt x="186" y="146"/>
                  </a:lnTo>
                  <a:lnTo>
                    <a:pt x="143" y="169"/>
                  </a:lnTo>
                  <a:lnTo>
                    <a:pt x="102" y="194"/>
                  </a:lnTo>
                  <a:lnTo>
                    <a:pt x="60" y="217"/>
                  </a:lnTo>
                  <a:lnTo>
                    <a:pt x="20" y="239"/>
                  </a:lnTo>
                  <a:lnTo>
                    <a:pt x="11" y="219"/>
                  </a:lnTo>
                  <a:lnTo>
                    <a:pt x="5" y="199"/>
                  </a:lnTo>
                  <a:lnTo>
                    <a:pt x="0" y="178"/>
                  </a:lnTo>
                  <a:lnTo>
                    <a:pt x="0" y="158"/>
                  </a:lnTo>
                  <a:lnTo>
                    <a:pt x="0" y="136"/>
                  </a:lnTo>
                  <a:lnTo>
                    <a:pt x="4" y="117"/>
                  </a:lnTo>
                  <a:lnTo>
                    <a:pt x="10" y="98"/>
                  </a:lnTo>
                  <a:lnTo>
                    <a:pt x="20" y="82"/>
                  </a:lnTo>
                  <a:lnTo>
                    <a:pt x="58" y="62"/>
                  </a:lnTo>
                  <a:lnTo>
                    <a:pt x="99" y="42"/>
                  </a:lnTo>
                  <a:lnTo>
                    <a:pt x="141" y="23"/>
                  </a:lnTo>
                  <a:lnTo>
                    <a:pt x="185" y="10"/>
                  </a:lnTo>
                  <a:lnTo>
                    <a:pt x="230" y="0"/>
                  </a:lnTo>
                  <a:lnTo>
                    <a:pt x="274" y="3"/>
                  </a:lnTo>
                  <a:lnTo>
                    <a:pt x="318" y="13"/>
                  </a:lnTo>
                  <a:lnTo>
                    <a:pt x="361" y="39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32"/>
            <p:cNvSpPr/>
            <p:nvPr/>
          </p:nvSpPr>
          <p:spPr>
            <a:xfrm flipH="1">
              <a:off x="723960" y="6174360"/>
              <a:ext cx="234720" cy="191160"/>
            </a:xfrm>
            <a:custGeom>
              <a:avLst/>
              <a:gdLst>
                <a:gd name="textAreaLeft" fmla="*/ 360 w 234720"/>
                <a:gd name="textAreaRight" fmla="*/ 235440 w 23472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437" h="428">
                  <a:moveTo>
                    <a:pt x="406" y="46"/>
                  </a:moveTo>
                  <a:lnTo>
                    <a:pt x="407" y="76"/>
                  </a:lnTo>
                  <a:lnTo>
                    <a:pt x="405" y="107"/>
                  </a:lnTo>
                  <a:lnTo>
                    <a:pt x="399" y="136"/>
                  </a:lnTo>
                  <a:lnTo>
                    <a:pt x="394" y="166"/>
                  </a:lnTo>
                  <a:lnTo>
                    <a:pt x="387" y="194"/>
                  </a:lnTo>
                  <a:lnTo>
                    <a:pt x="382" y="222"/>
                  </a:lnTo>
                  <a:lnTo>
                    <a:pt x="380" y="249"/>
                  </a:lnTo>
                  <a:lnTo>
                    <a:pt x="382" y="277"/>
                  </a:lnTo>
                  <a:lnTo>
                    <a:pt x="387" y="288"/>
                  </a:lnTo>
                  <a:lnTo>
                    <a:pt x="396" y="293"/>
                  </a:lnTo>
                  <a:lnTo>
                    <a:pt x="407" y="294"/>
                  </a:lnTo>
                  <a:lnTo>
                    <a:pt x="418" y="293"/>
                  </a:lnTo>
                  <a:lnTo>
                    <a:pt x="428" y="291"/>
                  </a:lnTo>
                  <a:lnTo>
                    <a:pt x="435" y="295"/>
                  </a:lnTo>
                  <a:lnTo>
                    <a:pt x="437" y="302"/>
                  </a:lnTo>
                  <a:lnTo>
                    <a:pt x="437" y="319"/>
                  </a:lnTo>
                  <a:lnTo>
                    <a:pt x="435" y="332"/>
                  </a:lnTo>
                  <a:lnTo>
                    <a:pt x="434" y="348"/>
                  </a:lnTo>
                  <a:lnTo>
                    <a:pt x="432" y="362"/>
                  </a:lnTo>
                  <a:lnTo>
                    <a:pt x="432" y="378"/>
                  </a:lnTo>
                  <a:lnTo>
                    <a:pt x="429" y="391"/>
                  </a:lnTo>
                  <a:lnTo>
                    <a:pt x="424" y="406"/>
                  </a:lnTo>
                  <a:lnTo>
                    <a:pt x="417" y="418"/>
                  </a:lnTo>
                  <a:lnTo>
                    <a:pt x="406" y="428"/>
                  </a:lnTo>
                  <a:lnTo>
                    <a:pt x="388" y="421"/>
                  </a:lnTo>
                  <a:lnTo>
                    <a:pt x="371" y="414"/>
                  </a:lnTo>
                  <a:lnTo>
                    <a:pt x="354" y="408"/>
                  </a:lnTo>
                  <a:lnTo>
                    <a:pt x="339" y="402"/>
                  </a:lnTo>
                  <a:lnTo>
                    <a:pt x="322" y="396"/>
                  </a:lnTo>
                  <a:lnTo>
                    <a:pt x="306" y="392"/>
                  </a:lnTo>
                  <a:lnTo>
                    <a:pt x="289" y="388"/>
                  </a:lnTo>
                  <a:lnTo>
                    <a:pt x="273" y="386"/>
                  </a:lnTo>
                  <a:lnTo>
                    <a:pt x="242" y="283"/>
                  </a:lnTo>
                  <a:lnTo>
                    <a:pt x="251" y="270"/>
                  </a:lnTo>
                  <a:lnTo>
                    <a:pt x="265" y="259"/>
                  </a:lnTo>
                  <a:lnTo>
                    <a:pt x="281" y="248"/>
                  </a:lnTo>
                  <a:lnTo>
                    <a:pt x="298" y="239"/>
                  </a:lnTo>
                  <a:lnTo>
                    <a:pt x="310" y="227"/>
                  </a:lnTo>
                  <a:lnTo>
                    <a:pt x="318" y="216"/>
                  </a:lnTo>
                  <a:lnTo>
                    <a:pt x="318" y="201"/>
                  </a:lnTo>
                  <a:lnTo>
                    <a:pt x="310" y="186"/>
                  </a:lnTo>
                  <a:lnTo>
                    <a:pt x="280" y="192"/>
                  </a:lnTo>
                  <a:lnTo>
                    <a:pt x="252" y="201"/>
                  </a:lnTo>
                  <a:lnTo>
                    <a:pt x="224" y="212"/>
                  </a:lnTo>
                  <a:lnTo>
                    <a:pt x="198" y="225"/>
                  </a:lnTo>
                  <a:lnTo>
                    <a:pt x="169" y="235"/>
                  </a:lnTo>
                  <a:lnTo>
                    <a:pt x="141" y="243"/>
                  </a:lnTo>
                  <a:lnTo>
                    <a:pt x="111" y="247"/>
                  </a:lnTo>
                  <a:lnTo>
                    <a:pt x="79" y="247"/>
                  </a:lnTo>
                  <a:lnTo>
                    <a:pt x="67" y="246"/>
                  </a:lnTo>
                  <a:lnTo>
                    <a:pt x="56" y="243"/>
                  </a:lnTo>
                  <a:lnTo>
                    <a:pt x="45" y="239"/>
                  </a:lnTo>
                  <a:lnTo>
                    <a:pt x="36" y="234"/>
                  </a:lnTo>
                  <a:lnTo>
                    <a:pt x="25" y="225"/>
                  </a:lnTo>
                  <a:lnTo>
                    <a:pt x="18" y="218"/>
                  </a:lnTo>
                  <a:lnTo>
                    <a:pt x="10" y="208"/>
                  </a:lnTo>
                  <a:lnTo>
                    <a:pt x="7" y="199"/>
                  </a:lnTo>
                  <a:lnTo>
                    <a:pt x="0" y="187"/>
                  </a:lnTo>
                  <a:lnTo>
                    <a:pt x="1" y="176"/>
                  </a:lnTo>
                  <a:lnTo>
                    <a:pt x="2" y="169"/>
                  </a:lnTo>
                  <a:lnTo>
                    <a:pt x="4" y="163"/>
                  </a:lnTo>
                  <a:lnTo>
                    <a:pt x="6" y="156"/>
                  </a:lnTo>
                  <a:lnTo>
                    <a:pt x="7" y="150"/>
                  </a:lnTo>
                  <a:lnTo>
                    <a:pt x="39" y="126"/>
                  </a:lnTo>
                  <a:lnTo>
                    <a:pt x="74" y="104"/>
                  </a:lnTo>
                  <a:lnTo>
                    <a:pt x="108" y="82"/>
                  </a:lnTo>
                  <a:lnTo>
                    <a:pt x="144" y="63"/>
                  </a:lnTo>
                  <a:lnTo>
                    <a:pt x="179" y="44"/>
                  </a:lnTo>
                  <a:lnTo>
                    <a:pt x="216" y="28"/>
                  </a:lnTo>
                  <a:lnTo>
                    <a:pt x="252" y="14"/>
                  </a:lnTo>
                  <a:lnTo>
                    <a:pt x="292" y="4"/>
                  </a:lnTo>
                  <a:lnTo>
                    <a:pt x="306" y="0"/>
                  </a:lnTo>
                  <a:lnTo>
                    <a:pt x="323" y="2"/>
                  </a:lnTo>
                  <a:lnTo>
                    <a:pt x="339" y="2"/>
                  </a:lnTo>
                  <a:lnTo>
                    <a:pt x="356" y="6"/>
                  </a:lnTo>
                  <a:lnTo>
                    <a:pt x="369" y="11"/>
                  </a:lnTo>
                  <a:lnTo>
                    <a:pt x="383" y="20"/>
                  </a:lnTo>
                  <a:lnTo>
                    <a:pt x="395" y="31"/>
                  </a:lnTo>
                  <a:lnTo>
                    <a:pt x="406" y="4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 flipH="1">
              <a:off x="254160" y="6305760"/>
              <a:ext cx="714960" cy="284760"/>
            </a:xfrm>
            <a:custGeom>
              <a:avLst/>
              <a:gdLst>
                <a:gd name="textAreaLeft" fmla="*/ 360 w 714960"/>
                <a:gd name="textAreaRight" fmla="*/ 715680 w 7149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37" h="637">
                  <a:moveTo>
                    <a:pt x="1335" y="12"/>
                  </a:moveTo>
                  <a:lnTo>
                    <a:pt x="1325" y="30"/>
                  </a:lnTo>
                  <a:lnTo>
                    <a:pt x="1321" y="49"/>
                  </a:lnTo>
                  <a:lnTo>
                    <a:pt x="1321" y="70"/>
                  </a:lnTo>
                  <a:lnTo>
                    <a:pt x="1326" y="90"/>
                  </a:lnTo>
                  <a:lnTo>
                    <a:pt x="1329" y="111"/>
                  </a:lnTo>
                  <a:lnTo>
                    <a:pt x="1334" y="131"/>
                  </a:lnTo>
                  <a:lnTo>
                    <a:pt x="1337" y="150"/>
                  </a:lnTo>
                  <a:lnTo>
                    <a:pt x="1335" y="170"/>
                  </a:lnTo>
                  <a:lnTo>
                    <a:pt x="1335" y="219"/>
                  </a:lnTo>
                  <a:lnTo>
                    <a:pt x="1331" y="269"/>
                  </a:lnTo>
                  <a:lnTo>
                    <a:pt x="1317" y="319"/>
                  </a:lnTo>
                  <a:lnTo>
                    <a:pt x="1301" y="368"/>
                  </a:lnTo>
                  <a:lnTo>
                    <a:pt x="1275" y="414"/>
                  </a:lnTo>
                  <a:lnTo>
                    <a:pt x="1246" y="457"/>
                  </a:lnTo>
                  <a:lnTo>
                    <a:pt x="1210" y="494"/>
                  </a:lnTo>
                  <a:lnTo>
                    <a:pt x="1172" y="528"/>
                  </a:lnTo>
                  <a:lnTo>
                    <a:pt x="1156" y="536"/>
                  </a:lnTo>
                  <a:lnTo>
                    <a:pt x="1142" y="545"/>
                  </a:lnTo>
                  <a:lnTo>
                    <a:pt x="1126" y="551"/>
                  </a:lnTo>
                  <a:lnTo>
                    <a:pt x="1112" y="558"/>
                  </a:lnTo>
                  <a:lnTo>
                    <a:pt x="1095" y="562"/>
                  </a:lnTo>
                  <a:lnTo>
                    <a:pt x="1078" y="563"/>
                  </a:lnTo>
                  <a:lnTo>
                    <a:pt x="1061" y="562"/>
                  </a:lnTo>
                  <a:lnTo>
                    <a:pt x="1044" y="558"/>
                  </a:lnTo>
                  <a:lnTo>
                    <a:pt x="971" y="548"/>
                  </a:lnTo>
                  <a:lnTo>
                    <a:pt x="902" y="533"/>
                  </a:lnTo>
                  <a:lnTo>
                    <a:pt x="835" y="511"/>
                  </a:lnTo>
                  <a:lnTo>
                    <a:pt x="770" y="486"/>
                  </a:lnTo>
                  <a:lnTo>
                    <a:pt x="704" y="456"/>
                  </a:lnTo>
                  <a:lnTo>
                    <a:pt x="640" y="424"/>
                  </a:lnTo>
                  <a:lnTo>
                    <a:pt x="575" y="393"/>
                  </a:lnTo>
                  <a:lnTo>
                    <a:pt x="510" y="364"/>
                  </a:lnTo>
                  <a:lnTo>
                    <a:pt x="491" y="364"/>
                  </a:lnTo>
                  <a:lnTo>
                    <a:pt x="482" y="372"/>
                  </a:lnTo>
                  <a:lnTo>
                    <a:pt x="477" y="384"/>
                  </a:lnTo>
                  <a:lnTo>
                    <a:pt x="476" y="398"/>
                  </a:lnTo>
                  <a:lnTo>
                    <a:pt x="474" y="412"/>
                  </a:lnTo>
                  <a:lnTo>
                    <a:pt x="473" y="426"/>
                  </a:lnTo>
                  <a:lnTo>
                    <a:pt x="467" y="435"/>
                  </a:lnTo>
                  <a:lnTo>
                    <a:pt x="456" y="442"/>
                  </a:lnTo>
                  <a:lnTo>
                    <a:pt x="441" y="442"/>
                  </a:lnTo>
                  <a:lnTo>
                    <a:pt x="425" y="440"/>
                  </a:lnTo>
                  <a:lnTo>
                    <a:pt x="409" y="436"/>
                  </a:lnTo>
                  <a:lnTo>
                    <a:pt x="395" y="433"/>
                  </a:lnTo>
                  <a:lnTo>
                    <a:pt x="379" y="429"/>
                  </a:lnTo>
                  <a:lnTo>
                    <a:pt x="365" y="429"/>
                  </a:lnTo>
                  <a:lnTo>
                    <a:pt x="352" y="433"/>
                  </a:lnTo>
                  <a:lnTo>
                    <a:pt x="341" y="442"/>
                  </a:lnTo>
                  <a:lnTo>
                    <a:pt x="343" y="451"/>
                  </a:lnTo>
                  <a:lnTo>
                    <a:pt x="350" y="456"/>
                  </a:lnTo>
                  <a:lnTo>
                    <a:pt x="358" y="457"/>
                  </a:lnTo>
                  <a:lnTo>
                    <a:pt x="365" y="461"/>
                  </a:lnTo>
                  <a:lnTo>
                    <a:pt x="364" y="479"/>
                  </a:lnTo>
                  <a:lnTo>
                    <a:pt x="361" y="498"/>
                  </a:lnTo>
                  <a:lnTo>
                    <a:pt x="358" y="517"/>
                  </a:lnTo>
                  <a:lnTo>
                    <a:pt x="353" y="537"/>
                  </a:lnTo>
                  <a:lnTo>
                    <a:pt x="344" y="555"/>
                  </a:lnTo>
                  <a:lnTo>
                    <a:pt x="336" y="575"/>
                  </a:lnTo>
                  <a:lnTo>
                    <a:pt x="324" y="592"/>
                  </a:lnTo>
                  <a:lnTo>
                    <a:pt x="311" y="607"/>
                  </a:lnTo>
                  <a:lnTo>
                    <a:pt x="312" y="594"/>
                  </a:lnTo>
                  <a:lnTo>
                    <a:pt x="318" y="582"/>
                  </a:lnTo>
                  <a:lnTo>
                    <a:pt x="324" y="570"/>
                  </a:lnTo>
                  <a:lnTo>
                    <a:pt x="332" y="558"/>
                  </a:lnTo>
                  <a:lnTo>
                    <a:pt x="338" y="545"/>
                  </a:lnTo>
                  <a:lnTo>
                    <a:pt x="343" y="533"/>
                  </a:lnTo>
                  <a:lnTo>
                    <a:pt x="343" y="521"/>
                  </a:lnTo>
                  <a:lnTo>
                    <a:pt x="341" y="510"/>
                  </a:lnTo>
                  <a:lnTo>
                    <a:pt x="325" y="523"/>
                  </a:lnTo>
                  <a:lnTo>
                    <a:pt x="312" y="539"/>
                  </a:lnTo>
                  <a:lnTo>
                    <a:pt x="300" y="554"/>
                  </a:lnTo>
                  <a:lnTo>
                    <a:pt x="289" y="572"/>
                  </a:lnTo>
                  <a:lnTo>
                    <a:pt x="278" y="589"/>
                  </a:lnTo>
                  <a:lnTo>
                    <a:pt x="267" y="606"/>
                  </a:lnTo>
                  <a:lnTo>
                    <a:pt x="255" y="622"/>
                  </a:lnTo>
                  <a:lnTo>
                    <a:pt x="243" y="637"/>
                  </a:lnTo>
                  <a:lnTo>
                    <a:pt x="246" y="616"/>
                  </a:lnTo>
                  <a:lnTo>
                    <a:pt x="252" y="596"/>
                  </a:lnTo>
                  <a:lnTo>
                    <a:pt x="261" y="576"/>
                  </a:lnTo>
                  <a:lnTo>
                    <a:pt x="275" y="557"/>
                  </a:lnTo>
                  <a:lnTo>
                    <a:pt x="286" y="536"/>
                  </a:lnTo>
                  <a:lnTo>
                    <a:pt x="296" y="516"/>
                  </a:lnTo>
                  <a:lnTo>
                    <a:pt x="305" y="494"/>
                  </a:lnTo>
                  <a:lnTo>
                    <a:pt x="311" y="474"/>
                  </a:lnTo>
                  <a:lnTo>
                    <a:pt x="294" y="492"/>
                  </a:lnTo>
                  <a:lnTo>
                    <a:pt x="278" y="510"/>
                  </a:lnTo>
                  <a:lnTo>
                    <a:pt x="261" y="529"/>
                  </a:lnTo>
                  <a:lnTo>
                    <a:pt x="247" y="549"/>
                  </a:lnTo>
                  <a:lnTo>
                    <a:pt x="233" y="569"/>
                  </a:lnTo>
                  <a:lnTo>
                    <a:pt x="219" y="589"/>
                  </a:lnTo>
                  <a:lnTo>
                    <a:pt x="206" y="610"/>
                  </a:lnTo>
                  <a:lnTo>
                    <a:pt x="195" y="631"/>
                  </a:lnTo>
                  <a:lnTo>
                    <a:pt x="186" y="632"/>
                  </a:lnTo>
                  <a:lnTo>
                    <a:pt x="177" y="632"/>
                  </a:lnTo>
                  <a:lnTo>
                    <a:pt x="170" y="631"/>
                  </a:lnTo>
                  <a:lnTo>
                    <a:pt x="165" y="631"/>
                  </a:lnTo>
                  <a:lnTo>
                    <a:pt x="174" y="610"/>
                  </a:lnTo>
                  <a:lnTo>
                    <a:pt x="184" y="589"/>
                  </a:lnTo>
                  <a:lnTo>
                    <a:pt x="195" y="568"/>
                  </a:lnTo>
                  <a:lnTo>
                    <a:pt x="206" y="547"/>
                  </a:lnTo>
                  <a:lnTo>
                    <a:pt x="216" y="525"/>
                  </a:lnTo>
                  <a:lnTo>
                    <a:pt x="227" y="504"/>
                  </a:lnTo>
                  <a:lnTo>
                    <a:pt x="235" y="482"/>
                  </a:lnTo>
                  <a:lnTo>
                    <a:pt x="243" y="461"/>
                  </a:lnTo>
                  <a:lnTo>
                    <a:pt x="237" y="455"/>
                  </a:lnTo>
                  <a:lnTo>
                    <a:pt x="221" y="474"/>
                  </a:lnTo>
                  <a:lnTo>
                    <a:pt x="206" y="495"/>
                  </a:lnTo>
                  <a:lnTo>
                    <a:pt x="192" y="516"/>
                  </a:lnTo>
                  <a:lnTo>
                    <a:pt x="177" y="537"/>
                  </a:lnTo>
                  <a:lnTo>
                    <a:pt x="163" y="558"/>
                  </a:lnTo>
                  <a:lnTo>
                    <a:pt x="148" y="580"/>
                  </a:lnTo>
                  <a:lnTo>
                    <a:pt x="135" y="601"/>
                  </a:lnTo>
                  <a:lnTo>
                    <a:pt x="122" y="625"/>
                  </a:lnTo>
                  <a:lnTo>
                    <a:pt x="122" y="631"/>
                  </a:lnTo>
                  <a:lnTo>
                    <a:pt x="80" y="631"/>
                  </a:lnTo>
                  <a:lnTo>
                    <a:pt x="87" y="604"/>
                  </a:lnTo>
                  <a:lnTo>
                    <a:pt x="98" y="578"/>
                  </a:lnTo>
                  <a:lnTo>
                    <a:pt x="110" y="554"/>
                  </a:lnTo>
                  <a:lnTo>
                    <a:pt x="124" y="531"/>
                  </a:lnTo>
                  <a:lnTo>
                    <a:pt x="136" y="507"/>
                  </a:lnTo>
                  <a:lnTo>
                    <a:pt x="148" y="485"/>
                  </a:lnTo>
                  <a:lnTo>
                    <a:pt x="158" y="461"/>
                  </a:lnTo>
                  <a:lnTo>
                    <a:pt x="165" y="436"/>
                  </a:lnTo>
                  <a:lnTo>
                    <a:pt x="156" y="434"/>
                  </a:lnTo>
                  <a:lnTo>
                    <a:pt x="146" y="436"/>
                  </a:lnTo>
                  <a:lnTo>
                    <a:pt x="132" y="461"/>
                  </a:lnTo>
                  <a:lnTo>
                    <a:pt x="118" y="485"/>
                  </a:lnTo>
                  <a:lnTo>
                    <a:pt x="105" y="507"/>
                  </a:lnTo>
                  <a:lnTo>
                    <a:pt x="92" y="530"/>
                  </a:lnTo>
                  <a:lnTo>
                    <a:pt x="77" y="552"/>
                  </a:lnTo>
                  <a:lnTo>
                    <a:pt x="64" y="576"/>
                  </a:lnTo>
                  <a:lnTo>
                    <a:pt x="51" y="600"/>
                  </a:lnTo>
                  <a:lnTo>
                    <a:pt x="38" y="625"/>
                  </a:lnTo>
                  <a:lnTo>
                    <a:pt x="0" y="619"/>
                  </a:lnTo>
                  <a:lnTo>
                    <a:pt x="5" y="595"/>
                  </a:lnTo>
                  <a:lnTo>
                    <a:pt x="14" y="572"/>
                  </a:lnTo>
                  <a:lnTo>
                    <a:pt x="23" y="549"/>
                  </a:lnTo>
                  <a:lnTo>
                    <a:pt x="35" y="528"/>
                  </a:lnTo>
                  <a:lnTo>
                    <a:pt x="47" y="504"/>
                  </a:lnTo>
                  <a:lnTo>
                    <a:pt x="61" y="481"/>
                  </a:lnTo>
                  <a:lnTo>
                    <a:pt x="73" y="458"/>
                  </a:lnTo>
                  <a:lnTo>
                    <a:pt x="86" y="436"/>
                  </a:lnTo>
                  <a:lnTo>
                    <a:pt x="120" y="420"/>
                  </a:lnTo>
                  <a:lnTo>
                    <a:pt x="154" y="406"/>
                  </a:lnTo>
                  <a:lnTo>
                    <a:pt x="189" y="392"/>
                  </a:lnTo>
                  <a:lnTo>
                    <a:pt x="225" y="380"/>
                  </a:lnTo>
                  <a:lnTo>
                    <a:pt x="260" y="366"/>
                  </a:lnTo>
                  <a:lnTo>
                    <a:pt x="295" y="354"/>
                  </a:lnTo>
                  <a:lnTo>
                    <a:pt x="330" y="340"/>
                  </a:lnTo>
                  <a:lnTo>
                    <a:pt x="365" y="328"/>
                  </a:lnTo>
                  <a:lnTo>
                    <a:pt x="371" y="297"/>
                  </a:lnTo>
                  <a:lnTo>
                    <a:pt x="403" y="297"/>
                  </a:lnTo>
                  <a:lnTo>
                    <a:pt x="436" y="292"/>
                  </a:lnTo>
                  <a:lnTo>
                    <a:pt x="466" y="283"/>
                  </a:lnTo>
                  <a:lnTo>
                    <a:pt x="496" y="273"/>
                  </a:lnTo>
                  <a:lnTo>
                    <a:pt x="525" y="260"/>
                  </a:lnTo>
                  <a:lnTo>
                    <a:pt x="555" y="249"/>
                  </a:lnTo>
                  <a:lnTo>
                    <a:pt x="584" y="240"/>
                  </a:lnTo>
                  <a:lnTo>
                    <a:pt x="614" y="237"/>
                  </a:lnTo>
                  <a:lnTo>
                    <a:pt x="660" y="234"/>
                  </a:lnTo>
                  <a:lnTo>
                    <a:pt x="709" y="233"/>
                  </a:lnTo>
                  <a:lnTo>
                    <a:pt x="758" y="231"/>
                  </a:lnTo>
                  <a:lnTo>
                    <a:pt x="807" y="226"/>
                  </a:lnTo>
                  <a:lnTo>
                    <a:pt x="853" y="215"/>
                  </a:lnTo>
                  <a:lnTo>
                    <a:pt x="896" y="198"/>
                  </a:lnTo>
                  <a:lnTo>
                    <a:pt x="934" y="173"/>
                  </a:lnTo>
                  <a:lnTo>
                    <a:pt x="965" y="140"/>
                  </a:lnTo>
                  <a:lnTo>
                    <a:pt x="990" y="150"/>
                  </a:lnTo>
                  <a:lnTo>
                    <a:pt x="1017" y="164"/>
                  </a:lnTo>
                  <a:lnTo>
                    <a:pt x="1043" y="178"/>
                  </a:lnTo>
                  <a:lnTo>
                    <a:pt x="1070" y="197"/>
                  </a:lnTo>
                  <a:lnTo>
                    <a:pt x="1094" y="215"/>
                  </a:lnTo>
                  <a:lnTo>
                    <a:pt x="1115" y="238"/>
                  </a:lnTo>
                  <a:lnTo>
                    <a:pt x="1133" y="262"/>
                  </a:lnTo>
                  <a:lnTo>
                    <a:pt x="1148" y="291"/>
                  </a:lnTo>
                  <a:lnTo>
                    <a:pt x="1156" y="287"/>
                  </a:lnTo>
                  <a:lnTo>
                    <a:pt x="1161" y="280"/>
                  </a:lnTo>
                  <a:lnTo>
                    <a:pt x="1162" y="272"/>
                  </a:lnTo>
                  <a:lnTo>
                    <a:pt x="1166" y="267"/>
                  </a:lnTo>
                  <a:lnTo>
                    <a:pt x="1155" y="249"/>
                  </a:lnTo>
                  <a:lnTo>
                    <a:pt x="1145" y="232"/>
                  </a:lnTo>
                  <a:lnTo>
                    <a:pt x="1133" y="216"/>
                  </a:lnTo>
                  <a:lnTo>
                    <a:pt x="1123" y="202"/>
                  </a:lnTo>
                  <a:lnTo>
                    <a:pt x="1109" y="186"/>
                  </a:lnTo>
                  <a:lnTo>
                    <a:pt x="1097" y="172"/>
                  </a:lnTo>
                  <a:lnTo>
                    <a:pt x="1083" y="159"/>
                  </a:lnTo>
                  <a:lnTo>
                    <a:pt x="1068" y="146"/>
                  </a:lnTo>
                  <a:lnTo>
                    <a:pt x="1089" y="148"/>
                  </a:lnTo>
                  <a:lnTo>
                    <a:pt x="1111" y="154"/>
                  </a:lnTo>
                  <a:lnTo>
                    <a:pt x="1131" y="160"/>
                  </a:lnTo>
                  <a:lnTo>
                    <a:pt x="1153" y="168"/>
                  </a:lnTo>
                  <a:lnTo>
                    <a:pt x="1173" y="174"/>
                  </a:lnTo>
                  <a:lnTo>
                    <a:pt x="1194" y="179"/>
                  </a:lnTo>
                  <a:lnTo>
                    <a:pt x="1215" y="183"/>
                  </a:lnTo>
                  <a:lnTo>
                    <a:pt x="1238" y="183"/>
                  </a:lnTo>
                  <a:lnTo>
                    <a:pt x="1243" y="176"/>
                  </a:lnTo>
                  <a:lnTo>
                    <a:pt x="1246" y="170"/>
                  </a:lnTo>
                  <a:lnTo>
                    <a:pt x="1248" y="164"/>
                  </a:lnTo>
                  <a:lnTo>
                    <a:pt x="1248" y="158"/>
                  </a:lnTo>
                  <a:lnTo>
                    <a:pt x="1244" y="150"/>
                  </a:lnTo>
                  <a:lnTo>
                    <a:pt x="1240" y="146"/>
                  </a:lnTo>
                  <a:lnTo>
                    <a:pt x="1233" y="142"/>
                  </a:lnTo>
                  <a:lnTo>
                    <a:pt x="1226" y="140"/>
                  </a:lnTo>
                  <a:lnTo>
                    <a:pt x="983" y="85"/>
                  </a:lnTo>
                  <a:lnTo>
                    <a:pt x="1001" y="0"/>
                  </a:lnTo>
                  <a:lnTo>
                    <a:pt x="1040" y="11"/>
                  </a:lnTo>
                  <a:lnTo>
                    <a:pt x="1080" y="18"/>
                  </a:lnTo>
                  <a:lnTo>
                    <a:pt x="1123" y="22"/>
                  </a:lnTo>
                  <a:lnTo>
                    <a:pt x="1166" y="24"/>
                  </a:lnTo>
                  <a:lnTo>
                    <a:pt x="1208" y="22"/>
                  </a:lnTo>
                  <a:lnTo>
                    <a:pt x="1250" y="19"/>
                  </a:lnTo>
                  <a:lnTo>
                    <a:pt x="1292" y="16"/>
                  </a:lnTo>
                  <a:lnTo>
                    <a:pt x="1335" y="12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 flipH="1">
              <a:off x="1457640" y="6356520"/>
              <a:ext cx="20880" cy="3564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4" h="80">
                  <a:moveTo>
                    <a:pt x="44" y="80"/>
                  </a:moveTo>
                  <a:lnTo>
                    <a:pt x="35" y="75"/>
                  </a:lnTo>
                  <a:lnTo>
                    <a:pt x="26" y="71"/>
                  </a:lnTo>
                  <a:lnTo>
                    <a:pt x="17" y="68"/>
                  </a:lnTo>
                  <a:lnTo>
                    <a:pt x="9" y="64"/>
                  </a:lnTo>
                  <a:lnTo>
                    <a:pt x="2" y="58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8" y="31"/>
                  </a:lnTo>
                  <a:lnTo>
                    <a:pt x="26" y="0"/>
                  </a:lnTo>
                  <a:lnTo>
                    <a:pt x="30" y="9"/>
                  </a:lnTo>
                  <a:lnTo>
                    <a:pt x="33" y="18"/>
                  </a:lnTo>
                  <a:lnTo>
                    <a:pt x="36" y="28"/>
                  </a:lnTo>
                  <a:lnTo>
                    <a:pt x="39" y="39"/>
                  </a:lnTo>
                  <a:lnTo>
                    <a:pt x="41" y="49"/>
                  </a:lnTo>
                  <a:lnTo>
                    <a:pt x="42" y="59"/>
                  </a:lnTo>
                  <a:lnTo>
                    <a:pt x="43" y="69"/>
                  </a:lnTo>
                  <a:lnTo>
                    <a:pt x="44" y="8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35"/>
            <p:cNvSpPr/>
            <p:nvPr/>
          </p:nvSpPr>
          <p:spPr>
            <a:xfrm flipH="1">
              <a:off x="1433880" y="6401160"/>
              <a:ext cx="144000" cy="127080"/>
            </a:xfrm>
            <a:custGeom>
              <a:avLst/>
              <a:gdLst>
                <a:gd name="textAreaLeft" fmla="*/ 360 w 144000"/>
                <a:gd name="textAreaRight" fmla="*/ 144720 w 1440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71" h="285">
                  <a:moveTo>
                    <a:pt x="235" y="24"/>
                  </a:moveTo>
                  <a:lnTo>
                    <a:pt x="244" y="55"/>
                  </a:lnTo>
                  <a:lnTo>
                    <a:pt x="251" y="88"/>
                  </a:lnTo>
                  <a:lnTo>
                    <a:pt x="255" y="120"/>
                  </a:lnTo>
                  <a:lnTo>
                    <a:pt x="259" y="154"/>
                  </a:lnTo>
                  <a:lnTo>
                    <a:pt x="261" y="186"/>
                  </a:lnTo>
                  <a:lnTo>
                    <a:pt x="264" y="219"/>
                  </a:lnTo>
                  <a:lnTo>
                    <a:pt x="267" y="251"/>
                  </a:lnTo>
                  <a:lnTo>
                    <a:pt x="271" y="285"/>
                  </a:lnTo>
                  <a:lnTo>
                    <a:pt x="238" y="266"/>
                  </a:lnTo>
                  <a:lnTo>
                    <a:pt x="206" y="244"/>
                  </a:lnTo>
                  <a:lnTo>
                    <a:pt x="175" y="217"/>
                  </a:lnTo>
                  <a:lnTo>
                    <a:pt x="145" y="193"/>
                  </a:lnTo>
                  <a:lnTo>
                    <a:pt x="111" y="169"/>
                  </a:lnTo>
                  <a:lnTo>
                    <a:pt x="79" y="151"/>
                  </a:lnTo>
                  <a:lnTo>
                    <a:pt x="43" y="139"/>
                  </a:lnTo>
                  <a:lnTo>
                    <a:pt x="4" y="139"/>
                  </a:lnTo>
                  <a:lnTo>
                    <a:pt x="0" y="125"/>
                  </a:lnTo>
                  <a:lnTo>
                    <a:pt x="2" y="114"/>
                  </a:lnTo>
                  <a:lnTo>
                    <a:pt x="8" y="106"/>
                  </a:lnTo>
                  <a:lnTo>
                    <a:pt x="19" y="102"/>
                  </a:lnTo>
                  <a:lnTo>
                    <a:pt x="30" y="98"/>
                  </a:lnTo>
                  <a:lnTo>
                    <a:pt x="43" y="96"/>
                  </a:lnTo>
                  <a:lnTo>
                    <a:pt x="55" y="92"/>
                  </a:lnTo>
                  <a:lnTo>
                    <a:pt x="66" y="90"/>
                  </a:lnTo>
                  <a:lnTo>
                    <a:pt x="79" y="88"/>
                  </a:lnTo>
                  <a:lnTo>
                    <a:pt x="95" y="91"/>
                  </a:lnTo>
                  <a:lnTo>
                    <a:pt x="109" y="96"/>
                  </a:lnTo>
                  <a:lnTo>
                    <a:pt x="126" y="102"/>
                  </a:lnTo>
                  <a:lnTo>
                    <a:pt x="139" y="104"/>
                  </a:lnTo>
                  <a:lnTo>
                    <a:pt x="154" y="103"/>
                  </a:lnTo>
                  <a:lnTo>
                    <a:pt x="166" y="94"/>
                  </a:lnTo>
                  <a:lnTo>
                    <a:pt x="175" y="78"/>
                  </a:lnTo>
                  <a:lnTo>
                    <a:pt x="163" y="71"/>
                  </a:lnTo>
                  <a:lnTo>
                    <a:pt x="151" y="66"/>
                  </a:lnTo>
                  <a:lnTo>
                    <a:pt x="140" y="61"/>
                  </a:lnTo>
                  <a:lnTo>
                    <a:pt x="129" y="59"/>
                  </a:lnTo>
                  <a:lnTo>
                    <a:pt x="119" y="55"/>
                  </a:lnTo>
                  <a:lnTo>
                    <a:pt x="108" y="54"/>
                  </a:lnTo>
                  <a:lnTo>
                    <a:pt x="98" y="54"/>
                  </a:lnTo>
                  <a:lnTo>
                    <a:pt x="90" y="54"/>
                  </a:lnTo>
                  <a:lnTo>
                    <a:pt x="90" y="44"/>
                  </a:lnTo>
                  <a:lnTo>
                    <a:pt x="90" y="36"/>
                  </a:lnTo>
                  <a:lnTo>
                    <a:pt x="90" y="29"/>
                  </a:lnTo>
                  <a:lnTo>
                    <a:pt x="92" y="21"/>
                  </a:lnTo>
                  <a:lnTo>
                    <a:pt x="95" y="14"/>
                  </a:lnTo>
                  <a:lnTo>
                    <a:pt x="99" y="9"/>
                  </a:lnTo>
                  <a:lnTo>
                    <a:pt x="105" y="3"/>
                  </a:lnTo>
                  <a:lnTo>
                    <a:pt x="114" y="0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61" y="1"/>
                  </a:lnTo>
                  <a:lnTo>
                    <a:pt x="176" y="5"/>
                  </a:lnTo>
                  <a:lnTo>
                    <a:pt x="190" y="7"/>
                  </a:lnTo>
                  <a:lnTo>
                    <a:pt x="204" y="12"/>
                  </a:lnTo>
                  <a:lnTo>
                    <a:pt x="218" y="17"/>
                  </a:lnTo>
                  <a:lnTo>
                    <a:pt x="235" y="24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36"/>
            <p:cNvSpPr/>
            <p:nvPr/>
          </p:nvSpPr>
          <p:spPr>
            <a:xfrm flipH="1">
              <a:off x="1566720" y="6476760"/>
              <a:ext cx="124920" cy="10476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34" h="237">
                  <a:moveTo>
                    <a:pt x="199" y="42"/>
                  </a:moveTo>
                  <a:lnTo>
                    <a:pt x="204" y="63"/>
                  </a:lnTo>
                  <a:lnTo>
                    <a:pt x="211" y="86"/>
                  </a:lnTo>
                  <a:lnTo>
                    <a:pt x="219" y="109"/>
                  </a:lnTo>
                  <a:lnTo>
                    <a:pt x="226" y="134"/>
                  </a:lnTo>
                  <a:lnTo>
                    <a:pt x="231" y="158"/>
                  </a:lnTo>
                  <a:lnTo>
                    <a:pt x="234" y="182"/>
                  </a:lnTo>
                  <a:lnTo>
                    <a:pt x="233" y="206"/>
                  </a:lnTo>
                  <a:lnTo>
                    <a:pt x="229" y="231"/>
                  </a:lnTo>
                  <a:lnTo>
                    <a:pt x="221" y="235"/>
                  </a:lnTo>
                  <a:lnTo>
                    <a:pt x="214" y="237"/>
                  </a:lnTo>
                  <a:lnTo>
                    <a:pt x="207" y="237"/>
                  </a:lnTo>
                  <a:lnTo>
                    <a:pt x="199" y="237"/>
                  </a:lnTo>
                  <a:lnTo>
                    <a:pt x="191" y="235"/>
                  </a:lnTo>
                  <a:lnTo>
                    <a:pt x="183" y="232"/>
                  </a:lnTo>
                  <a:lnTo>
                    <a:pt x="175" y="231"/>
                  </a:lnTo>
                  <a:lnTo>
                    <a:pt x="169" y="231"/>
                  </a:lnTo>
                  <a:lnTo>
                    <a:pt x="154" y="206"/>
                  </a:lnTo>
                  <a:lnTo>
                    <a:pt x="137" y="181"/>
                  </a:lnTo>
                  <a:lnTo>
                    <a:pt x="116" y="157"/>
                  </a:lnTo>
                  <a:lnTo>
                    <a:pt x="97" y="134"/>
                  </a:lnTo>
                  <a:lnTo>
                    <a:pt x="74" y="110"/>
                  </a:lnTo>
                  <a:lnTo>
                    <a:pt x="53" y="87"/>
                  </a:lnTo>
                  <a:lnTo>
                    <a:pt x="31" y="64"/>
                  </a:lnTo>
                  <a:lnTo>
                    <a:pt x="12" y="42"/>
                  </a:lnTo>
                  <a:lnTo>
                    <a:pt x="0" y="24"/>
                  </a:lnTo>
                  <a:lnTo>
                    <a:pt x="23" y="10"/>
                  </a:lnTo>
                  <a:lnTo>
                    <a:pt x="48" y="3"/>
                  </a:lnTo>
                  <a:lnTo>
                    <a:pt x="73" y="0"/>
                  </a:lnTo>
                  <a:lnTo>
                    <a:pt x="101" y="4"/>
                  </a:lnTo>
                  <a:lnTo>
                    <a:pt x="126" y="9"/>
                  </a:lnTo>
                  <a:lnTo>
                    <a:pt x="152" y="17"/>
                  </a:lnTo>
                  <a:lnTo>
                    <a:pt x="177" y="28"/>
                  </a:lnTo>
                  <a:lnTo>
                    <a:pt x="199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37"/>
            <p:cNvSpPr/>
            <p:nvPr/>
          </p:nvSpPr>
          <p:spPr>
            <a:xfrm flipH="1">
              <a:off x="1444320" y="6487920"/>
              <a:ext cx="255600" cy="191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482" h="431">
                  <a:moveTo>
                    <a:pt x="482" y="152"/>
                  </a:moveTo>
                  <a:lnTo>
                    <a:pt x="440" y="178"/>
                  </a:lnTo>
                  <a:lnTo>
                    <a:pt x="396" y="206"/>
                  </a:lnTo>
                  <a:lnTo>
                    <a:pt x="350" y="234"/>
                  </a:lnTo>
                  <a:lnTo>
                    <a:pt x="307" y="266"/>
                  </a:lnTo>
                  <a:lnTo>
                    <a:pt x="263" y="300"/>
                  </a:lnTo>
                  <a:lnTo>
                    <a:pt x="226" y="338"/>
                  </a:lnTo>
                  <a:lnTo>
                    <a:pt x="195" y="380"/>
                  </a:lnTo>
                  <a:lnTo>
                    <a:pt x="173" y="431"/>
                  </a:lnTo>
                  <a:lnTo>
                    <a:pt x="156" y="426"/>
                  </a:lnTo>
                  <a:lnTo>
                    <a:pt x="140" y="426"/>
                  </a:lnTo>
                  <a:lnTo>
                    <a:pt x="123" y="425"/>
                  </a:lnTo>
                  <a:lnTo>
                    <a:pt x="106" y="426"/>
                  </a:lnTo>
                  <a:lnTo>
                    <a:pt x="88" y="426"/>
                  </a:lnTo>
                  <a:lnTo>
                    <a:pt x="71" y="426"/>
                  </a:lnTo>
                  <a:lnTo>
                    <a:pt x="54" y="422"/>
                  </a:lnTo>
                  <a:lnTo>
                    <a:pt x="40" y="419"/>
                  </a:lnTo>
                  <a:lnTo>
                    <a:pt x="35" y="386"/>
                  </a:lnTo>
                  <a:lnTo>
                    <a:pt x="25" y="354"/>
                  </a:lnTo>
                  <a:lnTo>
                    <a:pt x="13" y="319"/>
                  </a:lnTo>
                  <a:lnTo>
                    <a:pt x="5" y="287"/>
                  </a:lnTo>
                  <a:lnTo>
                    <a:pt x="0" y="254"/>
                  </a:lnTo>
                  <a:lnTo>
                    <a:pt x="6" y="225"/>
                  </a:lnTo>
                  <a:lnTo>
                    <a:pt x="23" y="200"/>
                  </a:lnTo>
                  <a:lnTo>
                    <a:pt x="58" y="182"/>
                  </a:lnTo>
                  <a:lnTo>
                    <a:pt x="79" y="182"/>
                  </a:lnTo>
                  <a:lnTo>
                    <a:pt x="97" y="192"/>
                  </a:lnTo>
                  <a:lnTo>
                    <a:pt x="112" y="206"/>
                  </a:lnTo>
                  <a:lnTo>
                    <a:pt x="125" y="224"/>
                  </a:lnTo>
                  <a:lnTo>
                    <a:pt x="138" y="241"/>
                  </a:lnTo>
                  <a:lnTo>
                    <a:pt x="154" y="256"/>
                  </a:lnTo>
                  <a:lnTo>
                    <a:pt x="172" y="265"/>
                  </a:lnTo>
                  <a:lnTo>
                    <a:pt x="197" y="267"/>
                  </a:lnTo>
                  <a:lnTo>
                    <a:pt x="209" y="267"/>
                  </a:lnTo>
                  <a:lnTo>
                    <a:pt x="223" y="267"/>
                  </a:lnTo>
                  <a:lnTo>
                    <a:pt x="235" y="265"/>
                  </a:lnTo>
                  <a:lnTo>
                    <a:pt x="247" y="263"/>
                  </a:lnTo>
                  <a:lnTo>
                    <a:pt x="257" y="256"/>
                  </a:lnTo>
                  <a:lnTo>
                    <a:pt x="268" y="249"/>
                  </a:lnTo>
                  <a:lnTo>
                    <a:pt x="278" y="241"/>
                  </a:lnTo>
                  <a:lnTo>
                    <a:pt x="289" y="231"/>
                  </a:lnTo>
                  <a:lnTo>
                    <a:pt x="297" y="201"/>
                  </a:lnTo>
                  <a:lnTo>
                    <a:pt x="301" y="171"/>
                  </a:lnTo>
                  <a:lnTo>
                    <a:pt x="300" y="142"/>
                  </a:lnTo>
                  <a:lnTo>
                    <a:pt x="295" y="113"/>
                  </a:lnTo>
                  <a:lnTo>
                    <a:pt x="286" y="85"/>
                  </a:lnTo>
                  <a:lnTo>
                    <a:pt x="278" y="56"/>
                  </a:lnTo>
                  <a:lnTo>
                    <a:pt x="269" y="27"/>
                  </a:lnTo>
                  <a:lnTo>
                    <a:pt x="265" y="0"/>
                  </a:lnTo>
                  <a:lnTo>
                    <a:pt x="292" y="12"/>
                  </a:lnTo>
                  <a:lnTo>
                    <a:pt x="320" y="28"/>
                  </a:lnTo>
                  <a:lnTo>
                    <a:pt x="348" y="45"/>
                  </a:lnTo>
                  <a:lnTo>
                    <a:pt x="375" y="67"/>
                  </a:lnTo>
                  <a:lnTo>
                    <a:pt x="402" y="87"/>
                  </a:lnTo>
                  <a:lnTo>
                    <a:pt x="428" y="109"/>
                  </a:lnTo>
                  <a:lnTo>
                    <a:pt x="455" y="130"/>
                  </a:lnTo>
                  <a:lnTo>
                    <a:pt x="482" y="152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38"/>
            <p:cNvSpPr/>
            <p:nvPr/>
          </p:nvSpPr>
          <p:spPr>
            <a:xfrm flipH="1">
              <a:off x="806760" y="6487920"/>
              <a:ext cx="12960" cy="13320"/>
            </a:xfrm>
            <a:custGeom>
              <a:avLst/>
              <a:gdLst>
                <a:gd name="textAreaLeft" fmla="*/ 360 w 12960"/>
                <a:gd name="textAreaRight" fmla="*/ 13680 w 129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5" h="27">
                  <a:moveTo>
                    <a:pt x="25" y="3"/>
                  </a:moveTo>
                  <a:lnTo>
                    <a:pt x="24" y="11"/>
                  </a:lnTo>
                  <a:lnTo>
                    <a:pt x="24" y="17"/>
                  </a:lnTo>
                  <a:lnTo>
                    <a:pt x="21" y="21"/>
                  </a:lnTo>
                  <a:lnTo>
                    <a:pt x="18" y="27"/>
                  </a:lnTo>
                  <a:lnTo>
                    <a:pt x="6" y="27"/>
                  </a:lnTo>
                  <a:lnTo>
                    <a:pt x="0" y="3"/>
                  </a:lnTo>
                  <a:lnTo>
                    <a:pt x="7" y="2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39"/>
            <p:cNvSpPr/>
            <p:nvPr/>
          </p:nvSpPr>
          <p:spPr>
            <a:xfrm flipH="1">
              <a:off x="942120" y="6506280"/>
              <a:ext cx="69480" cy="7092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34" h="159">
                  <a:moveTo>
                    <a:pt x="36" y="159"/>
                  </a:moveTo>
                  <a:lnTo>
                    <a:pt x="0" y="146"/>
                  </a:lnTo>
                  <a:lnTo>
                    <a:pt x="0" y="132"/>
                  </a:lnTo>
                  <a:lnTo>
                    <a:pt x="5" y="117"/>
                  </a:lnTo>
                  <a:lnTo>
                    <a:pt x="10" y="103"/>
                  </a:lnTo>
                  <a:lnTo>
                    <a:pt x="17" y="88"/>
                  </a:lnTo>
                  <a:lnTo>
                    <a:pt x="24" y="74"/>
                  </a:lnTo>
                  <a:lnTo>
                    <a:pt x="33" y="59"/>
                  </a:lnTo>
                  <a:lnTo>
                    <a:pt x="40" y="45"/>
                  </a:lnTo>
                  <a:lnTo>
                    <a:pt x="48" y="32"/>
                  </a:lnTo>
                  <a:lnTo>
                    <a:pt x="134" y="0"/>
                  </a:lnTo>
                  <a:lnTo>
                    <a:pt x="123" y="20"/>
                  </a:lnTo>
                  <a:lnTo>
                    <a:pt x="111" y="40"/>
                  </a:lnTo>
                  <a:lnTo>
                    <a:pt x="98" y="59"/>
                  </a:lnTo>
                  <a:lnTo>
                    <a:pt x="84" y="80"/>
                  </a:lnTo>
                  <a:lnTo>
                    <a:pt x="70" y="98"/>
                  </a:lnTo>
                  <a:lnTo>
                    <a:pt x="58" y="118"/>
                  </a:lnTo>
                  <a:lnTo>
                    <a:pt x="46" y="138"/>
                  </a:lnTo>
                  <a:lnTo>
                    <a:pt x="36" y="159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0"/>
            <p:cNvSpPr/>
            <p:nvPr/>
          </p:nvSpPr>
          <p:spPr>
            <a:xfrm flipH="1">
              <a:off x="1671120" y="6512760"/>
              <a:ext cx="196920" cy="15804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374" h="358">
                  <a:moveTo>
                    <a:pt x="374" y="73"/>
                  </a:moveTo>
                  <a:lnTo>
                    <a:pt x="355" y="78"/>
                  </a:lnTo>
                  <a:lnTo>
                    <a:pt x="337" y="86"/>
                  </a:lnTo>
                  <a:lnTo>
                    <a:pt x="318" y="97"/>
                  </a:lnTo>
                  <a:lnTo>
                    <a:pt x="304" y="111"/>
                  </a:lnTo>
                  <a:lnTo>
                    <a:pt x="290" y="125"/>
                  </a:lnTo>
                  <a:lnTo>
                    <a:pt x="279" y="143"/>
                  </a:lnTo>
                  <a:lnTo>
                    <a:pt x="272" y="161"/>
                  </a:lnTo>
                  <a:lnTo>
                    <a:pt x="270" y="182"/>
                  </a:lnTo>
                  <a:lnTo>
                    <a:pt x="274" y="204"/>
                  </a:lnTo>
                  <a:lnTo>
                    <a:pt x="279" y="227"/>
                  </a:lnTo>
                  <a:lnTo>
                    <a:pt x="284" y="248"/>
                  </a:lnTo>
                  <a:lnTo>
                    <a:pt x="290" y="271"/>
                  </a:lnTo>
                  <a:lnTo>
                    <a:pt x="294" y="293"/>
                  </a:lnTo>
                  <a:lnTo>
                    <a:pt x="300" y="315"/>
                  </a:lnTo>
                  <a:lnTo>
                    <a:pt x="306" y="336"/>
                  </a:lnTo>
                  <a:lnTo>
                    <a:pt x="314" y="358"/>
                  </a:lnTo>
                  <a:lnTo>
                    <a:pt x="270" y="349"/>
                  </a:lnTo>
                  <a:lnTo>
                    <a:pt x="228" y="341"/>
                  </a:lnTo>
                  <a:lnTo>
                    <a:pt x="186" y="330"/>
                  </a:lnTo>
                  <a:lnTo>
                    <a:pt x="145" y="317"/>
                  </a:lnTo>
                  <a:lnTo>
                    <a:pt x="106" y="299"/>
                  </a:lnTo>
                  <a:lnTo>
                    <a:pt x="70" y="277"/>
                  </a:lnTo>
                  <a:lnTo>
                    <a:pt x="37" y="251"/>
                  </a:lnTo>
                  <a:lnTo>
                    <a:pt x="9" y="218"/>
                  </a:lnTo>
                  <a:lnTo>
                    <a:pt x="5" y="208"/>
                  </a:lnTo>
                  <a:lnTo>
                    <a:pt x="2" y="198"/>
                  </a:lnTo>
                  <a:lnTo>
                    <a:pt x="0" y="186"/>
                  </a:lnTo>
                  <a:lnTo>
                    <a:pt x="0" y="175"/>
                  </a:lnTo>
                  <a:lnTo>
                    <a:pt x="0" y="163"/>
                  </a:lnTo>
                  <a:lnTo>
                    <a:pt x="2" y="152"/>
                  </a:lnTo>
                  <a:lnTo>
                    <a:pt x="5" y="141"/>
                  </a:lnTo>
                  <a:lnTo>
                    <a:pt x="9" y="133"/>
                  </a:lnTo>
                  <a:lnTo>
                    <a:pt x="26" y="110"/>
                  </a:lnTo>
                  <a:lnTo>
                    <a:pt x="47" y="92"/>
                  </a:lnTo>
                  <a:lnTo>
                    <a:pt x="68" y="78"/>
                  </a:lnTo>
                  <a:lnTo>
                    <a:pt x="92" y="67"/>
                  </a:lnTo>
                  <a:lnTo>
                    <a:pt x="116" y="55"/>
                  </a:lnTo>
                  <a:lnTo>
                    <a:pt x="141" y="44"/>
                  </a:lnTo>
                  <a:lnTo>
                    <a:pt x="163" y="32"/>
                  </a:lnTo>
                  <a:lnTo>
                    <a:pt x="186" y="19"/>
                  </a:lnTo>
                  <a:lnTo>
                    <a:pt x="201" y="15"/>
                  </a:lnTo>
                  <a:lnTo>
                    <a:pt x="215" y="14"/>
                  </a:lnTo>
                  <a:lnTo>
                    <a:pt x="228" y="13"/>
                  </a:lnTo>
                  <a:lnTo>
                    <a:pt x="243" y="12"/>
                  </a:lnTo>
                  <a:lnTo>
                    <a:pt x="256" y="9"/>
                  </a:lnTo>
                  <a:lnTo>
                    <a:pt x="270" y="7"/>
                  </a:lnTo>
                  <a:lnTo>
                    <a:pt x="285" y="3"/>
                  </a:lnTo>
                  <a:lnTo>
                    <a:pt x="302" y="0"/>
                  </a:lnTo>
                  <a:lnTo>
                    <a:pt x="374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41"/>
            <p:cNvSpPr/>
            <p:nvPr/>
          </p:nvSpPr>
          <p:spPr>
            <a:xfrm flipH="1">
              <a:off x="1011600" y="6525720"/>
              <a:ext cx="58680" cy="42120"/>
            </a:xfrm>
            <a:custGeom>
              <a:avLst/>
              <a:gdLst>
                <a:gd name="textAreaLeft" fmla="*/ -360 w 58680"/>
                <a:gd name="textAreaRight" fmla="*/ 58680 w 58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09" h="94">
                  <a:moveTo>
                    <a:pt x="109" y="0"/>
                  </a:moveTo>
                  <a:lnTo>
                    <a:pt x="101" y="12"/>
                  </a:lnTo>
                  <a:lnTo>
                    <a:pt x="94" y="29"/>
                  </a:lnTo>
                  <a:lnTo>
                    <a:pt x="86" y="47"/>
                  </a:lnTo>
                  <a:lnTo>
                    <a:pt x="80" y="65"/>
                  </a:lnTo>
                  <a:lnTo>
                    <a:pt x="72" y="79"/>
                  </a:lnTo>
                  <a:lnTo>
                    <a:pt x="61" y="90"/>
                  </a:lnTo>
                  <a:lnTo>
                    <a:pt x="47" y="94"/>
                  </a:lnTo>
                  <a:lnTo>
                    <a:pt x="30" y="90"/>
                  </a:lnTo>
                  <a:lnTo>
                    <a:pt x="0" y="78"/>
                  </a:lnTo>
                  <a:lnTo>
                    <a:pt x="8" y="61"/>
                  </a:lnTo>
                  <a:lnTo>
                    <a:pt x="18" y="47"/>
                  </a:lnTo>
                  <a:lnTo>
                    <a:pt x="28" y="33"/>
                  </a:lnTo>
                  <a:lnTo>
                    <a:pt x="40" y="23"/>
                  </a:lnTo>
                  <a:lnTo>
                    <a:pt x="52" y="12"/>
                  </a:lnTo>
                  <a:lnTo>
                    <a:pt x="66" y="6"/>
                  </a:lnTo>
                  <a:lnTo>
                    <a:pt x="83" y="1"/>
                  </a:lnTo>
                  <a:lnTo>
                    <a:pt x="103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42"/>
            <p:cNvSpPr/>
            <p:nvPr/>
          </p:nvSpPr>
          <p:spPr>
            <a:xfrm flipH="1">
              <a:off x="1073520" y="6541560"/>
              <a:ext cx="20880" cy="900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6" h="18">
                  <a:moveTo>
                    <a:pt x="36" y="0"/>
                  </a:moveTo>
                  <a:lnTo>
                    <a:pt x="29" y="8"/>
                  </a:lnTo>
                  <a:lnTo>
                    <a:pt x="23" y="15"/>
                  </a:lnTo>
                  <a:lnTo>
                    <a:pt x="14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43"/>
            <p:cNvSpPr/>
            <p:nvPr/>
          </p:nvSpPr>
          <p:spPr>
            <a:xfrm flipH="1">
              <a:off x="731520" y="6552720"/>
              <a:ext cx="517320" cy="129240"/>
            </a:xfrm>
            <a:custGeom>
              <a:avLst/>
              <a:gdLst>
                <a:gd name="textAreaLeft" fmla="*/ -360 w 517320"/>
                <a:gd name="textAreaRight" fmla="*/ 517320 w 517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70" h="291">
                  <a:moveTo>
                    <a:pt x="970" y="55"/>
                  </a:moveTo>
                  <a:lnTo>
                    <a:pt x="969" y="64"/>
                  </a:lnTo>
                  <a:lnTo>
                    <a:pt x="967" y="74"/>
                  </a:lnTo>
                  <a:lnTo>
                    <a:pt x="963" y="84"/>
                  </a:lnTo>
                  <a:lnTo>
                    <a:pt x="959" y="94"/>
                  </a:lnTo>
                  <a:lnTo>
                    <a:pt x="952" y="101"/>
                  </a:lnTo>
                  <a:lnTo>
                    <a:pt x="945" y="108"/>
                  </a:lnTo>
                  <a:lnTo>
                    <a:pt x="937" y="113"/>
                  </a:lnTo>
                  <a:lnTo>
                    <a:pt x="927" y="115"/>
                  </a:lnTo>
                  <a:lnTo>
                    <a:pt x="917" y="112"/>
                  </a:lnTo>
                  <a:lnTo>
                    <a:pt x="910" y="113"/>
                  </a:lnTo>
                  <a:lnTo>
                    <a:pt x="903" y="117"/>
                  </a:lnTo>
                  <a:lnTo>
                    <a:pt x="897" y="123"/>
                  </a:lnTo>
                  <a:lnTo>
                    <a:pt x="890" y="127"/>
                  </a:lnTo>
                  <a:lnTo>
                    <a:pt x="885" y="133"/>
                  </a:lnTo>
                  <a:lnTo>
                    <a:pt x="878" y="137"/>
                  </a:lnTo>
                  <a:lnTo>
                    <a:pt x="873" y="139"/>
                  </a:lnTo>
                  <a:lnTo>
                    <a:pt x="851" y="142"/>
                  </a:lnTo>
                  <a:lnTo>
                    <a:pt x="833" y="147"/>
                  </a:lnTo>
                  <a:lnTo>
                    <a:pt x="814" y="154"/>
                  </a:lnTo>
                  <a:lnTo>
                    <a:pt x="797" y="161"/>
                  </a:lnTo>
                  <a:lnTo>
                    <a:pt x="780" y="168"/>
                  </a:lnTo>
                  <a:lnTo>
                    <a:pt x="765" y="177"/>
                  </a:lnTo>
                  <a:lnTo>
                    <a:pt x="748" y="185"/>
                  </a:lnTo>
                  <a:lnTo>
                    <a:pt x="733" y="193"/>
                  </a:lnTo>
                  <a:lnTo>
                    <a:pt x="739" y="207"/>
                  </a:lnTo>
                  <a:lnTo>
                    <a:pt x="873" y="181"/>
                  </a:lnTo>
                  <a:lnTo>
                    <a:pt x="868" y="196"/>
                  </a:lnTo>
                  <a:lnTo>
                    <a:pt x="861" y="210"/>
                  </a:lnTo>
                  <a:lnTo>
                    <a:pt x="851" y="222"/>
                  </a:lnTo>
                  <a:lnTo>
                    <a:pt x="842" y="234"/>
                  </a:lnTo>
                  <a:lnTo>
                    <a:pt x="828" y="245"/>
                  </a:lnTo>
                  <a:lnTo>
                    <a:pt x="816" y="256"/>
                  </a:lnTo>
                  <a:lnTo>
                    <a:pt x="804" y="267"/>
                  </a:lnTo>
                  <a:lnTo>
                    <a:pt x="793" y="279"/>
                  </a:lnTo>
                  <a:lnTo>
                    <a:pt x="723" y="288"/>
                  </a:lnTo>
                  <a:lnTo>
                    <a:pt x="652" y="291"/>
                  </a:lnTo>
                  <a:lnTo>
                    <a:pt x="579" y="286"/>
                  </a:lnTo>
                  <a:lnTo>
                    <a:pt x="510" y="276"/>
                  </a:lnTo>
                  <a:lnTo>
                    <a:pt x="438" y="261"/>
                  </a:lnTo>
                  <a:lnTo>
                    <a:pt x="368" y="243"/>
                  </a:lnTo>
                  <a:lnTo>
                    <a:pt x="298" y="225"/>
                  </a:lnTo>
                  <a:lnTo>
                    <a:pt x="229" y="207"/>
                  </a:lnTo>
                  <a:lnTo>
                    <a:pt x="199" y="196"/>
                  </a:lnTo>
                  <a:lnTo>
                    <a:pt x="169" y="185"/>
                  </a:lnTo>
                  <a:lnTo>
                    <a:pt x="140" y="173"/>
                  </a:lnTo>
                  <a:lnTo>
                    <a:pt x="112" y="161"/>
                  </a:lnTo>
                  <a:lnTo>
                    <a:pt x="83" y="147"/>
                  </a:lnTo>
                  <a:lnTo>
                    <a:pt x="54" y="132"/>
                  </a:lnTo>
                  <a:lnTo>
                    <a:pt x="26" y="118"/>
                  </a:lnTo>
                  <a:lnTo>
                    <a:pt x="0" y="103"/>
                  </a:lnTo>
                  <a:lnTo>
                    <a:pt x="24" y="89"/>
                  </a:lnTo>
                  <a:lnTo>
                    <a:pt x="50" y="77"/>
                  </a:lnTo>
                  <a:lnTo>
                    <a:pt x="77" y="65"/>
                  </a:lnTo>
                  <a:lnTo>
                    <a:pt x="106" y="54"/>
                  </a:lnTo>
                  <a:lnTo>
                    <a:pt x="133" y="42"/>
                  </a:lnTo>
                  <a:lnTo>
                    <a:pt x="161" y="30"/>
                  </a:lnTo>
                  <a:lnTo>
                    <a:pt x="189" y="18"/>
                  </a:lnTo>
                  <a:lnTo>
                    <a:pt x="217" y="6"/>
                  </a:lnTo>
                  <a:lnTo>
                    <a:pt x="287" y="41"/>
                  </a:lnTo>
                  <a:lnTo>
                    <a:pt x="361" y="73"/>
                  </a:lnTo>
                  <a:lnTo>
                    <a:pt x="434" y="97"/>
                  </a:lnTo>
                  <a:lnTo>
                    <a:pt x="510" y="119"/>
                  </a:lnTo>
                  <a:lnTo>
                    <a:pt x="584" y="131"/>
                  </a:lnTo>
                  <a:lnTo>
                    <a:pt x="662" y="137"/>
                  </a:lnTo>
                  <a:lnTo>
                    <a:pt x="742" y="136"/>
                  </a:lnTo>
                  <a:lnTo>
                    <a:pt x="824" y="127"/>
                  </a:lnTo>
                  <a:lnTo>
                    <a:pt x="845" y="119"/>
                  </a:lnTo>
                  <a:lnTo>
                    <a:pt x="864" y="108"/>
                  </a:lnTo>
                  <a:lnTo>
                    <a:pt x="880" y="91"/>
                  </a:lnTo>
                  <a:lnTo>
                    <a:pt x="895" y="74"/>
                  </a:lnTo>
                  <a:lnTo>
                    <a:pt x="904" y="54"/>
                  </a:lnTo>
                  <a:lnTo>
                    <a:pt x="915" y="35"/>
                  </a:lnTo>
                  <a:lnTo>
                    <a:pt x="923" y="16"/>
                  </a:lnTo>
                  <a:lnTo>
                    <a:pt x="933" y="0"/>
                  </a:lnTo>
                  <a:lnTo>
                    <a:pt x="941" y="0"/>
                  </a:lnTo>
                  <a:lnTo>
                    <a:pt x="949" y="5"/>
                  </a:lnTo>
                  <a:lnTo>
                    <a:pt x="952" y="11"/>
                  </a:lnTo>
                  <a:lnTo>
                    <a:pt x="957" y="20"/>
                  </a:lnTo>
                  <a:lnTo>
                    <a:pt x="959" y="28"/>
                  </a:lnTo>
                  <a:lnTo>
                    <a:pt x="962" y="37"/>
                  </a:lnTo>
                  <a:lnTo>
                    <a:pt x="965" y="47"/>
                  </a:lnTo>
                  <a:lnTo>
                    <a:pt x="970" y="5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44"/>
            <p:cNvSpPr/>
            <p:nvPr/>
          </p:nvSpPr>
          <p:spPr>
            <a:xfrm flipH="1">
              <a:off x="1305360" y="6579360"/>
              <a:ext cx="276840" cy="204840"/>
            </a:xfrm>
            <a:custGeom>
              <a:avLst/>
              <a:gdLst>
                <a:gd name="textAreaLeft" fmla="*/ -360 w 276840"/>
                <a:gd name="textAreaRight" fmla="*/ 276840 w 2768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22" h="461">
                  <a:moveTo>
                    <a:pt x="413" y="114"/>
                  </a:moveTo>
                  <a:lnTo>
                    <a:pt x="418" y="110"/>
                  </a:lnTo>
                  <a:lnTo>
                    <a:pt x="425" y="108"/>
                  </a:lnTo>
                  <a:lnTo>
                    <a:pt x="433" y="108"/>
                  </a:lnTo>
                  <a:lnTo>
                    <a:pt x="443" y="108"/>
                  </a:lnTo>
                  <a:lnTo>
                    <a:pt x="522" y="188"/>
                  </a:lnTo>
                  <a:lnTo>
                    <a:pt x="497" y="195"/>
                  </a:lnTo>
                  <a:lnTo>
                    <a:pt x="469" y="201"/>
                  </a:lnTo>
                  <a:lnTo>
                    <a:pt x="441" y="207"/>
                  </a:lnTo>
                  <a:lnTo>
                    <a:pt x="413" y="215"/>
                  </a:lnTo>
                  <a:lnTo>
                    <a:pt x="384" y="224"/>
                  </a:lnTo>
                  <a:lnTo>
                    <a:pt x="359" y="239"/>
                  </a:lnTo>
                  <a:lnTo>
                    <a:pt x="337" y="259"/>
                  </a:lnTo>
                  <a:lnTo>
                    <a:pt x="321" y="285"/>
                  </a:lnTo>
                  <a:lnTo>
                    <a:pt x="320" y="309"/>
                  </a:lnTo>
                  <a:lnTo>
                    <a:pt x="325" y="333"/>
                  </a:lnTo>
                  <a:lnTo>
                    <a:pt x="332" y="357"/>
                  </a:lnTo>
                  <a:lnTo>
                    <a:pt x="344" y="381"/>
                  </a:lnTo>
                  <a:lnTo>
                    <a:pt x="358" y="402"/>
                  </a:lnTo>
                  <a:lnTo>
                    <a:pt x="374" y="423"/>
                  </a:lnTo>
                  <a:lnTo>
                    <a:pt x="391" y="443"/>
                  </a:lnTo>
                  <a:lnTo>
                    <a:pt x="413" y="461"/>
                  </a:lnTo>
                  <a:lnTo>
                    <a:pt x="365" y="459"/>
                  </a:lnTo>
                  <a:lnTo>
                    <a:pt x="317" y="457"/>
                  </a:lnTo>
                  <a:lnTo>
                    <a:pt x="270" y="452"/>
                  </a:lnTo>
                  <a:lnTo>
                    <a:pt x="224" y="445"/>
                  </a:lnTo>
                  <a:lnTo>
                    <a:pt x="178" y="433"/>
                  </a:lnTo>
                  <a:lnTo>
                    <a:pt x="136" y="419"/>
                  </a:lnTo>
                  <a:lnTo>
                    <a:pt x="94" y="399"/>
                  </a:lnTo>
                  <a:lnTo>
                    <a:pt x="56" y="375"/>
                  </a:lnTo>
                  <a:lnTo>
                    <a:pt x="44" y="362"/>
                  </a:lnTo>
                  <a:lnTo>
                    <a:pt x="34" y="350"/>
                  </a:lnTo>
                  <a:lnTo>
                    <a:pt x="24" y="338"/>
                  </a:lnTo>
                  <a:lnTo>
                    <a:pt x="18" y="326"/>
                  </a:lnTo>
                  <a:lnTo>
                    <a:pt x="11" y="312"/>
                  </a:lnTo>
                  <a:lnTo>
                    <a:pt x="6" y="298"/>
                  </a:lnTo>
                  <a:lnTo>
                    <a:pt x="2" y="285"/>
                  </a:lnTo>
                  <a:lnTo>
                    <a:pt x="0" y="272"/>
                  </a:lnTo>
                  <a:lnTo>
                    <a:pt x="14" y="220"/>
                  </a:lnTo>
                  <a:lnTo>
                    <a:pt x="39" y="178"/>
                  </a:lnTo>
                  <a:lnTo>
                    <a:pt x="70" y="141"/>
                  </a:lnTo>
                  <a:lnTo>
                    <a:pt x="110" y="111"/>
                  </a:lnTo>
                  <a:lnTo>
                    <a:pt x="151" y="81"/>
                  </a:lnTo>
                  <a:lnTo>
                    <a:pt x="195" y="54"/>
                  </a:lnTo>
                  <a:lnTo>
                    <a:pt x="237" y="27"/>
                  </a:lnTo>
                  <a:lnTo>
                    <a:pt x="279" y="0"/>
                  </a:lnTo>
                  <a:lnTo>
                    <a:pt x="291" y="16"/>
                  </a:lnTo>
                  <a:lnTo>
                    <a:pt x="305" y="35"/>
                  </a:lnTo>
                  <a:lnTo>
                    <a:pt x="317" y="54"/>
                  </a:lnTo>
                  <a:lnTo>
                    <a:pt x="332" y="75"/>
                  </a:lnTo>
                  <a:lnTo>
                    <a:pt x="347" y="90"/>
                  </a:lnTo>
                  <a:lnTo>
                    <a:pt x="366" y="104"/>
                  </a:lnTo>
                  <a:lnTo>
                    <a:pt x="388" y="112"/>
                  </a:lnTo>
                  <a:lnTo>
                    <a:pt x="413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45"/>
            <p:cNvSpPr/>
            <p:nvPr/>
          </p:nvSpPr>
          <p:spPr>
            <a:xfrm flipH="1">
              <a:off x="1175040" y="6610680"/>
              <a:ext cx="146160" cy="93240"/>
            </a:xfrm>
            <a:custGeom>
              <a:avLst/>
              <a:gdLst>
                <a:gd name="textAreaLeft" fmla="*/ 360 w 146160"/>
                <a:gd name="textAreaRight" fmla="*/ 146880 w 1461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273" h="211">
                  <a:moveTo>
                    <a:pt x="218" y="84"/>
                  </a:moveTo>
                  <a:lnTo>
                    <a:pt x="273" y="186"/>
                  </a:lnTo>
                  <a:lnTo>
                    <a:pt x="267" y="211"/>
                  </a:lnTo>
                  <a:lnTo>
                    <a:pt x="248" y="211"/>
                  </a:lnTo>
                  <a:lnTo>
                    <a:pt x="232" y="209"/>
                  </a:lnTo>
                  <a:lnTo>
                    <a:pt x="218" y="202"/>
                  </a:lnTo>
                  <a:lnTo>
                    <a:pt x="203" y="193"/>
                  </a:lnTo>
                  <a:lnTo>
                    <a:pt x="189" y="182"/>
                  </a:lnTo>
                  <a:lnTo>
                    <a:pt x="175" y="173"/>
                  </a:lnTo>
                  <a:lnTo>
                    <a:pt x="160" y="165"/>
                  </a:lnTo>
                  <a:lnTo>
                    <a:pt x="146" y="162"/>
                  </a:lnTo>
                  <a:lnTo>
                    <a:pt x="125" y="146"/>
                  </a:lnTo>
                  <a:lnTo>
                    <a:pt x="107" y="129"/>
                  </a:lnTo>
                  <a:lnTo>
                    <a:pt x="89" y="110"/>
                  </a:lnTo>
                  <a:lnTo>
                    <a:pt x="72" y="91"/>
                  </a:lnTo>
                  <a:lnTo>
                    <a:pt x="54" y="70"/>
                  </a:lnTo>
                  <a:lnTo>
                    <a:pt x="38" y="51"/>
                  </a:lnTo>
                  <a:lnTo>
                    <a:pt x="18" y="32"/>
                  </a:lnTo>
                  <a:lnTo>
                    <a:pt x="0" y="16"/>
                  </a:lnTo>
                  <a:lnTo>
                    <a:pt x="28" y="2"/>
                  </a:lnTo>
                  <a:lnTo>
                    <a:pt x="56" y="0"/>
                  </a:lnTo>
                  <a:lnTo>
                    <a:pt x="83" y="6"/>
                  </a:lnTo>
                  <a:lnTo>
                    <a:pt x="111" y="20"/>
                  </a:lnTo>
                  <a:lnTo>
                    <a:pt x="137" y="36"/>
                  </a:lnTo>
                  <a:lnTo>
                    <a:pt x="164" y="54"/>
                  </a:lnTo>
                  <a:lnTo>
                    <a:pt x="190" y="70"/>
                  </a:lnTo>
                  <a:lnTo>
                    <a:pt x="218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46"/>
            <p:cNvSpPr/>
            <p:nvPr/>
          </p:nvSpPr>
          <p:spPr>
            <a:xfrm flipH="1">
              <a:off x="1626120" y="6637320"/>
              <a:ext cx="255600" cy="93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3" h="207">
                  <a:moveTo>
                    <a:pt x="95" y="62"/>
                  </a:moveTo>
                  <a:lnTo>
                    <a:pt x="124" y="77"/>
                  </a:lnTo>
                  <a:lnTo>
                    <a:pt x="156" y="91"/>
                  </a:lnTo>
                  <a:lnTo>
                    <a:pt x="190" y="98"/>
                  </a:lnTo>
                  <a:lnTo>
                    <a:pt x="225" y="105"/>
                  </a:lnTo>
                  <a:lnTo>
                    <a:pt x="260" y="110"/>
                  </a:lnTo>
                  <a:lnTo>
                    <a:pt x="294" y="117"/>
                  </a:lnTo>
                  <a:lnTo>
                    <a:pt x="328" y="125"/>
                  </a:lnTo>
                  <a:lnTo>
                    <a:pt x="362" y="140"/>
                  </a:lnTo>
                  <a:lnTo>
                    <a:pt x="375" y="136"/>
                  </a:lnTo>
                  <a:lnTo>
                    <a:pt x="389" y="136"/>
                  </a:lnTo>
                  <a:lnTo>
                    <a:pt x="405" y="136"/>
                  </a:lnTo>
                  <a:lnTo>
                    <a:pt x="422" y="136"/>
                  </a:lnTo>
                  <a:lnTo>
                    <a:pt x="436" y="135"/>
                  </a:lnTo>
                  <a:lnTo>
                    <a:pt x="452" y="135"/>
                  </a:lnTo>
                  <a:lnTo>
                    <a:pt x="468" y="134"/>
                  </a:lnTo>
                  <a:lnTo>
                    <a:pt x="483" y="134"/>
                  </a:lnTo>
                  <a:lnTo>
                    <a:pt x="477" y="141"/>
                  </a:lnTo>
                  <a:lnTo>
                    <a:pt x="475" y="150"/>
                  </a:lnTo>
                  <a:lnTo>
                    <a:pt x="475" y="158"/>
                  </a:lnTo>
                  <a:lnTo>
                    <a:pt x="477" y="169"/>
                  </a:lnTo>
                  <a:lnTo>
                    <a:pt x="477" y="177"/>
                  </a:lnTo>
                  <a:lnTo>
                    <a:pt x="477" y="188"/>
                  </a:lnTo>
                  <a:lnTo>
                    <a:pt x="475" y="198"/>
                  </a:lnTo>
                  <a:lnTo>
                    <a:pt x="471" y="207"/>
                  </a:lnTo>
                  <a:lnTo>
                    <a:pt x="454" y="201"/>
                  </a:lnTo>
                  <a:lnTo>
                    <a:pt x="439" y="199"/>
                  </a:lnTo>
                  <a:lnTo>
                    <a:pt x="422" y="198"/>
                  </a:lnTo>
                  <a:lnTo>
                    <a:pt x="406" y="199"/>
                  </a:lnTo>
                  <a:lnTo>
                    <a:pt x="389" y="200"/>
                  </a:lnTo>
                  <a:lnTo>
                    <a:pt x="375" y="201"/>
                  </a:lnTo>
                  <a:lnTo>
                    <a:pt x="358" y="201"/>
                  </a:lnTo>
                  <a:lnTo>
                    <a:pt x="344" y="201"/>
                  </a:lnTo>
                  <a:lnTo>
                    <a:pt x="300" y="194"/>
                  </a:lnTo>
                  <a:lnTo>
                    <a:pt x="257" y="187"/>
                  </a:lnTo>
                  <a:lnTo>
                    <a:pt x="214" y="176"/>
                  </a:lnTo>
                  <a:lnTo>
                    <a:pt x="174" y="163"/>
                  </a:lnTo>
                  <a:lnTo>
                    <a:pt x="133" y="146"/>
                  </a:lnTo>
                  <a:lnTo>
                    <a:pt x="96" y="127"/>
                  </a:lnTo>
                  <a:lnTo>
                    <a:pt x="60" y="105"/>
                  </a:lnTo>
                  <a:lnTo>
                    <a:pt x="27" y="80"/>
                  </a:lnTo>
                  <a:lnTo>
                    <a:pt x="25" y="68"/>
                  </a:lnTo>
                  <a:lnTo>
                    <a:pt x="21" y="58"/>
                  </a:lnTo>
                  <a:lnTo>
                    <a:pt x="15" y="49"/>
                  </a:lnTo>
                  <a:lnTo>
                    <a:pt x="11" y="40"/>
                  </a:lnTo>
                  <a:lnTo>
                    <a:pt x="5" y="31"/>
                  </a:lnTo>
                  <a:lnTo>
                    <a:pt x="1" y="2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5" y="3"/>
                  </a:lnTo>
                  <a:lnTo>
                    <a:pt x="29" y="10"/>
                  </a:lnTo>
                  <a:lnTo>
                    <a:pt x="39" y="17"/>
                  </a:lnTo>
                  <a:lnTo>
                    <a:pt x="51" y="27"/>
                  </a:lnTo>
                  <a:lnTo>
                    <a:pt x="61" y="35"/>
                  </a:lnTo>
                  <a:lnTo>
                    <a:pt x="72" y="45"/>
                  </a:lnTo>
                  <a:lnTo>
                    <a:pt x="83" y="53"/>
                  </a:lnTo>
                  <a:lnTo>
                    <a:pt x="9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47"/>
            <p:cNvSpPr/>
            <p:nvPr/>
          </p:nvSpPr>
          <p:spPr>
            <a:xfrm flipH="1">
              <a:off x="902880" y="6653160"/>
              <a:ext cx="480240" cy="133200"/>
            </a:xfrm>
            <a:custGeom>
              <a:avLst/>
              <a:gdLst>
                <a:gd name="textAreaLeft" fmla="*/ 360 w 480240"/>
                <a:gd name="textAreaRight" fmla="*/ 480960 w 4802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97" h="303">
                  <a:moveTo>
                    <a:pt x="897" y="108"/>
                  </a:moveTo>
                  <a:lnTo>
                    <a:pt x="897" y="115"/>
                  </a:lnTo>
                  <a:lnTo>
                    <a:pt x="848" y="132"/>
                  </a:lnTo>
                  <a:lnTo>
                    <a:pt x="800" y="149"/>
                  </a:lnTo>
                  <a:lnTo>
                    <a:pt x="750" y="166"/>
                  </a:lnTo>
                  <a:lnTo>
                    <a:pt x="701" y="182"/>
                  </a:lnTo>
                  <a:lnTo>
                    <a:pt x="650" y="197"/>
                  </a:lnTo>
                  <a:lnTo>
                    <a:pt x="601" y="213"/>
                  </a:lnTo>
                  <a:lnTo>
                    <a:pt x="552" y="227"/>
                  </a:lnTo>
                  <a:lnTo>
                    <a:pt x="502" y="241"/>
                  </a:lnTo>
                  <a:lnTo>
                    <a:pt x="453" y="249"/>
                  </a:lnTo>
                  <a:lnTo>
                    <a:pt x="406" y="259"/>
                  </a:lnTo>
                  <a:lnTo>
                    <a:pt x="359" y="270"/>
                  </a:lnTo>
                  <a:lnTo>
                    <a:pt x="314" y="281"/>
                  </a:lnTo>
                  <a:lnTo>
                    <a:pt x="266" y="289"/>
                  </a:lnTo>
                  <a:lnTo>
                    <a:pt x="217" y="297"/>
                  </a:lnTo>
                  <a:lnTo>
                    <a:pt x="167" y="301"/>
                  </a:lnTo>
                  <a:lnTo>
                    <a:pt x="115" y="303"/>
                  </a:lnTo>
                  <a:lnTo>
                    <a:pt x="97" y="283"/>
                  </a:lnTo>
                  <a:lnTo>
                    <a:pt x="77" y="265"/>
                  </a:lnTo>
                  <a:lnTo>
                    <a:pt x="56" y="246"/>
                  </a:lnTo>
                  <a:lnTo>
                    <a:pt x="38" y="227"/>
                  </a:lnTo>
                  <a:lnTo>
                    <a:pt x="21" y="204"/>
                  </a:lnTo>
                  <a:lnTo>
                    <a:pt x="8" y="182"/>
                  </a:lnTo>
                  <a:lnTo>
                    <a:pt x="0" y="158"/>
                  </a:lnTo>
                  <a:lnTo>
                    <a:pt x="0" y="133"/>
                  </a:lnTo>
                  <a:lnTo>
                    <a:pt x="14" y="114"/>
                  </a:lnTo>
                  <a:lnTo>
                    <a:pt x="32" y="99"/>
                  </a:lnTo>
                  <a:lnTo>
                    <a:pt x="53" y="89"/>
                  </a:lnTo>
                  <a:lnTo>
                    <a:pt x="76" y="81"/>
                  </a:lnTo>
                  <a:lnTo>
                    <a:pt x="97" y="74"/>
                  </a:lnTo>
                  <a:lnTo>
                    <a:pt x="122" y="71"/>
                  </a:lnTo>
                  <a:lnTo>
                    <a:pt x="145" y="65"/>
                  </a:lnTo>
                  <a:lnTo>
                    <a:pt x="169" y="60"/>
                  </a:lnTo>
                  <a:lnTo>
                    <a:pt x="189" y="73"/>
                  </a:lnTo>
                  <a:lnTo>
                    <a:pt x="210" y="87"/>
                  </a:lnTo>
                  <a:lnTo>
                    <a:pt x="232" y="103"/>
                  </a:lnTo>
                  <a:lnTo>
                    <a:pt x="255" y="119"/>
                  </a:lnTo>
                  <a:lnTo>
                    <a:pt x="278" y="132"/>
                  </a:lnTo>
                  <a:lnTo>
                    <a:pt x="302" y="146"/>
                  </a:lnTo>
                  <a:lnTo>
                    <a:pt x="326" y="158"/>
                  </a:lnTo>
                  <a:lnTo>
                    <a:pt x="351" y="169"/>
                  </a:lnTo>
                  <a:lnTo>
                    <a:pt x="361" y="168"/>
                  </a:lnTo>
                  <a:lnTo>
                    <a:pt x="370" y="167"/>
                  </a:lnTo>
                  <a:lnTo>
                    <a:pt x="379" y="164"/>
                  </a:lnTo>
                  <a:lnTo>
                    <a:pt x="387" y="162"/>
                  </a:lnTo>
                  <a:lnTo>
                    <a:pt x="394" y="158"/>
                  </a:lnTo>
                  <a:lnTo>
                    <a:pt x="401" y="156"/>
                  </a:lnTo>
                  <a:lnTo>
                    <a:pt x="409" y="152"/>
                  </a:lnTo>
                  <a:lnTo>
                    <a:pt x="418" y="151"/>
                  </a:lnTo>
                  <a:lnTo>
                    <a:pt x="432" y="130"/>
                  </a:lnTo>
                  <a:lnTo>
                    <a:pt x="438" y="110"/>
                  </a:lnTo>
                  <a:lnTo>
                    <a:pt x="434" y="90"/>
                  </a:lnTo>
                  <a:lnTo>
                    <a:pt x="428" y="72"/>
                  </a:lnTo>
                  <a:lnTo>
                    <a:pt x="416" y="54"/>
                  </a:lnTo>
                  <a:lnTo>
                    <a:pt x="405" y="36"/>
                  </a:lnTo>
                  <a:lnTo>
                    <a:pt x="394" y="18"/>
                  </a:lnTo>
                  <a:lnTo>
                    <a:pt x="388" y="0"/>
                  </a:lnTo>
                  <a:lnTo>
                    <a:pt x="450" y="20"/>
                  </a:lnTo>
                  <a:lnTo>
                    <a:pt x="511" y="41"/>
                  </a:lnTo>
                  <a:lnTo>
                    <a:pt x="573" y="59"/>
                  </a:lnTo>
                  <a:lnTo>
                    <a:pt x="637" y="75"/>
                  </a:lnTo>
                  <a:lnTo>
                    <a:pt x="701" y="89"/>
                  </a:lnTo>
                  <a:lnTo>
                    <a:pt x="766" y="98"/>
                  </a:lnTo>
                  <a:lnTo>
                    <a:pt x="831" y="104"/>
                  </a:lnTo>
                  <a:lnTo>
                    <a:pt x="897" y="108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48"/>
            <p:cNvSpPr/>
            <p:nvPr/>
          </p:nvSpPr>
          <p:spPr>
            <a:xfrm flipH="1">
              <a:off x="766800" y="6666120"/>
              <a:ext cx="832320" cy="171720"/>
            </a:xfrm>
            <a:custGeom>
              <a:avLst/>
              <a:gdLst>
                <a:gd name="textAreaLeft" fmla="*/ 360 w 832320"/>
                <a:gd name="textAreaRight" fmla="*/ 833040 w 8323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557" h="388">
                  <a:moveTo>
                    <a:pt x="1539" y="103"/>
                  </a:moveTo>
                  <a:lnTo>
                    <a:pt x="1484" y="139"/>
                  </a:lnTo>
                  <a:lnTo>
                    <a:pt x="1426" y="169"/>
                  </a:lnTo>
                  <a:lnTo>
                    <a:pt x="1364" y="196"/>
                  </a:lnTo>
                  <a:lnTo>
                    <a:pt x="1302" y="219"/>
                  </a:lnTo>
                  <a:lnTo>
                    <a:pt x="1237" y="238"/>
                  </a:lnTo>
                  <a:lnTo>
                    <a:pt x="1172" y="258"/>
                  </a:lnTo>
                  <a:lnTo>
                    <a:pt x="1108" y="279"/>
                  </a:lnTo>
                  <a:lnTo>
                    <a:pt x="1047" y="303"/>
                  </a:lnTo>
                  <a:lnTo>
                    <a:pt x="1015" y="308"/>
                  </a:lnTo>
                  <a:lnTo>
                    <a:pt x="982" y="314"/>
                  </a:lnTo>
                  <a:lnTo>
                    <a:pt x="950" y="318"/>
                  </a:lnTo>
                  <a:lnTo>
                    <a:pt x="917" y="324"/>
                  </a:lnTo>
                  <a:lnTo>
                    <a:pt x="885" y="330"/>
                  </a:lnTo>
                  <a:lnTo>
                    <a:pt x="853" y="338"/>
                  </a:lnTo>
                  <a:lnTo>
                    <a:pt x="822" y="345"/>
                  </a:lnTo>
                  <a:lnTo>
                    <a:pt x="793" y="357"/>
                  </a:lnTo>
                  <a:lnTo>
                    <a:pt x="715" y="362"/>
                  </a:lnTo>
                  <a:lnTo>
                    <a:pt x="638" y="371"/>
                  </a:lnTo>
                  <a:lnTo>
                    <a:pt x="560" y="380"/>
                  </a:lnTo>
                  <a:lnTo>
                    <a:pt x="484" y="387"/>
                  </a:lnTo>
                  <a:lnTo>
                    <a:pt x="408" y="388"/>
                  </a:lnTo>
                  <a:lnTo>
                    <a:pt x="333" y="386"/>
                  </a:lnTo>
                  <a:lnTo>
                    <a:pt x="258" y="376"/>
                  </a:lnTo>
                  <a:lnTo>
                    <a:pt x="186" y="357"/>
                  </a:lnTo>
                  <a:lnTo>
                    <a:pt x="168" y="354"/>
                  </a:lnTo>
                  <a:lnTo>
                    <a:pt x="151" y="350"/>
                  </a:lnTo>
                  <a:lnTo>
                    <a:pt x="134" y="342"/>
                  </a:lnTo>
                  <a:lnTo>
                    <a:pt x="119" y="336"/>
                  </a:lnTo>
                  <a:lnTo>
                    <a:pt x="102" y="327"/>
                  </a:lnTo>
                  <a:lnTo>
                    <a:pt x="86" y="317"/>
                  </a:lnTo>
                  <a:lnTo>
                    <a:pt x="69" y="309"/>
                  </a:lnTo>
                  <a:lnTo>
                    <a:pt x="52" y="303"/>
                  </a:lnTo>
                  <a:lnTo>
                    <a:pt x="42" y="288"/>
                  </a:lnTo>
                  <a:lnTo>
                    <a:pt x="32" y="274"/>
                  </a:lnTo>
                  <a:lnTo>
                    <a:pt x="21" y="258"/>
                  </a:lnTo>
                  <a:lnTo>
                    <a:pt x="12" y="244"/>
                  </a:lnTo>
                  <a:lnTo>
                    <a:pt x="3" y="228"/>
                  </a:lnTo>
                  <a:lnTo>
                    <a:pt x="0" y="213"/>
                  </a:lnTo>
                  <a:lnTo>
                    <a:pt x="0" y="197"/>
                  </a:lnTo>
                  <a:lnTo>
                    <a:pt x="4" y="181"/>
                  </a:lnTo>
                  <a:lnTo>
                    <a:pt x="14" y="186"/>
                  </a:lnTo>
                  <a:lnTo>
                    <a:pt x="24" y="193"/>
                  </a:lnTo>
                  <a:lnTo>
                    <a:pt x="33" y="201"/>
                  </a:lnTo>
                  <a:lnTo>
                    <a:pt x="43" y="209"/>
                  </a:lnTo>
                  <a:lnTo>
                    <a:pt x="51" y="216"/>
                  </a:lnTo>
                  <a:lnTo>
                    <a:pt x="61" y="225"/>
                  </a:lnTo>
                  <a:lnTo>
                    <a:pt x="72" y="231"/>
                  </a:lnTo>
                  <a:lnTo>
                    <a:pt x="84" y="237"/>
                  </a:lnTo>
                  <a:lnTo>
                    <a:pt x="163" y="273"/>
                  </a:lnTo>
                  <a:lnTo>
                    <a:pt x="250" y="298"/>
                  </a:lnTo>
                  <a:lnTo>
                    <a:pt x="340" y="312"/>
                  </a:lnTo>
                  <a:lnTo>
                    <a:pt x="434" y="321"/>
                  </a:lnTo>
                  <a:lnTo>
                    <a:pt x="526" y="320"/>
                  </a:lnTo>
                  <a:lnTo>
                    <a:pt x="620" y="312"/>
                  </a:lnTo>
                  <a:lnTo>
                    <a:pt x="711" y="300"/>
                  </a:lnTo>
                  <a:lnTo>
                    <a:pt x="799" y="285"/>
                  </a:lnTo>
                  <a:lnTo>
                    <a:pt x="869" y="269"/>
                  </a:lnTo>
                  <a:lnTo>
                    <a:pt x="940" y="252"/>
                  </a:lnTo>
                  <a:lnTo>
                    <a:pt x="1011" y="233"/>
                  </a:lnTo>
                  <a:lnTo>
                    <a:pt x="1083" y="213"/>
                  </a:lnTo>
                  <a:lnTo>
                    <a:pt x="1153" y="190"/>
                  </a:lnTo>
                  <a:lnTo>
                    <a:pt x="1224" y="166"/>
                  </a:lnTo>
                  <a:lnTo>
                    <a:pt x="1294" y="140"/>
                  </a:lnTo>
                  <a:lnTo>
                    <a:pt x="1363" y="115"/>
                  </a:lnTo>
                  <a:lnTo>
                    <a:pt x="1377" y="106"/>
                  </a:lnTo>
                  <a:lnTo>
                    <a:pt x="1390" y="96"/>
                  </a:lnTo>
                  <a:lnTo>
                    <a:pt x="1404" y="85"/>
                  </a:lnTo>
                  <a:lnTo>
                    <a:pt x="1420" y="77"/>
                  </a:lnTo>
                  <a:lnTo>
                    <a:pt x="1434" y="68"/>
                  </a:lnTo>
                  <a:lnTo>
                    <a:pt x="1452" y="61"/>
                  </a:lnTo>
                  <a:lnTo>
                    <a:pt x="1470" y="56"/>
                  </a:lnTo>
                  <a:lnTo>
                    <a:pt x="1491" y="54"/>
                  </a:lnTo>
                  <a:lnTo>
                    <a:pt x="1500" y="48"/>
                  </a:lnTo>
                  <a:lnTo>
                    <a:pt x="1510" y="43"/>
                  </a:lnTo>
                  <a:lnTo>
                    <a:pt x="1518" y="37"/>
                  </a:lnTo>
                  <a:lnTo>
                    <a:pt x="1528" y="31"/>
                  </a:lnTo>
                  <a:lnTo>
                    <a:pt x="1535" y="23"/>
                  </a:lnTo>
                  <a:lnTo>
                    <a:pt x="1542" y="15"/>
                  </a:lnTo>
                  <a:lnTo>
                    <a:pt x="1550" y="7"/>
                  </a:lnTo>
                  <a:lnTo>
                    <a:pt x="1557" y="0"/>
                  </a:lnTo>
                  <a:lnTo>
                    <a:pt x="1557" y="11"/>
                  </a:lnTo>
                  <a:lnTo>
                    <a:pt x="1557" y="23"/>
                  </a:lnTo>
                  <a:lnTo>
                    <a:pt x="1555" y="35"/>
                  </a:lnTo>
                  <a:lnTo>
                    <a:pt x="1552" y="48"/>
                  </a:lnTo>
                  <a:lnTo>
                    <a:pt x="1547" y="61"/>
                  </a:lnTo>
                  <a:lnTo>
                    <a:pt x="1544" y="74"/>
                  </a:lnTo>
                  <a:lnTo>
                    <a:pt x="1540" y="89"/>
                  </a:lnTo>
                  <a:lnTo>
                    <a:pt x="1539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WordArt 49"/>
          <p:cNvSpPr txBox="1"/>
          <p:nvPr/>
        </p:nvSpPr>
        <p:spPr>
          <a:xfrm>
            <a:off x="2268360" y="189000"/>
            <a:ext cx="6567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Колыбельные пес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282" name="Picture 50" descr="6"/>
          <p:cNvPicPr/>
          <p:nvPr/>
        </p:nvPicPr>
        <p:blipFill>
          <a:blip r:embed="rId1"/>
          <a:stretch/>
        </p:blipFill>
        <p:spPr>
          <a:xfrm>
            <a:off x="3286080" y="4572000"/>
            <a:ext cx="2484360" cy="2016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9" descr="F:\Настёна\CAQFOL8H.jpg"/>
          <p:cNvPicPr/>
          <p:nvPr/>
        </p:nvPicPr>
        <p:blipFill>
          <a:blip r:embed="rId2"/>
          <a:stretch/>
        </p:blipFill>
        <p:spPr>
          <a:xfrm>
            <a:off x="7286760" y="4643280"/>
            <a:ext cx="16430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1859760" y="692640"/>
            <a:ext cx="6797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В колыбельный период ребен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воспринимает только ритмичну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мелодию и соответствующее 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движение. Заметив, что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ритмичном покачивании ребен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засыпает быстрее, человек созда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колыбе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4643280" y="3860640"/>
            <a:ext cx="3746520" cy="252108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286" name="Picture 6" descr="image002"/>
          <p:cNvPicPr/>
          <p:nvPr/>
        </p:nvPicPr>
        <p:blipFill>
          <a:blip r:embed="rId2"/>
          <a:stretch/>
        </p:blipFill>
        <p:spPr>
          <a:xfrm rot="5400000">
            <a:off x="1388880" y="4254120"/>
            <a:ext cx="2592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2124000" y="863280"/>
            <a:ext cx="68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Произошли из охранительных заговоров, которые должны были защитить ребенка от бессонницы, болезней, действий враждебных си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428840" y="1786680"/>
            <a:ext cx="333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Ходит сон по сеня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дрема по терем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Ищет Валю в полог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а гибком качел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он говори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«Надо Валю усыпи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дрема говори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«Надо Валю удреми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он да дрем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акатитесь на гла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4572000" y="185868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Если младенец не засыпал, то винили Сон и Дрему.</a:t>
            </a:r>
            <a:r>
              <a:rPr b="1" lang="ru-RU" sz="1800" spc="-1" strike="noStrike">
                <a:solidFill>
                  <a:srgbClr val="0000cc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Глупый Сон, Сон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еразумная Дрем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Мимо ты ходиш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Колыбели не находиш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Тогда Сон и Дрему просили прийти к ребенк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он да Дрем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риди к Ване в голо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он да Дрем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акатися на гла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6" descr="aadl"/>
          <p:cNvPicPr/>
          <p:nvPr/>
        </p:nvPicPr>
        <p:blipFill>
          <a:blip r:embed="rId1"/>
          <a:stretch/>
        </p:blipFill>
        <p:spPr>
          <a:xfrm>
            <a:off x="0" y="3143160"/>
            <a:ext cx="2340000" cy="3141720"/>
          </a:xfrm>
          <a:prstGeom prst="rect">
            <a:avLst/>
          </a:prstGeom>
          <a:ln w="0">
            <a:noFill/>
          </a:ln>
        </p:spPr>
      </p:pic>
      <p:sp>
        <p:nvSpPr>
          <p:cNvPr id="291" name="WordArt 7"/>
          <p:cNvSpPr txBox="1"/>
          <p:nvPr/>
        </p:nvSpPr>
        <p:spPr>
          <a:xfrm>
            <a:off x="2268360" y="189000"/>
            <a:ext cx="6567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Колыбельные пес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2803320" y="425160"/>
            <a:ext cx="549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Особенности компози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колыбельных пес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апоминают заговор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редставителям иного 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обещают подношение, а взам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росят сон и благополуч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ертвой может выступ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 ребен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919520" y="3571560"/>
            <a:ext cx="476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озьми, возьми маленьк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Туути, дочку, в край Туон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Будет в Манале невеста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7020000" y="3860640"/>
            <a:ext cx="199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1899720" y="1285560"/>
            <a:ext cx="5769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В колыбельных песня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присутствуют и та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войственные заговор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особенности, как обращ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к животным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«Курица, возьми бессонниц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у (имя), дай свой сон».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5" descr="peo-girl[1]"/>
          <p:cNvPicPr/>
          <p:nvPr/>
        </p:nvPicPr>
        <p:blipFill>
          <a:blip r:embed="rId1"/>
          <a:stretch/>
        </p:blipFill>
        <p:spPr>
          <a:xfrm>
            <a:off x="571680" y="4857840"/>
            <a:ext cx="2163600" cy="15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1"/>
          <p:cNvPicPr/>
          <p:nvPr/>
        </p:nvPicPr>
        <p:blipFill>
          <a:blip r:embed="rId2"/>
          <a:stretch/>
        </p:blipFill>
        <p:spPr>
          <a:xfrm>
            <a:off x="7286760" y="285840"/>
            <a:ext cx="1857240" cy="1811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F:\Настёна\i[56].jpg"/>
          <p:cNvPicPr/>
          <p:nvPr/>
        </p:nvPicPr>
        <p:blipFill>
          <a:blip r:embed="rId3"/>
          <a:stretch/>
        </p:blipFill>
        <p:spPr>
          <a:xfrm>
            <a:off x="7572240" y="4000680"/>
            <a:ext cx="1357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6:38:29Z</dcterms:created>
  <dc:creator>Наталья Сазоновна</dc:creator>
  <dc:description/>
  <dc:language>en-US</dc:language>
  <cp:lastModifiedBy>Максим</cp:lastModifiedBy>
  <dcterms:modified xsi:type="dcterms:W3CDTF">2010-09-01T18:32:38Z</dcterms:modified>
  <cp:revision>127</cp:revision>
  <dc:subject/>
  <dc:title>Слайд 1</dc:title>
</cp:coreProperties>
</file>