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3A6-98A4-4B5E-BA2C-6D77935B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30D-E7D5-436E-B4F2-6281F59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04A-7D2C-4701-A8BA-1B183232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64E-6779-499F-BA5B-98708404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E03-5F21-4D09-83E5-2537F52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218-0D99-44FE-9B18-47C875F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FCB-D45F-4C37-9F0D-55D1B04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8E3-A975-4ADD-9445-90F9112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F91-2F75-433D-8105-0745E0A8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B67-C2E1-4AAE-BF8F-D47C41A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67C-7370-4C5C-A04C-D29A73C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2B4-3CFA-4443-8617-D5E0630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42A-96FE-4090-A7B8-4C9C102448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476280"/>
            <a:ext cx="23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814320" y="2349360"/>
            <a:ext cx="7515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ль занятий 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 респираторн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1692360" y="1989000"/>
          <a:ext cx="572904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7290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WordArt 5"/>
          <p:cNvSpPr txBox="1"/>
          <p:nvPr/>
        </p:nvSpPr>
        <p:spPr>
          <a:xfrm>
            <a:off x="1476360" y="476280"/>
            <a:ext cx="61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ичество учеников болевших острыми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пираторными заболевания 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процентном соотношении</a:t>
            </a:r>
            <a:endParaRPr b="0" lang="en-US" sz="1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549360"/>
            <a:ext cx="4616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перенесших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е респираторные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 в числов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907920" y="1773360"/>
          <a:ext cx="5959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773360"/>
                    <a:ext cx="5959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42920" y="2104920"/>
            <a:ext cx="72741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1763640" y="333360"/>
            <a:ext cx="655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личество учеников не болевшие острыми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спираторными заболеваниями в числовом соотноше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907920" y="2205000"/>
          <a:ext cx="59580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5000"/>
                    <a:ext cx="5958000" cy="4657680"/>
                  </a:xfrm>
                  <a:prstGeom prst="rect">
                    <a:avLst/>
                  </a:prstGeom>
                  <a:ln w="0">
                    <a:solidFill>
                      <a:srgbClr val="ff9900"/>
                    </a:solidFill>
                  </a:ln>
                </p:spPr>
              </p:pic>
            </p:oleObj>
          </a:graphicData>
        </a:graphic>
      </p:graphicFrame>
      <p:sp>
        <p:nvSpPr>
          <p:cNvPr id="67" name="WordArt 5"/>
          <p:cNvSpPr txBox="1"/>
          <p:nvPr/>
        </p:nvSpPr>
        <p:spPr>
          <a:xfrm>
            <a:off x="1285920" y="333360"/>
            <a:ext cx="5734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ичество учеников не болевших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ыми респираторными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олеваниями в процентном соотношении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00000" y="1052640"/>
            <a:ext cx="64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дет являться определение роли занят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изической культур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острых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спираторных заболеваний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619280" y="76500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ью исследования: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900000" y="1773360"/>
            <a:ext cx="7559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  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.Изучить научно методическую литературу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.Дать рекомендации по использованию работ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835280" y="620640"/>
            <a:ext cx="489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195640" y="83664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826920" y="1989000"/>
            <a:ext cx="77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Определить круг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упражнений способствующи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лучшей профилактике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ых респираторных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болеваний.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757080" y="3716280"/>
            <a:ext cx="76298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.Выявить роль занятий физической культурой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профилактике 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стрых респираторных заболеваний</a:t>
            </a:r>
            <a:endParaRPr b="0" lang="en-US" sz="1400" spc="1" strike="noStrike">
              <a:ln w="1908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 rot="21378600">
            <a:off x="1133640" y="1773000"/>
            <a:ext cx="64306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офилактика острых респираторных заболевани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 занятиях физической культурой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258920" y="1341360"/>
            <a:ext cx="7058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90000"/>
                  </a:srgbClr>
                </a:solidFill>
                <a:latin typeface="Arial"/>
              </a:rPr>
              <a:t>Предметом исследования буде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90000"/>
                </a:srgbClr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209600" y="1052640"/>
            <a:ext cx="6724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нятия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физической культур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собствующие профилактике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рых респираторных заболеваний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908000" y="765000"/>
            <a:ext cx="6120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ъектом исследования будут являться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-74160" y="848520"/>
            <a:ext cx="929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ЛОЖЕНИЕ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УЧЕНИКОВ УЧАСТВОВАВШИХ В ПРОВЕДЕНИИ   ПЕДАГОГИЧЕСКОГО ИССЛЕДО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985080" cy="4608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1042920" y="33336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количество учеников участвовавших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 педагогическом исследован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49:54Z</dcterms:created>
  <dc:creator>Администратор</dc:creator>
  <dc:description/>
  <dc:language>en-US</dc:language>
  <cp:lastModifiedBy>Максим</cp:lastModifiedBy>
  <dcterms:modified xsi:type="dcterms:W3CDTF">2010-10-30T18:03:15Z</dcterms:modified>
  <cp:revision>9</cp:revision>
  <dc:subject/>
  <dc:title>Слайд 1</dc:title>
</cp:coreProperties>
</file>