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8A1-1818-4C4C-BFF3-C784FC06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AE9-4A39-4142-BFC1-0D7C5307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195-D15E-47CE-9681-82054685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914-E44C-4DBF-8FF7-601BEDE4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508-BACC-4F08-ACA2-8EB6CEEA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D34-BCB8-46B4-B30F-3642E5AC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1E40-610D-49A7-99DF-F6ABF303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351-9579-45F4-84C8-9F5AC65E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E6E-995C-4685-8DEF-2B3BB281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CC3-F62E-4F94-A6BE-91733090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3FE-5CAA-4558-94B2-7FA193EE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626-81EE-494F-A094-DBB1069A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30E1-FD0F-4090-9137-B80887E79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58920" y="765000"/>
            <a:ext cx="6985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Развитие быстроты у детей среднего школьного</a:t>
            </a:r>
            <a:br>
              <a:rPr sz="5000"/>
            </a:b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возраста на учебно-тренировочных занятиях по футбол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306440"/>
                <a:gridCol w="1306440"/>
                <a:gridCol w="1306800"/>
                <a:gridCol w="1304640"/>
                <a:gridCol w="1306800"/>
                <a:gridCol w="1306440"/>
                <a:gridCol w="1306440"/>
              </a:tblGrid>
              <a:tr h="253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 испытуем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измер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измер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А</a:t>
                      </a:r>
                      <a:r>
                        <a:rPr b="1" lang="ru-R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</a:t>
                      </a:r>
                      <a:r>
                        <a:rPr b="1" lang="ru-R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de-DE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Абрамов Русл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вфеев Ант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обров Валер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анехин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Васильев Владим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Домохин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Зуев Алекс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Иванов Серг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Лысаков Ник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Лысаков Серг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Мурин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Неуступов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Нифанов Алекс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Осипов Андр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Софронов Алекс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 Сычев Ник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 Тарасов Ив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 Труханов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Тюмаков Алекс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 Тюрин Ив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 Харев Пав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 Хлебников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908000" y="1557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476280"/>
            <a:ext cx="8569080" cy="59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, в выпускной квалификационной работе мы раскрыли цель поставленную перед нами. Проведя собственные исследования, получили определённые результаты, что быстроту на учебно – тренировочных занятиях по футболу  можно развивать через упражнения, которые соответствуют интересам и двигательным потребностям  детей среднего школьного возраста, стимулируют их эмоционально-волевые проявления и приучают к мобилизации максимальных усилий в нужный мом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55640" y="1125360"/>
            <a:ext cx="7489800" cy="45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явить развитие быстроты у детей среднего школьного возраста на учебно-тренировочных занятиях по футбо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116000" y="1052640"/>
            <a:ext cx="69850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Объект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и среднего школьного возра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быстроты на учебно-тренировочных занятиях по футбо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258920" y="1052640"/>
            <a:ext cx="705816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учащиеся среднего школьного возраста будут регулярно заниматься футболом, то это может способствовать развитию быстро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0"/>
            <a:ext cx="914400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анализировать существующую психолого-педагогическую литературу по данной проблеме исслед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исать процесс развития быстроты у детей среднего школьного возраста на учебно-тренировочных занятиях по футбол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ить влияние занятий футболом на развитие быстроты у детей среднего школьного возраста на учебно-тренировочных занятиях по футбол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анализировать динамику развития быстроты у детей среднего школьного возраста на учебно-тренировочных занятиях по футбол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914400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анализа и обобщения литературных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ир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наблю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971640" y="260280"/>
            <a:ext cx="741672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иболее известным показателем связи является ранговый коэффициент корреляции Спирмена, определяемый по следующей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 сумм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разность между рангами рассматриваемых призна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 число наблюдений (парны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1"/>
              <p:cNvSpPr txBox="1"/>
              <p:nvPr/>
            </p:nvSpPr>
            <p:spPr>
              <a:xfrm>
                <a:off x="2050920" y="2565360"/>
                <a:ext cx="457200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0"/>
            <a:ext cx="91440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Этапы исследований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тап ВК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анализ научно-методической литературы;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та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подбор методов исследов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та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- организация и проведение собственных исследова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та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описание и обработка результатов собственных исследований и вы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13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889308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База исследования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У «Вожегодская СОШ №1» на учащихся 5 классов, которые посещают секционное занятие по футболу в количестве 22 челов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37-06-16T09:19:37Z</dcterms:created>
  <dc:creator>1</dc:creator>
  <dc:description/>
  <dc:language>en-US</dc:language>
  <cp:lastModifiedBy>Максим</cp:lastModifiedBy>
  <dcterms:modified xsi:type="dcterms:W3CDTF">2010-10-30T18:19:23Z</dcterms:modified>
  <cp:revision>6</cp:revision>
  <dc:subject/>
  <dc:title>Слайд 1</dc:title>
</cp:coreProperties>
</file>