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50D-20AC-43FB-A240-B9DF7104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B59-CFD2-4028-A660-0488D7AC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FEE-FB90-483F-8832-C9E68B96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194-43C1-4C8A-983B-468468AC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F236-3C4B-4898-89C3-27BA2D75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FF69-E9FC-4B46-8018-F112638A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B0B5-B72D-4F04-A921-783FF525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0834-444A-4AA0-93BE-8AA6D6BE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DF3A-3FE7-4ECC-8B4C-F00DD5D4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BCD6-A330-404F-96A3-28F65101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3DD8-F49A-4265-872E-0BCA9B05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0096-6E48-49A1-803D-4A870F4F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BB58-51E8-4BDE-96A5-8C0B5A5A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6818-B5EB-48BA-801D-02937BB5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482D-9C61-4EC1-B6E5-9BB69E0A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C270-B724-450F-A854-B5CF6C18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4EB6-87A1-45A5-8BE0-DE8E51CD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C8D-685C-44B3-A5D5-956C3FF4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CC7-87F4-4F6D-B348-090CCDC6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6EE4-8A39-407B-9389-D0EA4A6C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EC0-A187-40F1-AF1C-BBDBB74E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A469-8B3A-4CEA-A62F-9B833659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874-7F6A-41AD-9F88-9476E8DC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C0FA-8AD4-49C3-9BEC-A3A985DD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FDA1-B66E-4254-B928-F4391E383E7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98DD-180F-42F9-84A7-7FF3D91C6D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4149720"/>
            <a:ext cx="7704000" cy="209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 Narrow"/>
              </a:rPr>
              <a:t>Опасность </a:t>
            </a:r>
            <a:r>
              <a:rPr b="1" lang="ru-RU" sz="60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распространения проституции и ее профилактика в Росси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6" name="Рисунок 1" descr=""/>
          <p:cNvPicPr/>
          <p:nvPr/>
        </p:nvPicPr>
        <p:blipFill>
          <a:blip r:embed="rId1"/>
          <a:srcRect l="-4281" t="0" r="0" b="0"/>
          <a:stretch/>
        </p:blipFill>
        <p:spPr>
          <a:xfrm>
            <a:off x="6084720" y="260280"/>
            <a:ext cx="2811600" cy="4537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921440" cy="5927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3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Отношение респондентов к необходимости усиления борьбы с проституцией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15" name="Object 5"/>
          <p:cNvGraphicFramePr/>
          <p:nvPr/>
        </p:nvGraphicFramePr>
        <p:xfrm>
          <a:off x="-468360" y="692280"/>
          <a:ext cx="9409320" cy="66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692280"/>
                    <a:ext cx="9409320" cy="66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Narrow"/>
              </a:rPr>
              <a:t>Социальные последствия,  связанные с проституцией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792000" y="1773360"/>
            <a:ext cx="8028000" cy="50472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ступления, связанные с проституци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258920" y="2924280"/>
            <a:ext cx="7561080" cy="50472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тление подрастающих поколе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1547640" y="3933720"/>
            <a:ext cx="7272360" cy="5050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гативное психологическое воздействие на социу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050920" y="5084640"/>
            <a:ext cx="6840720" cy="5050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он облику России в глазах мировой обществен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Проституция достигла уровня, подрывающего социально-экономические, духовные, нравственные основы жизнедеятельности российского общества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375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онтрабанда людей в целях сексуальной эксплуат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инамика и тенденции венерических болезней и ВИЧ-инфекции свидетельствуют о значительном ухудшении здоровья насе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риминальная активность лиц, вступающих в половые сношения за пла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рушения прав человека в среде сексуальных работников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оституция сопряжена с созданием и распространением порнографической продукции (видео и фот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ексуальная дискриминация детей и подрост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ироты от  СПИДа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5" name="Рисунок 7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456000" cy="51768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1285920" y="297000"/>
            <a:ext cx="7429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Защитники проституции оправдываютс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спрос рождает преступ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и проблема не в проститутках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а в их покупателя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Федеральный Закон Росс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alibri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О предотвращении, предупреждении и профилактике распространения проституции</a:t>
            </a:r>
            <a:r>
              <a:rPr b="0" lang="ru-RU" sz="3200" spc="-1" strike="noStrike">
                <a:solidFill>
                  <a:srgbClr val="ff00ff"/>
                </a:solidFill>
                <a:latin typeface="Calibri"/>
                <a:ea typeface="Times New Roman"/>
              </a:rPr>
              <a:t>»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- ЗАКОН КОТОРОГО НЕТ!!!!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6567840" cy="44035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837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Narrow"/>
              </a:rPr>
              <a:t>29-летней Татьяна, ВИЧ-инфицированная хроническая наркоманка и проститутка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5899320" y="0"/>
            <a:ext cx="2833560" cy="4076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90" name="Rectangle 3"/>
          <p:cNvSpPr/>
          <p:nvPr/>
        </p:nvSpPr>
        <p:spPr>
          <a:xfrm>
            <a:off x="324000" y="2993400"/>
            <a:ext cx="88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Татьяны хроническая инфекция ног от постоянных уколов и её слабеющая иммунная система убивает её. Несмотря на это,  её зависимость заставляет её многократно ежедневно колоться в израненные ноги. У Татьяны есть одиннадцатилетний сын, знающий, что мать - наркоманка, но "не желающий об этом говорить". Татьяна живёт в двухкомнатной квартире с шестью другими проститутками, - все они ВИЧ-инфицированы и наркоманки. Ни у кого из них нет возможности получать антиретровирусное леч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426600"/>
            <a:ext cx="8532720" cy="55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Перечень хронических заболеваний, наблюдающихся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у женщин, занимающихся  проституцией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981000"/>
          <a:ext cx="8135640" cy="5851440"/>
        </p:xfrm>
        <a:graphic>
          <a:graphicData uri="http://schemas.openxmlformats.org/drawingml/2006/table">
            <a:tbl>
              <a:tblPr/>
              <a:tblGrid>
                <a:gridCol w="4479840"/>
                <a:gridCol w="944640"/>
                <a:gridCol w="271116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Симптомы заболе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100 ч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Представительниц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оставившие занятие проституцией 1.5 года наза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ышечная бо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7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71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пособность сконцентрировать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66% (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6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птомы простуды и гри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61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3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ь в сустав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6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левания желуд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59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57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ловные боли, мигр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5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жные заболе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3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шно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1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1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ливость ру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1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левание органов слух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19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ь в области горла и челюстного аппара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2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абость мышц, парали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2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т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29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ое состояние здоровья в цел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1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5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386920" cy="61675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404280"/>
            <a:ext cx="575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ВОЗРАСТ ПРОСТИТУТОК , %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95" name="Object 14"/>
          <p:cNvGraphicFramePr/>
          <p:nvPr/>
        </p:nvGraphicFramePr>
        <p:xfrm>
          <a:off x="395280" y="333360"/>
          <a:ext cx="856944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33360"/>
                    <a:ext cx="856944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6"/>
          <p:cNvSpPr/>
          <p:nvPr/>
        </p:nvSpPr>
        <p:spPr>
          <a:xfrm>
            <a:off x="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4486320" y="404640"/>
            <a:ext cx="4262400" cy="5977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Narrow"/>
              </a:rPr>
              <a:t>Коэффициент занятия проституцией в зависимости от образования 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 Narrow"/>
              </a:rPr>
              <a:t>(</a:t>
            </a:r>
            <a:r>
              <a:rPr b="1" lang="ru-RU" sz="2000" spc="-1" strike="noStrike">
                <a:solidFill>
                  <a:srgbClr val="ffffcc"/>
                </a:solidFill>
                <a:latin typeface="Arial Narrow"/>
              </a:rPr>
              <a:t>По результатам московского исследования в 2009г)</a:t>
            </a: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2276640"/>
          <a:ext cx="8420040" cy="3673440"/>
        </p:xfrm>
        <a:graphic>
          <a:graphicData uri="http://schemas.openxmlformats.org/drawingml/2006/table">
            <a:tbl>
              <a:tblPr/>
              <a:tblGrid>
                <a:gridCol w="1203120"/>
                <a:gridCol w="1202040"/>
                <a:gridCol w="1203120"/>
                <a:gridCol w="1203480"/>
                <a:gridCol w="1203120"/>
                <a:gridCol w="1201680"/>
                <a:gridCol w="1203480"/>
              </a:tblGrid>
              <a:tr h="13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Высше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Незаконченное высше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Средне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Среднее специальн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Неполное средне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Начально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,9 %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,1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Diagram 5"/>
          <p:cNvGrpSpPr/>
          <p:nvPr/>
        </p:nvGrpSpPr>
        <p:grpSpPr>
          <a:xfrm>
            <a:off x="380880" y="772200"/>
            <a:ext cx="8129520" cy="4482720"/>
            <a:chOff x="380880" y="772200"/>
            <a:chExt cx="8129520" cy="4482720"/>
          </a:xfrm>
        </p:grpSpPr>
        <p:sp>
          <p:nvSpPr>
            <p:cNvPr id="102" name="_s1028"/>
            <p:cNvSpPr/>
            <p:nvPr/>
          </p:nvSpPr>
          <p:spPr>
            <a:xfrm flipH="1" flipV="1">
              <a:off x="2437200" y="2816280"/>
              <a:ext cx="1011600" cy="186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_s1029"/>
            <p:cNvSpPr/>
            <p:nvPr/>
          </p:nvSpPr>
          <p:spPr>
            <a:xfrm>
              <a:off x="380880" y="2023200"/>
              <a:ext cx="2111400" cy="12085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Санкт-Петербург –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20-30тыс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проституток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_s1030"/>
            <p:cNvSpPr/>
            <p:nvPr/>
          </p:nvSpPr>
          <p:spPr>
            <a:xfrm flipH="1">
              <a:off x="3204720" y="3671280"/>
              <a:ext cx="624600" cy="493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_s1031"/>
            <p:cNvSpPr/>
            <p:nvPr/>
          </p:nvSpPr>
          <p:spPr>
            <a:xfrm>
              <a:off x="1530360" y="4046400"/>
              <a:ext cx="2112480" cy="1208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Новосибирск и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Барнаул –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потребители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наркотиков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>
              <a:off x="5061600" y="3671280"/>
              <a:ext cx="624600" cy="489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5248440" y="4046400"/>
              <a:ext cx="2112480" cy="12085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Томск –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студентки местных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ВУЗов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_s1034"/>
            <p:cNvSpPr/>
            <p:nvPr/>
          </p:nvSpPr>
          <p:spPr>
            <a:xfrm flipV="1">
              <a:off x="5442840" y="2813040"/>
              <a:ext cx="1005840" cy="1854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_s1035"/>
            <p:cNvSpPr/>
            <p:nvPr/>
          </p:nvSpPr>
          <p:spPr>
            <a:xfrm>
              <a:off x="6397920" y="2023200"/>
              <a:ext cx="2112480" cy="1208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Казань –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безработные и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атери-одиночки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_s1036"/>
            <p:cNvSpPr/>
            <p:nvPr/>
          </p:nvSpPr>
          <p:spPr>
            <a:xfrm flipV="1">
              <a:off x="4442400" y="1980000"/>
              <a:ext cx="0" cy="604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_s1037"/>
            <p:cNvSpPr/>
            <p:nvPr/>
          </p:nvSpPr>
          <p:spPr>
            <a:xfrm>
              <a:off x="3386520" y="772200"/>
              <a:ext cx="2111400" cy="12078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Times New Roman"/>
                </a:rPr>
                <a:t>Москва- 80-130тыс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Times New Roman"/>
                </a:rPr>
                <a:t>сексработниц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_s1038"/>
            <p:cNvSpPr/>
            <p:nvPr/>
          </p:nvSpPr>
          <p:spPr>
            <a:xfrm>
              <a:off x="3386520" y="2584800"/>
              <a:ext cx="2111400" cy="12078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66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Секс-индустрия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в РФ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50тыс женщи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7:36:14Z</dcterms:created>
  <dc:creator>Admin</dc:creator>
  <dc:description/>
  <dc:language>en-US</dc:language>
  <cp:lastModifiedBy>Admin</cp:lastModifiedBy>
  <dcterms:modified xsi:type="dcterms:W3CDTF">2010-05-24T18:48:11Z</dcterms:modified>
  <cp:revision>8</cp:revision>
  <dc:subject/>
  <dc:title>Опасность  распространения проституции и ее профилактика в России</dc:title>
</cp:coreProperties>
</file>