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4FA-DDCB-4BE6-9C92-107CFA82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B11-9B18-4EF3-8484-5963EB23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D98-EBDB-424E-9395-B775D905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106-60BE-4D0D-BC57-15FAB473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CE6-AC39-4BF5-822F-E1880D7E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1B5-DA8E-43B8-A0C0-6E072521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93F-A481-485E-B245-DB1D55F5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5B1-EDDE-4A64-B3BD-CA2DFB81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C27-2EE4-49B7-ACAC-D2F2E1A8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008-053B-4E97-B6EA-88F96C1A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578-CCFF-45A3-801F-AD9D86C9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5D9-9900-4DBC-9193-FE454E13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3187-C462-4C34-8C84-2CD84B2B1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66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ецифика социально-медицинского обслуживания на дому граждан пожил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удентки 501 групп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ашериной Ольги Степано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ВК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2420640"/>
            <a:ext cx="734544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еделение специфики социально-медицинского обслуживания на дому людей пожилого возра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41300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 специфику социально-медицинского обслуживания на дому людей пожил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сти социологический опрос с людьми пожилого возраста по выявлению потребностей в социально-медицинском обслуживании на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рекомендации по использованию материалов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аза исследо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У ВО Комплексный центр социального обслуживания населения города Волог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Анкетирование людей пожилого возра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Сравнительный анализ работы отделения за 3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920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предполагаем, что социально-медицинское обслуживание на дому позволит более эффективно организовать социальную помощь, направленную на восстановление утраченных физических и психических способностей пожилых людей и может являться альтернативой определению их в стационарные учре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8000" y="1341360"/>
            <a:ext cx="8856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циальная защита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мплекс социально-экономических мер, проводимых государством и направленная на социальное обслуживание нетрудоспособных граж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циальное обслуживан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деятельность социальных служб по социальной поддержке, оказанию услуг и материальной помощи людям, находящихся в трудной жизненной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ход –это ориентированная на личность услуга , оказываемая нуждающемуся в уходе человеку в его разных жизненных ситуац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циальная поддержка – это вид социальной помощи, направленная на обеспечение граждан временно находящихся в трудной жизненной ситуации через услу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циальная помощь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одействие лицам, лишенных необходимых условий для нормальной жизни, оказание им поддержки и выражение им сочув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0920" y="3213000"/>
            <a:ext cx="8064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удная жизненная ситуация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ситуация объективно нарушающая жизнедеятельность гражданина, которую он не может преодолеть самостоятельно(инвалидность, болезнь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оциально - медицинское-обслуживание 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9640" y="1773000"/>
            <a:ext cx="81360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йствие в получении медицинской, правовой, социально-психологической и натуральной видов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йствие в организации ритуальных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6:37:47Z</dcterms:created>
  <dc:creator>Customer</dc:creator>
  <dc:description/>
  <dc:language>en-US</dc:language>
  <cp:lastModifiedBy>111</cp:lastModifiedBy>
  <dcterms:modified xsi:type="dcterms:W3CDTF">2003-03-18T23:39:18Z</dcterms:modified>
  <cp:revision>8</cp:revision>
  <dc:subject/>
  <dc:title>Слайд 1</dc:title>
</cp:coreProperties>
</file>