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18F-D909-4987-BCEB-6983B225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AB3-7513-4504-9A60-6360B12D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E64-1730-4FED-BDCB-0971F4FF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4DC-30AE-4B22-A5E6-A09556ED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8BD-9332-483E-97AB-2171F113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2840-C496-4985-B0A6-18FD8AA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E248-D88D-4588-BB6F-5827AFEF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518-530A-4866-A3EA-250A17A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AA2-DEFB-4497-960A-E20395B0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EB8-362C-4AD7-BD77-886082E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CB9F-1321-4076-A0F0-4A4F809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F6B-5829-43E7-9765-0A84A9B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684A-7E57-4C43-88EF-C22AC2C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7B99-55E1-4DE8-8E42-7C0076D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F4B5-1DCF-4279-9530-E2054A9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0FE0-6291-4F97-9464-6F7D8C0A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49C2-2A0F-41F0-B19F-5F85F104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0A2-4186-4C46-B6EB-425D9B9B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62C-D4D4-42AC-A195-FB4E357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B0A-A922-4ABF-BD6B-22F67F2E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23E-45F5-4ABF-9CE4-74C73432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A50-7E35-4B9A-B8BE-CB607F1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B93-F08C-42D3-9362-2FE84ED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30B-AC3D-47C7-8760-156F5BC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C04-BEC5-4EB1-B6CC-98655E3B2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EEF-25CA-4D03-A746-7E8CF3F317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ЦИАЛЬНАЯ  РЕАБИЛИТАЦИЯ ДЕТЕЙ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 НАРУШЕНИЕМ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ПОРНО-ДВИГАТЕЛЬНОГО АППАРАТА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НА ПРИМЕРЕ ДЕЯТЕЛЬНОСТИ СПЕЦИАЛИСТОВ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МУ СЗ «КОМПЛЕКСНЫЙ ЦЕНТР 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ЦИАЛЬНОГО ОБСЛУЖИВАНИЯ НАСЕЛЕНИЯ»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. КИЧМЕНГСКИЙ ГОРОДОК)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за исследов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ниципальное Учре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циальной Защи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Комплексный центр социального обслуживания насел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Кич – Город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тделение социального обслуживания на дому граждан пожилого возраста и инвалидов командой социальных работ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йствовать интеграции детей-инвалидов в общество, их социальной адаптации и развитию способно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держивать и укреплять  психологическое и физическое здоровье 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их  социокультурной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содействие в получени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Формировать у детей потребность в физическом совершенствовании, содействовать в осознании ими возможности целенаправленных занятий физической культурой, спо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консультативную 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в беспрепятственном доступе к информации и объектам социальной инфраструк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ециалисты от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работ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сихол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едицинская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нструктор по лечебной физкульту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циалисты других отделений и образовательных учрежд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циальный педаг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 дома детского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детской школы искус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музыкальной и воскресной шко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402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в проведенном исследовании приняло участие трое детей  с диагнозом детский церебральный пар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ровень интеллекта детей с ДЦП не у всех соответствует возрастной норм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1" descr="P1000208"/>
          <p:cNvPicPr/>
          <p:nvPr/>
        </p:nvPicPr>
        <p:blipFill>
          <a:blip r:embed="rId1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1000222"/>
          <p:cNvPicPr/>
          <p:nvPr/>
        </p:nvPicPr>
        <p:blipFill>
          <a:blip r:embed="rId2"/>
          <a:stretch/>
        </p:blipFill>
        <p:spPr>
          <a:xfrm>
            <a:off x="971640" y="4221000"/>
            <a:ext cx="3529080" cy="233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5940360" y="1052640"/>
            <a:ext cx="23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чень услуг, предоставляемых в «КЦСО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оставление транспорта для доставки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реждения для обучения, участ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ных мероприятиях, учрежд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равоохра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вне до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и обслуживан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рной комнате, кабинете ЛФК и масс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100_0381"/>
          <p:cNvPicPr/>
          <p:nvPr/>
        </p:nvPicPr>
        <p:blipFill>
          <a:blip r:embed="rId1"/>
          <a:stretch/>
        </p:blipFill>
        <p:spPr>
          <a:xfrm>
            <a:off x="900000" y="4292640"/>
            <a:ext cx="3527640" cy="2303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100_0743"/>
          <p:cNvPicPr/>
          <p:nvPr/>
        </p:nvPicPr>
        <p:blipFill>
          <a:blip r:embed="rId2"/>
          <a:stretch/>
        </p:blipFill>
        <p:spPr>
          <a:xfrm>
            <a:off x="5572080" y="1785960"/>
            <a:ext cx="3143160" cy="2093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3" descr="100_1724"/>
          <p:cNvPicPr/>
          <p:nvPr/>
        </p:nvPicPr>
        <p:blipFill>
          <a:blip r:embed="rId3"/>
          <a:stretch/>
        </p:blipFill>
        <p:spPr>
          <a:xfrm>
            <a:off x="550872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Содержимое 2"/>
          <p:cNvGraphicFramePr/>
          <p:nvPr/>
        </p:nvGraphicFramePr>
        <p:xfrm>
          <a:off x="468360" y="404640"/>
          <a:ext cx="8385120" cy="597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Содержимо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38512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педагогические услуги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организации обучения на дом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щь в выполнении домашнего зад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навыкам самообслужив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поведению в быту и общественных местах, самоконтролю, навыкам общения и другим форам жизне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нимационные услуги (посещение выставок, экскурсий, праздников и других культурных мероприятий)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олучении образования с учетом физических и умственных способност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1" descr="E:\Таня и Юля\P1000294.JPG"/>
          <p:cNvPicPr/>
          <p:nvPr/>
        </p:nvPicPr>
        <p:blipFill>
          <a:blip r:embed="rId1"/>
          <a:stretch/>
        </p:blipFill>
        <p:spPr>
          <a:xfrm>
            <a:off x="4932360" y="4076640"/>
            <a:ext cx="3297240" cy="2376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9" descr="100_0760"/>
          <p:cNvPicPr/>
          <p:nvPr/>
        </p:nvPicPr>
        <p:blipFill>
          <a:blip r:embed="rId2"/>
          <a:stretch/>
        </p:blipFill>
        <p:spPr>
          <a:xfrm>
            <a:off x="900000" y="4076640"/>
            <a:ext cx="33861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8"/>
          <p:cNvGraphicFramePr/>
          <p:nvPr/>
        </p:nvGraphicFramePr>
        <p:xfrm>
          <a:off x="539640" y="476280"/>
          <a:ext cx="820908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психологиче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ое консульт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коррек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енин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диагно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занятий в груп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е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9" descr="100_0748"/>
          <p:cNvPicPr/>
          <p:nvPr/>
        </p:nvPicPr>
        <p:blipFill>
          <a:blip r:embed="rId1"/>
          <a:stretch/>
        </p:blipFill>
        <p:spPr>
          <a:xfrm>
            <a:off x="5076720" y="2637000"/>
            <a:ext cx="360072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WScan00031"/>
          <p:cNvPicPr/>
          <p:nvPr/>
        </p:nvPicPr>
        <p:blipFill>
          <a:blip r:embed="rId2"/>
          <a:stretch/>
        </p:blipFill>
        <p:spPr>
          <a:xfrm>
            <a:off x="1258920" y="3789360"/>
            <a:ext cx="244944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 социальной реабилитации дете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 (ОДА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 специалистов по социальной работе, которая направлена на социальную реабилитацию детей с нарушением 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611280" y="549360"/>
          <a:ext cx="813744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81374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медицин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040" y="90756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ание санитарно – гигиенических услуг (стрижка ногтей причесыв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роведении медико-социальной экспертизы и получение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реабилитационных мероприятий социально медицинская характеристика в соответствии с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еспечение техническими средствами ухода и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рганизация лечебно- оздоровительных мероприятий (массаж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и занятия в тренажерной комна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клиентов в учреждения здравоохранения, образования, соц.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3311640" cy="2046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311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539640" y="549360"/>
          <a:ext cx="8136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136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жидаемый результа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Повышение само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Формирование адекватного отношения к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му физическому состоя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пенсаторных умений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муникативных навы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творческих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Активизация внутрен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нциала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Самореализация родителей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социальной значимости семь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ющей ребенка-инвал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731880" y="1195560"/>
            <a:ext cx="2206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тигну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езультат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ая само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ое отношение к своему физическому состоя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ренность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ось больше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ись планы на будущ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физического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оварного запаса, расширение кругозора (у детей с сохранным интеллекто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эмоционального самочув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9" descr="P1000191"/>
          <p:cNvPicPr/>
          <p:nvPr/>
        </p:nvPicPr>
        <p:blipFill>
          <a:blip r:embed="rId1"/>
          <a:stretch/>
        </p:blipFill>
        <p:spPr>
          <a:xfrm>
            <a:off x="6156360" y="2133720"/>
            <a:ext cx="2692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ы в работ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ставление транспортных услуг (загруженность транспорта, отсутствие оборудования машин специальными креслами и ремня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истов узкого профиля (логопе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 эффективное сотрудничество с учреждениями здравоохранения и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к методического обеспечения (литературы по работе с детьми с нарушениями О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ая загруженность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ьного образования у некоторых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ысокая оплата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существления транспортных услуг детям с нарушениями ОДА требуется предоставить отдельный специально оборудованный 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ение графика работы, в котором оговорено время подвоза детей к специалистам, и в первую очередь соблюдать интересы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чение к работе специалистов узкого профиля, например, логоп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специалистов методической литературой, в которой бы описывалась работа социальных работников, социального педагога, психолога, инструктора по лечебной физкультуре и медицинской сестры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времени работы специалистов с данной категорией детей  и достойная оплата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учебы для работников, не имеющих специального образования по работе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рытие реабилитационного отделения по работе с детьми- инвали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24000" y="-830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зучение деятельности специалистов Комплексного Центра социального обслуживания населения, которая направлена на социальную реабилитацию детей с нарушением опорно–двигательного аппарата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общую характеристику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изучить проблемы социальной реабилитации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характеристику социальной реабилитации детей с нарушением опорно–двигательного аппарата в деятельности социальных служб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* проанализировать и обобщить опыт работы специалистов Комплексного Центра социального обслуживания населения с. Кичменгский Городок, направленной на реабилитацию детей с нарушением опорно– двигательного аппарата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br>
              <a:rPr sz="54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етическ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 анализ литературы и систематизация информации по теме иссле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анализ документов, анкетиров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7"/>
          <p:cNvSpPr/>
          <p:nvPr/>
        </p:nvSpPr>
        <p:spPr>
          <a:xfrm>
            <a:off x="928800" y="260280"/>
            <a:ext cx="7429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поте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полагаем, что деятельность Комплексного Центра социального обслуживания населения, направленная на социальную реабилитацию детей с нарушением опорно– двигательного аппарата, должна отвечать следующим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ичие нормативно–правовых документов, регламентирующих дея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наличие и взаимодействие специалистов разного профи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циального работника, социального педагога, инструктора по лечебной физкультуре, психолога, медицинской сестр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наличие условий для работы специалис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снащённость, санитарно–гигиенические условия, методическое обеспечение, микроклима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) взаимодействие с семьями, в которых растут дети с нарушением опорно–двигательного аппарата, а также наличие и состояние информации о таких семьях и их потребн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алид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лицо, имеющее нарушение здоровья со стойким расстройством функций организма, обусловленное заболеваниями, последствиями травм или дефектами, приводящими к ограничению жизнедеятельности и вызывающее необходимость социальной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-инвали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лицо в возрасте до 18 лет, признанное в установленном порядке инвали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егории детей-инвали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с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м интеллектуального разви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омплексными нарушениями психофизическ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эмоционально-волевыми наруше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ая реабилитация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комплекс мер, направленных на повышение уровня функциональных  способностей в быту и социу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ы социальной реабили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достаточные формы социальной поддерж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рушение связей ребенка-инвалида  с окружающим ми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тсутствие спецшкол и реабилитационных цен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получения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неравенства возмож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чины нарушения 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вание нервной системы: детский церебральный паралич, полиомие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ожденная патолог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обретенные заболевания и поврежден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иальные услуги, предоставляемые детя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нарушением ОД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42960" y="2204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- прав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29:14Z</dcterms:created>
  <dc:creator>User</dc:creator>
  <dc:description/>
  <dc:language>en-US</dc:language>
  <cp:lastModifiedBy>Ната</cp:lastModifiedBy>
  <dcterms:modified xsi:type="dcterms:W3CDTF">2010-10-28T10:02:41Z</dcterms:modified>
  <cp:revision>41</cp:revision>
  <dc:subject/>
  <dc:title>Слайд 1</dc:title>
</cp:coreProperties>
</file>