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14.gif" ContentType="image/gif"/>
  <Override PartName="/ppt/media/image1.gif" ContentType="image/gif"/>
  <Override PartName="/ppt/media/image10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5.png" ContentType="image/png"/>
  <Override PartName="/ppt/media/image12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1902-5F41-4DF6-8588-97B6AC86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30E1-4ED8-40BB-B592-9F8BE9B6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37CE-7748-482A-8475-189E2DCC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D94F-1C9A-48E8-BCB4-14ED5CA3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81E2-CF6E-466B-943A-FF3C7D6B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2A85-58ED-47DD-BD66-EC2B230E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C54A-4548-4960-AC66-F8D5D253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2A83-56CB-47A5-96A6-16879C05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6867-4105-43BD-91BB-0694934E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1A1-8214-4116-8B4F-13C025B9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0C77-F266-417E-A562-C28FBE80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D393-B79F-4F7D-BC98-04C586BA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0E08-F085-4F45-BFE8-E9D9D45BC0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png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едм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835280" y="1197000"/>
            <a:ext cx="5761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інформати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24000" y="2637000"/>
            <a:ext cx="201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кладач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1979640" y="3500280"/>
            <a:ext cx="5761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34955" dir="18672881" blurRad="0" rotWithShape="0">
                    <a:srgbClr val="ffffcc"/>
                  </a:outerShdw>
                </a:effectLst>
                <a:latin typeface="Arial"/>
              </a:rPr>
              <a:t>Акімова Інеса Борисівн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34955" dir="18672881" blurRad="0" rotWithShape="0">
                  <a:srgbClr val="ffffcc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324000" y="4292640"/>
            <a:ext cx="2447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ідручн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826920" y="5300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1. Гаєвський А.Ю. Інформатика 7-11 кл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2. Зарецька Т.І. Інформатика 10-11 кл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3. Корнієнко М.М. Інформатика: Довідник для учнів та абітурієнт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483920"/>
            <a:ext cx="7499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Arial"/>
              </a:rPr>
              <a:t>Паперов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– книжки, газети, перфострічки, перфокар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Arial"/>
              </a:rPr>
              <a:t>Магніт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– диски, стрі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D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,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W,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DVD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,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агнітно-оптичні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анотехнології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APPOINT"/>
          <p:cNvPicPr/>
          <p:nvPr/>
        </p:nvPicPr>
        <p:blipFill>
          <a:blip r:embed="rId1"/>
          <a:stretch/>
        </p:blipFill>
        <p:spPr>
          <a:xfrm rot="1162200">
            <a:off x="927000" y="211284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Носії інформа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ringWHT"/>
          <p:cNvPicPr/>
          <p:nvPr/>
        </p:nvPicPr>
        <p:blipFill>
          <a:blip r:embed="rId2"/>
          <a:stretch/>
        </p:blipFill>
        <p:spPr>
          <a:xfrm rot="1203600">
            <a:off x="7596000" y="4221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EMAIL004"/>
          <p:cNvPicPr/>
          <p:nvPr/>
        </p:nvPicPr>
        <p:blipFill>
          <a:blip r:embed="rId3"/>
          <a:stretch/>
        </p:blipFill>
        <p:spPr>
          <a:xfrm rot="2021400">
            <a:off x="1692000" y="5157720"/>
            <a:ext cx="476280" cy="628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EMAIL10"/>
          <p:cNvPicPr/>
          <p:nvPr/>
        </p:nvPicPr>
        <p:blipFill>
          <a:blip r:embed="rId4"/>
          <a:stretch/>
        </p:blipFill>
        <p:spPr>
          <a:xfrm rot="1105800">
            <a:off x="6300360" y="515772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book_page_flip_md_wht"/>
          <p:cNvPicPr/>
          <p:nvPr/>
        </p:nvPicPr>
        <p:blipFill>
          <a:blip r:embed="rId5"/>
          <a:stretch/>
        </p:blipFill>
        <p:spPr>
          <a:xfrm rot="1153800">
            <a:off x="5866920" y="1988640"/>
            <a:ext cx="876600" cy="723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DISKMAN2"/>
          <p:cNvPicPr/>
          <p:nvPr/>
        </p:nvPicPr>
        <p:blipFill>
          <a:blip r:embed="rId6"/>
          <a:stretch/>
        </p:blipFill>
        <p:spPr>
          <a:xfrm>
            <a:off x="7164360" y="2565360"/>
            <a:ext cx="925560" cy="1162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carnac"/>
          <p:cNvPicPr/>
          <p:nvPr/>
        </p:nvPicPr>
        <p:blipFill>
          <a:blip r:embed="rId7"/>
          <a:stretch/>
        </p:blipFill>
        <p:spPr>
          <a:xfrm>
            <a:off x="971640" y="476280"/>
            <a:ext cx="76968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CD_DEMOS"/>
          <p:cNvPicPr/>
          <p:nvPr/>
        </p:nvPicPr>
        <p:blipFill>
          <a:blip r:embed="rId8"/>
          <a:stretch/>
        </p:blipFill>
        <p:spPr>
          <a:xfrm>
            <a:off x="7308720" y="765000"/>
            <a:ext cx="1200240" cy="428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0" descr="CD_MED"/>
          <p:cNvPicPr/>
          <p:nvPr/>
        </p:nvPicPr>
        <p:blipFill>
          <a:blip r:embed="rId9"/>
          <a:stretch/>
        </p:blipFill>
        <p:spPr>
          <a:xfrm>
            <a:off x="539640" y="35733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1" descr="cd_med_clr"/>
          <p:cNvPicPr/>
          <p:nvPr/>
        </p:nvPicPr>
        <p:blipFill>
          <a:blip r:embed="rId10"/>
          <a:stretch/>
        </p:blipFill>
        <p:spPr>
          <a:xfrm>
            <a:off x="684360" y="378936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2" descr="cd_sm_clr"/>
          <p:cNvPicPr/>
          <p:nvPr/>
        </p:nvPicPr>
        <p:blipFill>
          <a:blip r:embed="rId11"/>
          <a:stretch/>
        </p:blipFill>
        <p:spPr>
          <a:xfrm>
            <a:off x="611280" y="400680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Робота в гру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anylizing_computer"/>
          <p:cNvPicPr/>
          <p:nvPr/>
        </p:nvPicPr>
        <p:blipFill>
          <a:blip r:embed="rId1"/>
          <a:stretch/>
        </p:blipFill>
        <p:spPr>
          <a:xfrm>
            <a:off x="6804000" y="2421000"/>
            <a:ext cx="1851120" cy="2776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CLOCK"/>
          <p:cNvPicPr/>
          <p:nvPr/>
        </p:nvPicPr>
        <p:blipFill>
          <a:blip r:embed="rId2"/>
          <a:stretch/>
        </p:blipFill>
        <p:spPr>
          <a:xfrm>
            <a:off x="971640" y="2133720"/>
            <a:ext cx="1982520" cy="1935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468360" y="1341360"/>
            <a:ext cx="52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0066"/>
                </a:solidFill>
                <a:uFillTx/>
                <a:latin typeface="Arial"/>
              </a:rPr>
              <a:t>І група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Навести приклад отримання </a:t>
            </a: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повно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інформації. Розписати та пояснити спосіб та принцип отримання цієї інформації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564000" y="2421000"/>
            <a:ext cx="37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0066"/>
                </a:solidFill>
                <a:uFillTx/>
                <a:latin typeface="Arial"/>
              </a:rPr>
              <a:t>ІІ група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Навести приклад отримання </a:t>
            </a: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актуально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інформації. Розписати та пояснити спосіб та принцип отримання цієї інформації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68360" y="4005360"/>
            <a:ext cx="37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0066"/>
                </a:solidFill>
                <a:uFillTx/>
                <a:latin typeface="Arial"/>
              </a:rPr>
              <a:t>ІІІ група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Навести приклад отримання </a:t>
            </a: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корисно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інформації. Розписати та пояснити спосіб та принцип отримання цієї інформації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4356000" y="4724280"/>
            <a:ext cx="44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IV</a:t>
            </a:r>
            <a:r>
              <a:rPr b="0" lang="uk-UA" sz="1800" spc="-1" strike="noStrike" u="sng">
                <a:solidFill>
                  <a:srgbClr val="ff0066"/>
                </a:solidFill>
                <a:uFillTx/>
                <a:latin typeface="Arial"/>
              </a:rPr>
              <a:t> група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Навести приклад отримання </a:t>
            </a: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доступно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інформації. Розписати та пояснити спосіб та принцип отримання цієї інформац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403280" y="1413000"/>
            <a:ext cx="61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0066"/>
                </a:solidFill>
                <a:uFillTx/>
                <a:latin typeface="Arial"/>
              </a:rPr>
              <a:t>Варіант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писати ситуацію за принципом обміну інформаціє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чень готує реферат на урок історії Украї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332000" y="242100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0066"/>
                </a:solidFill>
                <a:uFillTx/>
                <a:latin typeface="Arial"/>
              </a:rPr>
              <a:t>Варіант 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писати ситуацію за принципом обміну інформаціє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оляр виготовляє стілець за замовленн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332000" y="350028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0066"/>
                </a:solidFill>
                <a:uFillTx/>
                <a:latin typeface="Arial"/>
              </a:rPr>
              <a:t>Варіант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писати ситуацію за принципом обміну інформаціє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конання лабораторної роботи учнем під керівництвом виклада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39640" y="4869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ЛІТЕРАТУРА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євський А.Ю. Інформатика 7-11 клас: стор. 5-11, 17-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рецька Т.І. Інформатика 10-11 клас: стор. 3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рнієнко М.М. Інформатика: Довідник для учнів та абітурієнтів: стор. 5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BD21303_"/>
          <p:cNvPicPr/>
          <p:nvPr/>
        </p:nvPicPr>
        <p:blipFill>
          <a:blip r:embed="rId1"/>
          <a:stretch/>
        </p:blipFill>
        <p:spPr>
          <a:xfrm>
            <a:off x="611280" y="4581360"/>
            <a:ext cx="4743360" cy="2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98984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Інформатика. Інформація і повідомлення. Інформаційні процеси. Носії інформації. Форми і способи подання інформації. Види інформації. Кодування повідомлень. Властивості інформації. Поняття про сучасні засоби зберігання та опрацювання інформації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71280" y="549360"/>
            <a:ext cx="33843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Тема уро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1125000"/>
            <a:ext cx="7416720" cy="446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0066"/>
                </a:solidFill>
                <a:latin typeface="Arial"/>
              </a:rPr>
              <a:t>Навчальна</a:t>
            </a: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сформулювати у учнів поняття про види та властивості інформації, про засоби обміну інформацією та її збереження.</a:t>
            </a:r>
            <a:br>
              <a:rPr sz="3000"/>
            </a:br>
            <a:r>
              <a:rPr b="0" i="1" lang="uk-UA" sz="3000" spc="-1" strike="noStrike">
                <a:solidFill>
                  <a:srgbClr val="ff0066"/>
                </a:solidFill>
                <a:latin typeface="Arial"/>
              </a:rPr>
              <a:t>Розвиваюча</a:t>
            </a: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розвивати просторове й логічне мислення, вміння робити висновки.</a:t>
            </a:r>
            <a:br>
              <a:rPr sz="3000"/>
            </a:br>
            <a:r>
              <a:rPr b="0" i="1" lang="uk-UA" sz="3000" spc="-1" strike="noStrike">
                <a:solidFill>
                  <a:srgbClr val="ff0066"/>
                </a:solidFill>
                <a:latin typeface="Arial"/>
              </a:rPr>
              <a:t>Виховна</a:t>
            </a: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виховати в учнів інтерес до предмету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5640" y="404640"/>
            <a:ext cx="1800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66"/>
                </a:solidFill>
                <a:latin typeface="Arial"/>
              </a:rPr>
              <a:t>Інформації та операцій над не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4"/>
          <p:cNvSpPr txBox="1"/>
          <p:nvPr/>
        </p:nvSpPr>
        <p:spPr>
          <a:xfrm>
            <a:off x="2268360" y="2060640"/>
            <a:ext cx="475164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Times New Roman"/>
              </a:rPr>
              <a:t>ІНФОРМАЦІ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3" name="WordArt 15"/>
          <p:cNvSpPr txBox="1"/>
          <p:nvPr/>
        </p:nvSpPr>
        <p:spPr>
          <a:xfrm>
            <a:off x="3708360" y="4653000"/>
            <a:ext cx="482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rbel"/>
              </a:rPr>
              <a:t>Повідомленн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rbel"/>
              <a:ea typeface="Corbel"/>
            </a:endParaRPr>
          </a:p>
        </p:txBody>
      </p:sp>
      <p:sp>
        <p:nvSpPr>
          <p:cNvPr id="54" name="AutoShape 17"/>
          <p:cNvSpPr/>
          <p:nvPr/>
        </p:nvSpPr>
        <p:spPr>
          <a:xfrm rot="7368600">
            <a:off x="2161080" y="3248640"/>
            <a:ext cx="1116000" cy="612720"/>
          </a:xfrm>
          <a:prstGeom prst="pie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1693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8"/>
          <p:cNvSpPr/>
          <p:nvPr/>
        </p:nvSpPr>
        <p:spPr>
          <a:xfrm rot="3357000">
            <a:off x="4955760" y="3319560"/>
            <a:ext cx="1440000" cy="868320"/>
          </a:xfrm>
          <a:prstGeom prst="pie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1554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19"/>
          <p:cNvSpPr txBox="1"/>
          <p:nvPr/>
        </p:nvSpPr>
        <p:spPr>
          <a:xfrm>
            <a:off x="1116000" y="4292640"/>
            <a:ext cx="223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rbel"/>
              </a:rPr>
              <a:t>Дані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rbel"/>
              <a:ea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12"/>
          <p:cNvSpPr/>
          <p:nvPr/>
        </p:nvSpPr>
        <p:spPr>
          <a:xfrm>
            <a:off x="755640" y="1773360"/>
            <a:ext cx="3457440" cy="1081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Принцип передачі інформа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826920" y="1484280"/>
            <a:ext cx="3446640" cy="1623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жерело інформ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476360" y="3645000"/>
            <a:ext cx="2087640" cy="9471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дуючий пристрі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796000" y="3213000"/>
            <a:ext cx="2305080" cy="9471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екодуючий пристрі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 rot="10800000">
            <a:off x="5363640" y="5157360"/>
            <a:ext cx="3457800" cy="1081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5364000" y="5013360"/>
            <a:ext cx="3448080" cy="138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держувач інформ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3"/>
          <p:cNvSpPr/>
          <p:nvPr/>
        </p:nvSpPr>
        <p:spPr>
          <a:xfrm rot="5400000">
            <a:off x="2230920" y="2961360"/>
            <a:ext cx="576000" cy="647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4"/>
          <p:cNvSpPr/>
          <p:nvPr/>
        </p:nvSpPr>
        <p:spPr>
          <a:xfrm rot="5400000">
            <a:off x="6768000" y="4401360"/>
            <a:ext cx="576360" cy="647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5"/>
          <p:cNvSpPr/>
          <p:nvPr/>
        </p:nvSpPr>
        <p:spPr>
          <a:xfrm>
            <a:off x="3780000" y="3357720"/>
            <a:ext cx="1800000" cy="1152360"/>
          </a:xfrm>
          <a:custGeom>
            <a:avLst/>
            <a:gdLst>
              <a:gd name="textAreaLeft" fmla="*/ 225000 w 1800000"/>
              <a:gd name="textAreaRight" fmla="*/ 1575000 w 1800000"/>
              <a:gd name="textAreaTop" fmla="*/ 288000 h 1152360"/>
              <a:gd name="textAreaBottom" fmla="*/ 864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в’яз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Інформаційні проце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1042920" y="1700280"/>
            <a:ext cx="381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000000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Times New Roman"/>
              </a:rPr>
              <a:t>Пошук інформації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50000">
                    <a:srgbClr val="000000"/>
                  </a:gs>
                  <a:gs pos="100000">
                    <a:srgbClr val="ff33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1908000" y="2492280"/>
            <a:ext cx="388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000000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Times New Roman"/>
              </a:rPr>
              <a:t>Обробка інформації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50000">
                    <a:srgbClr val="000000"/>
                  </a:gs>
                  <a:gs pos="100000">
                    <a:srgbClr val="ff33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2987640" y="3284640"/>
            <a:ext cx="3889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000000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Times New Roman"/>
              </a:rPr>
              <a:t>Передача інформації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50000">
                    <a:srgbClr val="000000"/>
                  </a:gs>
                  <a:gs pos="100000">
                    <a:srgbClr val="ff33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4067280" y="4149720"/>
            <a:ext cx="4249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000000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Times New Roman"/>
              </a:rPr>
              <a:t>Збереження інформації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50000">
                    <a:srgbClr val="000000"/>
                  </a:gs>
                  <a:gs pos="100000">
                    <a:srgbClr val="ff33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2" name="WordArt 8"/>
          <p:cNvSpPr txBox="1"/>
          <p:nvPr/>
        </p:nvSpPr>
        <p:spPr>
          <a:xfrm>
            <a:off x="5076720" y="5084640"/>
            <a:ext cx="3514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000000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Times New Roman"/>
              </a:rPr>
              <a:t>Захист інформації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50000">
                    <a:srgbClr val="000000"/>
                  </a:gs>
                  <a:gs pos="100000">
                    <a:srgbClr val="ff33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3" name="Picture 11" descr="ARROW"/>
          <p:cNvPicPr/>
          <p:nvPr/>
        </p:nvPicPr>
        <p:blipFill>
          <a:blip r:embed="rId1"/>
          <a:stretch/>
        </p:blipFill>
        <p:spPr>
          <a:xfrm>
            <a:off x="324000" y="1628640"/>
            <a:ext cx="647640" cy="631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ARROW"/>
          <p:cNvPicPr/>
          <p:nvPr/>
        </p:nvPicPr>
        <p:blipFill>
          <a:blip r:embed="rId2"/>
          <a:stretch/>
        </p:blipFill>
        <p:spPr>
          <a:xfrm>
            <a:off x="1116000" y="2492280"/>
            <a:ext cx="647640" cy="631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ARROW"/>
          <p:cNvPicPr/>
          <p:nvPr/>
        </p:nvPicPr>
        <p:blipFill>
          <a:blip r:embed="rId3"/>
          <a:stretch/>
        </p:blipFill>
        <p:spPr>
          <a:xfrm>
            <a:off x="2195640" y="3284640"/>
            <a:ext cx="647640" cy="631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ARROW"/>
          <p:cNvPicPr/>
          <p:nvPr/>
        </p:nvPicPr>
        <p:blipFill>
          <a:blip r:embed="rId4"/>
          <a:stretch/>
        </p:blipFill>
        <p:spPr>
          <a:xfrm>
            <a:off x="3276720" y="4076640"/>
            <a:ext cx="647640" cy="631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ARROW"/>
          <p:cNvPicPr/>
          <p:nvPr/>
        </p:nvPicPr>
        <p:blipFill>
          <a:blip r:embed="rId5"/>
          <a:stretch/>
        </p:blipFill>
        <p:spPr>
          <a:xfrm>
            <a:off x="4284720" y="5013360"/>
            <a:ext cx="64764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Властивості інформа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403280" y="1484280"/>
            <a:ext cx="65534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Повнот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ступінь уявлення про об’єкт інформації, яка необхідна для прийняття правильного ріш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403280" y="2852640"/>
            <a:ext cx="655344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орисність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максимально можлива користь, яку здатна дати інформація для досягнення м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403280" y="4148280"/>
            <a:ext cx="655344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Доступність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правдивість уявлень про джерело інформ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403280" y="5156280"/>
            <a:ext cx="655344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Актуальність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відповідальність інформації поточному моменту ча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Види інформа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1557360"/>
          <a:ext cx="8435880" cy="4032360"/>
        </p:xfrm>
        <a:graphic>
          <a:graphicData uri="http://schemas.openxmlformats.org/drawingml/2006/table">
            <a:tbl>
              <a:tblPr/>
              <a:tblGrid>
                <a:gridCol w="2597040"/>
                <a:gridCol w="2727360"/>
                <a:gridCol w="3111480"/>
              </a:tblGrid>
              <a:tr h="97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а способом сприйнятт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а способом відображе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а суспільним значення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зуа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діа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кти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юх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ак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ич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іч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бінов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іа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boy_math_md_wht"/>
          <p:cNvPicPr/>
          <p:nvPr/>
        </p:nvPicPr>
        <p:blipFill>
          <a:blip r:embed="rId1"/>
          <a:stretch/>
        </p:blipFill>
        <p:spPr>
          <a:xfrm>
            <a:off x="1979640" y="105264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Вимірювання інформа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1 Байт = 8 бі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1 Кіло байт (Кб) = 1024 бай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1 Гіга байт (Гб) = 1024 Кбай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1 Тера байт (Тб) = 1024 Гбай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4:28:01Z</dcterms:created>
  <dc:creator>Computer</dc:creator>
  <dc:description/>
  <dc:language>en-US</dc:language>
  <cp:lastModifiedBy>www.PHILka.RU</cp:lastModifiedBy>
  <dcterms:modified xsi:type="dcterms:W3CDTF">2009-09-18T09:03:19Z</dcterms:modified>
  <cp:revision>2</cp:revision>
  <dc:subject/>
  <dc:title>Інформатика. Інформація і повідомлення. Інформаційні процеси. Носії інформації. Форми і способи подання інформації. Види інформації. Інформація і шум та їх взаємоперетворення. Кодування повідомлень за допомогою яких передається інформація. Властивості інформації. Інформаційні процеси: пошук, зберігання, збирання, опрацювання, подання, передавання, використання, захист інформації. Поняття про сучасні засоби зберігання та опрацювання інформації.</dc:title>
</cp:coreProperties>
</file>