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570-7D2F-4EF8-87E3-686022EC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B99-3F98-4812-99A1-C3C803F1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9C5-9E1F-499B-8941-7C69B760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84A-B10B-405B-92CE-212FB0F1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FDE-FFDD-41B5-B945-2B641E9F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BF6-E1A4-4E23-92B4-BD6CF873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87F-F961-4189-902C-33E96623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86A-56CF-44F8-A3E9-096B874A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68D-F067-4A00-BABF-0FEE6DC3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D38-8051-4508-AA3F-261B6246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82D-1660-44EC-8EEC-A53A77BA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956-2B2F-4BFA-BB95-58255D12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A991-D4EA-439B-B0A4-ACAF67C62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дм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835280" y="1197000"/>
            <a:ext cx="576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інформати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24000" y="2637000"/>
            <a:ext cx="201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лада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1979640" y="3500280"/>
            <a:ext cx="57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34955" dir="18672881" blurRad="0" rotWithShape="0">
                    <a:srgbClr val="ffffcc"/>
                  </a:outerShdw>
                </a:effectLst>
                <a:latin typeface="Arial"/>
              </a:rPr>
              <a:t>Акімова Інеса Борисів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34955" dir="18672881" blurRad="0" rotWithShape="0">
                  <a:srgbClr val="ffffcc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24000" y="4292640"/>
            <a:ext cx="244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ідру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826920" y="5300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1. Гаєвський А.Ю. Інформатика 7-11 к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2. Зарецька Т.І. Інформатика 10-11 кл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3. Корнієнко М.М. Інформатика: Довідник для учнів та абітурієн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7499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Паперов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книжки, газети, перфострічки, перфока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Магнітн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диски, стрі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W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V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,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агнітно-оптичн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нотехнологі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APPOINT"/>
          <p:cNvPicPr/>
          <p:nvPr/>
        </p:nvPicPr>
        <p:blipFill>
          <a:blip r:embed="rId1"/>
          <a:stretch/>
        </p:blipFill>
        <p:spPr>
          <a:xfrm rot="1162200">
            <a:off x="927000" y="211284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Носії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ringWHT"/>
          <p:cNvPicPr/>
          <p:nvPr/>
        </p:nvPicPr>
        <p:blipFill>
          <a:blip r:embed="rId2"/>
          <a:stretch/>
        </p:blipFill>
        <p:spPr>
          <a:xfrm rot="1203600">
            <a:off x="7596000" y="422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EMAIL004"/>
          <p:cNvPicPr/>
          <p:nvPr/>
        </p:nvPicPr>
        <p:blipFill>
          <a:blip r:embed="rId3"/>
          <a:stretch/>
        </p:blipFill>
        <p:spPr>
          <a:xfrm rot="2021400">
            <a:off x="1692000" y="5157720"/>
            <a:ext cx="476280" cy="628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MAIL10"/>
          <p:cNvPicPr/>
          <p:nvPr/>
        </p:nvPicPr>
        <p:blipFill>
          <a:blip r:embed="rId4"/>
          <a:stretch/>
        </p:blipFill>
        <p:spPr>
          <a:xfrm rot="1105800">
            <a:off x="6300360" y="5157720"/>
            <a:ext cx="142884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ook_page_flip_md_wht"/>
          <p:cNvPicPr/>
          <p:nvPr/>
        </p:nvPicPr>
        <p:blipFill>
          <a:blip r:embed="rId5"/>
          <a:stretch/>
        </p:blipFill>
        <p:spPr>
          <a:xfrm rot="1153800">
            <a:off x="5866920" y="1988640"/>
            <a:ext cx="876600" cy="723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DISKMAN2"/>
          <p:cNvPicPr/>
          <p:nvPr/>
        </p:nvPicPr>
        <p:blipFill>
          <a:blip r:embed="rId6"/>
          <a:stretch/>
        </p:blipFill>
        <p:spPr>
          <a:xfrm>
            <a:off x="7164360" y="2565360"/>
            <a:ext cx="925560" cy="1162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arnac"/>
          <p:cNvPicPr/>
          <p:nvPr/>
        </p:nvPicPr>
        <p:blipFill>
          <a:blip r:embed="rId7"/>
          <a:stretch/>
        </p:blipFill>
        <p:spPr>
          <a:xfrm>
            <a:off x="971640" y="476280"/>
            <a:ext cx="76968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CD_DEMOS"/>
          <p:cNvPicPr/>
          <p:nvPr/>
        </p:nvPicPr>
        <p:blipFill>
          <a:blip r:embed="rId8"/>
          <a:stretch/>
        </p:blipFill>
        <p:spPr>
          <a:xfrm>
            <a:off x="7308720" y="765000"/>
            <a:ext cx="1200240" cy="4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CD_MED"/>
          <p:cNvPicPr/>
          <p:nvPr/>
        </p:nvPicPr>
        <p:blipFill>
          <a:blip r:embed="rId9"/>
          <a:stretch/>
        </p:blipFill>
        <p:spPr>
          <a:xfrm>
            <a:off x="539640" y="35733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cd_med_clr"/>
          <p:cNvPicPr/>
          <p:nvPr/>
        </p:nvPicPr>
        <p:blipFill>
          <a:blip r:embed="rId10"/>
          <a:stretch/>
        </p:blipFill>
        <p:spPr>
          <a:xfrm>
            <a:off x="684360" y="37893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cd_sm_clr"/>
          <p:cNvPicPr/>
          <p:nvPr/>
        </p:nvPicPr>
        <p:blipFill>
          <a:blip r:embed="rId11"/>
          <a:stretch/>
        </p:blipFill>
        <p:spPr>
          <a:xfrm>
            <a:off x="611280" y="4006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ота в гру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nylizing_computer"/>
          <p:cNvPicPr/>
          <p:nvPr/>
        </p:nvPicPr>
        <p:blipFill>
          <a:blip r:embed="rId1"/>
          <a:stretch/>
        </p:blipFill>
        <p:spPr>
          <a:xfrm>
            <a:off x="6804000" y="2421000"/>
            <a:ext cx="1851120" cy="277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LOCK"/>
          <p:cNvPicPr/>
          <p:nvPr/>
        </p:nvPicPr>
        <p:blipFill>
          <a:blip r:embed="rId2"/>
          <a:stretch/>
        </p:blipFill>
        <p:spPr>
          <a:xfrm>
            <a:off x="971640" y="2133720"/>
            <a:ext cx="1982520" cy="1935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468360" y="134136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пов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64000" y="242100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актуаль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68360" y="4005360"/>
            <a:ext cx="37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ІІІ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корис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356000" y="4724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IV</a:t>
            </a: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 група: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Навести приклад отримання 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доступно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інформації. Розписати та пояснити спосіб та принцип отримання цієї інформ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03280" y="1413000"/>
            <a:ext cx="61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чень готує реферат на урок історії Украї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332000" y="242100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 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оляр виготовляє стілець за замовленн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332000" y="35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0066"/>
                </a:solidFill>
                <a:uFillTx/>
                <a:latin typeface="Arial"/>
              </a:rPr>
              <a:t>Варіант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писати ситуацію за принципом обміну інформаціє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конання лабораторної роботи учнем під керівництвом виклад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640" y="486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ЛІТЕРАТУР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аєвський А.Ю. Інформатика 7-11 клас: стор. 5-11, 17-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ецька Т.І. Інформатика 10-11 клас: стор. 3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рнієнко М.М. Інформатика: Довідник для учнів та абітурієнтів: стор. 5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BD21303_"/>
          <p:cNvPicPr/>
          <p:nvPr/>
        </p:nvPicPr>
        <p:blipFill>
          <a:blip r:embed="rId1"/>
          <a:stretch/>
        </p:blipFill>
        <p:spPr>
          <a:xfrm>
            <a:off x="611280" y="4581360"/>
            <a:ext cx="4743360" cy="2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898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нформатика. Інформація і повідомлення. Інформаційні процеси. Носії інформації. Форми і способи подання інформації. Види інформації. Кодування повідомлень. Властивості інформації. Поняття про сучасні засоби зберігання та опрацювання інформації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549360"/>
            <a:ext cx="3384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Тема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1125000"/>
            <a:ext cx="7416720" cy="44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Навчальн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сформулювати у учнів поняття про види та властивості інформації, про засоби обміну інформацією та її збереження.</a:t>
            </a:r>
            <a:br>
              <a:rPr sz="3000"/>
            </a:b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Розвиваюч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озвивати просторове й логічне мислення, вміння робити висновки.</a:t>
            </a:r>
            <a:br>
              <a:rPr sz="3000"/>
            </a:br>
            <a:r>
              <a:rPr b="0" i="1" lang="uk-UA" sz="3000" spc="-1" strike="noStrike">
                <a:solidFill>
                  <a:srgbClr val="ff0066"/>
                </a:solidFill>
                <a:latin typeface="Arial"/>
              </a:rPr>
              <a:t>Виховна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иховати в учнів інтерес до предмет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5640" y="404640"/>
            <a:ext cx="1800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Інформації та операцій над не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2268360" y="2060640"/>
            <a:ext cx="475164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Times New Roman"/>
              </a:rPr>
              <a:t>ІНФОРМАЦІ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3708360" y="465300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rbel"/>
              </a:rPr>
              <a:t>Повідомленн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rbel"/>
              <a:ea typeface="Corbel"/>
            </a:endParaRPr>
          </a:p>
        </p:txBody>
      </p:sp>
      <p:sp>
        <p:nvSpPr>
          <p:cNvPr id="54" name="AutoShape 17"/>
          <p:cNvSpPr/>
          <p:nvPr/>
        </p:nvSpPr>
        <p:spPr>
          <a:xfrm rot="7368600">
            <a:off x="2161080" y="3248640"/>
            <a:ext cx="1116000" cy="61272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693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 rot="3357000">
            <a:off x="4955760" y="3319560"/>
            <a:ext cx="1440000" cy="86832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1554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9"/>
          <p:cNvSpPr txBox="1"/>
          <p:nvPr/>
        </p:nvSpPr>
        <p:spPr>
          <a:xfrm>
            <a:off x="1116000" y="429264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rbel"/>
              </a:rPr>
              <a:t>Дані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rbel"/>
              <a:ea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12"/>
          <p:cNvSpPr/>
          <p:nvPr/>
        </p:nvSpPr>
        <p:spPr>
          <a:xfrm>
            <a:off x="755640" y="1773360"/>
            <a:ext cx="3457440" cy="1081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Принцип передачі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826920" y="1484280"/>
            <a:ext cx="3446640" cy="162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жерело інформ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76360" y="3645000"/>
            <a:ext cx="2087640" cy="9471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дуючий пристр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796000" y="3213000"/>
            <a:ext cx="2305080" cy="9471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кодуючий пристрі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 rot="10800000">
            <a:off x="5363640" y="5157360"/>
            <a:ext cx="3457800" cy="10810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5364000" y="5013360"/>
            <a:ext cx="3448080" cy="138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ержувач інформ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 rot="5400000">
            <a:off x="2230920" y="2961360"/>
            <a:ext cx="576000" cy="647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 rot="5400000">
            <a:off x="6768000" y="4401360"/>
            <a:ext cx="576360" cy="647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3780000" y="3357720"/>
            <a:ext cx="1800000" cy="1152360"/>
          </a:xfrm>
          <a:custGeom>
            <a:avLst/>
            <a:gdLst>
              <a:gd name="textAreaLeft" fmla="*/ 225000 w 1800000"/>
              <a:gd name="textAreaRight" fmla="*/ 1575000 w 180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в’я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Інформаційні проц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1042920" y="1700280"/>
            <a:ext cx="38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Пошук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1908000" y="2492280"/>
            <a:ext cx="388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Обробка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2987640" y="328464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Передача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4067280" y="4149720"/>
            <a:ext cx="424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Збереження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5076720" y="5084640"/>
            <a:ext cx="3514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000000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Times New Roman"/>
              </a:rPr>
              <a:t>Захист інформаці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000000"/>
                  </a:gs>
                  <a:gs pos="100000">
                    <a:srgbClr val="ff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3" name="Picture 11" descr="ARROW"/>
          <p:cNvPicPr/>
          <p:nvPr/>
        </p:nvPicPr>
        <p:blipFill>
          <a:blip r:embed="rId1"/>
          <a:stretch/>
        </p:blipFill>
        <p:spPr>
          <a:xfrm>
            <a:off x="324000" y="1628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ARROW"/>
          <p:cNvPicPr/>
          <p:nvPr/>
        </p:nvPicPr>
        <p:blipFill>
          <a:blip r:embed="rId2"/>
          <a:stretch/>
        </p:blipFill>
        <p:spPr>
          <a:xfrm>
            <a:off x="1116000" y="249228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RROW"/>
          <p:cNvPicPr/>
          <p:nvPr/>
        </p:nvPicPr>
        <p:blipFill>
          <a:blip r:embed="rId3"/>
          <a:stretch/>
        </p:blipFill>
        <p:spPr>
          <a:xfrm>
            <a:off x="2195640" y="3284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ARROW"/>
          <p:cNvPicPr/>
          <p:nvPr/>
        </p:nvPicPr>
        <p:blipFill>
          <a:blip r:embed="rId4"/>
          <a:stretch/>
        </p:blipFill>
        <p:spPr>
          <a:xfrm>
            <a:off x="3276720" y="4076640"/>
            <a:ext cx="647640" cy="631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ARROW"/>
          <p:cNvPicPr/>
          <p:nvPr/>
        </p:nvPicPr>
        <p:blipFill>
          <a:blip r:embed="rId5"/>
          <a:stretch/>
        </p:blipFill>
        <p:spPr>
          <a:xfrm>
            <a:off x="4284720" y="5013360"/>
            <a:ext cx="6476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ластивості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403280" y="1484280"/>
            <a:ext cx="6553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Повно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ступінь уявлення про об’єкт інформації, яка необхідна для прийняття правильного ріш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03280" y="2852640"/>
            <a:ext cx="655344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орис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максимально можлива користь, яку здатна дати інформація для досягнення м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403280" y="4148280"/>
            <a:ext cx="655344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Доступ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правдивість уявлень про джерело інформ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403280" y="5156280"/>
            <a:ext cx="65534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Актуальн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відповідальність інформації поточному моменту ч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иди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557360"/>
          <a:ext cx="8435880" cy="4032360"/>
        </p:xfrm>
        <a:graphic>
          <a:graphicData uri="http://schemas.openxmlformats.org/drawingml/2006/table">
            <a:tbl>
              <a:tblPr/>
              <a:tblGrid>
                <a:gridCol w="2597040"/>
                <a:gridCol w="2727360"/>
                <a:gridCol w="3111480"/>
              </a:tblGrid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пособом сприйнят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пособом відображе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 суспільним значення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зу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ді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ти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юх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к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ич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іч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інов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ь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oy_math_md_wht"/>
          <p:cNvPicPr/>
          <p:nvPr/>
        </p:nvPicPr>
        <p:blipFill>
          <a:blip r:embed="rId1"/>
          <a:stretch/>
        </p:blipFill>
        <p:spPr>
          <a:xfrm>
            <a:off x="1979640" y="1052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Вимірювання інформа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Байт = 8 бі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Кіло байт (Кб) = 1024 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Гіга байт (Гб) = 1024 Кбай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Arial"/>
              </a:rPr>
              <a:t>1 Тера байт (Тб) = 1024 Гбай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28:01Z</dcterms:created>
  <dc:creator>Computer</dc:creator>
  <dc:description/>
  <dc:language>en-US</dc:language>
  <cp:lastModifiedBy>www.PHILka.RU</cp:lastModifiedBy>
  <dcterms:modified xsi:type="dcterms:W3CDTF">2009-09-18T09:03:19Z</dcterms:modified>
  <cp:revision>2</cp:revision>
  <dc:subject/>
  <dc:title>Інформатика. Інформація і повідомлення. Інформаційні процеси. Носії інформації. Форми і способи подання інформації. Види інформації. Інформація і шум та їх взаємоперетворення. Кодування повідомлень за допомогою яких передається інформація. Властивості інформації. Інформаційні процеси: пошук, зберігання, збирання, опрацювання, подання, передавання, використання, захист інформації. Поняття про сучасні засоби зберігання та опрацювання інформації.</dc:title>
</cp:coreProperties>
</file>