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3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jpeg" ContentType="image/jpeg"/>
  <Override PartName="/ppt/media/image12.jpeg" ContentType="image/jpeg"/>
  <Override PartName="/ppt/media/image19.png" ContentType="image/png"/>
  <Override PartName="/ppt/media/image1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wmf" ContentType="image/x-wmf"/>
  <Override PartName="/ppt/media/image2.wmf" ContentType="image/x-wmf"/>
  <Override PartName="/ppt/media/image5.jpeg" ContentType="image/jpeg"/>
  <Override PartName="/ppt/media/image9.wmf" ContentType="image/x-wmf"/>
  <Override PartName="/ppt/media/image14.png" ContentType="image/png"/>
  <Override PartName="/ppt/media/image8.png" ContentType="image/png"/>
  <Override PartName="/ppt/media/image7.jpeg" ContentType="image/jpeg"/>
  <Override PartName="/ppt/media/image20.png" ContentType="image/pn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648E4-137D-46D9-B7ED-0261418084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031DC-197C-4CE7-98BC-F98B6952FC9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AD2E-B252-48A5-B0D5-82A4C108E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E081-7CBB-483F-A502-268503A8B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825D-D566-4022-946A-4BB974170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453D-FD1E-4121-89E4-3C12780C8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D191A-5F4D-40DD-8CEF-0188133C2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0DB1E-15B2-4FBE-9592-CBAA22DE8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92F65-14FD-40C2-8843-F53B85D3C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FBB93-2B7E-48C2-9918-9A2D7B64C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AA908-DC9B-436C-A508-E669161C8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40799-8BD1-4ED0-A285-0FF23C6CC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F29CD-146C-4A54-844D-C8087B84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5BB7-ECF5-4E10-9D18-DC5A9468E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DBE33-1F0F-469F-9F16-AE2774E0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BB98F-D739-4389-90DE-83C1042E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E665A-04D2-4550-BD71-536C0BD33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1D080-0A73-48B5-BCF4-A40317C74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B4EF1-58C5-4235-9CF0-35FD3B93B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4973D9-D400-42AD-BDCA-18B4B1ED9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90C28C-425C-448D-B5C2-B84C2A5F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E9CBB7-DF22-471D-8865-2EC0560E2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2A6B91-A82E-4636-B362-B62C7FD7E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64C160-2E4A-4134-AAA7-53AF0908D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99A7-FCB3-4FB4-A1DE-413FA6C56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F44014-67C2-41F3-87B6-3E4AF0414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86E02D-289B-4404-80E1-F31CB981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23FD7B-F870-4B2F-A3DC-EB33C806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8E67EA-8A87-492E-8827-BB6CB4BA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90E97F-D686-4633-897B-092B4EB47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D492BD-B9FB-4DF7-978A-A120643C7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3C209A-F025-4CFB-B616-E55FD6E76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E66CE-AB84-4B73-A34B-FAC54B2DD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E0F08-DE03-4C4E-8AED-6D7277780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D3E80-08E9-448A-8633-401C47FC8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151C-E98C-438A-AFB0-E29FAAD61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588EC-0D10-42B0-8D01-F6620CF3B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730AF-2456-4E97-95F7-22EF807FF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9043F-FF29-4F01-B8C3-80C2D0C33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5F781-4E56-4ED7-8D90-15CFAD1C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48411-D991-4402-A7F2-417A1A7D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E8CA7-2AAD-4641-BA41-A364DD88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32277-6844-4ACA-977C-5ED21010A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170B4-0EF7-45B5-8723-26FC25F5F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DA1B7-FE6B-403E-B311-614ECE575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71B53-D04C-45B8-80DF-6A7FC6251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1E45-4052-4610-B5C9-72D242796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137BB-2E92-4F9D-9EBF-817ADE92B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0986E-7225-47CE-AC1D-6B761A8CA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3F8BD-F670-436B-8B4F-DDB964464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E4809-7D0B-4751-9E63-EAA22E20B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37750-6317-4044-B069-F47D2B85B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F033E-9CC9-4074-A641-A0E41EBF4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3CC29-910F-4386-B825-89FA94C0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51DE1-A37F-4C7F-89BD-BAFDE03B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7E1F7-532A-49B3-AC52-8B4C5B35D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9D883-ED65-4267-9B17-78D96284E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ECCB-6577-4207-94B2-5DBB7F741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907BD-F286-474E-9FBE-C6E20674F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C861E-A81B-4E36-8915-AAFC73ACB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F4E8FF-7C41-432C-B05C-F73BD445E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D2AB2-0FC8-43C0-A67A-BCFCA54AF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A4A80D-B132-4A37-A470-CCE4CA2A5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DDEC9-D077-4859-BE2F-E4B5D121B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5A8BAB-DD73-4BF0-8399-48EAA552E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7DB14-E526-4655-8EEB-C08E63D0D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C5AA0-5B4C-48F1-8E95-78977153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D5FDB-9DB8-435A-BB96-07E8DD82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BE8B-CF6A-4833-A51B-B154B87A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5E793-CD85-4979-97E2-B22624F69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BDB94-1039-47BD-802B-B4468BFD4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981B9-1DCF-4770-BE55-202D6B18A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5B764-ED32-4417-868D-734FF3F09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C493F-1427-4094-9DBF-5745BBED7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56B6C-415B-4673-91E5-3C402D7D2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902C32-3880-4948-8768-89578F2CD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258A5-D555-4B3C-8207-03E77004F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F5955D-0A85-4C09-BD92-14213D5ED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03495B-7A4A-4362-BE97-1A672DB9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5BD5-4774-4974-9B4E-AEF2EF75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FB5917-12D6-40B0-9FCB-A98A1BAF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BFD04-07FB-4E1F-A652-A52C993B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95A03-04E9-4118-9FF4-FB386B96E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7D2C4-13E7-4F87-B58F-774B05105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86281-0DF8-42B0-B836-2FE61706B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B8C7B4-136A-4FC5-B69F-303855AAE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B012A-2979-4482-839D-6BB67EF8E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2DBBA6-65EA-4AF2-A9D1-C1BC247E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9A964E-E0F3-48E2-96FB-2FF4F9550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A90A0B-0A43-418F-9405-AD0CB6E62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BD45-90B0-427A-B001-AADCEDCA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8C8200-E679-4F2C-9801-B1ADF8B98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DAC6AF-C0DD-4063-8BB2-72B65E97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A1C64D-050B-41AF-9F5C-1126B65D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15E7E1-1FF1-49BF-96CF-A6C6BA27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2E0D6-64EC-4811-99BC-C98FB8357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DB9E6F-9BAA-478E-8462-BBABA8408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3B4168-40B4-4EAD-A56C-A88348E82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8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85C4B-ADB6-4CCC-9A27-8D9FFCB4EF1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6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6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7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9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1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2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A2AB7-46A4-41A9-876E-578ACBD5B0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AD223-1C3C-4527-8A28-59307EF6FC6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8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18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578AC-58F5-499C-AA43-83A5165AB4C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6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8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9F86A-1443-4EBC-A20D-A08B5B8CA34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22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3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24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36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5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2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73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80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81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3F296-079C-4260-BFB4-EAD57BDA3E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7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9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30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E0C26-D774-4B7A-B72B-46C683BDF0A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82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B125-64D3-47E0-9E58-82BF7E30310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424720" cy="44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cc"/>
                </a:solidFill>
                <a:latin typeface="Monotype Corsiva"/>
              </a:rPr>
              <a:t>Поражения </a:t>
            </a:r>
            <a:br>
              <a:rPr sz="6600"/>
            </a:br>
            <a:r>
              <a:rPr b="1" lang="ru-RU" sz="6600" spc="-1" strike="noStrike">
                <a:solidFill>
                  <a:srgbClr val="ffffcc"/>
                </a:solidFill>
                <a:latin typeface="Monotype Corsiva"/>
              </a:rPr>
              <a:t>желудочно-кишечного тракта, вызванные паразитами</a:t>
            </a:r>
            <a:r>
              <a:rPr b="1" lang="ru-RU" sz="5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533" name="Picture 9" descr="j0240719"/>
          <p:cNvPicPr/>
          <p:nvPr/>
        </p:nvPicPr>
        <p:blipFill>
          <a:blip r:embed="rId1"/>
          <a:stretch/>
        </p:blipFill>
        <p:spPr>
          <a:xfrm>
            <a:off x="611280" y="4292640"/>
            <a:ext cx="1438200" cy="225900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10" descr="109309801542242de1ae828"/>
          <p:cNvPicPr/>
          <p:nvPr/>
        </p:nvPicPr>
        <p:blipFill>
          <a:blip r:embed="rId2"/>
          <a:stretch/>
        </p:blipFill>
        <p:spPr>
          <a:xfrm>
            <a:off x="6877080" y="476280"/>
            <a:ext cx="1897200" cy="181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6" descr="resC4E8D078-0A01-022A-00E8-24FD3C667FD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cc0066"/>
                </a:solidFill>
                <a:latin typeface="Monotype Corsiva"/>
              </a:rPr>
              <a:t>Общественная профилактик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анитарно – просветительская работа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борьба с моллюсками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етеринарные мероприятия, связанные с оздоровлением животны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cc"/>
                </a:solidFill>
                <a:latin typeface="Monotype Corsiva"/>
              </a:rPr>
              <a:t>Тениаринхоз</a:t>
            </a:r>
            <a:endParaRPr b="1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140000" y="1599840"/>
            <a:ext cx="4546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Тип: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lathelmint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Класс: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esto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Род и вид: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aeniarhynchus saginatus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3" name="Picture 6" descr="цепень"/>
          <p:cNvPicPr/>
          <p:nvPr/>
        </p:nvPicPr>
        <p:blipFill>
          <a:blip r:embed="rId1"/>
          <a:stretch/>
        </p:blipFill>
        <p:spPr>
          <a:xfrm>
            <a:off x="179280" y="2205000"/>
            <a:ext cx="388800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350"/>
                            </p:stCondLst>
                            <p:childTnLst>
                              <p:par>
                                <p:cTn id="12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450"/>
                            </p:stCondLst>
                            <p:childTnLst>
                              <p:par>
                                <p:cTn id="13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660066"/>
                </a:solidFill>
                <a:latin typeface="Monotype Corsiva"/>
              </a:rPr>
              <a:t>Диагност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точного диагноза необходимо обнаружение в фекалиях зрелых члеников  и  подсчёт количества боковых ветвей мат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йца нельзя отличить от яиц свиного цепн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е покупать мяса, не прошедшего экспертизу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е употреблять в пищу плохо проваренного или прожаренного мяс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cc0066"/>
                </a:solidFill>
                <a:latin typeface="Monotype Corsiva"/>
              </a:rPr>
              <a:t>Личная профилактика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68" name="Picture 12" descr="ULITKa_o"/>
          <p:cNvPicPr/>
          <p:nvPr/>
        </p:nvPicPr>
        <p:blipFill>
          <a:blip r:embed="rId1"/>
          <a:stretch/>
        </p:blipFill>
        <p:spPr>
          <a:xfrm>
            <a:off x="4643280" y="4221000"/>
            <a:ext cx="262584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cc0066"/>
                </a:solidFill>
                <a:latin typeface="Monotype Corsiva"/>
              </a:rPr>
              <a:t>Общественная профилактик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70" name="Picture 4" descr="j0149627"/>
          <p:cNvPicPr/>
          <p:nvPr/>
        </p:nvPicPr>
        <p:blipFill>
          <a:blip r:embed="rId1"/>
          <a:stretch/>
        </p:blipFill>
        <p:spPr>
          <a:xfrm>
            <a:off x="4319640" y="3429000"/>
            <a:ext cx="4824360" cy="3429000"/>
          </a:xfrm>
          <a:prstGeom prst="rect">
            <a:avLst/>
          </a:prstGeom>
          <a:ln w="0">
            <a:noFill/>
          </a:ln>
        </p:spPr>
      </p:pic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4358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мероприятия, предупреждающие заражение крупного рогатого скота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выявление и лечение больных, особенно работающих в животноводстве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постройка уборных, не позволяющих скоту иметь доступ к фекалиям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охрана территории от загрязнения фекалиями человека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мероприятия, направленные на предупреждение заражения человека, - организация ветеринарной экспертизы, осмотр туш рогатого скота на мясокомбинатах, бойнях, рынках с последующей выбраковк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cc"/>
                </a:solidFill>
                <a:latin typeface="Monotype Corsiva"/>
              </a:rPr>
              <a:t>Трихоцефалез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284720" y="1628640"/>
            <a:ext cx="4470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Тип: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emathelmint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Класс: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emato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Род и вид: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richocephalus trichiuru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4" name="Picture 7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3333600" cy="41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50"/>
                            </p:stCondLst>
                            <p:childTnLst>
                              <p:par>
                                <p:cTn id="16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450"/>
                            </p:stCondLst>
                            <p:childTnLst>
                              <p:par>
                                <p:cTn id="16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600"/>
                            </p:stCondLst>
                            <p:childTnLst>
                              <p:par>
                                <p:cTn id="17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147160" cy="13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Times New Roman"/>
              </a:rPr>
              <a:t>Жизненный цикл </a:t>
            </a:r>
            <a:br>
              <a:rPr sz="4800"/>
            </a:br>
            <a:r>
              <a:rPr b="1" lang="ru-RU" sz="4800" spc="-1" strike="noStrike">
                <a:solidFill>
                  <a:srgbClr val="ffffcc"/>
                </a:solidFill>
                <a:latin typeface="Times New Roman"/>
              </a:rPr>
              <a:t>власоглава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576" name="Picture 7" descr=""/>
          <p:cNvPicPr/>
          <p:nvPr/>
        </p:nvPicPr>
        <p:blipFill>
          <a:blip r:embed="rId1"/>
          <a:stretch/>
        </p:blipFill>
        <p:spPr>
          <a:xfrm>
            <a:off x="611280" y="2565360"/>
            <a:ext cx="1780920" cy="229068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9" descr=""/>
          <p:cNvPicPr/>
          <p:nvPr/>
        </p:nvPicPr>
        <p:blipFill>
          <a:blip r:embed="rId2"/>
          <a:stretch/>
        </p:blipFill>
        <p:spPr>
          <a:xfrm>
            <a:off x="3419640" y="2997360"/>
            <a:ext cx="2028600" cy="1495440"/>
          </a:xfrm>
          <a:prstGeom prst="rect">
            <a:avLst/>
          </a:prstGeom>
          <a:ln w="0">
            <a:noFill/>
          </a:ln>
        </p:spPr>
      </p:pic>
      <p:sp>
        <p:nvSpPr>
          <p:cNvPr id="578" name="Line 10"/>
          <p:cNvSpPr/>
          <p:nvPr/>
        </p:nvSpPr>
        <p:spPr>
          <a:xfrm>
            <a:off x="2556000" y="3716280"/>
            <a:ext cx="792000" cy="0"/>
          </a:xfrm>
          <a:prstGeom prst="line">
            <a:avLst/>
          </a:prstGeom>
          <a:ln w="76320">
            <a:solidFill>
              <a:srgbClr val="660066"/>
            </a:solidFill>
            <a:miter/>
            <a:headEnd len="med" type="diamond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Line 11"/>
          <p:cNvSpPr/>
          <p:nvPr/>
        </p:nvSpPr>
        <p:spPr>
          <a:xfrm>
            <a:off x="5580000" y="3789360"/>
            <a:ext cx="792360" cy="0"/>
          </a:xfrm>
          <a:prstGeom prst="line">
            <a:avLst/>
          </a:prstGeom>
          <a:ln w="76320">
            <a:solidFill>
              <a:srgbClr val="660066"/>
            </a:solidFill>
            <a:miter/>
            <a:headEnd len="med" type="diamond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0" name="Picture 14" descr=""/>
          <p:cNvPicPr/>
          <p:nvPr/>
        </p:nvPicPr>
        <p:blipFill>
          <a:blip r:embed="rId3"/>
          <a:stretch/>
        </p:blipFill>
        <p:spPr>
          <a:xfrm>
            <a:off x="6732720" y="2565360"/>
            <a:ext cx="1780920" cy="2290680"/>
          </a:xfrm>
          <a:prstGeom prst="rect">
            <a:avLst/>
          </a:prstGeom>
          <a:ln w="0">
            <a:noFill/>
          </a:ln>
        </p:spPr>
      </p:pic>
      <p:sp>
        <p:nvSpPr>
          <p:cNvPr id="581" name="Rectangle 15"/>
          <p:cNvSpPr/>
          <p:nvPr/>
        </p:nvSpPr>
        <p:spPr>
          <a:xfrm>
            <a:off x="179280" y="4856400"/>
            <a:ext cx="308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ишечник больного челове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Rectangle 16"/>
          <p:cNvSpPr/>
          <p:nvPr/>
        </p:nvSpPr>
        <p:spPr>
          <a:xfrm>
            <a:off x="5654520" y="4867560"/>
            <a:ext cx="310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ишечник здоровог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елове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0066"/>
                </a:solidFill>
                <a:latin typeface="Monotype Corsiva"/>
              </a:rPr>
              <a:t>Диагности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наружение яиц в фекалиях. При микроскопии кала обнаруживают яйца возбудителя размерами 50х20 мкм, по форме напоминающие лимон. Половозрелые власоглавы имеют длину 3-5 см и иногда видны при ректороманоскоп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5" descr="doc1"/>
          <p:cNvPicPr/>
          <p:nvPr/>
        </p:nvPicPr>
        <p:blipFill>
          <a:blip r:embed="rId1"/>
          <a:stretch/>
        </p:blipFill>
        <p:spPr>
          <a:xfrm>
            <a:off x="1403280" y="3645000"/>
            <a:ext cx="2051280" cy="2838240"/>
          </a:xfrm>
          <a:prstGeom prst="rect">
            <a:avLst/>
          </a:prstGeom>
          <a:ln w="0">
            <a:noFill/>
          </a:ln>
        </p:spPr>
      </p:pic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облюдение правил личной гигиены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ытьё рук, овощей фруктов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употребление кипячёной вод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cc0066"/>
                </a:solidFill>
                <a:latin typeface="Monotype Corsiva"/>
              </a:rPr>
              <a:t>Личная профилактика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cc0066"/>
                </a:solidFill>
                <a:latin typeface="Monotype Corsiva"/>
              </a:rPr>
              <a:t>Общественная профилактик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нитарно – просветительная работ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ссовая дегельминтизация населения с последующим уничтожением паразитов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езвреживание фекалий, используемых как удобрение путём компостировани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храна среды от загрязнения (устройство канализации, водопровода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cc"/>
                </a:solidFill>
                <a:latin typeface="Monotype Corsiva"/>
              </a:rPr>
              <a:t>Аскаридоз</a:t>
            </a:r>
            <a:endParaRPr b="1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211280" y="1599840"/>
            <a:ext cx="4475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Тип: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emathelmint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Класс: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emato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Род и вид: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scaris lumbricoides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7" name="Picture 6" descr="15084"/>
          <p:cNvPicPr/>
          <p:nvPr/>
        </p:nvPicPr>
        <p:blipFill>
          <a:blip r:embed="rId1"/>
          <a:stretch/>
        </p:blipFill>
        <p:spPr>
          <a:xfrm>
            <a:off x="684360" y="1628640"/>
            <a:ext cx="3051000" cy="449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900"/>
                            </p:stCondLst>
                            <p:childTnLst>
                              <p:par>
                                <p:cTn id="1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11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5640" y="0"/>
            <a:ext cx="7272360" cy="68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/>
          </p:nvPr>
        </p:nvSpPr>
        <p:spPr>
          <a:xfrm>
            <a:off x="456840" y="260280"/>
            <a:ext cx="843588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Презентацию подготовил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студентк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106 группы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лечебного  факультет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Белякова Регин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Rectangle 3"/>
          <p:cNvSpPr/>
          <p:nvPr/>
        </p:nvSpPr>
        <p:spPr>
          <a:xfrm>
            <a:off x="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Monotype Corsiva"/>
              </a:rPr>
              <a:t>Прямая кишка с аскаридами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319280" y="404640"/>
            <a:ext cx="482436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Picture 4" descr="a5"/>
          <p:cNvPicPr/>
          <p:nvPr/>
        </p:nvPicPr>
        <p:blipFill>
          <a:blip r:embed="rId1"/>
          <a:stretch/>
        </p:blipFill>
        <p:spPr>
          <a:xfrm>
            <a:off x="539640" y="1413000"/>
            <a:ext cx="806472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Monotype Corsiva"/>
              </a:rPr>
              <a:t>Рентгенограмма круглого червя аскарид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3" name="Picture 4" descr="c2"/>
          <p:cNvPicPr/>
          <p:nvPr/>
        </p:nvPicPr>
        <p:blipFill>
          <a:blip r:embed="rId1"/>
          <a:stretch/>
        </p:blipFill>
        <p:spPr>
          <a:xfrm>
            <a:off x="900000" y="1511280"/>
            <a:ext cx="712944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Monotype Corsiva"/>
              </a:rPr>
              <a:t>Головной мозг с аскаридами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6" name="Picture 4" descr="a6"/>
          <p:cNvPicPr/>
          <p:nvPr/>
        </p:nvPicPr>
        <p:blipFill>
          <a:blip r:embed="rId1"/>
          <a:stretch/>
        </p:blipFill>
        <p:spPr>
          <a:xfrm>
            <a:off x="1116000" y="1413000"/>
            <a:ext cx="6912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660066"/>
                </a:solidFill>
                <a:latin typeface="Monotype Corsiva"/>
              </a:rPr>
              <a:t>Диагност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наружение яиц аскарид в испражнения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ёгочная стадия аскаридоза: гиперэозинофилия и микроскопия мокроты (обнаруживают личинки аскарид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ологические методы (реакции преципитации, РИГА, РС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4" descr="j0305257"/>
          <p:cNvPicPr/>
          <p:nvPr/>
        </p:nvPicPr>
        <p:blipFill>
          <a:blip r:embed="rId4"/>
          <a:stretch/>
        </p:blipFill>
        <p:spPr>
          <a:xfrm>
            <a:off x="7121520" y="620640"/>
            <a:ext cx="16128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Monotype Corsiva"/>
              </a:rPr>
              <a:t>Фасциолёз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Тип: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lathelminth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Класс: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rematod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Отряд: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igine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Род и вид: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asciola hepatic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2" name="Picture 7" descr=""/>
          <p:cNvPicPr/>
          <p:nvPr/>
        </p:nvPicPr>
        <p:blipFill>
          <a:blip r:embed="rId1"/>
          <a:stretch/>
        </p:blipFill>
        <p:spPr>
          <a:xfrm>
            <a:off x="612720" y="1986120"/>
            <a:ext cx="3367080" cy="37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900"/>
                            </p:stCondLst>
                            <p:childTnLst>
                              <p:par>
                                <p:cTn id="5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250"/>
                            </p:stCondLst>
                            <p:childTnLst>
                              <p:par>
                                <p:cTn id="6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450"/>
                            </p:stCondLst>
                            <p:childTnLst>
                              <p:par>
                                <p:cTn id="7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550"/>
                            </p:stCondLst>
                            <p:childTnLst>
                              <p:par>
                                <p:cTn id="8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660066"/>
                </a:solidFill>
                <a:latin typeface="Monotype Corsiva"/>
              </a:rPr>
              <a:t>Диагност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ое диагностическое значение имеют иммунологические реакции: внутрикожная аллергическая проба, реакции преципит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слабой инвазии при исследовании кала применяют метод осаждения Горячева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употреблении в пищу пораженной фасциолами печени скота в кале могут быть обнаружены транзитные яйца. В этих случаях необходим повторный анализ через две недели после исключения из рациона печ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е употреблять для питья сырую воду, особенно из стоячих водоёмов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тщательно мыть зелень и овощ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6" name="Picture 5" descr="pe00014_"/>
          <p:cNvPicPr/>
          <p:nvPr/>
        </p:nvPicPr>
        <p:blipFill>
          <a:blip r:embed="rId1"/>
          <a:stretch/>
        </p:blipFill>
        <p:spPr>
          <a:xfrm>
            <a:off x="2627280" y="4221000"/>
            <a:ext cx="3456000" cy="2327400"/>
          </a:xfrm>
          <a:prstGeom prst="rect">
            <a:avLst/>
          </a:prstGeom>
          <a:ln w="0">
            <a:noFill/>
          </a:ln>
        </p:spPr>
      </p:pic>
      <p:sp>
        <p:nvSpPr>
          <p:cNvPr id="55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cc0066"/>
                </a:solidFill>
                <a:latin typeface="Monotype Corsiva"/>
              </a:rPr>
              <a:t>Личная профилактика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1T11:41:05Z</dcterms:created>
  <dc:creator>1</dc:creator>
  <dc:description/>
  <dc:language>en-US</dc:language>
  <cp:lastModifiedBy>Ната</cp:lastModifiedBy>
  <dcterms:modified xsi:type="dcterms:W3CDTF">2010-08-07T16:05:07Z</dcterms:modified>
  <cp:revision>14</cp:revision>
  <dc:subject/>
  <dc:title>Поражения  желудочно-кишечного тракта, вызванные паразитами </dc:title>
</cp:coreProperties>
</file>