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DCEE-657F-4607-8804-283325BD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8E3-8630-4FF2-9D99-D6136A7E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4D7-72E2-49F7-BC3F-C145E6D2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CA27-35BD-4598-A666-1457AACD0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ADDA-2209-441E-A2B4-131DAC67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6A7-62ED-4A10-9245-7821B73B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A798-2745-40E9-8E19-DC6508CF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355-8907-4988-944B-10537945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CD7-9E3F-4865-9F3C-CA3E606D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F665-5F9E-48E3-B277-9B892B98F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5FF2-BBC1-4B72-BD27-047A8CAB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2C79-05F9-4C0D-A81B-34093E50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6F8D-4C4F-4DB1-AF49-DE388F971FE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Тема курсової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5640"/>
            <a:ext cx="64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898989"/>
                </a:solidFill>
                <a:latin typeface="Calibri"/>
              </a:rPr>
              <a:t>Експертна  система </a:t>
            </a:r>
            <a:br>
              <a:rPr sz="6000"/>
            </a:br>
            <a:r>
              <a:rPr b="1" i="1" lang="uk-UA" sz="6000" spc="-1" strike="noStrike">
                <a:solidFill>
                  <a:srgbClr val="898989"/>
                </a:solidFill>
                <a:latin typeface="Calibri"/>
              </a:rPr>
              <a:t>діагностування хвороб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болонка для створення ЕС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WIN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Місце для вмісту 3" descr=""/>
          <p:cNvPicPr/>
          <p:nvPr/>
        </p:nvPicPr>
        <p:blipFill>
          <a:blip r:embed="rId1"/>
          <a:stretch/>
        </p:blipFill>
        <p:spPr>
          <a:xfrm>
            <a:off x="714240" y="1428840"/>
            <a:ext cx="8001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хема проведення діагностув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1128600" y="2347920"/>
            <a:ext cx="68868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 розраховуються варіанти прави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42960" y="114264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Маєм 10 правильних відпові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1 2 3 4 5 6 7 8 9 10 -10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Пропускаєм по 1 відповіді(одна відповідь не правиль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У нас получаеться 10 комбінацій із 9 відповідей(пр. 1 2 _ 4 5 6 7 8 9 10) – 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Із цих нових комбінацій пропускає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+1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номер. Унас получиться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85880" y="428760"/>
            <a:ext cx="77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Візьмем комбінаціо яку показували в прикладі(1 2 _ 4 5 6 7 8 9 10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_ 2 _ 4 5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_ _ 4 5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_ 5 6 7 8 9 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_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_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_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_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8 _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8 9 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Тобто відповідьт пацієнта буде розцінюватис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із ймовірністю 80 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28440" y="571320"/>
            <a:ext cx="7643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Усі варіанти будуть рахуватись до того моменту поки не залишиться 4 відповіді із 10. Кількість варіантів </a:t>
            </a:r>
            <a:r>
              <a:rPr b="1" lang="uk-UA" sz="3200" spc="-1" strike="noStrike">
                <a:solidFill>
                  <a:srgbClr val="595959"/>
                </a:solidFill>
                <a:latin typeface="Calibri"/>
              </a:rPr>
              <a:t>2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кно діагнозу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1143000" y="776160"/>
            <a:ext cx="6643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іагно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500040" y="1928880"/>
            <a:ext cx="8298000" cy="4379760"/>
          </a:xfrm>
          <a:prstGeom prst="rect">
            <a:avLst/>
          </a:prstGeom>
          <a:ln w="0">
            <a:noFill/>
          </a:ln>
        </p:spPr>
      </p:pic>
      <p:cxnSp>
        <p:nvCxnSpPr>
          <p:cNvPr id="55" name="Сполучна лінія уступом 7"/>
          <p:cNvCxnSpPr/>
          <p:nvPr/>
        </p:nvCxnSpPr>
        <p:spPr>
          <a:xfrm flipV="1" rot="16200000">
            <a:off x="4642920" y="3856680"/>
            <a:ext cx="929160" cy="929520"/>
          </a:xfrm>
          <a:prstGeom prst="bentConnector3">
            <a:avLst>
              <a:gd name="adj1" fmla="val -1627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56" name="Округлений прямокутник 18"/>
          <p:cNvGrpSpPr/>
          <p:nvPr/>
        </p:nvGrpSpPr>
        <p:grpSpPr>
          <a:xfrm>
            <a:off x="5553000" y="4054320"/>
            <a:ext cx="2536920" cy="1590840"/>
            <a:chOff x="5553000" y="4054320"/>
            <a:chExt cx="2536920" cy="1590840"/>
          </a:xfrm>
        </p:grpSpPr>
        <p:pic>
          <p:nvPicPr>
            <p:cNvPr id="57" name="Округлений прямокутник 18" descr=""/>
            <p:cNvPicPr/>
            <p:nvPr/>
          </p:nvPicPr>
          <p:blipFill>
            <a:blip r:embed="rId2"/>
            <a:stretch/>
          </p:blipFill>
          <p:spPr>
            <a:xfrm>
              <a:off x="5553000" y="4054320"/>
              <a:ext cx="25369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48400" y="4148280"/>
              <a:ext cx="2347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-</a:t>
              </a: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кількість правильних відповід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Результат=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*100/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25:45Z</dcterms:created>
  <dc:creator>Skalotskiy</dc:creator>
  <dc:description/>
  <dc:language>en-US</dc:language>
  <cp:lastModifiedBy>Skalotskiy</cp:lastModifiedBy>
  <dcterms:modified xsi:type="dcterms:W3CDTF">2010-05-24T12:23:14Z</dcterms:modified>
  <cp:revision>8</cp:revision>
  <dc:subject/>
  <dc:title>Тема курсової</dc:title>
</cp:coreProperties>
</file>