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B0B58-1398-4156-9B43-CE88CF4B8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C95-7C11-45B0-A789-E90FADAD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A89F-46A0-4BB4-A60F-FF2BC8C4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890D-6A7A-49E8-8D11-C0EA61EEA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4C151-7B21-4F4D-8A61-A2B6F38F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6F98-C63E-4BBB-B7BD-66A4C772D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E982-97FB-480A-9AA9-7A4CD39B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3787-1923-4640-8248-BEEB49BB6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D32C1-9020-46A5-B152-E2E6C00D2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46929-D16A-4F30-9EA5-0AFED490D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B8A6-7476-4EF0-B1DF-D9E71E110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8B5A9-EA15-4305-9C04-AA105A33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8D672-FBCE-410C-A432-2F26BA0A3179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1680" y="642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>
                <a:solidFill>
                  <a:srgbClr val="000000"/>
                </a:solidFill>
                <a:latin typeface="Calibri"/>
              </a:rPr>
              <a:t>Тема курсової 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57200" y="2285640"/>
            <a:ext cx="640080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Експертна  система </a:t>
            </a:r>
            <a:br>
              <a:rPr sz="6000"/>
            </a:br>
            <a:r>
              <a:rPr b="1" i="1" lang="uk-UA" sz="6000" spc="-1" strike="noStrike">
                <a:solidFill>
                  <a:srgbClr val="898989"/>
                </a:solidFill>
                <a:latin typeface="Calibri"/>
              </a:rPr>
              <a:t>діагностування хвороби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Оболонка для створення ЕС 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SWIN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Місце для вмісту 3" descr=""/>
          <p:cNvPicPr/>
          <p:nvPr/>
        </p:nvPicPr>
        <p:blipFill>
          <a:blip r:embed="rId1"/>
          <a:stretch/>
        </p:blipFill>
        <p:spPr>
          <a:xfrm>
            <a:off x="714240" y="1428840"/>
            <a:ext cx="800100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Схема проведення діагностуванн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28600" y="2347920"/>
            <a:ext cx="688680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42600" y="285480"/>
            <a:ext cx="8001000" cy="57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Calibri"/>
              </a:rPr>
              <a:t>Як розраховуються варіанти правил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42960" y="1142640"/>
            <a:ext cx="785808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Маєм 10 правильних відповід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1 2 3 4 5 6 7 8 9 10 -10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Пропускаєм по 1 відповіді(одна відповідь не правильн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 нас получаеться 10 комбінацій із 9 відповідей(пр. 1 2 _ 4 5 6 7 8 9 10) – 90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Із цих нових комбінацій пропускаєм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n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+1</a:t>
            </a:r>
            <a:r>
              <a:rPr b="0" lang="en-US" sz="3200" spc="-1" strike="noStrike">
                <a:solidFill>
                  <a:srgbClr val="595959"/>
                </a:solidFill>
                <a:latin typeface="Calibri"/>
              </a:rPr>
              <a:t> </a:t>
            </a: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номер. Унас получиться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785880" y="428760"/>
            <a:ext cx="7786800" cy="59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Візьмем комбінаціо яку показували в прикладі(1 2 _ 4 5 6 7 8 9 10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_ 2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_ _ 4 5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_ 5 6 7 8 9 10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_ 6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_ 7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_ 8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_ 9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_ 1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1 2 _ 4 5 6 7 8 9 _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Тобто відповідьт пацієнта буде розцінюватис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595959"/>
                </a:solidFill>
                <a:latin typeface="Calibri"/>
              </a:rPr>
              <a:t>із ймовірністю 80 %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928440" y="571320"/>
            <a:ext cx="7643880" cy="550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595959"/>
                </a:solidFill>
                <a:latin typeface="Calibri"/>
              </a:rPr>
              <a:t>Усі варіанти будуть рахуватись до того моменту поки не залишиться 4 відповіді із 10. Кількість варіантів </a:t>
            </a:r>
            <a:r>
              <a:rPr b="1" lang="uk-UA" sz="3200" spc="-1" strike="noStrike">
                <a:solidFill>
                  <a:srgbClr val="595959"/>
                </a:solidFill>
                <a:latin typeface="Calibri"/>
              </a:rPr>
              <a:t>217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29600" cy="91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ікно діагнозуванн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1143000" y="776160"/>
            <a:ext cx="6643800" cy="586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іагно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C:\Users\Skalotskiy\Desktop\Безымянный.jpg"/>
          <p:cNvPicPr/>
          <p:nvPr/>
        </p:nvPicPr>
        <p:blipFill>
          <a:blip r:embed="rId1"/>
          <a:stretch/>
        </p:blipFill>
        <p:spPr>
          <a:xfrm>
            <a:off x="500040" y="1928880"/>
            <a:ext cx="8298000" cy="4379760"/>
          </a:xfrm>
          <a:prstGeom prst="rect">
            <a:avLst/>
          </a:prstGeom>
          <a:ln w="0">
            <a:noFill/>
          </a:ln>
        </p:spPr>
      </p:pic>
      <p:cxnSp>
        <p:nvCxnSpPr>
          <p:cNvPr id="55" name="Сполучна лінія уступом 7"/>
          <p:cNvCxnSpPr/>
          <p:nvPr/>
        </p:nvCxnSpPr>
        <p:spPr>
          <a:xfrm flipV="1" rot="16200000">
            <a:off x="4642920" y="3856680"/>
            <a:ext cx="929160" cy="929520"/>
          </a:xfrm>
          <a:prstGeom prst="bentConnector3">
            <a:avLst>
              <a:gd name="adj1" fmla="val -1627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56" name="Округлений прямокутник 18"/>
          <p:cNvGrpSpPr/>
          <p:nvPr/>
        </p:nvGrpSpPr>
        <p:grpSpPr>
          <a:xfrm>
            <a:off x="5553000" y="4054320"/>
            <a:ext cx="2536920" cy="1590840"/>
            <a:chOff x="5553000" y="4054320"/>
            <a:chExt cx="2536920" cy="1590840"/>
          </a:xfrm>
        </p:grpSpPr>
        <p:pic>
          <p:nvPicPr>
            <p:cNvPr id="57" name="Округлений прямокутник 18" descr=""/>
            <p:cNvPicPr/>
            <p:nvPr/>
          </p:nvPicPr>
          <p:blipFill>
            <a:blip r:embed="rId2"/>
            <a:stretch/>
          </p:blipFill>
          <p:spPr>
            <a:xfrm>
              <a:off x="5553000" y="4054320"/>
              <a:ext cx="2536920" cy="159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5648400" y="4148280"/>
              <a:ext cx="2347920" cy="140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-</a:t>
              </a: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кількість правильних відповідей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Calibri"/>
                </a:rPr>
                <a:t>Результат=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N*100/1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4T11:25:45Z</dcterms:created>
  <dc:creator>Skalotskiy</dc:creator>
  <dc:description/>
  <dc:language>en-US</dc:language>
  <cp:lastModifiedBy>Skalotskiy</cp:lastModifiedBy>
  <dcterms:modified xsi:type="dcterms:W3CDTF">2010-05-24T12:23:14Z</dcterms:modified>
  <cp:revision>8</cp:revision>
  <dc:subject/>
  <dc:title>Тема курсової</dc:title>
</cp:coreProperties>
</file>