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DE1-38B7-4F40-AF67-755907C8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CA3-806A-47D7-B765-C79C475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8D5-7362-4266-98D4-280E3F7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1B4-E9D8-4DC0-B6D5-0C93CAB3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226-78B9-43F0-94C4-DE5714D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CE-C8A8-45DA-978E-D809033F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9A-44AB-43B9-9597-3604F0A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86B-4081-43D8-8D3C-29E8BF5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D4A-FF03-44AE-BF2E-978FE53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10F-4FC0-42A7-B3CD-90F0791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5D6-99B8-4EC6-BD11-687B243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7A0-F471-47FC-9A81-338A9C1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FAF-B90E-47B4-99F7-4C50760F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8534520"/>
            <a:ext cx="9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49360" y="971640"/>
          <a:ext cx="6308640" cy="73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971640"/>
                    <a:ext cx="6308640" cy="73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65360" y="7812000"/>
            <a:ext cx="21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 ТВН составляет 0,6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32440" y="34452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56080" y="347760"/>
            <a:ext cx="39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4:46:41Z</dcterms:created>
  <dc:creator>Admin</dc:creator>
  <dc:description/>
  <dc:language>en-US</dc:language>
  <cp:lastModifiedBy>Admin</cp:lastModifiedBy>
  <dcterms:modified xsi:type="dcterms:W3CDTF">2009-05-24T14:53:53Z</dcterms:modified>
  <cp:revision>3</cp:revision>
  <dc:subject/>
  <dc:title>Слайд 1</dc:title>
</cp:coreProperties>
</file>