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2912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87678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40880" y="4539960"/>
            <a:ext cx="87678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408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2336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05480" y="196344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70080" y="196344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40880" y="453996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05480" y="453996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70080" y="453996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154A-13D9-4DF6-A154-2DB12C791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40880" y="1963440"/>
            <a:ext cx="87678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6BDD-5CB7-469F-A337-842B81D40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87678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5702-82DC-4F0A-810B-B9AFCC01B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E462-77CB-4F85-A145-6C5966AA4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AD0A-1C7C-4290-9355-60D45C70C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40880" y="282600"/>
            <a:ext cx="860436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5CF2-12A5-416A-805D-ABF71FE86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408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E9AF-3985-43C4-8510-ED9EA5E3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40880" y="1963440"/>
            <a:ext cx="87678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2336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24F4-6088-4165-AF5A-72342878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40880" y="4539960"/>
            <a:ext cx="87678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D52C-E213-4310-9FBD-2176A02F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87678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40880" y="4539960"/>
            <a:ext cx="87678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464C-5447-4FEC-A1E2-7A384FB68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408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2336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B409-0354-457A-9A2D-EB219D8BC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705480" y="196344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670080" y="196344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40880" y="453996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705480" y="453996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670080" y="453996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BBD3-8675-4B6E-B8A3-2E925B1CB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40880" y="1963440"/>
            <a:ext cx="87678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87678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87678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40880" y="282600"/>
            <a:ext cx="860436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408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2336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40880" y="4539960"/>
            <a:ext cx="87678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87678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40880" y="4539960"/>
            <a:ext cx="87678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408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2336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705480" y="196344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670080" y="196344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740880" y="453996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705480" y="453996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670080" y="453996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40880" y="282600"/>
            <a:ext cx="860436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408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2336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40880" y="4539960"/>
            <a:ext cx="87678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11700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e6e6e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8640" y="2224080"/>
            <a:ext cx="84726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7937640" y="6251400"/>
            <a:ext cx="1968480" cy="105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736BF3B-CC89-479C-8751-F4DEDD7232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40880" y="1963440"/>
            <a:ext cx="87678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723960" y="7077240"/>
            <a:ext cx="93549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1"/>
          <p:cNvSpPr/>
          <p:nvPr/>
        </p:nvSpPr>
        <p:spPr>
          <a:xfrm>
            <a:off x="741240" y="282600"/>
            <a:ext cx="8609040" cy="66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950e"/>
                </a:solidFill>
                <a:latin typeface="Arial"/>
              </a:rPr>
              <a:t>Информационные технологии в гражданском процесс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741240" y="282600"/>
            <a:ext cx="8609040" cy="66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cccccc"/>
                </a:solidFill>
                <a:latin typeface="Times New Roman"/>
              </a:rPr>
              <a:t>Порядок исследования судом аудио/видеозаписей определяется как непосредственный при помощи специального оборудования с указанием в протоколе признаков воспроизводящих источников и времени воспроизведени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cccccc"/>
                </a:solidFill>
                <a:latin typeface="Times New Roman"/>
              </a:rPr>
              <a:t>В целях выяснения содержащейся в аудио/видеозаписи информации судом может быть привлечен специалист, при необходимости назначается экспертиз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cccccc"/>
                </a:solidFill>
                <a:latin typeface="Times New Roman"/>
              </a:rPr>
              <a:t>Аудио/видеозаписи могут постоянно храниться в камере хранения суда в неизменном состоянии и суд принимает меры для сохранения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cccccc"/>
                </a:solidFill>
                <a:latin typeface="Times New Roman"/>
              </a:rPr>
              <a:t>Материальный закон предусмотрел такие средства доказывания, как электронные средства платежа, аналоги собственно ручной подписи, кодов, паролей и иные средства, подтверждающие что распоряжение денежными средствами дано уполномоченным на то лицом ГК регламентирует, что определенные права могут удостоверяться бездокументарными ценными бумагами с помощью средств электронно-вычислительной техник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"/>
          <p:cNvSpPr/>
          <p:nvPr/>
        </p:nvSpPr>
        <p:spPr>
          <a:xfrm>
            <a:off x="741240" y="279360"/>
            <a:ext cx="8609040" cy="66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12760" indent="-212760" algn="ctr">
              <a:lnSpc>
                <a:spcPct val="95000"/>
              </a:lnSpc>
              <a:tabLst>
                <a:tab algn="l" pos="0"/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Специалисты оказывают научно-техническую и справочно-консультативную помощь суду в следующих процессуальных формах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2760" indent="-212760" algn="just">
              <a:lnSpc>
                <a:spcPct val="114000"/>
              </a:lnSpc>
              <a:buSzPct val="102884"/>
              <a:buBlip>
                <a:blip r:embed="rId1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участие в исследовании доказательств в судебном заседании, а также при осмотре на мест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2760" indent="-212760" algn="just">
              <a:lnSpc>
                <a:spcPct val="114000"/>
              </a:lnSpc>
              <a:buSzPct val="102884"/>
              <a:buBlip>
                <a:blip r:embed="rId2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представление суду письменных и устных заключений справочно-консультативного характера, особенностях ее потребительских свойств или технических характеристик, стоимости ремонта поврежденного имущества и т. п.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2760" indent="-212760" algn="just">
              <a:lnSpc>
                <a:spcPct val="114000"/>
              </a:lnSpc>
              <a:buSzPct val="102884"/>
              <a:buBlip>
                <a:blip r:embed="rId3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оказание научно-консультативной помощи суду при назначении экспертизы, а также при изучении заключения эксперта в процессе подготовки к судебному разбирательству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2760" indent="-212760" algn="just">
              <a:lnSpc>
                <a:spcPct val="114000"/>
              </a:lnSpc>
              <a:buSzPct val="102884"/>
              <a:buBlip>
                <a:blip r:embed="rId4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представление письменного заключения в суд апелляционной, кассационной или надзорной инстанци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741240" y="1260360"/>
            <a:ext cx="8772480" cy="56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Согласно ч. 2 ст. 67 ГПК РФ аудио/видеозаписи не могут иметь заранее установленной силы и приоритета над другими доказательствами и оцениваются в совокупности с другими доказательствами.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Аудиозаписи подпадают под определение фонодокумента – документа, содержащего звуковую информацию, зафиксированную любой системой звукозаписи. Видеозаписи - под определение аудиовизуального документа – это документ, содержащий изобразительную и звуковую информацию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43040"/>
                <a:tab algn="l" pos="1190520"/>
                <a:tab algn="l" pos="1639800"/>
                <a:tab algn="l" pos="2089080"/>
                <a:tab algn="l" pos="2538360"/>
                <a:tab algn="l" pos="2987640"/>
                <a:tab algn="l" pos="3436920"/>
                <a:tab algn="l" pos="3886200"/>
                <a:tab algn="l" pos="4335480"/>
                <a:tab algn="l" pos="4784760"/>
                <a:tab algn="l" pos="5234040"/>
                <a:tab algn="l" pos="5683320"/>
                <a:tab algn="l" pos="6132600"/>
                <a:tab algn="l" pos="6581880"/>
                <a:tab algn="l" pos="7031160"/>
                <a:tab algn="l" pos="7480440"/>
                <a:tab algn="l" pos="7929720"/>
                <a:tab algn="l" pos="8379000"/>
                <a:tab algn="l" pos="8827920"/>
                <a:tab algn="l" pos="9277200"/>
                <a:tab algn="l" pos="97264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9966"/>
                </a:solidFill>
                <a:latin typeface="Times New Roman"/>
                <a:ea typeface="Times New Roman"/>
              </a:rPr>
              <a:t>2.2 Место аудио/видеозаписей в системе доказательств</a:t>
            </a:r>
            <a:endParaRPr b="1" i="1" lang="en-US" sz="22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1"/>
          <p:cNvSpPr/>
          <p:nvPr/>
        </p:nvSpPr>
        <p:spPr>
          <a:xfrm>
            <a:off x="741240" y="282600"/>
            <a:ext cx="8609040" cy="66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cccccc"/>
                </a:solidFill>
                <a:latin typeface="Times New Roman"/>
              </a:rPr>
              <a:t>Общее между письменными, вещественными доказательствами и аудио/видеозаписями состоит в том, что данные виды доказательств относятся к предметным доказательствам, т.е. в них информация сохраняется, как правило, на объектах неживой природы, вещах, как бы в статичном состоянии. Как и письменные доказательства, аудио/видеозаписи подтверждают определенные обстоятельства по делу с помощью той информации, которая записана на них, например запись того, как свидетель обещает вовремя вернуть долг, запись высказываний, которые порочат честь, достоинство и деловую репутацию гражданина, по делам о компенсации морального вред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cccccc"/>
                </a:solidFill>
                <a:latin typeface="Times New Roman"/>
              </a:rPr>
              <a:t>Различие между этими доказательствами состоит в том, что информацию с аудио/видеозаписей участникам процесса нельзя снять с помощью органов слуха и зрения, как это имеет место при осмотре вещественных доказательств или при исследовании письменных доказательств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"/>
          <p:cNvSpPr/>
          <p:nvPr/>
        </p:nvSpPr>
        <p:spPr>
          <a:xfrm>
            <a:off x="741240" y="523800"/>
            <a:ext cx="8609040" cy="63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12760" indent="-212760" algn="just">
              <a:lnSpc>
                <a:spcPct val="95000"/>
              </a:lnSpc>
              <a:tabLst>
                <a:tab algn="l" pos="0"/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cccccc"/>
                </a:solidFill>
                <a:latin typeface="Times New Roman"/>
              </a:rPr>
              <a:t>Общее правило о допустимости сформулировано в ч. 1 ст. 55 ГПК РФ: доказательствами по делу являются полученные в предусмотренном законом порядке сведения о фактах. Это означает, что, даже если обстоятельство по делу подтверждается определенным средством доказывания</a:t>
            </a:r>
            <a:r>
              <a:rPr b="0" lang="en-US" sz="2600" spc="-1" strike="noStrike">
                <a:solidFill>
                  <a:srgbClr val="cccccc"/>
                </a:solidFill>
                <a:latin typeface="Times New Roman"/>
                <a:ea typeface="Times New Roman"/>
              </a:rPr>
              <a:t>, но нарушена процедура совершения этого действия, доказательство не может быть допущено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12760" indent="-212760" algn="just">
              <a:lnSpc>
                <a:spcPct val="143000"/>
              </a:lnSpc>
              <a:tabLst>
                <a:tab algn="l" pos="0"/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cccccc"/>
                </a:solidFill>
                <a:latin typeface="Times New Roman"/>
              </a:rPr>
              <a:t>Допустимость аудио/видеозаписей в гражданском процессе до сих пор является предметом дискуссий так как: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12760" indent="-212760" algn="just">
              <a:lnSpc>
                <a:spcPct val="114000"/>
              </a:lnSpc>
              <a:buSzPct val="102820"/>
              <a:buBlip>
                <a:blip r:embed="rId1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cccccc"/>
                </a:solidFill>
                <a:latin typeface="Times New Roman"/>
              </a:rPr>
              <a:t>с помощью существующих технических приемов можно изменить, исказить их содержание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12760" indent="-212760" algn="just">
              <a:lnSpc>
                <a:spcPct val="114000"/>
              </a:lnSpc>
              <a:buSzPct val="102820"/>
              <a:buBlip>
                <a:blip r:embed="rId2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cccccc"/>
                </a:solidFill>
                <a:latin typeface="Times New Roman"/>
              </a:rPr>
              <a:t>получение и воспроизведение аудио/видеозаписей может быть сопряжено с нарушением неприкосновенности частной жизни граждан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741240" y="282600"/>
            <a:ext cx="8609040" cy="66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cccccc"/>
                </a:solidFill>
                <a:latin typeface="Times New Roman"/>
                <a:ea typeface="Times New Roman"/>
              </a:rPr>
              <a:t>Сбор, хранение, использование и распространение информации о частной жизни лица без его согласия не допускаются. Никто не вправе проникать в жилище против воли проживающих в нем лиц иначе как в случаях, установленных федеральным законом, или на основании судебного решени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cccccc"/>
                </a:solidFill>
                <a:latin typeface="Times New Roman"/>
                <a:ea typeface="Times New Roman"/>
              </a:rPr>
              <a:t>С учетом этого должны признаваться недопустимыми в качестве доказательств, в частности, аудиозаписи телефонных переговоров, полученные без санкции суда; (ч. 1 ст. 6 Федерального закона "Об оперативно-розыскной деятельности"), если проведение таковых было сопряжено с провоцированием граждан на совершение противоправных действий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cccccc"/>
                </a:solidFill>
                <a:latin typeface="Times New Roman"/>
                <a:ea typeface="Times New Roman"/>
              </a:rPr>
              <a:t>Р</a:t>
            </a:r>
            <a:r>
              <a:rPr b="0" lang="ru-RU" sz="2200" spc="-1" strike="noStrike">
                <a:solidFill>
                  <a:srgbClr val="cccccc"/>
                </a:solidFill>
                <a:latin typeface="Times New Roman"/>
                <a:ea typeface="Times New Roman"/>
              </a:rPr>
              <a:t>ассмотрение материалов об ограничении конституционных прав граждан на тайну переписки, телефонных переговоров, почтовых, телеграфных и иных сообщений, передаваемых по сетям электрической и почтовой связи, на неприкосновенность жилища при проведении оперативно-розыскных мероприятий осуществляется судом, как правило, по месту проведения таких мероприяти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1"/>
          <p:cNvSpPr/>
          <p:nvPr/>
        </p:nvSpPr>
        <p:spPr>
          <a:xfrm>
            <a:off x="741240" y="282600"/>
            <a:ext cx="8609040" cy="66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12760" indent="250920" algn="just">
              <a:lnSpc>
                <a:spcPct val="95000"/>
              </a:lnSpc>
              <a:tabLst>
                <a:tab algn="l" pos="0"/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В соответствии </a:t>
            </a:r>
            <a:r>
              <a:rPr b="1" lang="en-US" sz="2600" spc="-1" strike="noStrike">
                <a:solidFill>
                  <a:srgbClr val="cccccc"/>
                </a:solidFill>
                <a:latin typeface="Times New Roman"/>
              </a:rPr>
              <a:t>со ст. 50 Закона РФ "О средствах массовой информации"</a:t>
            </a: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 распространение сообщений и материалов, подготовленных с использованием скрытой аудио/видеозаписи, кино- и фотосъемки, допускается при наличии одного из трех обстоятельст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2760" indent="250920" algn="just">
              <a:lnSpc>
                <a:spcPct val="114000"/>
              </a:lnSpc>
              <a:buSzPct val="102884"/>
              <a:buBlip>
                <a:blip r:embed="rId1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не нарушать конституционные права, предусмотренные в Конституции РФ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2760" indent="250920" algn="just">
              <a:lnSpc>
                <a:spcPct val="114000"/>
              </a:lnSpc>
              <a:buSzPct val="102884"/>
              <a:buBlip>
                <a:blip r:embed="rId2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необходимость защиты общественных интересов и принятие мер против возможной идентификации посторонних лиц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2760" indent="250920" algn="just">
              <a:lnSpc>
                <a:spcPct val="114000"/>
              </a:lnSpc>
              <a:buSzPct val="102884"/>
              <a:buBlip>
                <a:blip r:embed="rId3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решение суда о демонстрации материалов, когда допускается распространение материалов, сделанных скрытой записью, речь идет только о демонстрации, т.е. о публичном исполнен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1"/>
          <p:cNvSpPr/>
          <p:nvPr/>
        </p:nvSpPr>
        <p:spPr>
          <a:xfrm>
            <a:off x="741240" y="282600"/>
            <a:ext cx="8609040" cy="66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12760" indent="250920" algn="just">
              <a:lnSpc>
                <a:spcPct val="95000"/>
              </a:lnSpc>
              <a:tabLst>
                <a:tab algn="l" pos="0"/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cccccc"/>
                </a:solidFill>
                <a:latin typeface="Times New Roman"/>
              </a:rPr>
              <a:t>В ГПК РФ можно обнаружить несколько статей, в которых речь идет об аудио/видеозаписях, и только в одной из них, а именно в ст. 185, предельно кратко описан порядок их исследования органом правосудия. Он подразумевает, что судья должен придерживаться следующих процессуально-правовых действий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2760" indent="250920" algn="just">
              <a:lnSpc>
                <a:spcPct val="114000"/>
              </a:lnSpc>
              <a:buSzPct val="102792"/>
              <a:buBlip>
                <a:blip r:embed="rId1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cccccc"/>
                </a:solidFill>
                <a:latin typeface="Times New Roman"/>
              </a:rPr>
              <a:t>при воспроизведении аудио/видеозаписей, содержащих сведения личного характера, открытое судебное заседание назначается только с согласия заинтересованных лиц, в противном случае исследование записей происходит без соблюдения принципа гласност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2760" indent="250920" algn="just">
              <a:lnSpc>
                <a:spcPct val="114000"/>
              </a:lnSpc>
              <a:buSzPct val="102792"/>
              <a:buBlip>
                <a:blip r:embed="rId2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cccccc"/>
                </a:solidFill>
                <a:latin typeface="Times New Roman"/>
              </a:rPr>
              <a:t>воспроизведение аудио/видеозаписей осуществляется в зале заседания или ином специально оборудованном для этой цели помещении с указанием в протоколе судебного заседания признаков воспроизводящих источников доказательств и времени воспроизведения. После этого суд заслушивает объяснения лиц, участвующих в деле; если это требуется, воспроизведение аудио/видеозаписей повторяется полностью либо в какой-либо част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2760" indent="250920" algn="just">
              <a:lnSpc>
                <a:spcPct val="114000"/>
              </a:lnSpc>
              <a:buSzPct val="102792"/>
              <a:buBlip>
                <a:blip r:embed="rId3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cccccc"/>
                </a:solidFill>
                <a:latin typeface="Times New Roman"/>
                <a:ea typeface="Times New Roman"/>
              </a:rPr>
              <a:t>в целях выяснения содержащихся в аудио/видеозаписи сведений суд вправе привлечь специалиста, а в необходимых случаях назначить экспертиз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1"/>
          <p:cNvSpPr/>
          <p:nvPr/>
        </p:nvSpPr>
        <p:spPr>
          <a:xfrm>
            <a:off x="539640" y="369720"/>
            <a:ext cx="9180720" cy="66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12760" indent="216000" algn="just">
              <a:lnSpc>
                <a:spcPct val="95000"/>
              </a:lnSpc>
              <a:tabLst>
                <a:tab algn="l" pos="0"/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imes New Roman"/>
              </a:rPr>
              <a:t>Информация — особый объект гражданских правоотношений, она обладает следующими признакам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12760" indent="216000" algn="just">
              <a:lnSpc>
                <a:spcPct val="114000"/>
              </a:lnSpc>
              <a:buSzPct val="102872"/>
              <a:buBlip>
                <a:blip r:embed="rId1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imes New Roman"/>
              </a:rPr>
              <a:t>информация, являясь идеальной компонентой бытия, т.е. благом нематериальным, опосредует имущественные отнош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12760" indent="216000" algn="just">
              <a:lnSpc>
                <a:spcPct val="114000"/>
              </a:lnSpc>
              <a:buSzPct val="102872"/>
              <a:buBlip>
                <a:blip r:embed="rId2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imes New Roman"/>
              </a:rPr>
              <a:t>информация является непотребляемым объектом гражданских правоотношений, который подвергается лишь моральному старению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12760" indent="216000" algn="just">
              <a:lnSpc>
                <a:spcPct val="114000"/>
              </a:lnSpc>
              <a:buSzPct val="102872"/>
              <a:buBlip>
                <a:blip r:embed="rId3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imes New Roman"/>
              </a:rPr>
              <a:t>возможность ее практически неограниченного тиражиров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"/>
          <p:cNvSpPr/>
          <p:nvPr/>
        </p:nvSpPr>
        <p:spPr>
          <a:xfrm>
            <a:off x="539640" y="282600"/>
            <a:ext cx="9180720" cy="66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12760" indent="216000" algn="just">
              <a:lnSpc>
                <a:spcPct val="95000"/>
              </a:lnSpc>
              <a:tabLst>
                <a:tab algn="l" pos="0"/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imes New Roman"/>
              </a:rPr>
              <a:t>Принцип свободы информации определяется следующими правами и свободами, закрепленными в Конституции РФ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12760" indent="216000" algn="just">
              <a:lnSpc>
                <a:spcPct val="114000"/>
              </a:lnSpc>
              <a:buSzPct val="102820"/>
              <a:buBlip>
                <a:blip r:embed="rId1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cccccc"/>
                </a:solidFill>
                <a:latin typeface="Times New Roman"/>
              </a:rPr>
              <a:t>свобода мысли и слова (ч.1 ст.29)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12760" indent="216000" algn="just">
              <a:lnSpc>
                <a:spcPct val="114000"/>
              </a:lnSpc>
              <a:buSzPct val="102820"/>
              <a:buBlip>
                <a:blip r:embed="rId2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cccccc"/>
                </a:solidFill>
                <a:latin typeface="Times New Roman"/>
              </a:rPr>
              <a:t>свобода выражения своих убеждений (ч.3 ст.29)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12760" indent="216000" algn="just">
              <a:lnSpc>
                <a:spcPct val="114000"/>
              </a:lnSpc>
              <a:buSzPct val="102820"/>
              <a:buBlip>
                <a:blip r:embed="rId3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cccccc"/>
                </a:solidFill>
                <a:latin typeface="Times New Roman"/>
              </a:rPr>
              <a:t>право свободно искать, получать, передавать и распространять инф-ю любым законным способом (ч.ст.29)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12760" indent="216000" algn="just">
              <a:lnSpc>
                <a:spcPct val="114000"/>
              </a:lnSpc>
              <a:buSzPct val="102820"/>
              <a:buBlip>
                <a:blip r:embed="rId4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cccccc"/>
                </a:solidFill>
                <a:latin typeface="Times New Roman"/>
              </a:rPr>
              <a:t>свобода массовой информации (ч.5 ст.29);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12760" indent="216000" algn="just">
              <a:lnSpc>
                <a:spcPct val="114000"/>
              </a:lnSpc>
              <a:buSzPct val="102820"/>
              <a:buBlip>
                <a:blip r:embed="rId5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cccccc"/>
                </a:solidFill>
                <a:latin typeface="Times New Roman"/>
              </a:rPr>
              <a:t>право каждого на достоверную информацию о состоянии окружающей среды (ст.42)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12760" indent="216000" algn="just">
              <a:lnSpc>
                <a:spcPct val="114000"/>
              </a:lnSpc>
              <a:buSzPct val="102820"/>
              <a:buBlip>
                <a:blip r:embed="rId6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cccccc"/>
                </a:solidFill>
                <a:latin typeface="Times New Roman"/>
              </a:rPr>
              <a:t>свобода всех видов творчества (ч.1 ст.44)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12760" indent="216000" algn="just">
              <a:lnSpc>
                <a:spcPct val="114000"/>
              </a:lnSpc>
              <a:buSzPct val="102820"/>
              <a:buBlip>
                <a:blip r:embed="rId7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cccccc"/>
                </a:solidFill>
                <a:latin typeface="Times New Roman"/>
              </a:rPr>
              <a:t>право на доступ к культурным ценностям (ч.2 ст.44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720720" y="360360"/>
            <a:ext cx="882000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e6e6e6"/>
                </a:solidFill>
                <a:latin typeface="Times New Roman"/>
              </a:rPr>
              <a:t>Информация является одним из ценнейших ресурсов общества наряду с такими традиционными материальными видами ресурсов, как нефть, газ, полезные ископаемые и др., а значит, процесс ее переработки по аналогии с процессами переработки материальных ресурсов можно воспринимать как технологию.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e6e6e6"/>
                </a:solidFill>
                <a:latin typeface="Times New Roman"/>
              </a:rPr>
              <a:t>Информационная технология</a:t>
            </a:r>
            <a:r>
              <a:rPr b="0" lang="ru-RU" sz="2200" spc="-1" strike="noStrike">
                <a:solidFill>
                  <a:srgbClr val="e6e6e6"/>
                </a:solidFill>
                <a:latin typeface="Times New Roman"/>
              </a:rPr>
              <a:t> — процесс, использующий совокупность средств и методов сбора, обработки и передачи данных (первичной информации) для получения информации нового качества о состоянии объекта, процесса или явления .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e6e6e6"/>
                </a:solidFill>
                <a:latin typeface="Times New Roman"/>
              </a:rPr>
              <a:t>Цель информационной технологии — производство информации для ее анализа человеком и принятия на его основе решения по выполнению какого-либо действия. 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39640" y="5400720"/>
            <a:ext cx="9139320" cy="1079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Исследование информации: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31" name="Picture 3" descr="C:\Documents and Settings\дом\Рабочий стол\marketing_shema_01.jpg"/>
          <p:cNvPicPr/>
          <p:nvPr/>
        </p:nvPicPr>
        <p:blipFill>
          <a:blip r:embed="rId1"/>
          <a:stretch/>
        </p:blipFill>
        <p:spPr>
          <a:xfrm>
            <a:off x="1397160" y="1994040"/>
            <a:ext cx="696888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"/>
          <p:cNvSpPr/>
          <p:nvPr/>
        </p:nvSpPr>
        <p:spPr>
          <a:xfrm>
            <a:off x="741240" y="282600"/>
            <a:ext cx="8609040" cy="66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950e"/>
                </a:solidFill>
                <a:latin typeface="Times New Roman"/>
                <a:ea typeface="Times New Roman"/>
              </a:rPr>
              <a:t>1. ПРИМЕНЕНИЕ  ИНФОРМАЦИОННЫХ ТЕХНОЛОГИЙ  </a:t>
            </a:r>
            <a:br>
              <a:rPr sz="3600"/>
            </a:br>
            <a:r>
              <a:rPr b="0" lang="en-US" sz="3600" spc="-1" strike="noStrike">
                <a:solidFill>
                  <a:srgbClr val="ff950e"/>
                </a:solidFill>
                <a:latin typeface="Times New Roman"/>
                <a:ea typeface="Times New Roman"/>
              </a:rPr>
              <a:t>В ГРАЖДАНСКОМ ПРОЦЕСС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1"/>
          <p:cNvSpPr/>
          <p:nvPr/>
        </p:nvSpPr>
        <p:spPr>
          <a:xfrm>
            <a:off x="741240" y="276120"/>
            <a:ext cx="8609040" cy="66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12760" indent="-212760" algn="just">
              <a:lnSpc>
                <a:spcPct val="95000"/>
              </a:lnSpc>
              <a:tabLst>
                <a:tab algn="l" pos="0"/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cccccc"/>
                </a:solidFill>
                <a:latin typeface="Times New Roman"/>
                <a:ea typeface="Times New Roman"/>
              </a:rPr>
              <a:t>С появлением современных источников информации в качестве доказательств по правовым спорам следует обратить внимание на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12760" indent="-212760" algn="just">
              <a:lnSpc>
                <a:spcPct val="114000"/>
              </a:lnSpc>
              <a:buSzPct val="102792"/>
              <a:buBlip>
                <a:blip r:embed="rId1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cccc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cc"/>
                </a:solidFill>
                <a:latin typeface="Times New Roman"/>
              </a:rPr>
              <a:t>Возможность использования электронных документов в случае спора — одно из условий их юридической силы, что установлено в  нормативных актах и кладет начало для их использования в экономическом обороте как внутри, так и вне тех систем управле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2760" indent="-212760" algn="just">
              <a:lnSpc>
                <a:spcPct val="114000"/>
              </a:lnSpc>
              <a:buSzPct val="102792"/>
              <a:buBlip>
                <a:blip r:embed="rId2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cccccc"/>
                </a:solidFill>
                <a:latin typeface="Times New Roman"/>
              </a:rPr>
              <a:t>Существенно меняются формы документов, условия проверки их достоверности, способы  удостовере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2760" indent="-212760" algn="just">
              <a:lnSpc>
                <a:spcPct val="114000"/>
              </a:lnSpc>
              <a:buSzPct val="102792"/>
              <a:buBlip>
                <a:blip r:embed="rId3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cccccc"/>
                </a:solidFill>
                <a:latin typeface="Times New Roman"/>
              </a:rPr>
              <a:t>Актуальным  оказывается вопрос об условиях, при которых арбитражные суды по национальному законодательству могут принимать для доказывания информацию, хранимую в ЭВМ, и рассматривать ее как идентичную той, которая первоначально была введена в ЭВ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2760" indent="-212760" algn="just">
              <a:lnSpc>
                <a:spcPct val="114000"/>
              </a:lnSpc>
              <a:buSzPct val="102792"/>
              <a:buBlip>
                <a:blip r:embed="rId4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cccccc"/>
                </a:solidFill>
                <a:latin typeface="Times New Roman"/>
              </a:rPr>
              <a:t>Подлежит разрешению и вопрос о сроках хранения сведений в памяти ЭВМ, так как они могут потребоваться при рассмотрении дела в арбитраж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2760" indent="-212760" algn="just">
              <a:lnSpc>
                <a:spcPct val="114000"/>
              </a:lnSpc>
              <a:buSzPct val="102792"/>
              <a:buBlip>
                <a:blip r:embed="rId5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cccccc"/>
                </a:solidFill>
                <a:latin typeface="Times New Roman"/>
              </a:rPr>
              <a:t>В законодательстве ряда стран существуют нормы, устанавливающие порядок и процедуру пользования электронными документа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360360" y="282600"/>
            <a:ext cx="9360000" cy="66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12760" indent="-212760" algn="ctr">
              <a:lnSpc>
                <a:spcPct val="95000"/>
              </a:lnSpc>
              <a:tabLst>
                <a:tab algn="l" pos="0"/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cccccc"/>
                </a:solidFill>
                <a:latin typeface="Times New Roman"/>
              </a:rPr>
              <a:t>Особенности  электронных документов,  обеспечивающих доказательственую функцию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12760" indent="-212760" algn="just">
              <a:lnSpc>
                <a:spcPct val="114000"/>
              </a:lnSpc>
              <a:buSzPct val="102805"/>
              <a:buBlip>
                <a:blip r:embed="rId1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практически невозможно извлечь из памяти ЭВМ информацию путем прямого анализа физических свойств  носителя информации, минуя вычислительный процес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2760" indent="-212760" algn="just">
              <a:lnSpc>
                <a:spcPct val="114000"/>
              </a:lnSpc>
              <a:buSzPct val="102805"/>
              <a:buBlip>
                <a:blip r:embed="rId2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информация, содержащаяся в памяти  ЭВМ, в большинстве случаев может быть воспроизведена на другой ЭВ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2760" indent="-212760" algn="just">
              <a:lnSpc>
                <a:spcPct val="114000"/>
              </a:lnSpc>
              <a:buSzPct val="102805"/>
              <a:buBlip>
                <a:blip r:embed="rId3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cccccc"/>
                </a:solidFill>
                <a:latin typeface="Times New Roman"/>
                <a:ea typeface="Times New Roman"/>
              </a:rPr>
              <a:t>визуально, т.е. непосредственно без использования специальной техники, суду электронный документ  недоступ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2760" indent="-212760" algn="just">
              <a:lnSpc>
                <a:spcPct val="114000"/>
              </a:lnSpc>
              <a:buSzPct val="102805"/>
              <a:buBlip>
                <a:blip r:embed="rId4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cccccc"/>
                </a:solidFill>
                <a:latin typeface="Times New Roman"/>
                <a:ea typeface="Times New Roman"/>
              </a:rPr>
              <a:t>форма фиксации информации в электронных документах существенно отличается от письменного докумен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ff9966"/>
                </a:solidFill>
                <a:latin typeface="Arial"/>
                <a:ea typeface="Times New Roman"/>
              </a:rPr>
              <a:t>2. АУДИО/ВИДЕОЗАПИСИ КАК СРЕДСТВА ДОКАЗЫВАНИЯ</a:t>
            </a:r>
            <a:endParaRPr b="1" i="1" lang="en-US" sz="2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cccccc"/>
                </a:solidFill>
                <a:latin typeface="Times New Roman"/>
              </a:rPr>
              <a:t>Аудио/видеозаписи являются в гражданском процессе самостоятельным средством доказывания. </a:t>
            </a: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  <a:p>
            <a:pPr indent="0" algn="just">
              <a:lnSpc>
                <a:spcPct val="114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cccccc"/>
                </a:solidFill>
                <a:latin typeface="Times New Roman"/>
              </a:rPr>
              <a:t>Лицо, представляющее аудио/видеозаписи на электронном носителе либо ходатайствующее об их истребовании, обязано указать, когда, кем ч в каких условиях осуществлялись записи. </a:t>
            </a: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  <a:p>
            <a:pPr indent="0" algn="just">
              <a:lnSpc>
                <a:spcPct val="114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cccccc"/>
                </a:solidFill>
                <a:latin typeface="Times New Roman"/>
              </a:rPr>
              <a:t>Происхождение аудио/видеозаписи будет законным, если участники судебного разбирательства, присутствовавшие в открытом судебном заседании, фиксировали происходящее посредством электронных устройств</a:t>
            </a: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7T06:12:22Z</dcterms:created>
  <dc:creator>An al</dc:creator>
  <dc:description>Предложение пути развития и альтернатив, рекомендации по использованию той или другой стратегии</dc:description>
  <dc:language>en-US</dc:language>
  <cp:lastModifiedBy>Philka</cp:lastModifiedBy>
  <dcterms:modified xsi:type="dcterms:W3CDTF">2010-10-31T12:32:41Z</dcterms:modified>
  <cp:revision>2</cp:revision>
  <dc:subject/>
  <dc:title>Предложение стратегии</dc:title>
</cp:coreProperties>
</file>