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312920" y="1027080"/>
            <a:ext cx="492912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170000" y="5086440"/>
            <a:ext cx="522144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1"/>
          <p:cNvSpPr/>
          <p:nvPr/>
        </p:nvSpPr>
        <p:spPr>
          <a:xfrm>
            <a:off x="1312920" y="1027080"/>
            <a:ext cx="493380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70000" y="5086080"/>
            <a:ext cx="52228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49D6-0036-4D56-8860-D17CB58A8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5E11-635B-43C7-B7E6-9A8E2AE7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E4D9-C473-42ED-B5BE-7DB5F3945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187C-829A-43F0-B101-03BF7AA9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7F0-CD31-40A4-BBE4-F7B0A736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532E-6E3D-4DD2-9E7F-92DC2592C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54EF-B857-4002-A990-B1B2B5A0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4DC3-21D0-4EA4-8A2C-011172FA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17C4-0075-4349-91F0-95D6D049E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8FAF-555C-4ECC-A9B5-42F574F61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F83C-A5D0-49CA-A3D2-0E4BF497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3ABD-9779-4B1F-B2B5-59A852D20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7054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670080" y="196344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408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7054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670080" y="4539960"/>
            <a:ext cx="282312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0880" y="282600"/>
            <a:ext cx="86043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233680" y="453996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408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33680" y="1963440"/>
            <a:ext cx="42786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40880" y="4539960"/>
            <a:ext cx="8767800" cy="235260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0880" y="117000"/>
            <a:ext cx="8602920" cy="12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e6e6e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e6e6e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88640" y="2224080"/>
            <a:ext cx="847260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Arial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2"/>
          <a:stretch/>
        </p:blipFill>
        <p:spPr>
          <a:xfrm>
            <a:off x="7937640" y="6251400"/>
            <a:ext cx="1968480" cy="1057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F5E07A2-CFD4-482A-95C0-151A2A41C8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40880" y="1963440"/>
            <a:ext cx="8767800" cy="493236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723960" y="7077240"/>
            <a:ext cx="93549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4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50e"/>
                </a:solidFill>
                <a:latin typeface="Arial"/>
              </a:rPr>
              <a:t>Информационные технологии в гражданском процесс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Порядок исследования судом аудио/видеозаписей определяется как непосредственный при помощи специального оборудования с указанием в протоколе признаков воспроизводящих источников и времени воспроизвед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В целях выяснения содержащейся в аудио/видеозаписи информации судом может быть привлечен специалист, при необходимости назначается экспертиз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Аудио/видеозаписи могут постоянно храниться в камере хранения суда в неизменном состоянии и суд принимает меры для сохране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Материальный закон предусмотрел такие средства доказывания, как электронные средства платежа, аналоги собственно ручной подписи, кодов, паролей и иные средства, подтверждающие что распоряжение денежными средствами дано уполномоченным на то лицом ГК регламентирует, что определенные права могут удостоверяться бездокументарными ценными бумагами с помощью средств электронно-вычислительной техники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1"/>
          <p:cNvSpPr/>
          <p:nvPr/>
        </p:nvSpPr>
        <p:spPr>
          <a:xfrm>
            <a:off x="741240" y="27936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пециалисты оказывают научно-техническую и справочно-консультативную помощь суду в следующих процессуальных формах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участие в исследовании доказательств в судебном заседании, а также при осмотре на месте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суду письменных и устных заключений справочно-консультативного характера, особенностях ее потребительских свойств или технических характеристик, стоимости ремонта поврежденного имущества и т. п.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оказание научно-консультативной помощи суду при назначении экспертизы, а также при изучении заключения эксперта в процессе подготовки к судебному разбирательству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84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представление письменного заключения в суд апелляционной, кассационной или надзорной инстанци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741240" y="1260360"/>
            <a:ext cx="8772480" cy="564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Согласно ч. 2 ст. 67 ГПК РФ аудио/видеозаписи не могут иметь заранее установленной силы и приоритета над другими доказательствами и оцениваются в совокупности с другими доказательствами.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Аудиозаписи подпадают под определение фонодокумента – документа, содержащего звуковую информацию, зафиксированную любой системой звукозаписи. Видеозаписи - под определение аудиовизуального документа – это документ, содержащий изобразительную и звуковую информацию</a:t>
            </a:r>
            <a:endParaRPr b="0" lang="en-US" sz="28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43040"/>
                <a:tab algn="l" pos="1190520"/>
                <a:tab algn="l" pos="1639800"/>
                <a:tab algn="l" pos="2089080"/>
                <a:tab algn="l" pos="2538360"/>
                <a:tab algn="l" pos="2987640"/>
                <a:tab algn="l" pos="3436920"/>
                <a:tab algn="l" pos="3886200"/>
                <a:tab algn="l" pos="4335480"/>
                <a:tab algn="l" pos="4784760"/>
                <a:tab algn="l" pos="5234040"/>
                <a:tab algn="l" pos="5683320"/>
                <a:tab algn="l" pos="6132600"/>
                <a:tab algn="l" pos="6581880"/>
                <a:tab algn="l" pos="7031160"/>
                <a:tab algn="l" pos="7480440"/>
                <a:tab algn="l" pos="7929720"/>
                <a:tab algn="l" pos="8379000"/>
                <a:tab algn="l" pos="8827920"/>
                <a:tab algn="l" pos="9277200"/>
                <a:tab algn="l" pos="972648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9966"/>
                </a:solidFill>
                <a:latin typeface="Times New Roman"/>
                <a:ea typeface="Times New Roman"/>
              </a:rPr>
              <a:t>2.2 Место аудио/видеозаписей в системе доказательств</a:t>
            </a:r>
            <a:endParaRPr b="1" i="1" lang="en-US" sz="22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Общее между письменными, вещественными доказательствами и аудио/видеозаписями состоит в том, что данные виды доказательств относятся к предметным доказательствам, т.е. в них информация сохраняется, как правило, на объектах неживой природы, вещах, как бы в статичном состоянии. Как и письменные доказательства, аудио/видеозаписи подтверждают определенные обстоятельства по делу с помощью той информации, которая записана на них, например запись того, как свидетель обещает вовремя вернуть долг, запись высказываний, которые порочат честь, достоинство и деловую репутацию гражданина, по делам о компенсации морального вред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</a:rPr>
              <a:t>Различие между этими доказательствами состоит в том, что информацию с аудио/видеозаписей участникам процесса нельзя снять с помощью органов слуха и зрения, как это имеет место при осмотре вещественных доказательств или при исследовании письменных доказательств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741240" y="523800"/>
            <a:ext cx="8609040" cy="63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Общее правило о допустимости сформулировано в ч. 1 ст. 55 ГПК РФ: доказательствами по делу являются полученные в предусмотренном законом порядке сведения о фактах. Это означает, что, даже если обстоятельство по делу подтверждается определенным средством доказывания</a:t>
            </a:r>
            <a:r>
              <a:rPr b="0" lang="en-US" sz="26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, но нарушена процедура совершения этого действия, доказательство не может быть допущено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43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Допустимость аудио/видеозаписей в гражданском процессе до сих пор является предметом дискуссий так как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 помощью существующих технических приемов можно изменить, исказить их содержание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олучение и воспроизведение аудио/видеозаписей может быть сопряжено с нарушением неприкосновенности частной жизни граждан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бор, хранение, использование и распространение информации о частной жизни лица без его согласия не допускаются. Никто не вправе проникать в жилище против воли проживающих в нем лиц иначе как в случаях, установленных федеральным законом, или на основании судебного решени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учетом этого должны признаваться недопустимыми в качестве доказательств, в частности, аудиозаписи телефонных переговоров, полученные без санкции суда; (ч. 1 ст. 6 Федерального закона "Об оперативно-розыскной деятельности"), если проведение таковых было сопряжено с провоцированием граждан на совершение противоправных действий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Р</a:t>
            </a:r>
            <a:r>
              <a:rPr b="0" lang="ru-RU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ассмотрение материалов об ограничении конституционных прав граждан на тайну переписки, телефонных переговоров, почтовых, телеграфных и иных сообщений, передаваемых по сетям электрической и почтовой связи, на неприкосновенность жилища при проведении оперативно-розыскных мероприятий осуществляется судом, как правило, по месту проведения таких мероприят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В соответствии </a:t>
            </a:r>
            <a:r>
              <a:rPr b="1" lang="en-US" sz="2600" spc="-1" strike="noStrike">
                <a:solidFill>
                  <a:srgbClr val="cccccc"/>
                </a:solidFill>
                <a:latin typeface="Times New Roman"/>
              </a:rPr>
              <a:t>со ст. 50 Закона РФ "О средствах массовой информации"</a:t>
            </a: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 распространение сообщений и материалов, подготовленных с использованием скрытой аудио/видеозаписи, кино- и фотосъемки, допускается при наличии одного из трех обстоятельст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 нарушать конституционные права, предусмотренные в Конституции РФ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необходимость защиты общественных интересов и принятие мер против возможной идентификации посторонних лиц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884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cccccc"/>
                </a:solidFill>
                <a:latin typeface="Times New Roman"/>
              </a:rPr>
              <a:t>решение суда о демонстрации материалов, когда допускается распространение материалов, сделанных скрытой записью, речь идет только о демонстрации, т.е. о публичном исполнени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5092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ГПК РФ можно обнаружить несколько статей, в которых речь идет об аудио/видеозаписях, и только в одной из них, а именно в ст. 185, предельно кратко описан порядок их исследования органом правосудия. Он подразумевает, что судья должен придерживаться следующих процессуально-правовых действий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ри воспроизведении аудио/видеозаписей, содержащих сведения личного характера, открытое судебное заседание назначается только с согласия заинтересованных лиц, в противном случае исследование записей происходит без соблюдения принципа гласно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спроизведение аудио/видеозаписей осуществляется в зале заседания или ином специально оборудованном для этой цели помещении с указанием в протоколе судебного заседания признаков воспроизводящих источников доказательств и времени воспроизведения. После этого суд заслушивает объяснения лиц, участвующих в деле; если это требуется, воспроизведение аудио/видеозаписей повторяется полностью либо в какой-либо части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25092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 целях выяснения содержащихся в аудио/видеозаписи сведений суд вправе привлечь специалиста, а в необходимых случаях назначить экспертизу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1"/>
          <p:cNvSpPr/>
          <p:nvPr/>
        </p:nvSpPr>
        <p:spPr>
          <a:xfrm>
            <a:off x="539640" y="369720"/>
            <a:ext cx="9180720" cy="66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— особый объект гражданских правоотношений, она обладает следующими признакам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, являясь идеальной компонентой бытия, т.е. благом нематериальным, опосредует имущественные отнош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информация является непотребляемым объектом гражданских правоотношений, который подвергается лишь моральному старению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7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возможность ее практически неограниченного тиражиро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539640" y="282600"/>
            <a:ext cx="918072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21600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Times New Roman"/>
              </a:rPr>
              <a:t>Принцип свободы информации определяется следующими правами и свободами, закрепленными в Конституции РФ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ысли и слова (ч.1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ыражения своих убеждений (ч.3 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свободно искать, получать, передавать и распространять инф-ю любым законным способом (ч.ст.29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массовой информации (ч.5 ст.29)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каждого на достоверную информацию о состоянии окружающей среды (ст.42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6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свобода всех видов творчества (ч.1 ст.44)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212760" indent="216000" algn="just">
              <a:lnSpc>
                <a:spcPct val="114000"/>
              </a:lnSpc>
              <a:buSzPct val="102820"/>
              <a:buBlip>
                <a:blip r:embed="rId7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аво на доступ к культурным ценностям (ч.2 ст.44)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720720" y="360360"/>
            <a:ext cx="8820000" cy="48592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Информация является одним из ценнейших ресурсов общества наряду с такими традиционными материальными видами ресурсов, как нефть, газ, полезные ископаемые и др., а значит, процесс ее переработки по аналогии с процессами переработки материальных ресурсов можно воспринимать как технологию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e6e6e6"/>
                </a:solidFill>
                <a:latin typeface="Times New Roman"/>
              </a:rPr>
              <a:t>Информационная технология</a:t>
            </a: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 — процесс, использующий совокупность средств и методов сбора, обработки и передачи данных (первичной информации) для получения информации нового качества о состоянии объекта, процесса или явления .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e6e6e6"/>
                </a:solidFill>
                <a:latin typeface="Times New Roman"/>
              </a:rPr>
              <a:t>Цель информационной технологии — производство информации для ее анализа человеком и принятия на его основе решения по выполнению какого-либо действия. </a:t>
            </a:r>
            <a:endParaRPr b="0" lang="en-US" sz="2200" spc="-1" strike="noStrike">
              <a:solidFill>
                <a:srgbClr val="e6e6e6"/>
              </a:solidFill>
              <a:latin typeface="Times New Roman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39640" y="5400720"/>
            <a:ext cx="9139320" cy="1079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436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4000" spc="-1" strike="noStrike">
                <a:solidFill>
                  <a:srgbClr val="ff9966"/>
                </a:solidFill>
                <a:latin typeface="Arial"/>
              </a:rPr>
              <a:t>Исследование информации:</a:t>
            </a:r>
            <a:endParaRPr b="1" i="1" lang="en-US" sz="4000" spc="-1" strike="noStrike">
              <a:solidFill>
                <a:srgbClr val="ff9966"/>
              </a:solidFill>
              <a:latin typeface="Arial"/>
            </a:endParaRPr>
          </a:p>
        </p:txBody>
      </p:sp>
      <p:pic>
        <p:nvPicPr>
          <p:cNvPr id="131" name="Picture 3" descr="C:\Documents and Settings\дом\Рабочий стол\marketing_shema_01.jpg"/>
          <p:cNvPicPr/>
          <p:nvPr/>
        </p:nvPicPr>
        <p:blipFill>
          <a:blip r:embed="rId1"/>
          <a:stretch/>
        </p:blipFill>
        <p:spPr>
          <a:xfrm>
            <a:off x="1397160" y="1994040"/>
            <a:ext cx="6968880" cy="49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"/>
          <p:cNvSpPr/>
          <p:nvPr/>
        </p:nvSpPr>
        <p:spPr>
          <a:xfrm>
            <a:off x="741240" y="28260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1. ПРИМЕНЕНИЕ  ИНФОРМАЦИОННЫХ ТЕХНОЛОГИЙ  </a:t>
            </a:r>
            <a:br>
              <a:rPr sz="3600"/>
            </a:br>
            <a:r>
              <a:rPr b="0" lang="en-US" sz="3600" spc="-1" strike="noStrike">
                <a:solidFill>
                  <a:srgbClr val="ff950e"/>
                </a:solidFill>
                <a:latin typeface="Times New Roman"/>
                <a:ea typeface="Times New Roman"/>
              </a:rPr>
              <a:t>В ГРАЖДАНСКОМ ПРОЦЕСС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1"/>
          <p:cNvSpPr/>
          <p:nvPr/>
        </p:nvSpPr>
        <p:spPr>
          <a:xfrm>
            <a:off x="741240" y="276120"/>
            <a:ext cx="860904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just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С появлением современных источников информации в качестве доказательств по правовым спорам следует обратить внимание на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озможность использования электронных документов в случае спора — одно из условий их юридической силы, что установлено в  нормативных актах и кладет начало для их использования в экономическом обороте как внутри, так и вне тех систем управл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Существенно меняются формы документов, условия проверки их достоверности, способы  удостовер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Актуальным  оказывается вопрос об условиях, при которых арбитражные суды по национальному законодательству могут принимать для доказывания информацию, хранимую в ЭВМ, и рассматривать ее как идентичную той, которая первоначально была введена в ЭВМ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Подлежит разрешению и вопрос о сроках хранения сведений в памяти ЭВМ, так как они могут потребоваться при рассмотрении дела в арбитраже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792"/>
              <a:buBlip>
                <a:blip r:embed="rId5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cccccc"/>
                </a:solidFill>
                <a:latin typeface="Times New Roman"/>
              </a:rPr>
              <a:t>В законодательстве ряда стран существуют нормы, устанавливающие порядок и процедуру пользования электронными документ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360360" y="282600"/>
            <a:ext cx="9360000" cy="66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212760" indent="-212760" algn="ctr">
              <a:lnSpc>
                <a:spcPct val="95000"/>
              </a:lnSpc>
              <a:tabLst>
                <a:tab algn="l" pos="0"/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cccccc"/>
                </a:solidFill>
                <a:latin typeface="Times New Roman"/>
              </a:rPr>
              <a:t>Особенности  электронных документов,  обеспечивающих доказательственую функцию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1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практически невозможно извлечь из памяти ЭВМ информацию путем прямого анализа физических свойств  носителя информации, минуя вычислительный процес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2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</a:rPr>
              <a:t>информация, содержащаяся в памяти  ЭВМ, в большинстве случаев может быть воспроизведена на другой ЭВ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3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визуально, т.е. непосредственно без использования специальной техники, суду электронный документ  недоступе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12760" indent="-212760" algn="just">
              <a:lnSpc>
                <a:spcPct val="114000"/>
              </a:lnSpc>
              <a:buSzPct val="102805"/>
              <a:buBlip>
                <a:blip r:embed="rId4"/>
              </a:buBlip>
              <a:tabLst>
                <a:tab algn="l" pos="214200"/>
                <a:tab algn="l" pos="662040"/>
                <a:tab algn="l" pos="1111320"/>
                <a:tab algn="l" pos="1560600"/>
                <a:tab algn="l" pos="2009880"/>
                <a:tab algn="l" pos="2459160"/>
                <a:tab algn="l" pos="2908440"/>
                <a:tab algn="l" pos="3357720"/>
                <a:tab algn="l" pos="3807000"/>
                <a:tab algn="l" pos="4255920"/>
                <a:tab algn="l" pos="4705200"/>
                <a:tab algn="l" pos="5154480"/>
                <a:tab algn="l" pos="5603760"/>
                <a:tab algn="l" pos="6053040"/>
                <a:tab algn="l" pos="6502320"/>
                <a:tab algn="l" pos="6951600"/>
                <a:tab algn="l" pos="7400880"/>
                <a:tab algn="l" pos="7850160"/>
                <a:tab algn="l" pos="8299440"/>
                <a:tab algn="l" pos="8748720"/>
                <a:tab algn="l" pos="9198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cccccc"/>
                </a:solidFill>
                <a:latin typeface="Times New Roman"/>
                <a:ea typeface="Times New Roman"/>
              </a:rPr>
              <a:t>форма фиксации информации в электронных документах существенно отличается от письменного докумен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2. АУДИО/ВИДЕОЗАПИСИ КАК СРЕДСТВА ДОКАЗЫВАНИЯ</a:t>
            </a:r>
            <a:endParaRPr b="1" i="1" lang="en-US" sz="28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Аудио/видеозаписи являются в гражданском процессе самостоятельным средством доказывания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Лицо, представляющее аудио/видеозаписи на электронном носителе либо ходатайствующее об их истребовании, обязано указать, когда, кем ч в каких условиях осуществлялись записи. 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  <a:p>
            <a:pPr indent="0" algn="just">
              <a:lnSpc>
                <a:spcPct val="114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cccccc"/>
                </a:solidFill>
                <a:latin typeface="Times New Roman"/>
              </a:rPr>
              <a:t>Происхождение аудио/видеозаписи будет законным, если участники судебного разбирательства, присутствовавшие в открытом судебном заседании, фиксировали происходящее посредством электронных устройств</a:t>
            </a:r>
            <a:endParaRPr b="0" lang="en-US" sz="2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7T06:12:22Z</dcterms:created>
  <dc:creator>An al</dc:creator>
  <dc:description>Предложение пути развития и альтернатив, рекомендации по использованию той или другой стратегии</dc:description>
  <dc:language>en-US</dc:language>
  <cp:lastModifiedBy>Philka</cp:lastModifiedBy>
  <dcterms:modified xsi:type="dcterms:W3CDTF">2010-10-31T12:32:41Z</dcterms:modified>
  <cp:revision>2</cp:revision>
  <dc:subject/>
  <dc:title>Предложение стратегии</dc:title>
</cp:coreProperties>
</file>