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wind.wav" ContentType="audio/x-wav"/>
  <Override PartName="/ppt/media/chimes.wav" ContentType="audio/x-wav"/>
  <Override PartName="/ppt/media/image1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5EC-F20D-4883-964F-D919451D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6CF-05C7-4CE5-AF22-3BBBDE1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497B5-6EC5-411B-826B-D1AF71E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F8CF3-F670-4EF9-856B-6B973D5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DE692-72E4-43BB-A10A-0A8EB6A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0A9A-3CF4-4B3F-89CC-FC0F7E2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086F3-B20D-4BBD-8627-805F886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31317-B55E-434E-8CA5-81ED96A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F1B0E-3B36-4D0F-9704-87B55B1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686F6-F991-4831-9281-F003FC45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C471-F4AB-4870-B59B-4802241B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435F6-F48F-46E0-9E77-F63F7B96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E9E-0802-4C0E-8022-1898330A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73A99-09B2-452A-86EA-6B19932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4F5B-6CEA-4CBB-AFDA-5F309CF1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22D62-6CD8-4E88-8D71-F933B63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C57F-C723-43E1-9B2C-404CA1AA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6670B-BEEE-4D32-865A-4FB73866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512B0-293F-4925-901A-5268CAC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FE710-6387-4475-896B-9C4ED1BB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77697-A5DA-43CE-80DA-43E8CFA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3BC42-55C5-405A-8339-0FBFC14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13478-75E6-4627-BD11-C0E2AB9A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413-1ED5-443A-9FAF-466266A8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3A206-D757-4E7D-B790-7759AE1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57993-F7F5-4CBC-AE8C-036206B8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A699-C082-4481-AB5B-996A2189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CA9A-4B88-4F44-956C-660B9FB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3DC4A-05F9-44EF-AF64-F19B27B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BDB85-ABAF-4DDC-84EA-5F2C518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D8525-7B85-42C9-9C8D-C4BA2B07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C9858-25D8-41EB-90D3-30FC4B1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513D-BE72-40CE-A507-B70DE81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711DB-F091-4726-83D2-4DC1FD2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EA5E-7EA9-4D9F-8D76-6423D69C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3193-54AF-468F-876D-A3A88F7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CFD29-5042-49B0-AFE5-37E3B23B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79E0F-CEEF-4AD6-986B-B1E47E4F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347D7-50A8-4519-82B7-5D35A4B1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D063A-DE0C-448E-95DD-A0A7B5C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C65BB-90E9-48F9-875D-9707F3F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C27FB-481C-41E6-AC0E-C2A5321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E1662-1BE1-4C97-8EB5-7259979C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C9738-0313-4CB9-8F01-DD78DF5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2C469-7C73-4623-AB1B-F91F791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0388-418B-46B7-A772-45BB7CA2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8059D-790E-4866-8655-0DBF364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373E7-F5C7-4B68-9C30-6D0AD15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544C8-E6A0-4D5F-8CA0-B789B01B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48FE-EF98-4E8C-BB98-D6A15344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D3E81-CC93-4EE0-87AD-FCC85282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3EF-7901-454C-986F-7C358BB2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5D35-AE35-41F4-B95D-4FF5E67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842-1A7D-49AA-88EF-4FB5CD7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68F-D1FA-44E5-A494-F85E4FB5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5C66-86A5-484E-AAF9-5A16C50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AB5-FC5D-496E-B1CC-20CAD2FE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D48-2751-486F-AA90-374EE47C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2FC7-9F5F-4677-BBC7-C8D99E9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20D6-9893-4795-A7F5-897B106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9203-D78D-44C5-92A8-AF105323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D5E2-DBB6-47D8-B310-62D13C52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D719-1FFC-4B41-84CD-FD17D2AC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6948-A1F2-4A66-B965-CA8B91B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2257-8489-48B8-8953-82DFBBE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C7D6-9BDD-4D4B-86D1-F07E2883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9BF0-31DB-42D5-9FAC-BC3419D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997-9E64-4337-A803-EE32099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50AB-DAC8-4F17-8E97-1908AC9B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F88C-51DE-48F3-AA93-1A25CEF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711C-F304-46B3-95B2-B95D088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3A75-4EAB-4F83-B8FD-2F9770E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17E0-C599-4148-922A-B1E60B7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BF39-12E6-497A-82FB-5739B52C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65C1-C206-4D0C-90F3-D958CF42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1EC0-93BF-4734-98EB-A63F5F16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D8C1-5AE3-4670-8B07-A83AC43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350A-F6B3-48D7-99D6-9C9C8B71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664-7B66-43B0-8082-3B5B489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3C8C-C0D2-4627-AE8E-9A30592F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F354-AB4B-4439-A551-128B95A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246F-00A0-4062-BCE9-4978BCB5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08C0-BF7B-4E6E-A06A-693CDD9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BEFF-887F-4887-8D38-30253CB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615A-F6B5-42DF-8909-5A6EDFB9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4D56-CBA8-487A-BA48-F07A1869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81D9-9E10-46F7-A625-CA81F01A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6974-E684-477C-B4A1-F15634DD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CB45-A768-4C5A-8E5D-8D83DA52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ADB-6564-4A03-8585-F606213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F426-794F-4D3E-BC14-2BDCFC1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BBE5-F9D2-4320-8FCF-BDFCC043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A529B-D37A-4BAD-8DEE-9D2C68D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D87C-68D6-4FB6-8573-F758C5E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BFCB-286A-4C41-944F-2C9AEB2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333B-6CF4-4B28-BA21-4898E56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36C0-9F2F-4D43-A3EF-D939BDF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CD9C6-56BC-42A4-99B4-45780A4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DA141-0732-4F75-A11F-5ADCE7B0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D1BB1-82F9-4C64-A67B-FF11102C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D81-5F14-4DD3-8D1E-D35EA1A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C4418-C099-406E-B61A-827EC7B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6A2DA-42C2-4705-A8C3-F4391E71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C3C85-1646-4D74-8F59-8590452E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A2237-EF73-440D-8050-B885130B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8A781-F611-4F50-8F82-58829998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1C134-DC41-47C9-8338-8055525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E3E45-51D7-42ED-BD0F-F42D845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5F26A-54AD-4E0F-98F6-2450C9B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19D53-D075-48AB-AE57-AE0395F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9802BD-651D-4447-BF6C-546F29D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389-1A49-4CF7-B908-1233715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D7E56-D589-4F7A-9BC4-6487D23A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9EF41-C81F-4A2A-A330-8EC71AF8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C04C2-3072-4ECC-B0FA-10A8D63B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CBBC-7615-42B7-8ADF-65387572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EE0A-60C1-4FDA-9688-3C4F078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4F5C-FAA0-4481-A32C-5FC2C53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089C-4067-4BBE-9AE2-99936CDF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61E9D-0151-4C83-B599-4554FE7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74A5-E8EA-4014-87D4-7D2FA61F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5C089-7DF4-41AE-A79B-CC3345F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E95-3FB3-4906-9B75-640FC11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FF37B-BA5D-442F-AC6D-ACCF4A9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27891-29BE-4435-8EEE-BF80262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1CD5-F463-479C-AB55-73B0A541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0027-0D3D-45F0-B842-4B720C4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5FDD-160A-4161-B8EA-54B935D3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326F85-750C-42CE-828D-AE3EA879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A9D73-F266-4649-8F1D-76F96D5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7977B8-A72B-4051-B66A-C1BE07C6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82784C-16F7-48DE-98A5-98A3EF9C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26920-D9EC-48DF-A426-3CD8F123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322-ED33-4446-883A-42E340B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143F1-2FF9-4945-834A-832D3DBD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CDF57-3B36-4212-AACE-2DB1426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434C7-A2E8-49AD-8CB1-59EE987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6FA4C-5396-431A-940C-8FBB88FE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E0ECE-DB4E-471F-80E7-9B370A6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970E5-36F1-4F18-9009-34A15773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39C028-C0AD-4D6C-A332-85F308B8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533C-1B7A-4CA6-9984-D0F47A22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717BF-8060-4A95-A9BE-3C4EE3D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2E0D-1B7A-4EE5-A6F3-A66784FC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28B6-9325-439E-8D53-22EB3880A87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-313560" y="798480"/>
            <a:ext cx="7083720" cy="6861240"/>
            <a:chOff x="-313560" y="798480"/>
            <a:chExt cx="7083720" cy="6861240"/>
          </a:xfrm>
        </p:grpSpPr>
        <p:grpSp>
          <p:nvGrpSpPr>
            <p:cNvPr id="673" name="Group 3"/>
            <p:cNvGrpSpPr/>
            <p:nvPr/>
          </p:nvGrpSpPr>
          <p:grpSpPr>
            <a:xfrm>
              <a:off x="-313560" y="798480"/>
              <a:ext cx="7083720" cy="6861240"/>
              <a:chOff x="-313560" y="798480"/>
              <a:chExt cx="7083720" cy="6861240"/>
            </a:xfrm>
          </p:grpSpPr>
          <p:grpSp>
            <p:nvGrpSpPr>
              <p:cNvPr id="674" name="Group 4"/>
              <p:cNvGrpSpPr/>
              <p:nvPr/>
            </p:nvGrpSpPr>
            <p:grpSpPr>
              <a:xfrm>
                <a:off x="-313560" y="798480"/>
                <a:ext cx="7083720" cy="6861240"/>
                <a:chOff x="-313560" y="798480"/>
                <a:chExt cx="7083720" cy="6861240"/>
              </a:xfrm>
            </p:grpSpPr>
            <p:sp>
              <p:nvSpPr>
                <p:cNvPr id="67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76" name="Group 6"/>
                <p:cNvGrpSpPr/>
                <p:nvPr/>
              </p:nvGrpSpPr>
              <p:grpSpPr>
                <a:xfrm>
                  <a:off x="-313560" y="798480"/>
                  <a:ext cx="7083720" cy="6861240"/>
                  <a:chOff x="-313560" y="798480"/>
                  <a:chExt cx="7083720" cy="6861240"/>
                </a:xfrm>
              </p:grpSpPr>
              <p:sp>
                <p:nvSpPr>
                  <p:cNvPr id="67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80" name="Group 10"/>
                  <p:cNvGrpSpPr/>
                  <p:nvPr/>
                </p:nvGrpSpPr>
                <p:grpSpPr>
                  <a:xfrm>
                    <a:off x="-313560" y="798480"/>
                    <a:ext cx="7083720" cy="6861240"/>
                    <a:chOff x="-313560" y="798480"/>
                    <a:chExt cx="7083720" cy="6861240"/>
                  </a:xfrm>
                </p:grpSpPr>
                <p:sp>
                  <p:nvSpPr>
                    <p:cNvPr id="68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82" name="Group 12"/>
                    <p:cNvGrpSpPr/>
                    <p:nvPr/>
                  </p:nvGrpSpPr>
                  <p:grpSpPr>
                    <a:xfrm>
                      <a:off x="-313560" y="805680"/>
                      <a:ext cx="7074000" cy="6854040"/>
                      <a:chOff x="-313560" y="805680"/>
                      <a:chExt cx="7074000" cy="6854040"/>
                    </a:xfrm>
                  </p:grpSpPr>
                  <p:sp>
                    <p:nvSpPr>
                      <p:cNvPr id="68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84" name="Group 14"/>
                      <p:cNvGrpSpPr/>
                      <p:nvPr/>
                    </p:nvGrpSpPr>
                    <p:grpSpPr>
                      <a:xfrm>
                        <a:off x="-313560" y="805680"/>
                        <a:ext cx="7074000" cy="6854040"/>
                        <a:chOff x="-313560" y="805680"/>
                        <a:chExt cx="7074000" cy="6854040"/>
                      </a:xfrm>
                    </p:grpSpPr>
                    <p:sp>
                      <p:nvSpPr>
                        <p:cNvPr id="68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21" name="Group 51"/>
                        <p:cNvGrpSpPr/>
                        <p:nvPr/>
                      </p:nvGrpSpPr>
                      <p:grpSpPr>
                        <a:xfrm>
                          <a:off x="-313560" y="1282320"/>
                          <a:ext cx="6462720" cy="6377400"/>
                          <a:chOff x="-313560" y="1282320"/>
                          <a:chExt cx="6462720" cy="6377400"/>
                        </a:xfrm>
                      </p:grpSpPr>
                      <p:sp>
                        <p:nvSpPr>
                          <p:cNvPr id="722" name="Oval 52"/>
                          <p:cNvSpPr/>
                          <p:nvPr/>
                        </p:nvSpPr>
                        <p:spPr>
                          <a:xfrm rot="18780000">
                            <a:off x="2446560" y="4520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5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6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8" name="Oval 58"/>
                          <p:cNvSpPr/>
                          <p:nvPr/>
                        </p:nvSpPr>
                        <p:spPr>
                          <a:xfrm rot="18780000">
                            <a:off x="1828800" y="292680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9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0" name="Oval 60"/>
                          <p:cNvSpPr/>
                          <p:nvPr/>
                        </p:nvSpPr>
                        <p:spPr>
                          <a:xfrm rot="18780000">
                            <a:off x="1578240" y="240372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1" name="Oval 61"/>
                          <p:cNvSpPr/>
                          <p:nvPr/>
                        </p:nvSpPr>
                        <p:spPr>
                          <a:xfrm rot="18780000">
                            <a:off x="1476720" y="211968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2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3" name="Oval 63"/>
                          <p:cNvSpPr/>
                          <p:nvPr/>
                        </p:nvSpPr>
                        <p:spPr>
                          <a:xfrm rot="18819600">
                            <a:off x="1291320" y="15562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3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7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7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83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78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0" name="Group 120"/>
              <p:cNvGrpSpPr/>
              <p:nvPr/>
            </p:nvGrpSpPr>
            <p:grpSpPr>
              <a:xfrm>
                <a:off x="4767120" y="2127240"/>
                <a:ext cx="498600" cy="490680"/>
                <a:chOff x="4767120" y="2127240"/>
                <a:chExt cx="498600" cy="490680"/>
              </a:xfrm>
            </p:grpSpPr>
            <p:sp>
              <p:nvSpPr>
                <p:cNvPr id="791" name="Oval 121"/>
                <p:cNvSpPr/>
                <p:nvPr/>
              </p:nvSpPr>
              <p:spPr>
                <a:xfrm rot="2828400">
                  <a:off x="4783320" y="2350800"/>
                  <a:ext cx="31320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2"/>
                <p:cNvSpPr/>
                <p:nvPr/>
              </p:nvSpPr>
              <p:spPr>
                <a:xfrm>
                  <a:off x="4881600" y="2249280"/>
                  <a:ext cx="255600" cy="24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3" name="Freeform 123"/>
                <p:cNvSpPr/>
                <p:nvPr/>
              </p:nvSpPr>
              <p:spPr>
                <a:xfrm>
                  <a:off x="4966560" y="2238120"/>
                  <a:ext cx="183240" cy="17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4" name="Freeform 124"/>
                <p:cNvSpPr/>
                <p:nvPr/>
              </p:nvSpPr>
              <p:spPr>
                <a:xfrm>
                  <a:off x="503100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5" name="Freeform 125"/>
                <p:cNvSpPr/>
                <p:nvPr/>
              </p:nvSpPr>
              <p:spPr>
                <a:xfrm>
                  <a:off x="5176080" y="2127240"/>
                  <a:ext cx="8964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C9E-F276-4F66-8701-40961D0183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5A3-EEE6-4807-8209-1F75F731001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2633-4084-4C6C-9CD4-33BD9C4470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EF4-EF82-48DF-81BF-D6A458FE3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F27B-4EAF-45EF-81EF-76A3324126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9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9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20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0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20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0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20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0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20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0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21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4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24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25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9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9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9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9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0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0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1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CBF7-7896-49AA-9950-EBA420EADA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6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5DC-2FE6-47E0-98CE-3C1142FAFC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6AC5-FA08-4B8B-BF13-8A0FE3C2C1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75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8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04C-6C5A-4A44-814D-4E1B7436FD3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5E5-E685-478D-84F7-B8614E471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41B-55A4-4391-9AC8-A9682EA0D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р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езов Ром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000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80" name="Picture 5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01000" cy="246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9"/>
          <p:cNvSpPr/>
          <p:nvPr/>
        </p:nvSpPr>
        <p:spPr>
          <a:xfrm>
            <a:off x="2050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омощ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2" name="Рисунок 7" descr=""/>
          <p:cNvPicPr/>
          <p:nvPr/>
        </p:nvPicPr>
        <p:blipFill>
          <a:blip r:embed="rId1"/>
          <a:stretch/>
        </p:blipFill>
        <p:spPr>
          <a:xfrm>
            <a:off x="0" y="285840"/>
            <a:ext cx="5934240" cy="227628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8" descr=""/>
          <p:cNvPicPr/>
          <p:nvPr/>
        </p:nvPicPr>
        <p:blipFill>
          <a:blip r:embed="rId2"/>
          <a:stretch/>
        </p:blipFill>
        <p:spPr>
          <a:xfrm>
            <a:off x="4464000" y="1571760"/>
            <a:ext cx="4680000" cy="270504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9" descr=""/>
          <p:cNvPicPr/>
          <p:nvPr/>
        </p:nvPicPr>
        <p:blipFill>
          <a:blip r:embed="rId3"/>
          <a:stretch/>
        </p:blipFill>
        <p:spPr>
          <a:xfrm>
            <a:off x="1285920" y="4581360"/>
            <a:ext cx="59338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скаль (Попугай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2" name="Picture 7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381720" cy="5124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in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зит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54" name="Содержимое 6" descr=""/>
          <p:cNvPicPr/>
          <p:nvPr/>
        </p:nvPicPr>
        <p:blipFill>
          <a:blip r:embed="rId1"/>
          <a:stretch/>
        </p:blipFill>
        <p:spPr>
          <a:xfrm>
            <a:off x="890640" y="1884240"/>
            <a:ext cx="73627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блиц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59295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4" descr="1"/>
          <p:cNvPicPr/>
          <p:nvPr/>
        </p:nvPicPr>
        <p:blipFill>
          <a:blip r:embed="rId1"/>
          <a:stretch/>
        </p:blipFill>
        <p:spPr>
          <a:xfrm>
            <a:off x="1428840" y="1628640"/>
            <a:ext cx="6500880" cy="472932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8" descr=""/>
          <p:cNvPicPr/>
          <p:nvPr/>
        </p:nvPicPr>
        <p:blipFill>
          <a:blip r:embed="rId2"/>
          <a:stretch/>
        </p:blipFill>
        <p:spPr>
          <a:xfrm>
            <a:off x="1500120" y="1643040"/>
            <a:ext cx="5934240" cy="221760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9" descr=""/>
          <p:cNvPicPr/>
          <p:nvPr/>
        </p:nvPicPr>
        <p:blipFill>
          <a:blip r:embed="rId3"/>
          <a:stretch/>
        </p:blipFill>
        <p:spPr>
          <a:xfrm>
            <a:off x="1500120" y="3929040"/>
            <a:ext cx="5962680" cy="239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ы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2" name="Picture 4" descr="1B"/>
          <p:cNvPicPr/>
          <p:nvPr/>
        </p:nvPicPr>
        <p:blipFill>
          <a:blip r:embed="rId1"/>
          <a:stretch/>
        </p:blipFill>
        <p:spPr>
          <a:xfrm>
            <a:off x="324000" y="1616040"/>
            <a:ext cx="8496000" cy="447696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9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5078520" cy="123516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10" descr=""/>
          <p:cNvPicPr/>
          <p:nvPr/>
        </p:nvPicPr>
        <p:blipFill>
          <a:blip r:embed="rId3"/>
          <a:stretch/>
        </p:blipFill>
        <p:spPr>
          <a:xfrm>
            <a:off x="2143080" y="2857680"/>
            <a:ext cx="5165640" cy="1060200"/>
          </a:xfrm>
          <a:prstGeom prst="rect">
            <a:avLst/>
          </a:prstGeom>
          <a:ln w="0">
            <a:noFill/>
          </a:ln>
        </p:spPr>
      </p:pic>
      <p:pic>
        <p:nvPicPr>
          <p:cNvPr id="965" name="Рисунок 11" descr=""/>
          <p:cNvPicPr/>
          <p:nvPr/>
        </p:nvPicPr>
        <p:blipFill>
          <a:blip r:embed="rId4"/>
          <a:stretch/>
        </p:blipFill>
        <p:spPr>
          <a:xfrm>
            <a:off x="2071800" y="4000680"/>
            <a:ext cx="512604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7" name="Содержимое 7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38760" cy="1447920"/>
          </a:xfrm>
          <a:prstGeom prst="rect">
            <a:avLst/>
          </a:prstGeom>
          <a:ln w="0">
            <a:noFill/>
          </a:ln>
        </p:spPr>
      </p:pic>
      <p:pic>
        <p:nvPicPr>
          <p:cNvPr id="968" name="Рисунок 8" descr=""/>
          <p:cNvPicPr/>
          <p:nvPr/>
        </p:nvPicPr>
        <p:blipFill>
          <a:blip r:embed="rId2"/>
          <a:stretch/>
        </p:blipFill>
        <p:spPr>
          <a:xfrm>
            <a:off x="2143080" y="3071880"/>
            <a:ext cx="48052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0" name="Содержимое 7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800600" cy="84744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8" descr=""/>
          <p:cNvPicPr/>
          <p:nvPr/>
        </p:nvPicPr>
        <p:blipFill>
          <a:blip r:embed="rId2"/>
          <a:stretch/>
        </p:blipFill>
        <p:spPr>
          <a:xfrm>
            <a:off x="2357280" y="2928960"/>
            <a:ext cx="480564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редний бал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4" name="Picture 4" descr="213"/>
          <p:cNvPicPr/>
          <p:nvPr/>
        </p:nvPicPr>
        <p:blipFill>
          <a:blip r:embed="rId1"/>
          <a:stretch/>
        </p:blipFill>
        <p:spPr>
          <a:xfrm>
            <a:off x="468360" y="1643040"/>
            <a:ext cx="8207280" cy="5000760"/>
          </a:xfrm>
          <a:prstGeom prst="rect">
            <a:avLst/>
          </a:prstGeom>
          <a:ln w="0">
            <a:noFill/>
          </a:ln>
        </p:spPr>
      </p:pic>
      <p:pic>
        <p:nvPicPr>
          <p:cNvPr id="975" name="Рисунок 9" descr=""/>
          <p:cNvPicPr/>
          <p:nvPr/>
        </p:nvPicPr>
        <p:blipFill>
          <a:blip r:embed="rId2"/>
          <a:stretch/>
        </p:blipFill>
        <p:spPr>
          <a:xfrm>
            <a:off x="1714680" y="1643040"/>
            <a:ext cx="5943600" cy="2538360"/>
          </a:xfrm>
          <a:prstGeom prst="rect">
            <a:avLst/>
          </a:prstGeom>
          <a:ln w="0">
            <a:noFill/>
          </a:ln>
        </p:spPr>
      </p:pic>
      <p:pic>
        <p:nvPicPr>
          <p:cNvPr id="976" name="Рисунок 10" descr=""/>
          <p:cNvPicPr/>
          <p:nvPr/>
        </p:nvPicPr>
        <p:blipFill>
          <a:blip r:embed="rId3"/>
          <a:stretch/>
        </p:blipFill>
        <p:spPr>
          <a:xfrm>
            <a:off x="2286000" y="4214880"/>
            <a:ext cx="4699080" cy="2363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(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решение задачи графически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78" name="Содержимое 6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781520" cy="3771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25:04Z</dcterms:created>
  <dc:creator>123</dc:creator>
  <dc:description/>
  <dc:language>en-US</dc:language>
  <cp:lastModifiedBy>123</cp:lastModifiedBy>
  <dcterms:modified xsi:type="dcterms:W3CDTF">2008-02-18T12:08:24Z</dcterms:modified>
  <cp:revision>11</cp:revision>
  <dc:subject/>
  <dc:title>Презентация</dc:title>
</cp:coreProperties>
</file>