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0FD-5BA6-486F-9052-EFD3E5DB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54B-C2CA-4EE4-B811-94C1F9A4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881-6A6B-4BBF-95E3-1869FAFD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13C-AAC3-4D50-8070-77D5042F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223B-1B98-41AC-B823-063362B3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DFBD-C11A-4135-935B-0CFE64EF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17D1-84E5-40BC-8CC7-6D28211D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E07C-B809-462A-B7BD-8319B5CA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D804-38B1-4CA4-8114-12BAF95C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2C21-D841-4B3F-A53D-C62FB731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5646-000A-4BD7-B762-1415B5D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BE3-A206-486E-A63A-C1753D63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190E-6ED8-4ED0-85D6-CCC8023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9C1-A8E5-4FB0-9BFE-27D7BC91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BDFC-5E08-45EB-A350-55B68EBE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E367-D279-4F99-8C7B-0E2527B8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2D0A-E044-4E17-B633-ACB1E1CC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BD85-69C9-4C6A-9CEB-BFC2B076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4DEF-A880-4F5F-8CE2-4E4D1EA8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BEAA-8E9F-43D1-9530-94B79425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373A-CF2E-49AD-800C-A2CD6610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8EFD-EC5C-4FB1-A727-F9691B37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A5F-0861-414B-A20D-F40F4AF8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6E8B-10CE-4EE5-85B1-93AF592D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F78C-7955-43FB-92F2-126F7B2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C82C-9D6F-452B-9885-F1E6114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53CC-EC4E-46F8-8BE8-0D190F5E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C40E-4AD1-4EAE-98AE-60070432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A4D5-43F3-4187-8CC4-B73758B4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4493-1D99-4BA8-B64B-F4F8FC58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05BDD-36F7-4EAE-9967-1F6B619A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C9D4-A129-4B53-9BF5-538BE333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EC610-5348-4A56-AC64-EE6FE23F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3A0-EFBD-4C57-AB93-8443EA6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E782-2FC9-4575-AADC-0FCF538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CA2D-6529-4C8F-A0EA-4C41E9ED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8531-C309-45BB-97F2-D94F92B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C2B6-B326-4141-8698-1B861B43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742F-929B-4558-A868-F02B0EF4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7EF3F-7227-4AC0-83C9-EB86027F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9B46-AC5D-4C9B-9F33-ADF6DDD8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366E-5A94-4EEA-9682-7C27A0E4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15AD-BE01-4A4D-94E7-AC09CDF2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61D50-1BB6-492C-A807-68485DFD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5C6-3CDF-4398-B96A-863A8BE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B7955-C6A1-402C-AB8C-490689C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C0C2-5B99-4C54-9881-5CC8FF17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86B97-3799-48A8-8656-DE999C76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DFD35-3272-45DA-BDA7-AC7E1B15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6B59A-6642-472D-AEE0-8323C411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E872-5905-4E99-B7DC-7CBD7669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137DB-78B0-4C1E-82CA-80EFB3BC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28473-E49D-47DA-A7CF-B838A13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1A2B-8310-4E9B-BB08-68294DD0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322A-A75A-4593-AB29-BB7026E4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E2D-2F8F-4B96-97D0-11286E2D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9D59-C4A8-44D0-B18B-9092BBA5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C5C-9B95-466A-94A0-EBF126D2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15D-35DC-4068-B1D5-9C637DA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CC8-190F-4433-BE36-1DE8F38B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4030-38AB-4D79-B2F4-4A1C02A41F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7E5C-C6AA-4853-8EA4-F27A1119F1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25F8-0734-4F4E-91E5-03C5DF214E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1C9A-2120-408E-9245-01B9A295E2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1A11-202D-49DC-87C3-26131300BDF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пломная работа</a:t>
            </a:r>
            <a:br>
              <a:rPr sz="6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тему</a:t>
            </a:r>
            <a:br>
              <a:rPr sz="6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31720" y="3285720"/>
            <a:ext cx="7407000" cy="2714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РСОНАЛА В ОРГАНИЗАЦИИ (НА ПРИМЕРЕ ОАО «ЛЕБЕДИНСКИЙ ГОК») </a:t>
            </a:r>
            <a:br>
              <a:rPr sz="26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77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организации системы управления персоналом и системы аттестации персонала на ОАО «Лебединский ГОК»</a:t>
            </a:r>
            <a:br>
              <a:rPr sz="2900"/>
            </a:br>
            <a:br>
              <a:rPr sz="29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Организационная структура службы управления персоналом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1420920" y="2279520"/>
            <a:ext cx="7510320" cy="4370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САНЁК\Pictures\images (4).jpg"/>
          <p:cNvPicPr/>
          <p:nvPr/>
        </p:nvPicPr>
        <p:blipFill>
          <a:blip r:embed="rId2"/>
          <a:stretch/>
        </p:blipFill>
        <p:spPr>
          <a:xfrm>
            <a:off x="4786200" y="3214800"/>
            <a:ext cx="723960" cy="25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C:\Users\САНЁК\Pictures\images (4).jpg"/>
          <p:cNvPicPr/>
          <p:nvPr/>
        </p:nvPicPr>
        <p:blipFill>
          <a:blip r:embed="rId3"/>
          <a:stretch/>
        </p:blipFill>
        <p:spPr>
          <a:xfrm>
            <a:off x="4786200" y="4214880"/>
            <a:ext cx="723960" cy="257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:\Users\САНЁК\Pictures\images (4).jpg"/>
          <p:cNvPicPr/>
          <p:nvPr/>
        </p:nvPicPr>
        <p:blipFill>
          <a:blip r:embed="rId4"/>
          <a:stretch/>
        </p:blipFill>
        <p:spPr>
          <a:xfrm>
            <a:off x="4786200" y="5429160"/>
            <a:ext cx="723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аттестации персонала на ОАО «Лебединский ГОК»</a:t>
            </a:r>
            <a:br>
              <a:rPr sz="39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2500200"/>
            <a:ext cx="7499520" cy="37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правление по кадрам комбината готовит Приказ о проведении аттестации в ОАО «Лебединский ГОК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дени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ттестационного собес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рка достоверности результатов аттестационного собес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седание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роприятия по завершению аттестации работни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3. Разработка рекомендаций по совершенствованию системы аттестации персонала ОАО»Лебединский ГОК»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34960" y="199980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orbel"/>
                <a:ea typeface="Times New Roman"/>
              </a:rPr>
              <a:t>«Assessment Сenter»</a:t>
            </a:r>
            <a:r>
              <a:rPr b="0" i="1" lang="ru-RU" sz="4000" spc="-1" strike="noStrike">
                <a:solidFill>
                  <a:srgbClr val="7030a0"/>
                </a:solidFill>
                <a:latin typeface="Corbe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  <a:ea typeface="Times New Roman"/>
              </a:rPr>
              <a:t>Ассессмент цент – это метод оценки персона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нованный на использовании взаимодополняющих метод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иентированный на оценку реальных качеств сотруд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х психологических и профессиональных особеннос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ответствия требованиям должностных пози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ление потенциальных возможностей специалисто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пповые дискуссии и командные иг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в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ловые игры (моделирование ситуаци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левые игры и практические упраж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ы и опросни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роение новой системы оценки в ОАО "Лебединский ГОК" </a:t>
            </a:r>
            <a:br>
              <a:rPr sz="43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Times New Roman"/>
              </a:rPr>
              <a:t>Этапы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: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34960" y="3285720"/>
            <a:ext cx="7499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агностика пробле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вление альтернати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альтернати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ончательный выб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ализация, контрол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годы от внедр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434960" y="164268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Качественная оценка сотрудников по компетенция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дбор и обучение резерва руководящего состава на предприят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ысокая достоверность результатов оцен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нструмент для подготовки программ по обучению и развитию персонал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ешения, связанные с персоналом, становятся «прозрачными» и основанными на учете различных точек зрения, мнений многих сотрудников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ссессмент-центры можно хорошо комбинировать с другими новыми инструментами и создавать всеобъемлющую основу для принятия решений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ышеизложенное доказывает теоретическую и практическую значимость  проделанной работы и позволяет утверждать, что наилучший экономический эффект деятельности  организации в большей степени определяется системой управления персоналом организ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28480" y="2642760"/>
            <a:ext cx="74991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br>
              <a:rPr sz="7200"/>
            </a:b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1. Теоретические аспекты аттестации персонала в организаци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2786040"/>
            <a:ext cx="749952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Аттестация персонала – важная составная часть управления персоналом, наиболее эффективная форма оценки кадров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ЦЕЛИ АТТЕСТАЦИИ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ts val="3373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ение потенциала сотрудников для дальнейшего продвижения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профессиональной пригод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ение потенциала предприят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3373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ранслирование единых корпоративных целей, стандартов и ценностей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соответствия результативности и компетенции персонала целям и требованиям организ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выполнения профессиональных функций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АТТЕСТ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варительный эта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ап формализации методик, стандартов, прави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аботка «Положения об аттестации персонала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бная аттестац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готовительный эта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дение аттес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ведение итогов аттес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оценки качества работы аттестуемы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34960" y="2143080"/>
            <a:ext cx="74995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становление стандартов и норматив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ка на основании письменных характеристик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очные шкал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ка рабочего повед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2. Анализ системы аттестации персонала на комбинате ОАО «Лебединский ГОК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8" name="Содержимое 16" descr="n1photo.pl.gif"/>
          <p:cNvPicPr/>
          <p:nvPr/>
        </p:nvPicPr>
        <p:blipFill>
          <a:blip r:embed="rId1"/>
          <a:stretch/>
        </p:blipFill>
        <p:spPr>
          <a:xfrm>
            <a:off x="2786040" y="2357280"/>
            <a:ext cx="4643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характеристика ОАО «Лебединский ГОК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АО «Лебединский горно-обогатительный комбинат» (ЛГОК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входит в состав холдинга «МЕТАЛЛОИНВЕСТ» и является крупнейшим в России предприятием по добыче и обогащению железной руды и производству высококачественного сырья для черной металлурги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2" name="Содержимое 14" descr="images (1).jpg"/>
          <p:cNvPicPr/>
          <p:nvPr/>
        </p:nvPicPr>
        <p:blipFill>
          <a:blip r:embed="rId1"/>
          <a:stretch/>
        </p:blipFill>
        <p:spPr>
          <a:xfrm>
            <a:off x="2000160" y="1214280"/>
            <a:ext cx="1071720" cy="100044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5"/>
          <p:cNvSpPr/>
          <p:nvPr/>
        </p:nvSpPr>
        <p:spPr>
          <a:xfrm>
            <a:off x="4505760" y="157176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орны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C:\Users\САНЁК\Pictures\15361.jpeg"/>
          <p:cNvPicPr/>
          <p:nvPr/>
        </p:nvPicPr>
        <p:blipFill>
          <a:blip r:embed="rId2"/>
          <a:stretch/>
        </p:blipFill>
        <p:spPr>
          <a:xfrm>
            <a:off x="2000160" y="2357280"/>
            <a:ext cx="1047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8"/>
          <p:cNvSpPr/>
          <p:nvPr/>
        </p:nvSpPr>
        <p:spPr>
          <a:xfrm>
            <a:off x="4572000" y="242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концентрата железорудного с массовой долей железа менее 69,5% и более 69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C:\Users\САНЁК\Pictures\images (2).jpg"/>
          <p:cNvPicPr/>
          <p:nvPr/>
        </p:nvPicPr>
        <p:blipFill>
          <a:blip r:embed="rId3"/>
          <a:stretch/>
        </p:blipFill>
        <p:spPr>
          <a:xfrm>
            <a:off x="2000160" y="3714840"/>
            <a:ext cx="1047960" cy="928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0"/>
          <p:cNvSpPr/>
          <p:nvPr/>
        </p:nvSpPr>
        <p:spPr>
          <a:xfrm>
            <a:off x="4397400" y="40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окаты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1"/>
          <p:cNvSpPr/>
          <p:nvPr/>
        </p:nvSpPr>
        <p:spPr>
          <a:xfrm>
            <a:off x="4572000" y="5000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горячебрикетированного железа (ГБЖ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C:\Users\САНЁК\Pictures\images (3).jpg"/>
          <p:cNvPicPr/>
          <p:nvPr/>
        </p:nvPicPr>
        <p:blipFill>
          <a:blip r:embed="rId4"/>
          <a:stretch/>
        </p:blipFill>
        <p:spPr>
          <a:xfrm>
            <a:off x="2000160" y="4857840"/>
            <a:ext cx="1071720" cy="904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САНЁК\Pictures\images (4).jpg"/>
          <p:cNvPicPr/>
          <p:nvPr/>
        </p:nvPicPr>
        <p:blipFill>
          <a:blip r:embed="rId5"/>
          <a:stretch/>
        </p:blipFill>
        <p:spPr>
          <a:xfrm>
            <a:off x="3214800" y="142884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C:\Users\САНЁК\Pictures\images (4).jpg"/>
          <p:cNvPicPr/>
          <p:nvPr/>
        </p:nvPicPr>
        <p:blipFill>
          <a:blip r:embed="rId6"/>
          <a:stretch/>
        </p:blipFill>
        <p:spPr>
          <a:xfrm>
            <a:off x="3214800" y="250020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C:\Users\САНЁК\Pictures\images (4).jpg"/>
          <p:cNvPicPr/>
          <p:nvPr/>
        </p:nvPicPr>
        <p:blipFill>
          <a:blip r:embed="rId7"/>
          <a:stretch/>
        </p:blipFill>
        <p:spPr>
          <a:xfrm>
            <a:off x="3214800" y="378612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C:\Users\САНЁК\Pictures\images (4).jpg"/>
          <p:cNvPicPr/>
          <p:nvPr/>
        </p:nvPicPr>
        <p:blipFill>
          <a:blip r:embed="rId8"/>
          <a:stretch/>
        </p:blipFill>
        <p:spPr>
          <a:xfrm>
            <a:off x="3214800" y="4929120"/>
            <a:ext cx="1361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8480" y="1213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67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основание комбината, начало горно-капитальных рабо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71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– введен в эксплуатацию Лебединский кварцитный карьер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72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введена в эксплуатацию 1-я очередь горно-обогатительного комбината, получена первая тонна железорудного концентрат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95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начато строительство первой очереди цеха горячебрикетированного железа (ЦГБЖ-1), получена первая продукци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2003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добыта миллиардная тонна железистых кварцитов, внедрена единая автоматизированная информационная система управления производство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2006 год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полномочия единоличного исполнительного органа ОАО «Лебединский ГОК» переданы управляющей компании ООО «УК МЕТАЛЛОИНВЕСТ»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5:23:16Z</dcterms:created>
  <dc:creator>САНЁК</dc:creator>
  <dc:description/>
  <dc:language>en-US</dc:language>
  <cp:lastModifiedBy>Ната</cp:lastModifiedBy>
  <dcterms:modified xsi:type="dcterms:W3CDTF">2010-06-27T07:58:36Z</dcterms:modified>
  <cp:revision>58</cp:revision>
  <dc:subject/>
  <dc:title>АТТЕСТАЦИЯ ПЕРСОНАЛА В ОРГАНИЗАЦИИ (НА ПРИМЕРЕ ОАО «ЛЕБЕДИНСКИЙ ГОК»)</dc:title>
</cp:coreProperties>
</file>