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E5B-4BE4-4B44-BE4F-B1377BCC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FABF-CDA9-48BF-88F3-1FD8AB95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818-72CB-4C0A-98E3-A133193D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040-388A-4090-BE4E-686829BD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B79-C022-4379-AC5C-1155DECF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F41-6E55-46C0-8CE5-DFF44D9C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076-4BE7-4C4D-B756-84209DEA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D35-B309-4C62-93A9-B65C5A75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0A5-506D-4C86-870B-1138F16E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522-6694-433D-AA3C-90D54FB7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773-91B9-4268-8F19-1982C8B4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B10-FA0F-41EE-8BC9-E798EC1D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4AAC-0B01-4E01-A0BE-14C465373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ование тренажеров в технической и физической подготовке начинающих волейболис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выявить и обосновать, что использование тренажерных устройств, в процессе подготовки волейболистов повышает их спортивные результ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анализировать существующую научно-методическую литературу по данной проблеме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пределить роль тренажерных устройств, как одного из важных средств в процессе подготовки волейбо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расскрыть значение использования тренажеров в физической и технической подготовке волейбол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роследить за динамикой физической подготовки волейболи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цесс подготовки волейб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ажеры и тренажерные устройства, как одно из средств повышения физической подготов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за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положим что, используя тренажерные устройства в процессе подготовки волейболистов, повысится уровень физической подготовленности атакующего уд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Анализа литератур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едагогическое тес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етод математических статис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Великодворской средней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-1234440" y="3245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,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7772040" y="3668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2"/>
          <p:cNvSpPr/>
          <p:nvPr/>
        </p:nvSpPr>
        <p:spPr>
          <a:xfrm>
            <a:off x="1500120" y="660960"/>
            <a:ext cx="682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и технической подготовки заним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ренажерами и тренажерными устройств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58920" y="1484280"/>
          <a:ext cx="7273800" cy="3895920"/>
        </p:xfrm>
        <a:graphic>
          <a:graphicData uri="http://schemas.openxmlformats.org/drawingml/2006/table">
            <a:tbl>
              <a:tblPr/>
              <a:tblGrid>
                <a:gridCol w="2424240"/>
                <a:gridCol w="2425680"/>
                <a:gridCol w="24238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.И.О. заним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начал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конц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дков А.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чк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бодин 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ов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ливан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арифм.= (3+2+2+1+2):5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арифм.= (3+3+3+2+2):5=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91"/>
          <p:cNvSpPr/>
          <p:nvPr/>
        </p:nvSpPr>
        <p:spPr>
          <a:xfrm>
            <a:off x="2268360" y="5514840"/>
            <a:ext cx="477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. арифм .= һ : 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ŗ –количество заним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ħ – сумма количеств попад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68360" y="47592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затель технической подготовки занимающихся без тренажеров и тренажерных устр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03280" y="2421000"/>
          <a:ext cx="6077160" cy="411480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57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.И.О. заним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начал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конц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йце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чков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ст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крас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зин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 арифм. = (2+2+1+0+2):5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 арифм. = (2+3+1+1+2):5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258920" y="1916280"/>
          <a:ext cx="6264360" cy="439236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</a:tblGrid>
              <a:tr h="19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9:48:46Z</dcterms:created>
  <dc:creator>Приятель</dc:creator>
  <dc:description/>
  <dc:language>en-US</dc:language>
  <cp:lastModifiedBy>Максим</cp:lastModifiedBy>
  <dcterms:modified xsi:type="dcterms:W3CDTF">2010-10-30T18:17:04Z</dcterms:modified>
  <cp:revision>3</cp:revision>
  <dc:subject/>
  <dc:title>Использование тренажеров в технической и физической подготовке начинающих волейболистов.</dc:title>
</cp:coreProperties>
</file>