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D71-43A5-4F05-8A0E-402DFA43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46B-20E1-484F-99F7-D074A763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632-006D-4A58-9334-8E065173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D91-5AB1-40E5-9AA0-5DF83E7B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17F-451A-40E6-8682-B54ED726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48F-D1E7-4105-94FD-210A3A87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9B6-107E-4ABF-A1E4-E49CFF64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686-0941-4808-9EDA-26C13424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C9C-6FA1-4122-B4E7-19371BAB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1FB3-0361-473C-959E-5D8BD5FB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48E-61A7-4983-9EF5-2139545D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D825-BCC6-40F7-9268-24ABF0BC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32EF-DF20-477C-A796-405AC35E0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Тема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Влияние технических средств обучения на результативность усвоения иностранного языка учащимися начальных клас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7532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явление и обоснование влияния технических средств обучения на результативность усвоения иностранного языка с ориентацией на младший школьный возра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изучить теоретические основы влияния технических      средств обучения на результативность усвоения иностранного язы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раскрыть способы использования технических средств обучения на уроках иностранного языка в младшем школьном возрас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разработать практические рекомендации по влиянию технических средств обучения на результативность усвоения иностранного язы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Объект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тельный процесс с     использованием технических средств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Предмет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результативность усвоения иностранного языка младшими школь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Гипотеза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если на уроках иностранного языка систематически использовать технические средства обучения, то результативность усвоения данного языка повыс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Технические средства обучения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комплексы и аппаратура с методическим обеспечением, применяемые в процессе обучения для предъявления и обработки информации с целью повышения эффективности усвоения учащимися знаний, умений и навы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259920"/>
            <a:ext cx="74739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Таблица 1                         Таблиц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1125360"/>
          <a:ext cx="4038480" cy="5472360"/>
        </p:xfrm>
        <a:graphic>
          <a:graphicData uri="http://schemas.openxmlformats.org/drawingml/2006/table">
            <a:tbl>
              <a:tblPr/>
              <a:tblGrid>
                <a:gridCol w="503280"/>
                <a:gridCol w="1871640"/>
                <a:gridCol w="865080"/>
                <a:gridCol w="79848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 И. уче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бунов Серг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пина 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Нат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 Ю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ва Над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а Анж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а В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ский К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788000" y="1125360"/>
          <a:ext cx="4038480" cy="5472360"/>
        </p:xfrm>
        <a:graphic>
          <a:graphicData uri="http://schemas.openxmlformats.org/drawingml/2006/table">
            <a:tbl>
              <a:tblPr/>
              <a:tblGrid>
                <a:gridCol w="504720"/>
                <a:gridCol w="1800360"/>
                <a:gridCol w="863640"/>
                <a:gridCol w="86976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И. уче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бунов Серг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пина 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Нат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 Ю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ва Над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а Анж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а В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ский К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Таблица 3         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Уровень развития 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24000" y="1600200"/>
          <a:ext cx="4171680" cy="5056200"/>
        </p:xfrm>
        <a:graphic>
          <a:graphicData uri="http://schemas.openxmlformats.org/drawingml/2006/table">
            <a:tbl>
              <a:tblPr/>
              <a:tblGrid>
                <a:gridCol w="576000"/>
                <a:gridCol w="1871640"/>
                <a:gridCol w="863640"/>
                <a:gridCol w="8604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И. уче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бунов Серг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пина 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Нат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 Ю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ва Над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а Анж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а В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ский К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654440" y="1628640"/>
          <a:ext cx="4310280" cy="496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4440" y="1628640"/>
                    <a:ext cx="43102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Таблица 4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Таблица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268280"/>
          <a:ext cx="4043520" cy="5400720"/>
        </p:xfrm>
        <a:graphic>
          <a:graphicData uri="http://schemas.openxmlformats.org/drawingml/2006/table">
            <a:tbl>
              <a:tblPr/>
              <a:tblGrid>
                <a:gridCol w="442800"/>
                <a:gridCol w="1871640"/>
                <a:gridCol w="863640"/>
                <a:gridCol w="865440"/>
              </a:tblGrid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И.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яков С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Крист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Нат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Т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 Ар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 Вл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ысоева Г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ский Ми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648320" y="1268280"/>
          <a:ext cx="4244760" cy="5400720"/>
        </p:xfrm>
        <a:graphic>
          <a:graphicData uri="http://schemas.openxmlformats.org/drawingml/2006/table">
            <a:tbl>
              <a:tblPr/>
              <a:tblGrid>
                <a:gridCol w="428400"/>
                <a:gridCol w="1943280"/>
                <a:gridCol w="865080"/>
                <a:gridCol w="100800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И.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яков С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Крист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Нат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Т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 Ар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 Вл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ысоева Г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ский Ми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Таблица 6         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Уровень развития вним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50920" y="1413000"/>
          <a:ext cx="4038480" cy="5207040"/>
        </p:xfrm>
        <a:graphic>
          <a:graphicData uri="http://schemas.openxmlformats.org/drawingml/2006/table">
            <a:tbl>
              <a:tblPr/>
              <a:tblGrid>
                <a:gridCol w="504720"/>
                <a:gridCol w="1836720"/>
                <a:gridCol w="849240"/>
                <a:gridCol w="847800"/>
              </a:tblGrid>
              <a:tr h="7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И.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яков С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Крист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Нат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Т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 Ар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 Вл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ысоева Г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ский Ми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00720" y="1413000"/>
          <a:ext cx="4464000" cy="504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1413000"/>
                    <a:ext cx="4464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Сравнение результатов на констатирующем и контрольном этап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24000" y="1628640"/>
          <a:ext cx="8435880" cy="4683240"/>
        </p:xfrm>
        <a:graphic>
          <a:graphicData uri="http://schemas.openxmlformats.org/drawingml/2006/table">
            <a:tbl>
              <a:tblPr/>
              <a:tblGrid>
                <a:gridCol w="2160360"/>
                <a:gridCol w="2951280"/>
                <a:gridCol w="3324240"/>
              </a:tblGrid>
              <a:tr h="886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атирующий 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ый 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school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dventures of Pinocchi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йди отличия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06:39:56Z</dcterms:created>
  <dc:creator>User</dc:creator>
  <dc:description/>
  <dc:language>en-US</dc:language>
  <cp:lastModifiedBy>1</cp:lastModifiedBy>
  <dcterms:modified xsi:type="dcterms:W3CDTF">2037-04-16T05:06:02Z</dcterms:modified>
  <cp:revision>3</cp:revision>
  <dc:subject/>
  <dc:title>Тема: Влияние технических средств обучения на результативность усвоения иностранного языка учащимися начальных классов</dc:title>
</cp:coreProperties>
</file>