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CE8-7099-4214-93FF-AD81756E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DCC-A5E5-418D-9520-7395B673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562-9F29-4B52-84FC-E7C6BB7A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3CD-2C6F-453A-A922-3A966DA8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8C5-AE82-418C-9986-45484E6D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4D34-EF9A-4E7B-A9A0-BAD12A30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2A2-A14D-4B80-93B5-32DC2891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254E-388D-4F01-AB99-C7216CFF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749-AE73-4683-8DD6-0AC8626D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9859-951F-4A0E-B8FF-442DED61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14A1-2394-4A71-864F-F79290A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DB6-85E4-498F-9034-7A91B78F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904E-D04A-414C-9A32-BEC0F05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06F-61CE-47B6-8057-34660E2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0A2C-0B3F-44CA-9357-1E7A63D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23D7-F346-4D04-80D0-288E1F6F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300-7ACB-46F5-B3CF-C494690C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110-0147-4DEA-BE7C-F0F306E7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84B-C854-4795-A314-F75613B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8FC-94EE-4DD0-BC68-2139D382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45F-4806-4506-B6A1-19502B8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D53-4A68-40DC-83FC-2E41B1F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5E9-028E-4031-97EB-B70BED4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D71-77F7-4590-A810-E30D99A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C37-DA16-4350-A713-50384D1F6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731-246F-4568-A945-992A62F21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4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модель БД информацион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2200" y="476280"/>
            <a:ext cx="8497800" cy="6039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67780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40" y="404640"/>
            <a:ext cx="56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техническ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520" y="4149720"/>
            <a:ext cx="57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программн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800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цессор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8048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выш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тивную память не ниже 128 Мбай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сткий диск не менее 2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мер свободного пространства на жестком диске компьютера не менее 1Гб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копитель на гибких магнитных дисках 3.5” или устройство чтения компакт-дис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ной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VGA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ито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чатающее устрой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ройство ввода клавиату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нипулятор мыш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581360"/>
            <a:ext cx="80074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ства визуальной разработки 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 при поддержке операционной системы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X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рассчитана на работу под управлением ОС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'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2000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P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Д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land Database Engine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5, которая поставляется вместе с пакетом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, а также вместе с дистрибутивом данной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15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ое меню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978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сотруд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30064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объект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80000" cy="60422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бавление объекта в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29640" y="6524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67640" cy="60771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грузка объявл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956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184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чет о расходах на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752400"/>
            <a:ext cx="720252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260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можности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560" y="83628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редактирования отчета после формиров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спорт отчетов в программы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стрый поиск по справочник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граничение доступа пользователей к систем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95280" y="1484280"/>
          <a:ext cx="8388360" cy="4233960"/>
        </p:xfrm>
        <a:graphic>
          <a:graphicData uri="http://schemas.openxmlformats.org/drawingml/2006/table">
            <a:tbl>
              <a:tblPr/>
              <a:tblGrid>
                <a:gridCol w="3932280"/>
                <a:gridCol w="2305080"/>
                <a:gridCol w="215100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ья зат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разработ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разработчик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внедр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покупатель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П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ее (зарплата, амортизация, электроэнер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032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352,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олагаемое количество внедр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внед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770840" y="541440"/>
            <a:ext cx="59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траты на разработку и внедрение ИС «Рекла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0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матизировать рабочее место менеджера по рекламе компании ООО «Деловая недвижимость»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760" y="26028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ь создания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000" y="177336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27664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специфику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организацию и уровень автоматизации деятельност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ть обзор программных продуктов, автоматизирующих деятельность агентст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ализовать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руководство пользователя для работы с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8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ономическая эффективность от внед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8480" y="1390680"/>
            <a:ext cx="6705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программы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7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внедрения ИС «Реклам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компании «Деловая недвижимость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40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довой экономический эфф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внедрения ИС «Реклама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7282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эффициент эффективн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ок окупаем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 ме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439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шенные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052640"/>
            <a:ext cx="8101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ла изучена специфика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а организация и уровень автоматизации деятельности компани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 обзор программных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чно реализована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руководство пользовате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читана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т расходов на рекла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готовка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слеживание выходов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прайс-листа объекто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отчетов о расходах на рекла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4600" y="955800"/>
            <a:ext cx="55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овные задачи менеджера по рекл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928000" cy="496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244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Рекламирование объек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4237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Учет расходов на реклам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4864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836280"/>
            <a:ext cx="75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возможности редактирования отчета после форм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уществление экспорта отчетов в программы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быстрого поиска по справочник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разграничения доступа пользователей к систе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систе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890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ализ программ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692280"/>
          <a:ext cx="8207280" cy="5867280"/>
        </p:xfrm>
        <a:graphic>
          <a:graphicData uri="http://schemas.openxmlformats.org/drawingml/2006/table">
            <a:tbl>
              <a:tblPr/>
              <a:tblGrid>
                <a:gridCol w="4895640"/>
                <a:gridCol w="1441440"/>
                <a:gridCol w="187020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 «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nt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фирм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ЛКО Технология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ов сотрудник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СМ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объектов 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прайс-листа о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ая выгрузка рекламного объявления п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ным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блон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т расходов на рекламу по каждому объект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отчетов по расходам 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ламу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редактирования отчета посл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орт отчетов в программы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d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и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быстрого изменения формы отчета бе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 исходного текста программ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ый поиск по справочник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граничение доступа пользователей к систем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архивных копий справочников и докумен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952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уктура базы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157400"/>
          <a:ext cx="885672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7400"/>
                    <a:ext cx="88567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51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ункциональная структура 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8000" y="1125360"/>
          <a:ext cx="88567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8567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3:33:02Z</dcterms:created>
  <dc:creator>Наталья</dc:creator>
  <dc:description/>
  <dc:language>en-US</dc:language>
  <cp:lastModifiedBy>Super</cp:lastModifiedBy>
  <dcterms:modified xsi:type="dcterms:W3CDTF">2006-06-12T16:17:49Z</dcterms:modified>
  <cp:revision>97</cp:revision>
  <dc:subject/>
  <dc:title>ДИПЛОМНАЯ РАБОТА НА ТЕМУ:</dc:title>
</cp:coreProperties>
</file>