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BD71-E3F5-4617-922B-55B65660F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F9EA-16D0-467B-895C-67874236A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7306-290F-4B58-A973-BD98D96D2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58DF-55B1-41E2-9AA1-166A15DC5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140D1-237B-496A-86A0-28BABC251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47B2E-5731-490B-836D-BED868AF5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0B2B3-B5B2-4C74-B162-47558D0B1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D78E1-912F-4FAC-9BD0-677B850CC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D6E30-FA00-4921-AA44-C215A939D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F06F8-E188-440C-A5E3-1144ABA10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E0738-C624-4EF5-9C86-0098B5174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D4C0-8023-493B-AC1A-8113D96A0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E9965-3509-4093-A7AC-947A521AF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34FDA-5E46-4F51-A985-054700DF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97D65-89A1-4EC3-872B-558283640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C841C-337A-4DF5-8F73-F93AF117B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C61D8-2C29-4117-B9E0-72E2A8A8A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83A4-9259-495B-B170-3EE661EAE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DB21-D57B-48D4-A1F6-E1731A78F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99E2-DBA9-4388-AC0B-B0133385A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92BF-CBF5-4AA2-B465-B930F9FCF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0C85-A7E3-4430-B919-44A1C8E4C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E319-F321-493A-B0DF-243589F83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FB99-2597-4C8C-8CC6-AE498211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9EEAA-0EA5-4472-B527-F373000A079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56B66-9E48-43B1-9ACF-54378BBC8D9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11280" y="2060640"/>
            <a:ext cx="8208720" cy="4392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33cc33"/>
                </a:solidFill>
                <a:latin typeface="Comic Sans MS"/>
              </a:rPr>
              <a:t>Однорідні члени речення </a:t>
            </a:r>
            <a:br>
              <a:rPr sz="7200"/>
            </a:br>
            <a:r>
              <a:rPr b="1" lang="uk-UA" sz="7200" spc="-1" strike="noStrike">
                <a:solidFill>
                  <a:srgbClr val="33cc33"/>
                </a:solidFill>
                <a:latin typeface="Comic Sans MS"/>
              </a:rPr>
              <a:t>і</a:t>
            </a:r>
            <a:br>
              <a:rPr sz="7200"/>
            </a:br>
            <a:r>
              <a:rPr b="1" lang="uk-UA" sz="7200" spc="-1" strike="noStrike">
                <a:solidFill>
                  <a:srgbClr val="ff3300"/>
                </a:solidFill>
                <a:latin typeface="Comic Sans MS"/>
              </a:rPr>
              <a:t>коми</a:t>
            </a:r>
            <a:r>
              <a:rPr b="1" lang="uk-UA" sz="7200" spc="-1" strike="noStrike">
                <a:solidFill>
                  <a:srgbClr val="33cc33"/>
                </a:solidFill>
                <a:latin typeface="Comic Sans MS"/>
              </a:rPr>
              <a:t> між ними</a:t>
            </a:r>
            <a:endParaRPr b="0" lang="en-US" sz="7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2916000" y="25992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mic Sans MS"/>
              </a:rPr>
              <a:t>На допомогу учневі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66243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mic Sans MS"/>
              </a:rPr>
              <a:t>Однорідні члени речення і коми між ним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440" y="1052640"/>
            <a:ext cx="813420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cc"/>
                </a:solidFill>
                <a:latin typeface="Comic Sans MS"/>
              </a:rPr>
              <a:t>Прочитай речення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0000"/>
                </a:solidFill>
                <a:latin typeface="Comic Sans MS"/>
              </a:rPr>
              <a:t>Ліс одягнувся в </a:t>
            </a:r>
            <a:r>
              <a:rPr b="0" lang="uk-UA" sz="6000" spc="-1" strike="noStrike">
                <a:solidFill>
                  <a:srgbClr val="33cc33"/>
                </a:solidFill>
                <a:latin typeface="Comic Sans MS"/>
              </a:rPr>
              <a:t>біле, пухнасте, чарівне</a:t>
            </a:r>
            <a:r>
              <a:rPr b="0" lang="uk-UA" sz="6000" spc="-1" strike="noStrike">
                <a:solidFill>
                  <a:srgbClr val="000000"/>
                </a:solidFill>
                <a:latin typeface="Comic Sans MS"/>
              </a:rPr>
              <a:t> вбрання.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"/>
          <p:cNvSpPr/>
          <p:nvPr/>
        </p:nvSpPr>
        <p:spPr>
          <a:xfrm>
            <a:off x="3844800" y="31093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1581120" cy="25956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7738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mic Sans MS"/>
              </a:rPr>
              <a:t>Однорідні члени речення і коми між ним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799308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cc"/>
                </a:solidFill>
                <a:latin typeface="Comic Sans MS"/>
              </a:rPr>
              <a:t>Зверни увагу на слова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33cc33"/>
                </a:solidFill>
                <a:latin typeface="Comic Sans MS"/>
              </a:rPr>
              <a:t>...біле, пухнасте, чарівне...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"/>
          <p:cNvSpPr/>
          <p:nvPr/>
        </p:nvSpPr>
        <p:spPr>
          <a:xfrm>
            <a:off x="1403280" y="2781360"/>
            <a:ext cx="61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85800" y="83664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33cc33"/>
                </a:solidFill>
                <a:latin typeface="Comic Sans MS"/>
              </a:rPr>
              <a:t>...біле, пухнасте, чарівне...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Чому між ними стоять коми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611280" y="151920"/>
            <a:ext cx="6945120" cy="4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mic Sans MS"/>
              </a:rPr>
              <a:t>Однорідні члени речення і коми між ним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611280" y="836280"/>
            <a:ext cx="7632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omic Sans MS"/>
              </a:rPr>
              <a:t>Знайдемо підмет і присудок в цьому реченні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33cc33"/>
                </a:solidFill>
                <a:latin typeface="Comic Sans MS"/>
              </a:rPr>
              <a:t>Ліс</a:t>
            </a:r>
            <a:r>
              <a:rPr b="1" lang="uk-UA" sz="6000" spc="-1" strike="noStrike">
                <a:solidFill>
                  <a:srgbClr val="000000"/>
                </a:solidFill>
                <a:latin typeface="Comic Sans MS"/>
              </a:rPr>
              <a:t> – підмет. 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(саме про нього говориться в реченні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33cc33"/>
                </a:solidFill>
                <a:latin typeface="Comic Sans MS"/>
              </a:rPr>
              <a:t>Ліс</a:t>
            </a: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 (що зробив?) </a:t>
            </a:r>
            <a:r>
              <a:rPr b="1" lang="uk-UA" sz="60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uk-UA" sz="6000" spc="-1" strike="noStrike">
                <a:solidFill>
                  <a:srgbClr val="33cc33"/>
                </a:solidFill>
                <a:latin typeface="Comic Sans MS"/>
              </a:rPr>
              <a:t>одягнувся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0000"/>
                </a:solidFill>
                <a:latin typeface="Comic Sans MS"/>
              </a:rPr>
              <a:t>(це присудок).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539640" y="259920"/>
            <a:ext cx="7777440" cy="39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mic Sans MS"/>
              </a:rPr>
              <a:t>Однорідні члени речення і коми між ним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672948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mic Sans MS"/>
              </a:rPr>
              <a:t>Однорідні члени речення і коми між ним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980640"/>
            <a:ext cx="769608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omic Sans MS"/>
              </a:rPr>
              <a:t>Ліс одягнувся у яке вбрання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33cc33"/>
                </a:solidFill>
                <a:latin typeface="Comic Sans MS"/>
              </a:rPr>
              <a:t>...біле, пухнасте, чарівне...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672948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mic Sans MS"/>
              </a:rPr>
              <a:t>Однорідні члени речення і коми між ним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4360" y="836640"/>
            <a:ext cx="792000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33cc33"/>
                </a:solidFill>
                <a:latin typeface="Comic Sans MS"/>
              </a:rPr>
              <a:t>...біле,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33cc33"/>
                </a:solidFill>
                <a:latin typeface="Comic Sans MS"/>
              </a:rPr>
              <a:t>пухнасте,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33cc33"/>
                </a:solidFill>
                <a:latin typeface="Comic Sans MS"/>
              </a:rPr>
              <a:t>чарівне..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indent="0" algn="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33cc33"/>
                </a:solidFill>
                <a:latin typeface="Comic Sans MS"/>
              </a:rPr>
              <a:t> </a:t>
            </a:r>
            <a:r>
              <a:rPr b="1" lang="uk-UA" sz="4800" spc="-1" strike="noStrike">
                <a:solidFill>
                  <a:srgbClr val="000000"/>
                </a:solidFill>
                <a:latin typeface="Comic Sans MS"/>
              </a:rPr>
              <a:t>- це однорідні члени речення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672948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mic Sans MS"/>
              </a:rPr>
              <a:t>Однорідні члени речення і коми між ним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052640"/>
            <a:ext cx="769608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3300"/>
                </a:solidFill>
                <a:latin typeface="Comic Sans MS"/>
              </a:rPr>
              <a:t>Однорідні члени речення – це такі слова, які відповідають на одне і те ж саме запитання і належать до одного і того ж самого слова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68724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mic Sans MS"/>
              </a:rPr>
              <a:t>Однорідні члени речення і коми між ним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052640"/>
            <a:ext cx="76960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3300"/>
                </a:solidFill>
                <a:latin typeface="Comic Sans MS"/>
              </a:rPr>
              <a:t>Між однорідними членами речення на письмі ставляться коми.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1T13:25:28Z</dcterms:created>
  <dc:creator>student</dc:creator>
  <dc:description/>
  <dc:language>en-US</dc:language>
  <cp:lastModifiedBy>student</cp:lastModifiedBy>
  <dcterms:modified xsi:type="dcterms:W3CDTF">2005-10-21T14:35:45Z</dcterms:modified>
  <cp:revision>12</cp:revision>
  <dc:subject/>
  <dc:title>Однорідні члени речення  і коми між ним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