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512-CEC8-4C43-8FC3-024A700F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495-1C0A-4B18-ACBA-11147495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EDB-6D13-47CF-BA47-217C427A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052-395B-466B-80C1-10F032C9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F086-2427-4CAF-A4EF-7B683F66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9BD-1F7C-4BAC-B7CB-1132C021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A75-1780-463D-838E-A480DF75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A58A-E44E-4B32-B8E2-4529BF9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06AE-DFE0-4FBA-8496-0089EA41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51C1-2DC1-4B95-8770-56AB34A7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CFFE-E32E-49B4-BF02-7180369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25A-34FD-4B6F-B359-A9C96881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97CA-CFBF-4FF6-9C2F-F3ADC04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73EA-D26D-4CF2-A269-ED85BC2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7E03-D134-48C3-A85F-976BB297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6403-D58F-47A9-8E72-FF404472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4995-1201-4230-8CDD-9BCD7167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97E-AE4F-4620-9D6B-03490B72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E34-93FA-4E6F-97BA-BD4E3BD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0C8-8C76-477E-9E07-571FF57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765-2FF2-4309-A716-2C0EF52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9A3-ABA7-4A9F-AC59-AA3A4AB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3F0-F22C-49E5-BA8F-ECED73A6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A1C-38CA-4717-9E4E-1142EE3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B7DC-7011-4B1D-9B90-EF57060905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812-8708-40F0-ADD2-A7E357504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708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Правопис ненаголошених </a:t>
            </a:r>
            <a:r>
              <a:rPr b="1" i="1" lang="uk-UA" sz="6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 та </a:t>
            </a:r>
            <a:r>
              <a:rPr b="1" i="1" lang="uk-UA" sz="6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 в корені слова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42920" y="5516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Наочний посібни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 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5614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В деяких словах ми не можемо почути на слух, яку букву писати в корені слова, наприклад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72912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Це створює величезні труднощі у написанні слів, чи не так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Як же вирішити цю проблем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00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Все дуже прост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Зверни увагу на наголос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мінимо слово так, щоб наголос падав на той звук, написати який ми вагаємос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Наприклад, скажемо ці слова у множині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1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995560" cy="29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0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Проблема вирішена, чи не так?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Таке саме правило можна застосувати практично для всіх орфогр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200"/>
                </a:solidFill>
                <a:latin typeface="Comic Sans MS"/>
              </a:rPr>
              <a:t>Спробуйте самі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2:01:32Z</dcterms:created>
  <dc:creator>student</dc:creator>
  <dc:description/>
  <dc:language>en-US</dc:language>
  <cp:lastModifiedBy>student</cp:lastModifiedBy>
  <dcterms:modified xsi:type="dcterms:W3CDTF">2005-10-25T11:36:35Z</dcterms:modified>
  <cp:revision>6</cp:revision>
  <dc:subject/>
  <dc:title>Правопис ненаголошених е та и в корені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