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62B5-5CB1-47D9-8C20-0345200A7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A37-007D-440F-B26A-F2394189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47A-D5D2-452A-A12B-820BD898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8495-6715-4ED8-8D45-96924C2D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9D838-9B59-4436-A238-B2D962C98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D0B1C-4263-4DBA-B10D-50C306A9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105DB-625F-4D89-9536-F4100440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62CE-F3C0-45D7-A264-AADC290A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E6980-D50C-4AFF-90DF-92EA87BF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1EE74-A062-4372-ADB6-7D89F87F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184B5-8D38-4701-A465-4A59055F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0AE4-3168-4C34-9D25-BCE80327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1184-507E-47E6-8C52-BD0B49EA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4D4EE-008F-42AB-8B43-F835DF6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806F-C099-4E89-BF17-A3B80000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6903-E461-46E6-8E1E-0FEF184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1D63B-1040-4AB7-B0DE-3A531662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F96-0B58-4D2D-98AE-76683130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1818-6460-491B-BD7A-7EBDAB83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F34-2920-4867-AB93-126DC2C6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C8F6-D161-4C09-9702-91B1979B2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7553-A8B9-46FB-9170-6CC7C000E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DA8-76F5-4C4E-AC60-5DC5466B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8D38-7D90-41B0-AB11-FD696E45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A51C-2AF3-4CEA-994F-B516155F53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59F-E12D-498F-B6EF-1ACCA249D35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3068640"/>
            <a:ext cx="8059680" cy="201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МУ КЦСОН «Гармония» г. Устюжн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ытаетесь решить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увствуете ли вы себя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диноким человеком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редко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оитесь ли вы одиночества?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Если да, то почему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905120"/>
          <a:ext cx="8229600" cy="4410000"/>
        </p:xfrm>
        <a:graphic>
          <a:graphicData uri="http://schemas.openxmlformats.org/drawingml/2006/table">
            <a:tbl>
              <a:tblPr/>
              <a:tblGrid>
                <a:gridCol w="4425840"/>
                <a:gridCol w="1746360"/>
                <a:gridCol w="2057400"/>
              </a:tblGrid>
              <a:tr h="61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5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потому что совсем одна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даже поговорить не с кем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, страшно умереть в одиночеств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гда заболеешь, страшно лежать одной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Боюсь, что жена умрёт раньше мен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проводите своё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вободное время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щаюсь с сосед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Читаю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мотрю телевизо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хаживаю за растениям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событий в мире и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нашей стране интересуют вас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 большей степени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905120"/>
          <a:ext cx="8229600" cy="423684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лит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Экономик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(смотрю сериалы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Что вам необходимо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для активной жизн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айти интересное занят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нимание окружающи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, физические си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Помогает ли вам не испытывать одиночество общени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социальными работникам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2708280"/>
          <a:ext cx="7948800" cy="2073240"/>
        </p:xfrm>
        <a:graphic>
          <a:graphicData uri="http://schemas.openxmlformats.org/drawingml/2006/table">
            <a:tbl>
              <a:tblPr/>
              <a:tblGrid>
                <a:gridCol w="3975120"/>
                <a:gridCol w="1986120"/>
                <a:gridCol w="1987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Rectangle 77"/>
          <p:cNvSpPr/>
          <p:nvPr/>
        </p:nvSpPr>
        <p:spPr>
          <a:xfrm>
            <a:off x="0" y="40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сли помог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о в чём это проявляе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68360" y="1844640"/>
          <a:ext cx="8136000" cy="4389480"/>
        </p:xfrm>
        <a:graphic>
          <a:graphicData uri="http://schemas.openxmlformats.org/drawingml/2006/table">
            <a:tbl>
              <a:tblPr/>
              <a:tblGrid>
                <a:gridCol w="5040360"/>
                <a:gridCol w="1727280"/>
                <a:gridCol w="1368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говорит и на душе легче станов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Испытываю радость при общ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Узнаю что-то новое, интересно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Есть с кем поделиться бедами, проблемам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сегда выслушает, успокоит, помогают в трудную мину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Люблю поговорить о прошлом, а социальный работник всегда выслуша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Жду с нетерпением дня, когда придёт социальный работ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54"/>
          <p:cNvSpPr/>
          <p:nvPr/>
        </p:nvSpPr>
        <p:spPr>
          <a:xfrm>
            <a:off x="0" y="507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Times New Roman"/>
              </a:rPr>
              <a:t>Рекомендации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ктивнее внедрять эффективные социальные технологии (мобильная социальная помощь гражданам, проживающим в отдалённых деревнях, выездные социальные дни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мини-клубов на дому, с целью расширения круга общения клиент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ривлечение волонтеров в работе с пожилыми людьми и инвалида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лучшение качества обслуживания населения через создание участковых социальных служб на территориях муниципальных образований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оздание альбома жизнеописания клиентов (запись впечатлений от прожитой жизни, наиболее ярких воспоминаний, описание событий, происходящих в настоящее время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2924280"/>
            <a:ext cx="813600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Спасибо за внимание!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Объек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одиночество как социальная проблема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Предмет исследования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возможности специалиста по социальной работе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: Изучить возможности специалиста по социальной работе отделения социального обслуживания на дому граждан пожилого возраста и инвалидов в решении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</a:rPr>
              <a:t>Задачи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анализировать литературу по проблеме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скрыть особенности деятельности специалиста по социальной работе отделения социального обслуживания на дому граждан пожилого возраста и инвалидов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Провести исследование анализа проблемы  одиночества среди 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Разработать рекомендации для специалистов по социальной работе по решению проблемы одиночества пожилых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</a:rPr>
              <a:t>Гипотеза: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ы предполагаем, что проблема одиночества для пожилых людей является первостепенной и как следствие специалист по социальной работе может выступать инициатором в решении этой проблем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cc3300"/>
                </a:solidFill>
                <a:latin typeface="Times New Roman"/>
              </a:rPr>
              <a:t>Характеристика выборки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Line 96"/>
          <p:cNvSpPr/>
          <p:nvPr/>
        </p:nvSpPr>
        <p:spPr>
          <a:xfrm>
            <a:off x="2749680" y="3017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95280" y="2781360"/>
          <a:ext cx="8640720" cy="2592360"/>
        </p:xfrm>
        <a:graphic>
          <a:graphicData uri="http://schemas.openxmlformats.org/drawingml/2006/table">
            <a:tbl>
              <a:tblPr/>
              <a:tblGrid>
                <a:gridCol w="1225440"/>
                <a:gridCol w="503280"/>
                <a:gridCol w="647640"/>
                <a:gridCol w="503280"/>
                <a:gridCol w="865440"/>
                <a:gridCol w="1079280"/>
                <a:gridCol w="504720"/>
                <a:gridCol w="719280"/>
                <a:gridCol w="453960"/>
                <a:gridCol w="843120"/>
                <a:gridCol w="503280"/>
                <a:gridCol w="792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П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Мужско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Женск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Возрас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90 и с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60-7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75-7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80-8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тносите ли вы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ебя к пожилым людя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атрудняюсь ответить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а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0 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Нет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35480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 вы считаете, какие проблемы возникают у пожилых людей?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роблемы со здоровье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4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руго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акие из этих проблем больше </a:t>
            </a: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всего тревожат Вас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905120"/>
          <a:ext cx="8229600" cy="4114800"/>
        </p:xfrm>
        <a:graphic>
          <a:graphicData uri="http://schemas.openxmlformats.org/drawingml/2006/table">
            <a:tbl>
              <a:tblPr/>
              <a:tblGrid>
                <a:gridCol w="4114800"/>
                <a:gridCol w="2057400"/>
                <a:gridCol w="205740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Здоровь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диночеств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сихологически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Материальные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Как вы пытаетесь решить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эти проблемы?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8229600" cy="4784760"/>
        </p:xfrm>
        <a:graphic>
          <a:graphicData uri="http://schemas.openxmlformats.org/drawingml/2006/table">
            <a:tbl>
              <a:tblPr/>
              <a:tblGrid>
                <a:gridCol w="4272120"/>
                <a:gridCol w="1900080"/>
                <a:gridCol w="20574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арианты ответ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о выбор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амостоятельно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седя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7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близким родственник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бращаюсь к социальному работник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3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5:03:24Z</dcterms:created>
  <dc:creator>User</dc:creator>
  <dc:description/>
  <dc:language>en-US</dc:language>
  <cp:lastModifiedBy>Максим</cp:lastModifiedBy>
  <dcterms:modified xsi:type="dcterms:W3CDTF">2010-10-27T18:53:24Z</dcterms:modified>
  <cp:revision>5</cp:revision>
  <dc:subject/>
  <dc:title>Возможности деятельности специалиста по социальной работе в решении проблемы одиночества пожилых людей (на примере отделения социального обслуживания на дому граждан пожилого возраста и инвалидов МУ КЦСОН «Гармония» г. Устюжна)</dc:title>
</cp:coreProperties>
</file>