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169-7E4F-4CDC-8899-EB47D00C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0C4-3567-4BA6-9075-7F5C03AA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0F1-9512-46D0-8033-F0E7D065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91E-62D4-4AC1-8D61-5636CF73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D026-F588-413D-AEFA-90065E51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6F3E-345C-4A6C-AB9C-27C4F815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72A9-8AEE-4075-8351-D6097C0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6E13-6453-4BC3-A127-655669EA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AFC2-7876-4CB7-80A6-39594948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D9F2-F724-4DF3-B297-09B7397E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FF2-2CE1-4D46-9B3B-8A800F7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0EE-D71D-4A76-9FC4-F69CDA6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177A-E172-412B-9C63-40605E7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658F-D81D-4565-B4BC-FE8D09E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B64-F16E-4214-B7E7-260051F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622F-910A-4884-8D97-829F114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B41F-FA27-475F-A930-F7AA2367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A2F-B678-40F7-B475-32EAEB57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BDA-A398-4821-BBC1-74E8E40A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C61-FA86-4A7D-A592-A71FB3D1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DB4-C23F-43B2-8320-B297AF0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55D-3CC2-4368-BA19-B14DB67B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3B5-1B8C-4DDD-9D6F-9426913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267-37B1-4004-8EC3-20291AC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6E4-4F07-45CC-A634-8EFDCE1EEEE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171A-79C6-4D50-80A4-CD7214A128B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228600"/>
            <a:ext cx="7467480" cy="63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Томский Политехнический Университе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Русско-Американский Центр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Выпускная квалификационная работ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100"/>
                </a:solidFill>
                <a:latin typeface="Times New Roman"/>
              </a:rPr>
              <a:t>Учет операций с ценными бумагам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Студент: Пак С. В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Руководитель: Блатт И.Д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36576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Отчёты о заключённых сделка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509920"/>
            <a:ext cx="20066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Документы внутренней отчётност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175248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оговора (тикеты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733920"/>
            <a:ext cx="31734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Подтверждение об оплат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32520" y="1752480"/>
            <a:ext cx="401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Отчёты по оценке портфеля и движению Ц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8240" y="988920"/>
            <a:ext cx="4649760" cy="5936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Фронт - офи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819520"/>
            <a:ext cx="2602080" cy="59508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Бэк - офи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952880"/>
            <a:ext cx="4494240" cy="59400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Бухгалтер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7040" y="2816280"/>
            <a:ext cx="671760" cy="595080"/>
          </a:xfrm>
          <a:custGeom>
            <a:avLst/>
            <a:gdLst>
              <a:gd name="textAreaLeft" fmla="*/ 90000 w 671760"/>
              <a:gd name="textAreaRight" fmla="*/ 581760 w 671760"/>
              <a:gd name="textAreaTop" fmla="*/ 104040 h 595080"/>
              <a:gd name="textAreaBottom" fmla="*/ 43164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28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Документооборот в инвестиционной компан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267080" y="3581280"/>
            <a:ext cx="761760" cy="1084320"/>
            <a:chOff x="4267080" y="3581280"/>
            <a:chExt cx="761760" cy="1084320"/>
          </a:xfrm>
        </p:grpSpPr>
        <p:sp>
          <p:nvSpPr>
            <p:cNvPr id="95" name=""/>
            <p:cNvSpPr/>
            <p:nvPr/>
          </p:nvSpPr>
          <p:spPr>
            <a:xfrm>
              <a:off x="4267080" y="3581280"/>
              <a:ext cx="304560" cy="1084320"/>
            </a:xfrm>
            <a:prstGeom prst="downArrow">
              <a:avLst>
                <a:gd name="adj1" fmla="val 50000"/>
                <a:gd name="adj2" fmla="val 89007"/>
              </a:avLst>
            </a:prstGeom>
            <a:solidFill>
              <a:srgbClr val="5789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4724280" y="3581280"/>
              <a:ext cx="304560" cy="1084320"/>
            </a:xfrm>
            <a:prstGeom prst="downArrow">
              <a:avLst>
                <a:gd name="adj1" fmla="val 50000"/>
                <a:gd name="adj2" fmla="val 89007"/>
              </a:avLst>
            </a:prstGeom>
            <a:solidFill>
              <a:srgbClr val="5789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67080" y="1676520"/>
            <a:ext cx="761760" cy="1084320"/>
            <a:chOff x="4267080" y="1676520"/>
            <a:chExt cx="761760" cy="1084320"/>
          </a:xfrm>
        </p:grpSpPr>
        <p:sp>
          <p:nvSpPr>
            <p:cNvPr id="98" name=""/>
            <p:cNvSpPr/>
            <p:nvPr/>
          </p:nvSpPr>
          <p:spPr>
            <a:xfrm>
              <a:off x="4267080" y="1676520"/>
              <a:ext cx="304560" cy="1084320"/>
            </a:xfrm>
            <a:prstGeom prst="downArrow">
              <a:avLst>
                <a:gd name="adj1" fmla="val 50000"/>
                <a:gd name="adj2" fmla="val 89007"/>
              </a:avLst>
            </a:prstGeom>
            <a:solidFill>
              <a:srgbClr val="5789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724280" y="1676520"/>
              <a:ext cx="304560" cy="1084320"/>
            </a:xfrm>
            <a:prstGeom prst="downArrow">
              <a:avLst>
                <a:gd name="adj1" fmla="val 50000"/>
                <a:gd name="adj2" fmla="val 89007"/>
              </a:avLst>
            </a:prstGeom>
            <a:solidFill>
              <a:srgbClr val="5789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Требования НАУФОР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9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2606"/>
                </a:solidFill>
                <a:latin typeface="Times New Roman"/>
              </a:rPr>
              <a:t>К обязательным регистрам учета относятся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286000"/>
            <a:ext cx="8610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Журнал сделок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Журнал учета дилерских операций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Журнал ежедневного учета денежных средств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Книга (ведомость) учета денежных средств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Журнал ежедневного учета ценных бумаг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Книга (ведомость) учета ценных бумаг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Существующие программно-технологические комплекс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133720"/>
            <a:ext cx="706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Signator/200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Diasoft DEALING/SECURIT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Office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.1.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фер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ЦБ-Офис 1.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Задачи систе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ведение электронных журналов заключенных сдело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ведение базы данных заключенных договоров, контроль их состояни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учет находящихся в наличии ценных бумаг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учет брокерских и дилерских операци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формирование аналитической информации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подготовка необходимой отчетности по стандарту НАУФО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Модель Системы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895480" y="1523880"/>
            <a:ext cx="3290760" cy="3992760"/>
            <a:chOff x="2895480" y="1523880"/>
            <a:chExt cx="3290760" cy="3992760"/>
          </a:xfrm>
        </p:grpSpPr>
        <p:sp>
          <p:nvSpPr>
            <p:cNvPr id="109" name=""/>
            <p:cNvSpPr/>
            <p:nvPr/>
          </p:nvSpPr>
          <p:spPr>
            <a:xfrm>
              <a:off x="2895480" y="1523880"/>
              <a:ext cx="3290760" cy="3992760"/>
            </a:xfrm>
            <a:prstGeom prst="rect">
              <a:avLst/>
            </a:prstGeom>
            <a:gradFill rotWithShape="0">
              <a:gsLst>
                <a:gs pos="0">
                  <a:srgbClr val="bdd7e5"/>
                </a:gs>
                <a:gs pos="100000">
                  <a:srgbClr val="00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63680" y="2133720"/>
              <a:ext cx="2855880" cy="922320"/>
            </a:xfrm>
            <a:prstGeom prst="rect">
              <a:avLst/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Times New Roman"/>
                </a:rPr>
                <a:t>Редактор запросов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4191120"/>
              <a:ext cx="2895480" cy="99216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Times New Roman"/>
                </a:rPr>
                <a:t>Журнал учёта операций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87320" y="1541520"/>
              <a:ext cx="19749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Система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038480" y="3124080"/>
              <a:ext cx="761760" cy="990720"/>
              <a:chOff x="4038480" y="3124080"/>
              <a:chExt cx="761760" cy="990720"/>
            </a:xfrm>
          </p:grpSpPr>
          <p:sp>
            <p:nvSpPr>
              <p:cNvPr id="114" name=""/>
              <p:cNvSpPr/>
              <p:nvPr/>
            </p:nvSpPr>
            <p:spPr>
              <a:xfrm>
                <a:off x="4038480" y="3124080"/>
                <a:ext cx="304560" cy="990720"/>
              </a:xfrm>
              <a:prstGeom prst="downArrow">
                <a:avLst>
                  <a:gd name="adj1" fmla="val 50000"/>
                  <a:gd name="adj2" fmla="val 81324"/>
                </a:avLst>
              </a:prstGeom>
              <a:solidFill>
                <a:srgbClr val="57896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4495680" y="3124080"/>
                <a:ext cx="304560" cy="990720"/>
              </a:xfrm>
              <a:prstGeom prst="downArrow">
                <a:avLst>
                  <a:gd name="adj1" fmla="val 50000"/>
                  <a:gd name="adj2" fmla="val 81324"/>
                </a:avLst>
              </a:prstGeom>
              <a:solidFill>
                <a:srgbClr val="57896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04920" y="2895480"/>
            <a:ext cx="2514600" cy="762120"/>
            <a:chOff x="304920" y="2895480"/>
            <a:chExt cx="2514600" cy="762120"/>
          </a:xfrm>
        </p:grpSpPr>
        <p:sp>
          <p:nvSpPr>
            <p:cNvPr id="117" name=""/>
            <p:cNvSpPr/>
            <p:nvPr/>
          </p:nvSpPr>
          <p:spPr>
            <a:xfrm>
              <a:off x="304920" y="2895480"/>
              <a:ext cx="18428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Договора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3352680"/>
              <a:ext cx="2438640" cy="304920"/>
            </a:xfrm>
            <a:prstGeom prst="rightArrow">
              <a:avLst>
                <a:gd name="adj1" fmla="val 50000"/>
                <a:gd name="adj2" fmla="val 199941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8600" y="4110120"/>
            <a:ext cx="2590920" cy="1360440"/>
            <a:chOff x="228600" y="4110120"/>
            <a:chExt cx="2590920" cy="1360440"/>
          </a:xfrm>
        </p:grpSpPr>
        <p:sp>
          <p:nvSpPr>
            <p:cNvPr id="120" name=""/>
            <p:cNvSpPr/>
            <p:nvPr/>
          </p:nvSpPr>
          <p:spPr>
            <a:xfrm>
              <a:off x="228600" y="4876920"/>
              <a:ext cx="25146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из бухгалтерии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" y="4110120"/>
              <a:ext cx="25909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Подтверждения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4648320"/>
              <a:ext cx="2438640" cy="304560"/>
            </a:xfrm>
            <a:prstGeom prst="rightArrow">
              <a:avLst>
                <a:gd name="adj1" fmla="val 50000"/>
                <a:gd name="adj2" fmla="val 200177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8600" y="1523880"/>
            <a:ext cx="2590920" cy="1143000"/>
            <a:chOff x="228600" y="1523880"/>
            <a:chExt cx="2590920" cy="1143000"/>
          </a:xfrm>
        </p:grpSpPr>
        <p:sp>
          <p:nvSpPr>
            <p:cNvPr id="124" name=""/>
            <p:cNvSpPr/>
            <p:nvPr/>
          </p:nvSpPr>
          <p:spPr>
            <a:xfrm>
              <a:off x="228600" y="1523880"/>
              <a:ext cx="217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Требования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2209680"/>
              <a:ext cx="2438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и стандарты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1981080"/>
              <a:ext cx="2438640" cy="304920"/>
            </a:xfrm>
            <a:prstGeom prst="rightArrow">
              <a:avLst>
                <a:gd name="adj1" fmla="val 50000"/>
                <a:gd name="adj2" fmla="val 199941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72200" y="3657600"/>
            <a:ext cx="2633760" cy="1600200"/>
            <a:chOff x="6172200" y="3657600"/>
            <a:chExt cx="2633760" cy="1600200"/>
          </a:xfrm>
        </p:grpSpPr>
        <p:sp>
          <p:nvSpPr>
            <p:cNvPr id="128" name=""/>
            <p:cNvSpPr/>
            <p:nvPr/>
          </p:nvSpPr>
          <p:spPr>
            <a:xfrm>
              <a:off x="6172200" y="4267080"/>
              <a:ext cx="2633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внутреннего назначения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3657600"/>
              <a:ext cx="14475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Отчёты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480" y="4114800"/>
              <a:ext cx="2438640" cy="304920"/>
            </a:xfrm>
            <a:prstGeom prst="rightArrow">
              <a:avLst>
                <a:gd name="adj1" fmla="val 50000"/>
                <a:gd name="adj2" fmla="val 199941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867280" y="1676520"/>
            <a:ext cx="2895840" cy="1531800"/>
            <a:chOff x="5867280" y="1676520"/>
            <a:chExt cx="2895840" cy="1531800"/>
          </a:xfrm>
        </p:grpSpPr>
        <p:sp>
          <p:nvSpPr>
            <p:cNvPr id="132" name=""/>
            <p:cNvSpPr/>
            <p:nvPr/>
          </p:nvSpPr>
          <p:spPr>
            <a:xfrm>
              <a:off x="5867280" y="2286000"/>
              <a:ext cx="2884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внешнего назначения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1676520"/>
              <a:ext cx="17748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Отчёты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2133720"/>
              <a:ext cx="2438640" cy="304560"/>
            </a:xfrm>
            <a:prstGeom prst="rightArrow">
              <a:avLst>
                <a:gd name="adj1" fmla="val 50000"/>
                <a:gd name="adj2" fmla="val 200177"/>
              </a:avLst>
            </a:prstGeom>
            <a:gradFill rotWithShape="0">
              <a:gsLst>
                <a:gs pos="0">
                  <a:srgbClr val="755e5e"/>
                </a:gs>
                <a:gs pos="50000">
                  <a:srgbClr val="ffcccc"/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64080" y="1066680"/>
            <a:ext cx="2550960" cy="649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Г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5720" y="2057400"/>
            <a:ext cx="2423880" cy="930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Ведение баз справочник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5720" y="3048120"/>
            <a:ext cx="2423880" cy="106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Ведение Журнал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5720" y="4191120"/>
            <a:ext cx="2423880" cy="106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Импортирование данны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51440" y="2057400"/>
            <a:ext cx="2168280" cy="930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Создание запрос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51440" y="3124080"/>
            <a:ext cx="216828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Выполнение запрос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51440" y="4267080"/>
            <a:ext cx="216828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кспорт результатов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c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6400" y="2133720"/>
            <a:ext cx="1912680" cy="99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Настройка систе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26400" y="3281400"/>
            <a:ext cx="1912680" cy="649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Помощ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594240" y="1905120"/>
            <a:ext cx="382320" cy="2814480"/>
            <a:chOff x="3594240" y="1905120"/>
            <a:chExt cx="382320" cy="2814480"/>
          </a:xfrm>
        </p:grpSpPr>
        <p:sp>
          <p:nvSpPr>
            <p:cNvPr id="145" name=""/>
            <p:cNvSpPr/>
            <p:nvPr/>
          </p:nvSpPr>
          <p:spPr>
            <a:xfrm>
              <a:off x="3594240" y="1905120"/>
              <a:ext cx="0" cy="28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94240" y="471960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4240" y="353520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94240" y="266868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527880" y="1905120"/>
            <a:ext cx="382680" cy="1731960"/>
            <a:chOff x="6527880" y="1905120"/>
            <a:chExt cx="382680" cy="1731960"/>
          </a:xfrm>
        </p:grpSpPr>
        <p:sp>
          <p:nvSpPr>
            <p:cNvPr id="150" name=""/>
            <p:cNvSpPr/>
            <p:nvPr/>
          </p:nvSpPr>
          <p:spPr>
            <a:xfrm>
              <a:off x="6527880" y="1905120"/>
              <a:ext cx="0" cy="17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27880" y="361152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27880" y="270828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33520" y="1728720"/>
            <a:ext cx="5994360" cy="2887560"/>
            <a:chOff x="533520" y="1728720"/>
            <a:chExt cx="5994360" cy="2887560"/>
          </a:xfrm>
        </p:grpSpPr>
        <p:sp>
          <p:nvSpPr>
            <p:cNvPr id="154" name=""/>
            <p:cNvSpPr/>
            <p:nvPr/>
          </p:nvSpPr>
          <p:spPr>
            <a:xfrm>
              <a:off x="533520" y="460548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33520" y="1728720"/>
              <a:ext cx="5994360" cy="2887560"/>
              <a:chOff x="533520" y="1728720"/>
              <a:chExt cx="5994360" cy="2887560"/>
            </a:xfrm>
          </p:grpSpPr>
          <p:sp>
            <p:nvSpPr>
              <p:cNvPr id="156" name=""/>
              <p:cNvSpPr/>
              <p:nvPr/>
            </p:nvSpPr>
            <p:spPr>
              <a:xfrm>
                <a:off x="533520" y="1905120"/>
                <a:ext cx="599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520" y="1905120"/>
                <a:ext cx="0" cy="27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520" y="363708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3520" y="264312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13280" y="1728720"/>
                <a:ext cx="0" cy="1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914400" y="304920"/>
            <a:ext cx="72388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2606"/>
                </a:solidFill>
                <a:latin typeface="Times New Roman"/>
              </a:rPr>
              <a:t>Основные функции систем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19320" y="2438280"/>
            <a:ext cx="6476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ff99"/>
                  </a:outerShdw>
                </a:effectLst>
                <a:latin typeface="Times New Roman"/>
              </a:rPr>
              <a:t>Большое спасибо за внимани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ff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1814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7T18:25:42Z</dcterms:created>
  <dc:creator>Болотова Илона Ю.</dc:creator>
  <dc:description/>
  <dc:language>en-US</dc:language>
  <cp:lastModifiedBy>Sergey</cp:lastModifiedBy>
  <dcterms:modified xsi:type="dcterms:W3CDTF">1998-06-22T02:00:51Z</dcterms:modified>
  <cp:revision>36</cp:revision>
  <dc:subject/>
  <dc:title>Банковские риски Выпускная квалификационная работа бакалавра</dc:title>
</cp:coreProperties>
</file>