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A036-76DB-4A33-A560-74A3EDC2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4B44-4873-4601-AEE4-CD1DA318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11D2-DF75-4439-8D24-CD58F3C1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0EC-8902-4ECA-A370-3F8D8A31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E369-C6D6-42B0-975E-2645D413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9A9D-156E-49F9-AAA3-47F885D6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0CAA-F3AD-45AC-AD0D-6082C225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CF50-7D4C-4CD7-A570-8709AE58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FC8D-771E-4F61-A0D0-0C1347D4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64E9-FF4E-4219-BECC-AB67E4F3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7E96-CE38-4B8A-8F25-76420C1A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E8B1-27BB-44D4-AF44-61599757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1F00-3D54-410E-8D6C-311C1F2F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B10E-E40E-410F-96BD-846D1975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37FC-721A-42DD-B5D6-3CC373C9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154F-8667-48F0-9AF4-397C8B9A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67C9-C1C9-4858-8A70-CAE1A23F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A04-88D0-421F-904A-980C6470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1464-47E0-4583-9728-DFBB6DF0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57D9-424B-4689-9D1F-D88B1D97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578-FBCC-4027-856D-FFBB317A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F817-C2EF-427B-BA92-3385FB64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A470-0485-4018-AE36-5AA83C1C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CCF9-7D9C-4076-8FC3-72AF2E43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632E-7D59-4D15-B5C1-8BC1AD307138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C6CE-8C0E-4EE8-AE30-490C23216243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12CF-FE83-4D3D-91D6-D311828F1435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8CC4-6BA1-4671-A994-3F4FC04B7163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143000" y="825480"/>
            <a:ext cx="4724280" cy="23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елки и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аминокислот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33920" y="8007480"/>
            <a:ext cx="2819160" cy="94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лимовец Александр и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хайлов Алексей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8172360"/>
            <a:ext cx="71424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220011"/>
                </a:solidFill>
                <a:latin typeface="Impact"/>
              </a:rPr>
              <a:t>11-3</a:t>
            </a:r>
            <a:endParaRPr b="0" lang="en-US" sz="2400" spc="1" strike="noStrike">
              <a:ln w="12600">
                <a:solidFill>
                  <a:srgbClr val="ffcc00"/>
                </a:solidFill>
                <a:miter/>
              </a:ln>
              <a:solidFill>
                <a:srgbClr val="220011"/>
              </a:solidFill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20:12:51Z</dcterms:created>
  <dc:creator>Алексей</dc:creator>
  <dc:description/>
  <dc:language>en-US</dc:language>
  <cp:lastModifiedBy>Алексей</cp:lastModifiedBy>
  <cp:lastPrinted>2002-03-18T20:47:09Z</cp:lastPrinted>
  <dcterms:modified xsi:type="dcterms:W3CDTF">2002-03-19T13:01:34Z</dcterms:modified>
  <cp:revision>4</cp:revision>
  <dc:subject/>
  <dc:title>Заголовок слайда отсутствует</dc:title>
</cp:coreProperties>
</file>