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 Narrow"/>
              </a:rPr>
              <a:t>Click to move the slide</a:t>
            </a: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70D6C-939C-4CE3-A276-68535AE79B9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нная выпускная работа посвящена вопросам разработки программы защиты объектов операционной системы WINDOWS95 работающей в многопользовательском режиме под управлением сервера Novell NetWare. Поскольку на сегодняшний день продукты фирмы Nowell не пользуются большим успехом на рынке серверных систем, данный проект был создан с целью абстрогироватся от программного обеспечения которое установлено на сервере (контролере домена(ов)) по этому данный програмный продукт может функционировать также под управлним серверов: Windows NT и  Unix. Однако имеющиеся на сегодняшний день большое количество подобных программ ставит перед человеком, проводящим защиту ОС  Windows 95, не тривиальную задачу - ввести большое количество данных при интуитивно не понятном и сложном интерфейсе, не позволяющем быстро и точно защитить требующиеся объекты.  Указываются достоинства и недостатки существующих программных продуктов, позволяющих производить защиту объектов операционной системы WINDOWS95. Указываются пути дальнейшего расширения возможностей програм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FD94D-3867-422F-BC38-5D85B954AB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69600" y="435924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CCE99-89DB-4210-9677-62F3FBB528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20508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9004C-14A8-45CA-84DA-F8094FF982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234252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01580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6960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234252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401580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70D41-D225-49D8-9419-C5905AF750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C19745-71BC-4F46-8E40-647E085C6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66F8E5-ACBE-4178-AEED-663BE9BD2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C5F4AE-1A87-4FD9-990A-70072E0C6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401DA7-413D-4647-A666-614E8AB12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119982-D92F-48A1-8D56-9797CE6A6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90240" y="1081080"/>
            <a:ext cx="8421480" cy="57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F8EBDB-86CC-4B7E-9470-2738C6D46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A7B12C-7422-4118-855C-2A107032E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10748-859B-46D6-B461-C8A21054BD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20508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31EF0F-9BF7-4AE0-8535-A9A2C552E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FF9957-1B9B-43AE-AD38-E69DC7D26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9600" y="435924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E3E456-D7E3-4B86-BBE8-13F6EBF69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320508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28D6B4-26F3-4455-AFB2-E75568E79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34252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01580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6960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34252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401580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764C44-D636-4ABA-85C4-23BF7CB17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820A5-F75A-4C43-BE21-19B2B69163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335C9-B2F2-40C3-A478-683D5B6B41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29819-448A-4DDC-98C7-2EF043C05B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90240" y="1081080"/>
            <a:ext cx="8421480" cy="57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A3B63-38F4-48E9-86F3-568BEAF30A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3369F-52DF-4F26-9610-9F9C6755AA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0508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1527A-39BB-46B4-8AA1-10FDEB0BB2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FA91C-5747-445C-AF7A-FD17629B82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264960"/>
            <a:ext cx="8915400" cy="6589800"/>
          </a:xfrm>
          <a:prstGeom prst="rtTriangle">
            <a:avLst/>
          </a:prstGeom>
          <a:gradFill rotWithShape="0">
            <a:gsLst>
              <a:gs pos="0">
                <a:srgbClr val="462f17"/>
              </a:gs>
              <a:gs pos="100000">
                <a:srgbClr val="9966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5638680" y="5275440"/>
            <a:ext cx="3389400" cy="68580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>
                  <a:alpha val="50196"/>
                </a:srgbClr>
              </a:gs>
              <a:gs pos="100000">
                <a:srgbClr val="462f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5840" y="1066680"/>
            <a:ext cx="9128160" cy="132084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/>
              </a:gs>
              <a:gs pos="100000">
                <a:srgbClr val="462f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568240" y="6119280"/>
            <a:ext cx="390852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06E24-81E4-4129-BFE9-17D426D9DBF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flipH="1">
            <a:off x="5718960" y="-360"/>
            <a:ext cx="6857640" cy="6857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302" y="12"/>
                </a:moveTo>
                <a:arcTo wR="10800" hR="10800" stAng="-5240302" swAng="10509791"/>
                <a:lnTo>
                  <a:pt x="10800" y="10800"/>
                </a:lnTo>
                <a:close/>
              </a:path>
              <a:path fill="none" w="21600" h="21600">
                <a:moveTo>
                  <a:pt x="11302" y="12"/>
                </a:moveTo>
                <a:arcTo wR="10800" hR="10800" stAng="-5240302" swAng="10509791"/>
              </a:path>
            </a:pathLst>
          </a:cu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 flipV="1">
            <a:off x="6782040" y="-3200760"/>
            <a:ext cx="4723560" cy="472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89" y="7005"/>
                </a:moveTo>
                <a:arcTo wR="10800" hR="10800" stAng="-9565662" swAng="4127954"/>
                <a:lnTo>
                  <a:pt x="10800" y="10800"/>
                </a:lnTo>
                <a:close/>
              </a:path>
              <a:path fill="none" w="21600" h="21600">
                <a:moveTo>
                  <a:pt x="689" y="7005"/>
                </a:moveTo>
                <a:arcTo wR="10800" hR="10800" stAng="-9565662" swAng="4127954"/>
              </a:path>
            </a:pathLst>
          </a:cu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 flipH="1" flipV="1">
            <a:off x="6715800" y="-17280"/>
            <a:ext cx="2361960" cy="272772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7243920" y="-12600"/>
            <a:ext cx="1440" cy="681192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0" y="5275440"/>
            <a:ext cx="4603680" cy="68580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>
                  <a:alpha val="50196"/>
                </a:srgbClr>
              </a:gs>
              <a:gs pos="100000">
                <a:srgbClr val="462f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68200"/>
            <a:ext cx="8915400" cy="6589800"/>
          </a:xfrm>
          <a:prstGeom prst="rtTriangle">
            <a:avLst/>
          </a:pr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840" y="1523880"/>
            <a:ext cx="9128160" cy="132084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/>
              </a:gs>
              <a:gs pos="100000">
                <a:srgbClr val="462f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42880" y="3228840"/>
            <a:ext cx="0" cy="3627720"/>
          </a:xfrm>
          <a:prstGeom prst="line">
            <a:avLst/>
          </a:prstGeom>
          <a:ln cap="sq"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837480" y="-9360"/>
            <a:ext cx="330120" cy="6875280"/>
            <a:chOff x="6837480" y="-9360"/>
            <a:chExt cx="330120" cy="6875280"/>
          </a:xfrm>
        </p:grpSpPr>
        <p:sp>
          <p:nvSpPr>
            <p:cNvPr id="53" name=""/>
            <p:cNvSpPr/>
            <p:nvPr/>
          </p:nvSpPr>
          <p:spPr>
            <a:xfrm>
              <a:off x="6865920" y="6721560"/>
              <a:ext cx="76320" cy="14436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837480" y="304812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142040" y="335268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37480" y="426708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837480" y="548640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142040" y="457200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142040" y="579132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837480" y="-9360"/>
              <a:ext cx="75960" cy="10296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142040" y="-7920"/>
              <a:ext cx="25560" cy="4064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837480" y="47628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37480" y="169560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42040" y="78120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142040" y="200016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dt" idx="3"/>
          </p:nvPr>
        </p:nvSpPr>
        <p:spPr>
          <a:xfrm>
            <a:off x="685440" y="5257440"/>
            <a:ext cx="3908520" cy="34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85120-B7D4-4BCA-B987-A6E0A9B1AD53}" type="datetime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4"/>
          </p:nvPr>
        </p:nvSpPr>
        <p:spPr>
          <a:xfrm>
            <a:off x="685440" y="5638320"/>
            <a:ext cx="3908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5"/>
          </p:nvPr>
        </p:nvSpPr>
        <p:spPr>
          <a:xfrm>
            <a:off x="7236000" y="6356160"/>
            <a:ext cx="1908000" cy="50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lstStyle>
            <a:lvl1pPr lvl="1" marL="114480" indent="0" algn="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114480" indent="0" algn="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CCD0E-1473-4EBB-9861-2C359080238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7200" y="404640"/>
            <a:ext cx="7489800" cy="5542200"/>
          </a:xfrm>
          <a:custGeom>
            <a:avLst/>
            <a:gdLst/>
            <a:ahLst/>
            <a:rect l="l" t="t" r="r" b="b"/>
            <a:pathLst>
              <a:path w="4718" h="3491">
                <a:moveTo>
                  <a:pt x="4718" y="3491"/>
                </a:moveTo>
                <a:lnTo>
                  <a:pt x="4718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20" y="1676520"/>
            <a:ext cx="9128160" cy="132084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/>
              </a:gs>
              <a:gs pos="100000">
                <a:srgbClr val="462f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866560" y="-360"/>
            <a:ext cx="6857640" cy="6857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302" y="12"/>
                </a:moveTo>
                <a:arcTo wR="10800" hR="10800" stAng="-5240302" swAng="10509791"/>
                <a:lnTo>
                  <a:pt x="10800" y="10800"/>
                </a:lnTo>
                <a:close/>
              </a:path>
              <a:path fill="none" w="21600" h="21600">
                <a:moveTo>
                  <a:pt x="11302" y="12"/>
                </a:moveTo>
                <a:arcTo wR="10800" hR="10800" stAng="-5240302" swAng="10509791"/>
              </a:path>
            </a:pathLst>
          </a:cu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6.xml"/><Relationship Id="rId3" Type="http://schemas.openxmlformats.org/officeDocument/2006/relationships/slide" Target="slide17.xml"/><Relationship Id="rId4" Type="http://schemas.openxmlformats.org/officeDocument/2006/relationships/slide" Target="slide18.xml"/><Relationship Id="rId5" Type="http://schemas.openxmlformats.org/officeDocument/2006/relationships/slide" Target="slide4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00"/>
                </a:solidFill>
                <a:latin typeface="Arial Narrow"/>
              </a:rPr>
              <a:t>ВЫПУСКНАЯ КВАЛИФИКАЦИОННАЯ РАБОТА БАКАЛАВРА</a:t>
            </a: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28200" y="3171600"/>
            <a:ext cx="4970520" cy="204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ицентов Д. 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МА: ПРОГРАММА ЗАЩИТЫ ОБЬЕКТОВ ОПЕРАЦИОННОЙ СИСТЕМЫ WINDOWS95, РАБОТАЮЩЕЙ В МНОГОПОЛЬЗОВАТЕЛЬСКОМ РЕЖИМЕ ПОД УПРАВЛЕНИЕМ СЕРВЕРА Novell NetWare (Windows NT, Unix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DA57FD0-71FC-4F81-911A-146CA6D99FF7}" type="datetime1">
              <a:rPr lang="en-US"/>
              <a:t>07/29/26</a:t>
            </a:fld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Пример работы программы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4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1960" y="2479680"/>
            <a:ext cx="30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о работы програм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79440" y="2514600"/>
            <a:ext cx="353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сле работы програм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5105520" y="3048120"/>
          <a:ext cx="3176640" cy="316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3048120"/>
                    <a:ext cx="3176640" cy="31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0" y="3276720"/>
          <a:ext cx="3908520" cy="232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276720"/>
                    <a:ext cx="3908520" cy="23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512800" y="1371600"/>
            <a:ext cx="480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Конец презентац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"/>
          <p:cNvGraphicFramePr/>
          <p:nvPr/>
        </p:nvGraphicFramePr>
        <p:xfrm>
          <a:off x="0" y="-58680"/>
          <a:ext cx="9144000" cy="691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58680"/>
                    <a:ext cx="9144000" cy="691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8656560" y="-228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33"/>
                </a:solidFill>
                <a:uFillTx/>
                <a:latin typeface="Times New Roman"/>
                <a:hlinkClick r:id="rId3" action="ppaction://hlinksldjump"/>
              </a:rPr>
              <a:t>__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0" y="17640"/>
          <a:ext cx="9144000" cy="68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640"/>
                    <a:ext cx="9144000" cy="68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6844680" y="3013200"/>
            <a:ext cx="185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ниверсит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0" y="0"/>
          <a:ext cx="59133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59133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0" y="0"/>
          <a:ext cx="596124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59612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6311160" y="3013200"/>
            <a:ext cx="265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фисы различны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ир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"/>
          <p:cNvGraphicFramePr/>
          <p:nvPr/>
        </p:nvGraphicFramePr>
        <p:xfrm>
          <a:off x="0" y="0"/>
          <a:ext cx="463536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463536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4597560" y="1600200"/>
          <a:ext cx="4546440" cy="525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97560" y="1600200"/>
                    <a:ext cx="454644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013720" y="498600"/>
            <a:ext cx="373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бочее место специалис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0" name=""/>
          <p:cNvGraphicFramePr/>
          <p:nvPr/>
        </p:nvGraphicFramePr>
        <p:xfrm>
          <a:off x="0" y="0"/>
          <a:ext cx="59277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59277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"/>
          <p:cNvSpPr/>
          <p:nvPr/>
        </p:nvSpPr>
        <p:spPr>
          <a:xfrm>
            <a:off x="6234480" y="2479680"/>
            <a:ext cx="224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бочее мест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ператора ЭВ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00"/>
                </a:solidFill>
                <a:latin typeface="Arial Narrow"/>
              </a:rPr>
              <a:t>Системы защиты ОС </a:t>
            </a:r>
            <a:r>
              <a:rPr b="0" lang="en-US" sz="4000" spc="-1" strike="noStrike">
                <a:solidFill>
                  <a:srgbClr val="ff9900"/>
                </a:solidFill>
                <a:latin typeface="Arial Narrow"/>
              </a:rPr>
              <a:t>Windows 95</a:t>
            </a: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628560" y="3171600"/>
            <a:ext cx="5695920" cy="204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анная выпускная работа посвящена вопросам разработки программы защиты объектов операционной системы WINDOWS95 работающей в многопользовательском режиме под управлением сервера Novell NetWare (Windows NT, Unix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9933"/>
                </a:solidFill>
                <a:uFillTx/>
                <a:latin typeface="Times New Roman"/>
                <a:hlinkClick r:id="rId1" action="ppaction://hlinksldjump"/>
              </a:rPr>
              <a:t>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CCDFDD6-A555-4B90-ADDC-DF5D98F9F233}" type="datetime1">
              <a:rPr lang="en-US"/>
              <a:t>07/29/26</a:t>
            </a:fld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Прогноз использования программы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33"/>
                </a:solidFill>
                <a:uFillTx/>
                <a:latin typeface="Arial"/>
                <a:hlinkClick r:id="rId1" action="ppaction://hlinksldjump"/>
              </a:rPr>
              <a:t>Университ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33"/>
                </a:solidFill>
                <a:uFillTx/>
                <a:latin typeface="Arial"/>
                <a:hlinkClick r:id="rId2" action="ppaction://hlinksldjump"/>
              </a:rPr>
              <a:t>Офисы различных фир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33"/>
                </a:solidFill>
                <a:uFillTx/>
                <a:latin typeface="Arial"/>
                <a:hlinkClick r:id="rId3" action="ppaction://hlinksldjump"/>
              </a:rPr>
              <a:t>Рабочее место специалиста узкого профил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33"/>
                </a:solidFill>
                <a:uFillTx/>
                <a:latin typeface="Arial"/>
                <a:hlinkClick r:id="rId4" action="ppaction://hlinksldjump"/>
              </a:rPr>
              <a:t>Рабочее место оператора ЭВ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9933"/>
                </a:solidFill>
                <a:uFillTx/>
                <a:latin typeface="Times New Roman"/>
                <a:hlinkClick r:id="rId5" action="ppaction://hlinksldjump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Цели разработки данного проекта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847404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щита ПК от несанкционированного доступ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величение срока службы П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еспечение безотказного функционирования П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еспечение удобства работы оператора с П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вместим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изводитель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дёж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9933"/>
                </a:solidFill>
                <a:uFillTx/>
                <a:latin typeface="Times New Roman"/>
                <a:hlinkClick r:id="rId1" action="ppaction://hlinksldjump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Обзор существующих систем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69960" y="2574720"/>
            <a:ext cx="778824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истема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Twec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зработка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AccessForbiten4.1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грамма PC Deadbolt 3.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андартный модуль ОС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dows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reged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9933"/>
                </a:solidFill>
                <a:uFillTx/>
                <a:latin typeface="Times New Roman"/>
                <a:hlinkClick r:id="rId1" action="ppaction://hlinksldjump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75340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История создания и проблемы вызвавшие необходимость данной работы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847404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блемы функционирования ПК в ЛВС университет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шения, потерявшие актуальность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ъёмные дис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грузка с сервера по ЛВ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ключение жестких дисков на П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9933"/>
                </a:solidFill>
                <a:uFillTx/>
                <a:latin typeface="Times New Roman"/>
                <a:hlinkClick r:id="rId1" action="ppaction://hlinksldjump"/>
              </a:rPr>
              <a:t>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19800" y="5638680"/>
            <a:ext cx="463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ШЕНИЕ --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FIG.P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9060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Место программы в модель взаимодействия открытых систем (</a:t>
            </a: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OSI/IS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9933"/>
                </a:solidFill>
                <a:uFillTx/>
                <a:latin typeface="Times New Roman"/>
                <a:hlinkClick r:id="rId1" action="ppaction://hlinksldjump"/>
              </a:rPr>
              <a:t>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2438280"/>
            <a:ext cx="3962520" cy="30492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льзовате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3048120"/>
            <a:ext cx="3962520" cy="30456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кладной урове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3581280"/>
            <a:ext cx="3962520" cy="30492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едставительский урове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4114800"/>
            <a:ext cx="3962520" cy="30492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еансовый урове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4648320"/>
            <a:ext cx="3962520" cy="30456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ранспортный урове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0880" y="5181480"/>
            <a:ext cx="3962520" cy="30492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етевой урове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5715000"/>
            <a:ext cx="3962520" cy="30492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нальный урове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6172200"/>
            <a:ext cx="3962520" cy="30492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изический урове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4" idx="3"/>
            <a:endCxn id="143" idx="3"/>
          </p:cNvCxnSpPr>
          <p:nvPr/>
        </p:nvCxnSpPr>
        <p:spPr>
          <a:xfrm flipV="1">
            <a:off x="4343400" y="5866920"/>
            <a:ext cx="2160" cy="457920"/>
          </a:xfrm>
          <a:prstGeom prst="bentConnector3">
            <a:avLst>
              <a:gd name="adj1" fmla="val 1440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3" idx="1"/>
            <a:endCxn id="142" idx="1"/>
          </p:cNvCxnSpPr>
          <p:nvPr/>
        </p:nvCxnSpPr>
        <p:spPr>
          <a:xfrm flipH="1" rot="10800000">
            <a:off x="379800" y="5333400"/>
            <a:ext cx="2520" cy="533880"/>
          </a:xfrm>
          <a:prstGeom prst="bentConnector3">
            <a:avLst>
              <a:gd name="adj1" fmla="val -1440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42" idx="3"/>
            <a:endCxn id="141" idx="3"/>
          </p:cNvCxnSpPr>
          <p:nvPr/>
        </p:nvCxnSpPr>
        <p:spPr>
          <a:xfrm flipV="1">
            <a:off x="4343400" y="4800240"/>
            <a:ext cx="2160" cy="534240"/>
          </a:xfrm>
          <a:prstGeom prst="bentConnector3">
            <a:avLst>
              <a:gd name="adj1" fmla="val 1440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1" idx="1"/>
            <a:endCxn id="140" idx="1"/>
          </p:cNvCxnSpPr>
          <p:nvPr/>
        </p:nvCxnSpPr>
        <p:spPr>
          <a:xfrm flipH="1" rot="10800000">
            <a:off x="379800" y="4266360"/>
            <a:ext cx="2520" cy="534240"/>
          </a:xfrm>
          <a:prstGeom prst="bentConnector3">
            <a:avLst>
              <a:gd name="adj1" fmla="val -1440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6477120" y="3276720"/>
            <a:ext cx="2057400" cy="1143000"/>
          </a:xfrm>
          <a:prstGeom prst="flowChartInputOutput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fig.p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0" idx="3"/>
            <a:endCxn id="149" idx="4"/>
          </p:cNvCxnSpPr>
          <p:nvPr/>
        </p:nvCxnSpPr>
        <p:spPr>
          <a:xfrm>
            <a:off x="4343400" y="4267080"/>
            <a:ext cx="3162960" cy="153360"/>
          </a:xfrm>
          <a:prstGeom prst="bentConnector4">
            <a:avLst>
              <a:gd name="adj1" fmla="val 33727"/>
              <a:gd name="adj2" fmla="val 249882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49" idx="1"/>
            <a:endCxn id="139" idx="3"/>
          </p:cNvCxnSpPr>
          <p:nvPr/>
        </p:nvCxnSpPr>
        <p:spPr>
          <a:xfrm rot="5400000">
            <a:off x="5695200" y="1924200"/>
            <a:ext cx="457920" cy="3162960"/>
          </a:xfrm>
          <a:prstGeom prst="bentConnector4">
            <a:avLst>
              <a:gd name="adj1" fmla="val -49960"/>
              <a:gd name="adj2" fmla="val 6626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39" idx="1"/>
            <a:endCxn id="138" idx="1"/>
          </p:cNvCxnSpPr>
          <p:nvPr/>
        </p:nvCxnSpPr>
        <p:spPr>
          <a:xfrm flipH="1" rot="10800000">
            <a:off x="379800" y="3199680"/>
            <a:ext cx="2520" cy="534240"/>
          </a:xfrm>
          <a:prstGeom prst="bentConnector3">
            <a:avLst>
              <a:gd name="adj1" fmla="val -1440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38" idx="3"/>
            <a:endCxn id="137" idx="3"/>
          </p:cNvCxnSpPr>
          <p:nvPr/>
        </p:nvCxnSpPr>
        <p:spPr>
          <a:xfrm flipV="1">
            <a:off x="4343400" y="2590200"/>
            <a:ext cx="2160" cy="610200"/>
          </a:xfrm>
          <a:prstGeom prst="bentConnector3">
            <a:avLst>
              <a:gd name="adj1" fmla="val 1440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Установление сеансового соединения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752480" y="228600"/>
            <a:ext cx="6019920" cy="38088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бочая Станция ОС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dows 9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514600" y="1447920"/>
            <a:ext cx="4495680" cy="1904760"/>
          </a:xfrm>
          <a:prstGeom prst="flowChartDecision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гистр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ме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04400" y="1447920"/>
            <a:ext cx="26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ступ разреше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2680" y="1371600"/>
            <a:ext cx="29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доступе отказа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2286000"/>
            <a:ext cx="1905120" cy="106668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екращен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еанс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гистра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0" name=""/>
          <p:cNvCxnSpPr>
            <a:stCxn id="155" idx="2"/>
            <a:endCxn id="156" idx="0"/>
          </p:cNvCxnSpPr>
          <p:nvPr/>
        </p:nvCxnSpPr>
        <p:spPr>
          <a:xfrm>
            <a:off x="4762080" y="609120"/>
            <a:ext cx="1080" cy="839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6" idx="1"/>
            <a:endCxn id="159" idx="0"/>
          </p:cNvCxnSpPr>
          <p:nvPr/>
        </p:nvCxnSpPr>
        <p:spPr>
          <a:xfrm rot="10800000">
            <a:off x="951840" y="2285280"/>
            <a:ext cx="1562760" cy="115200"/>
          </a:xfrm>
          <a:prstGeom prst="bentConnector4">
            <a:avLst>
              <a:gd name="adj1" fmla="val 19493"/>
              <a:gd name="adj2" fmla="val 30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6324480" y="3048120"/>
            <a:ext cx="2819520" cy="106668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крытие доступ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 каталогу с файло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fig.p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3" name=""/>
          <p:cNvCxnSpPr>
            <a:stCxn id="156" idx="3"/>
            <a:endCxn id="162" idx="0"/>
          </p:cNvCxnSpPr>
          <p:nvPr/>
        </p:nvCxnSpPr>
        <p:spPr>
          <a:xfrm>
            <a:off x="7009920" y="2400120"/>
            <a:ext cx="724680" cy="64836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4" name=""/>
          <p:cNvSpPr/>
          <p:nvPr/>
        </p:nvSpPr>
        <p:spPr>
          <a:xfrm>
            <a:off x="5943600" y="5029200"/>
            <a:ext cx="3200400" cy="99072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грузка шифрованног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айла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fig.pol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ОЗ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5" name=""/>
          <p:cNvCxnSpPr>
            <a:stCxn id="162" idx="2"/>
            <a:endCxn id="164" idx="0"/>
          </p:cNvCxnSpPr>
          <p:nvPr/>
        </p:nvCxnSpPr>
        <p:spPr>
          <a:xfrm rot="5400000">
            <a:off x="7180920" y="4476600"/>
            <a:ext cx="915120" cy="191160"/>
          </a:xfrm>
          <a:prstGeom prst="bentConnector3">
            <a:avLst>
              <a:gd name="adj1" fmla="val 4998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6" name=""/>
          <p:cNvSpPr/>
          <p:nvPr/>
        </p:nvSpPr>
        <p:spPr>
          <a:xfrm>
            <a:off x="3048120" y="5029200"/>
            <a:ext cx="2590560" cy="99072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ешифрация файл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fig.pol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ОЗ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4" idx="1"/>
            <a:endCxn id="166" idx="3"/>
          </p:cNvCxnSpPr>
          <p:nvPr/>
        </p:nvCxnSpPr>
        <p:spPr>
          <a:xfrm rot="10800000">
            <a:off x="5637960" y="5523840"/>
            <a:ext cx="305640" cy="108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8" name=""/>
          <p:cNvSpPr/>
          <p:nvPr/>
        </p:nvSpPr>
        <p:spPr>
          <a:xfrm>
            <a:off x="0" y="5029200"/>
            <a:ext cx="2743200" cy="99072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пуск программы 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менение реест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9" name=""/>
          <p:cNvCxnSpPr>
            <a:stCxn id="166" idx="1"/>
            <a:endCxn id="168" idx="3"/>
          </p:cNvCxnSpPr>
          <p:nvPr/>
        </p:nvCxnSpPr>
        <p:spPr>
          <a:xfrm flipH="1">
            <a:off x="2742480" y="5524200"/>
            <a:ext cx="30564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2209680" y="6477120"/>
            <a:ext cx="6934320" cy="38088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чищенная Рабочая Станция ОС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dows 9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1" name=""/>
          <p:cNvCxnSpPr>
            <a:stCxn id="168" idx="2"/>
            <a:endCxn id="170" idx="1"/>
          </p:cNvCxnSpPr>
          <p:nvPr/>
        </p:nvCxnSpPr>
        <p:spPr>
          <a:xfrm flipH="1" rot="16200000">
            <a:off x="1466640" y="5924160"/>
            <a:ext cx="648360" cy="83880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59" idx="2"/>
            <a:endCxn id="156" idx="2"/>
          </p:cNvCxnSpPr>
          <p:nvPr/>
        </p:nvCxnSpPr>
        <p:spPr>
          <a:xfrm flipH="1" rot="16200000">
            <a:off x="2855520" y="1448280"/>
            <a:ext cx="2520" cy="3810600"/>
          </a:xfrm>
          <a:prstGeom prst="bentConnector3">
            <a:avLst>
              <a:gd name="adj1" fmla="val 5458333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3T19:14:48Z</dcterms:created>
  <dc:creator>Demon13</dc:creator>
  <dc:description/>
  <cp:keywords>ЗАЩИТА WINDOWS95 МНОГОПОЛЬЗОВАТЕЛЬСКОМ РЕЖИМЕ СЕРВЕР Novell NetWare Windows NT  Unix</cp:keywords>
  <dc:language>en-US</dc:language>
  <cp:lastModifiedBy>Demon13</cp:lastModifiedBy>
  <dcterms:modified xsi:type="dcterms:W3CDTF">2000-06-28T18:45:47Z</dcterms:modified>
  <cp:revision>33</cp:revision>
  <dc:subject>ПРОГРАММА ЗАЩИТЫ ОБЬЕКТОВ ОПЕРАЦИОННОЙ СИСТЕМЫ WINDOWS95, РАБОТАЮЩЕЙ В МНОГОПОЛЬЗОВАТЕЛЬСКОМ РЕЖИМЕ ПОД УПРАВЛЕНИЕМ СЕРВЕРА Novell NetWare (Windows NT, Unix)</dc:subject>
  <dc:title>ВЫПУСКНАЯ КВАЛИФИКАЦИОННАЯ РАБОТА БАКАЛАВР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Группа">
    <vt:lpwstr>3ИТ4-26</vt:lpwstr>
  </property>
  <property fmtid="{D5CDD505-2E9C-101B-9397-08002B2CF9AE}" pid="3" name="Издатель">
    <vt:lpwstr>Litsentov D. B.</vt:lpwstr>
  </property>
  <property fmtid="{D5CDD505-2E9C-101B-9397-08002B2CF9AE}" pid="4" name="Почтовое отделение">
    <vt:lpwstr>Demon13@altavista.net</vt:lpwstr>
  </property>
  <property fmtid="{D5CDD505-2E9C-101B-9397-08002B2CF9AE}" pid="5" name="Проверено">
    <vt:lpwstr>июнь 2000</vt:lpwstr>
  </property>
  <property fmtid="{D5CDD505-2E9C-101B-9397-08002B2CF9AE}" pid="6" name="Проект">
    <vt:lpwstr>ПРОГРАММА ЗАЩИТЫ ОБЬЕКТОВ ОПЕРАЦИОННОЙ СИСТЕМЫ WINDOWS95, РАБОТАЮЩЕЙ В МНОГОПОЛЬЗОВАТЕЛЬСКОМ РЕЖИМЕ ПОД УПРАВЛЕНИЕМ СЕРВЕРА Novell NetWare (Windows NT, Unix)</vt:lpwstr>
  </property>
  <property fmtid="{D5CDD505-2E9C-101B-9397-08002B2CF9AE}" pid="7" name="Расположение">
    <vt:lpwstr>Комп Demon13</vt:lpwstr>
  </property>
  <property fmtid="{D5CDD505-2E9C-101B-9397-08002B2CF9AE}" pid="8" name="Редактор">
    <vt:lpwstr>Еремеева Т. Ю.</vt:lpwstr>
  </property>
  <property fmtid="{D5CDD505-2E9C-101B-9397-08002B2CF9AE}" pid="9" name="Состояние">
    <vt:lpwstr>Закрыт</vt:lpwstr>
  </property>
  <property fmtid="{D5CDD505-2E9C-101B-9397-08002B2CF9AE}" pid="10" name="Телефон">
    <vt:lpwstr>+7 (095) 979 1504</vt:lpwstr>
  </property>
  <property fmtid="{D5CDD505-2E9C-101B-9397-08002B2CF9AE}" pid="11" name="Цель">
    <vt:lpwstr>Демонстарция на защите диплома бакалавра</vt:lpwstr>
  </property>
  <property fmtid="{D5CDD505-2E9C-101B-9397-08002B2CF9AE}" pid="12" name="Язык">
    <vt:lpwstr>русский</vt:lpwstr>
  </property>
</Properties>
</file>