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BD8-89CE-4CEC-B1B0-C95F4430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C5F-9226-4654-A9E9-3A6CA5D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8C6-7A1C-4079-B90F-2E3CEF48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808-CD16-498E-B672-15D2FC25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456-4C89-4D2F-BA4F-1BECF432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D09-7843-4BB8-898B-27F0896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E76-E87A-4399-8E7B-4D8CB20A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3CE-CB05-4694-A222-91AB8798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F26-869D-476C-AF6B-195BB35D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4B5-5D3D-444B-81F3-47E7309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9BE-6BE2-4001-A607-066ED42A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EBE-7BDE-4239-BF55-136A998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FF5E-633D-4C60-99B1-3E403D45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96000" cy="400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4140000" cy="278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450072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2760" y="1268280"/>
            <a:ext cx="4791240" cy="558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u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sb_cable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ug_a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7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ug_b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b2_cable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niUSB_c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9:41:05Z</dcterms:created>
  <dc:creator>Данил</dc:creator>
  <dc:description/>
  <dc:language>en-US</dc:language>
  <cp:lastModifiedBy>Данил</cp:lastModifiedBy>
  <dcterms:modified xsi:type="dcterms:W3CDTF">2003-01-14T19:54:36Z</dcterms:modified>
  <cp:revision>2</cp:revision>
  <dc:subject/>
  <dc:title>Слайд 1</dc:title>
</cp:coreProperties>
</file>