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16.wmf" ContentType="image/x-wmf"/>
  <Override PartName="/ppt/media/image1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15C-A43C-4BA1-A19D-5BD98D36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980-3302-4EDF-8EA6-FB13638C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C42-EF56-4E16-80B4-CD030F19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4E5-B519-412F-A8BB-670E2A74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F26-11B4-4B53-960F-E6AFFA0D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2F8-4E2A-48D1-837F-36F2968B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7C7-1A6D-415F-A454-DA55A750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203-21FA-4369-9B2B-A4913522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12E-C73B-48B4-B02B-8C038F98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74CF-9AA5-48F7-9CCF-E0CE4226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1F6-133C-44BE-9DE8-5E260E88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8A26-44BF-4BC4-96EF-ABD391FD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4781-4CB0-4C24-8B68-07651A486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876920"/>
          </a:xfrm>
          <a:prstGeom prst="horizontalScroll">
            <a:avLst>
              <a:gd name="adj" fmla="val 12500"/>
            </a:avLst>
          </a:prstGeom>
          <a:noFill/>
          <a:ln w="117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Courier New"/>
              </a:rPr>
              <a:t>CОВРЕМЕННЫЕ ТЕХНОЛОГИИ ПЕРЕДАЧИ АУДИОИНФОРМАЦИИ ЧЕРЕЗ ИНТЕРНЕ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Автор: Ефимов А. Е. (с)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Comic Sans MS"/>
              </a:rPr>
              <a:t>Радиовещание в Интерн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4b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4b03"/>
                </a:solidFill>
                <a:latin typeface="Times New Roman"/>
              </a:rPr>
              <a:t>Почти очевидным стало перенесение систем радиовещания из обычного радиоэфира в цифровые сети. Тысячи радиостанций установили у себя потоковые серверы и начали передавать свои обычные “живые” программы в Интерне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00"/>
                </a:solidFill>
                <a:latin typeface="Times New Roman"/>
              </a:rPr>
              <a:t>речь желательно передавать в полосе частот до 5-6 кГц, а музыку – до 10-12 кГц, причем в стереофоническом режиме, т. е. передавать два канала одновременно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66"/>
                </a:solidFill>
                <a:latin typeface="Times New Roman"/>
              </a:rPr>
              <a:t>Однако скорости передачи звуковых потоков в Интернет для большинства потенциальных слушателей все еще ограничены, и приходится идти на некоторые компромиссы. Усовершенствование алгоритмов кодирования позволило получить вполне удовлетворительное качество звука при умеренной скорости передачи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0314"/>
            </a:gs>
            <a:gs pos="100000">
              <a:srgbClr val="b608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581280" y="914400"/>
            <a:ext cx="5562720" cy="4951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2335320" cy="2020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52480" y="228600"/>
            <a:ext cx="1752840" cy="1514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80880" y="2286000"/>
            <a:ext cx="18288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Courier New"/>
              </a:rPr>
              <a:t>Форматы передачи звуко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5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00"/>
                </a:solidFill>
                <a:latin typeface="Times New Roman"/>
              </a:rPr>
              <a:t>WAV</a:t>
            </a:r>
            <a:r>
              <a:rPr b="1" lang="en-US" sz="2400" spc="-1" strike="noStrike">
                <a:solidFill>
                  <a:srgbClr val="005000"/>
                </a:solidFill>
                <a:latin typeface="Times New Roman"/>
              </a:rPr>
              <a:t> (от waveform - форма сигнал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5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00"/>
                </a:solidFill>
                <a:latin typeface="Times New Roman"/>
              </a:rPr>
              <a:t>AU</a:t>
            </a:r>
            <a:r>
              <a:rPr b="1" lang="en-US" sz="2400" spc="-1" strike="noStrike">
                <a:solidFill>
                  <a:srgbClr val="005000"/>
                </a:solidFill>
                <a:latin typeface="Times New Roman"/>
              </a:rPr>
              <a:t> (Sparc-аудио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5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00"/>
                </a:solidFill>
                <a:latin typeface="Times New Roman"/>
              </a:rPr>
              <a:t>AIFF</a:t>
            </a:r>
            <a:r>
              <a:rPr b="1" lang="en-US" sz="2400" spc="-1" strike="noStrike">
                <a:solidFill>
                  <a:srgbClr val="005000"/>
                </a:solidFill>
                <a:latin typeface="Times New Roman"/>
              </a:rPr>
              <a:t> (Audio Interchange Forma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3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ff03"/>
                </a:solidFill>
                <a:latin typeface="Times New Roman"/>
              </a:rPr>
              <a:t>MIDI</a:t>
            </a:r>
            <a:r>
              <a:rPr b="1" lang="en-US" sz="2400" spc="-1" strike="noStrike">
                <a:solidFill>
                  <a:srgbClr val="03ff03"/>
                </a:solidFill>
                <a:latin typeface="Times New Roman"/>
              </a:rPr>
              <a:t> (Musical Instrument Digital Interfa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3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ff03"/>
                </a:solidFill>
                <a:latin typeface="Times New Roman"/>
              </a:rPr>
              <a:t>MPEG</a:t>
            </a:r>
            <a:r>
              <a:rPr b="1" lang="en-US" sz="2400" spc="-1" strike="noStrike">
                <a:solidFill>
                  <a:srgbClr val="03ff03"/>
                </a:solidFill>
                <a:latin typeface="Times New Roman"/>
              </a:rPr>
              <a:t> - (Moution Picture Enhancing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На фоне отвлеченных споров о будущем Интернет, о протоколах и стандартах, призванных обеспечить внедрение новейших технологий, отрадно наблюдать, как одна из них – передача звукоданных – развивается практически. Причем в данном конкретном случае понятно назначение информации и известны ее потребители. Разработанные звуковые технологии масштабируемы, опираются на уже существующие стандарты и готовы к переносу в более скоростные сети, как только те станут реальностью. Тогда по сети будут передаваться звуковые потоки с</a:t>
            </a:r>
            <a:r>
              <a:rPr b="1" lang="en-US" sz="2400" spc="-1" strike="noStrike">
                <a:solidFill>
                  <a:srgbClr val="b00a9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ачеством CD и без всяких перерыв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ff"/>
                </a:solidFill>
                <a:latin typeface="Comic Sans MS"/>
              </a:rPr>
              <a:t>THE EN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122560" y="1752480"/>
            <a:ext cx="4633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urier New"/>
              </a:rPr>
              <a:t>Передача звука в реальном времен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2247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мпания Progressive Networks разработала расширение языка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истема Real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льзователь инициирует непрерывную передачу пакетов информации с сервера по сети Интерн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Audio вместе со звуковой картой персонального компьютера превращает этот поток данных в зву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Интерне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6"/>
                </a:solidFill>
                <a:latin typeface="Times New Roman"/>
              </a:rPr>
              <a:t>глобальная компьютерная се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8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6"/>
                </a:solidFill>
                <a:latin typeface="Times New Roman"/>
              </a:rPr>
              <a:t>подчиняющаяся самым передовым в мире законам и нормам информационного пр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8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6"/>
                </a:solidFill>
                <a:latin typeface="Times New Roman"/>
              </a:rPr>
              <a:t>Интернет станет привычной и повседневной рабочей средой для не только для телефонии и видеоконференций, но и для радио- и телевизионного вещ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526520" cy="72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259092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76360" y="12952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Абонент 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Локальная телефонная сеть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Шлюз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Интер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Локальная телефонная сеть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Абонент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175248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266688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36576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57150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75248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266688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36576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8006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57150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533520"/>
            <a:ext cx="7534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2f1af4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Компьютерная телефония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ff0066"/>
                  </a:gs>
                  <a:gs pos="100000">
                    <a:srgbClr val="2f1af4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db9"/>
                </a:solidFill>
                <a:latin typeface="Times New Roman"/>
              </a:rPr>
              <a:t>Варианты использования интернет-телефон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21337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5146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Рассмотрим варианты использования интернет-телефона и оценим воздействие Сети в различных случаях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4b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4b03"/>
                </a:solidFill>
                <a:latin typeface="Times New Roman"/>
              </a:rPr>
              <a:t>Компьютер - компью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4b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4b03"/>
                </a:solidFill>
                <a:latin typeface="Times New Roman"/>
              </a:rPr>
              <a:t>Телефон - телеф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4b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4b03"/>
                </a:solidFill>
                <a:latin typeface="Times New Roman"/>
              </a:rPr>
              <a:t>Компьютер - телефон (телефон - компьютер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4b03"/>
                </a:solidFill>
                <a:latin typeface="Times New Roman"/>
              </a:rPr>
              <a:t>Компьютер - компьюте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Два компьютера, подключенные к сети Интернет, могут общаться без посредни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Нет необходимости преобразования сигнала Данные сразу передаются по стандартным протоколам Интернета, поэтому помехи проникнуть в пакет данных не могу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Негативное воздействие помех – задержка пакетов.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778120"/>
            <a:ext cx="38098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b03"/>
                </a:solidFill>
                <a:latin typeface="Times New Roman"/>
              </a:rPr>
              <a:t>Телефон - телеф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1905120" cy="1971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Выход на ближайший шлюз интернет-телефо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Переключения телефонного аппарата в тоновый режим, набор номера абонента; вводится  идентификационный номер – и далее следует раз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Счет за разговор через сеть Интернет окажется значительно меньш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133720" y="3733920"/>
            <a:ext cx="1904760" cy="1971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2120" y="3581280"/>
            <a:ext cx="1981080" cy="2121120"/>
          </a:xfrm>
          <a:custGeom>
            <a:avLst/>
            <a:gdLst/>
            <a:ahLst/>
            <a:rect l="l" t="t" r="r" b="b"/>
            <a:pathLst>
              <a:path w="1248" h="1336">
                <a:moveTo>
                  <a:pt x="96" y="0"/>
                </a:moveTo>
                <a:cubicBezTo>
                  <a:pt x="48" y="212"/>
                  <a:pt x="0" y="424"/>
                  <a:pt x="48" y="480"/>
                </a:cubicBezTo>
                <a:cubicBezTo>
                  <a:pt x="96" y="536"/>
                  <a:pt x="320" y="288"/>
                  <a:pt x="384" y="336"/>
                </a:cubicBezTo>
                <a:cubicBezTo>
                  <a:pt x="448" y="384"/>
                  <a:pt x="376" y="696"/>
                  <a:pt x="432" y="768"/>
                </a:cubicBezTo>
                <a:cubicBezTo>
                  <a:pt x="488" y="840"/>
                  <a:pt x="656" y="688"/>
                  <a:pt x="720" y="768"/>
                </a:cubicBezTo>
                <a:cubicBezTo>
                  <a:pt x="784" y="848"/>
                  <a:pt x="728" y="1160"/>
                  <a:pt x="816" y="1248"/>
                </a:cubicBezTo>
                <a:cubicBezTo>
                  <a:pt x="904" y="1336"/>
                  <a:pt x="1168" y="1288"/>
                  <a:pt x="1248" y="1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b03"/>
                </a:solidFill>
                <a:latin typeface="Times New Roman"/>
              </a:rPr>
              <a:t>Компьютер - телеф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04280" y="0"/>
            <a:ext cx="1539720" cy="2057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программу интернет-телефонии(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VocalTec, Net2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Чтобы в полной мере использовать возможности интернет-телефона, необходимо подписаться на услуги провайдера интернет-телефон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6T17:17:23Z</dcterms:created>
  <dc:creator>Angel</dc:creator>
  <dc:description/>
  <dc:language>en-US</dc:language>
  <cp:lastModifiedBy>Angel</cp:lastModifiedBy>
  <dcterms:modified xsi:type="dcterms:W3CDTF">2000-04-24T22:35:08Z</dcterms:modified>
  <cp:revision>10</cp:revision>
  <dc:subject/>
  <dc:title>ВЕЩАТЕЛЬНЫЕ ПРИМЕНЕНИЯ CОВРЕМЕННЫХ ТЕХНОЛОГИЙ ПЕРЕДАЧИ АУДИОИНФОРМАЦИИ ЧЕРЕЗ ИНТЕРНЕТ </dc:title>
</cp:coreProperties>
</file>